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75FAF6-FCAD-415A-A93A-FECE5F132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EEA5099F-7A55-4366-9A01-2884141596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6D1152-D975-46FD-9E9B-FF79413D7B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ABDD54-FECB-4EE4-8CFB-2DF2A225F2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1D8-1217-4076-96E9-3F691E28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D1D-8D6A-481E-A43C-75335D4E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880-CF7B-41F8-A34A-BC459B9B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0DB-C56A-462D-8B5F-3026192A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4112-6FF6-4F8D-8785-CFA6520B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001A-64FC-4406-9DC1-C2EC3855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F259-0F73-458E-AE57-026D8B1C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242C-9145-4937-9CB7-47CC64DF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3342-DEA8-461D-89B2-BC4A7DF2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6B76-4263-4CDF-92C3-FA874410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FB81-AFB9-4A9C-ADD7-CA053E4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4DA-6D01-4595-93D1-87A1A11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BB2C-FF91-48D5-A6E2-8BB9D76A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EFE8-02D1-4EB4-9FB1-3D49DF03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C8E3-C1A0-44B6-B317-3B2E8B13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9BC9-E576-4F00-87FB-04AE08E5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3FB0-CE74-4D8C-B0E0-C9EB684D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1517-5805-4832-83D7-87DA5107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E20F-9279-4282-99DA-FE1B37E4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EA66-853A-4390-992E-0555AAA5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5F7DE-0A72-4A58-A326-21AB869A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A8C1-755C-4E95-80EF-CBE73BC8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8AA-EB3C-4B42-98A0-684A0772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E48E-5854-45A9-A419-427A9F63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1C71-958A-4767-A429-BC14F7C6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47D5-8EB2-45FA-965B-D7687244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1A1F-6C93-4E06-9D12-81B0198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CA4BB-65BB-41C4-8349-17528F7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C63C-5618-4C88-8E8B-8BA462D5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1BF9-79E4-4DD4-8DB7-C6CFEF13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443-327B-46B5-AEE8-B545F38A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9F2-8E1A-438F-9BC6-55EF3903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AE4-E8BC-48AD-B4AA-563F4C1A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E88-8B87-4122-9B4F-5BE5A4A4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C3B-25BD-4426-AD34-3ED3FA0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05A-7B70-4246-BFFE-1996C72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7A9660-4E41-44D3-AD00-EDDF338CF8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6E4BA6-2C32-454F-B729-15167ADE8A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CD0E90-4447-4B39-81CD-D625DC9CDB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426960" y="2637000"/>
            <a:ext cx="8210160" cy="9219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ln w="0">
                  <a:noFill/>
                </a:ln>
                <a:solidFill>
                  <a:srgbClr val="800080"/>
                </a:solidFill>
                <a:latin typeface="Arial"/>
                <a:ea typeface="宋体"/>
              </a:rPr>
              <a:t>I used to be afraid of the dark</a:t>
            </a:r>
            <a:endParaRPr b="0" lang="en-US" sz="4800" spc="-1" strike="noStrike">
              <a:ln w="0">
                <a:noFill/>
              </a:ln>
              <a:solidFill>
                <a:srgbClr val="80008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3422880" y="836640"/>
            <a:ext cx="2297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  <a:ea typeface="宋体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2516040" y="4221000"/>
            <a:ext cx="3966840" cy="1152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宋体"/>
              </a:rPr>
              <a:t>Section A 3 </a:t>
            </a:r>
            <a:endParaRPr b="0" lang="en-US" sz="4800" spc="-1" strike="noStrike">
              <a:ln w="0">
                <a:noFill/>
              </a:ln>
              <a:solidFill>
                <a:srgbClr val="ff66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宋体"/>
              </a:rPr>
              <a:t>Grammar Focus~4c</a:t>
            </a:r>
            <a:endParaRPr b="0" lang="en-US" sz="4800" spc="-1" strike="noStrike">
              <a:ln w="0">
                <a:noFill/>
              </a:ln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2365200" y="5950080"/>
            <a:ext cx="47138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1"/>
          <p:cNvSpPr/>
          <p:nvPr/>
        </p:nvSpPr>
        <p:spPr>
          <a:xfrm>
            <a:off x="395280" y="981000"/>
            <a:ext cx="6192360" cy="140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反意疑问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主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+ didn’t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人称代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250920" y="2421000"/>
            <a:ext cx="8640360" cy="272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Your brothe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have nood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or breakfast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 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哥哥过去早餐常吃面条，不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324000" y="2278080"/>
            <a:ext cx="8424360" cy="266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id 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wear glass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to do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表示过去习惯性的动作或存在的状态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o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后跟动词原形，只用于一般过去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3059280" y="1054080"/>
            <a:ext cx="2663640" cy="107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401" strike="noStrike">
                <a:ln w="0">
                  <a:noFill/>
                </a:ln>
                <a:solidFill>
                  <a:srgbClr val="ff00ff"/>
                </a:solidFill>
                <a:latin typeface="宋体"/>
                <a:ea typeface="宋体"/>
              </a:rPr>
              <a:t>辨 析</a:t>
            </a:r>
            <a:endParaRPr b="0" lang="en-US" sz="40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539640" y="1125360"/>
            <a:ext cx="7921440" cy="469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 be used to + 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n.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 /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pron./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意为“习惯于……”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介词，后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、代词或动名词。可用于各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get/become used to sth./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意为“逐渐习惯于……”，强调这一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惯的过程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介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250920" y="1125360"/>
            <a:ext cx="8569080" cy="41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be used to 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意为“被用来做……”，被动语态结构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后跟动词原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 be used for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意为“被用来……”，介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功能、用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9"/>
          <p:cNvSpPr/>
          <p:nvPr/>
        </p:nvSpPr>
        <p:spPr>
          <a:xfrm>
            <a:off x="468360" y="1484280"/>
            <a:ext cx="8135640" cy="469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根据汉语提示完成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以前害怕在公众前演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_____ ______ be afraid of ______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peech in 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狗是用来帮助盲人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re those dogs _____ _____ _____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lind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2843280" y="333360"/>
            <a:ext cx="2663640" cy="107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ln w="0">
                  <a:noFill/>
                </a:ln>
                <a:solidFill>
                  <a:srgbClr val="008000"/>
                </a:solidFill>
                <a:latin typeface="宋体"/>
                <a:ea typeface="宋体"/>
              </a:rPr>
              <a:t>练一练</a:t>
            </a:r>
            <a:endParaRPr b="0" lang="en-US" sz="4000" spc="-1" strike="noStrike">
              <a:ln w="0">
                <a:noFill/>
              </a:ln>
              <a:solidFill>
                <a:srgbClr val="008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403280" y="2852640"/>
            <a:ext cx="216036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    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443640" y="2781360"/>
            <a:ext cx="158400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g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59280" y="3500280"/>
            <a:ext cx="179820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924360" y="4797360"/>
            <a:ext cx="403200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     to      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0"/>
          <p:cNvSpPr/>
          <p:nvPr/>
        </p:nvSpPr>
        <p:spPr>
          <a:xfrm>
            <a:off x="250920" y="476280"/>
            <a:ext cx="8604000" cy="61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表妹以前害怕独自一人，不是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cousin _______ ____ be afra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f ______ alone, _______ sh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珍妮以前在学校里并不受欢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Jenny ______ _____ ___ be popular in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choo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不习惯午饭吃这么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’m _______ used to _________ so much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t lunch ti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492360" y="1052640"/>
            <a:ext cx="266364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    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1332000" y="1628640"/>
            <a:ext cx="129672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e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140360" y="1670040"/>
            <a:ext cx="158400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124000" y="2852640"/>
            <a:ext cx="374292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    use   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835280" y="4694400"/>
            <a:ext cx="122364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932360" y="4694400"/>
            <a:ext cx="180000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val 2"/>
          <p:cNvSpPr/>
          <p:nvPr/>
        </p:nvSpPr>
        <p:spPr>
          <a:xfrm>
            <a:off x="539640" y="836640"/>
            <a:ext cx="647280" cy="720360"/>
          </a:xfrm>
          <a:prstGeom prst="ellipse">
            <a:avLst/>
          </a:prstGeom>
          <a:solidFill>
            <a:srgbClr val="ffff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3132000" y="0"/>
            <a:ext cx="2592000" cy="907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4">
              <a:avLst>
                <a:gd name="adj1" fmla="val 625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ln w="0">
                  <a:noFill/>
                </a:ln>
                <a:solidFill>
                  <a:srgbClr val="800080"/>
                </a:solidFill>
                <a:latin typeface="Arial"/>
                <a:ea typeface="宋体"/>
              </a:rPr>
              <a:t>Practice</a:t>
            </a:r>
            <a:endParaRPr b="0" lang="en-US" sz="4000" spc="-1" strike="noStrike">
              <a:ln w="0">
                <a:noFill/>
              </a:ln>
              <a:solidFill>
                <a:srgbClr val="80008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1258920" y="765000"/>
            <a:ext cx="7127640" cy="143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Write sentences about the past using </a:t>
            </a:r>
            <a:r>
              <a:rPr b="1" i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used to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755640" y="2133720"/>
            <a:ext cx="7919640" cy="2428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09480" indent="-6094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Grace/watch a lot of TV/watch a lo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539640" y="4581360"/>
            <a:ext cx="813564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点拨：将第一个动作用肯定句来描述过去常进行的活动；将第二个动作用否定句来描述过去不常进行的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1042920" y="3284640"/>
            <a:ext cx="7345080" cy="125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84240"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race used to watch a lot of TV. She didn’t use to watch a lot of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5"/>
          <p:cNvSpPr/>
          <p:nvPr/>
        </p:nvSpPr>
        <p:spPr>
          <a:xfrm>
            <a:off x="468360" y="476280"/>
            <a:ext cx="8353080" cy="2428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my mom/have curly hair/have straight hair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11280" y="2200320"/>
            <a:ext cx="8137080" cy="452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Jerry/read books on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宋体"/>
              </a:rPr>
              <a:t>Europe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history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books on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宋体"/>
              </a:rPr>
              <a:t>Afric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culture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1042920" y="4176720"/>
            <a:ext cx="7667280" cy="184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Jerry used to read books on European history. She didn’t use to read books on African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6516720" y="2997360"/>
            <a:ext cx="2447640" cy="863280"/>
          </a:xfrm>
          <a:prstGeom prst="wedgeRoundRectCallout">
            <a:avLst>
              <a:gd name="adj1" fmla="val -85667"/>
              <a:gd name="adj2" fmla="val -73898"/>
              <a:gd name="adj3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dj.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欧洲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人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    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n.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欧洲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4427640" y="3573360"/>
            <a:ext cx="2592000" cy="791640"/>
          </a:xfrm>
          <a:prstGeom prst="wedgeRoundRectCallout">
            <a:avLst>
              <a:gd name="adj1" fmla="val -65491"/>
              <a:gd name="adj2" fmla="val -74449"/>
              <a:gd name="adj3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dj.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非洲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人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n.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非洲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042920" y="1089000"/>
            <a:ext cx="6984720" cy="125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y mom used to have curly hair. She didn’t use to have straigh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39640" y="692280"/>
            <a:ext cx="7848360" cy="44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4. Sandy /teach </a:t>
            </a:r>
            <a:r>
              <a:rPr b="1" lang="en-US" sz="3400" spc="-1" strike="noStrike">
                <a:solidFill>
                  <a:srgbClr val="6600ff"/>
                </a:solidFill>
                <a:latin typeface="Times New Roman"/>
                <a:ea typeface="宋体"/>
              </a:rPr>
              <a:t>British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English / teac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American English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900000" y="2565360"/>
            <a:ext cx="7921440" cy="133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Sandy used to teach British English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She didn’t use to teach American English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4932360" y="1557360"/>
            <a:ext cx="3168360" cy="576000"/>
          </a:xfrm>
          <a:prstGeom prst="wedgeRoundRectCallout">
            <a:avLst>
              <a:gd name="adj1" fmla="val -60421"/>
              <a:gd name="adj2" fmla="val -96005"/>
              <a:gd name="adj3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adj.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英国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人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Group 45"/>
          <p:cNvGraphicFramePr/>
          <p:nvPr/>
        </p:nvGraphicFramePr>
        <p:xfrm>
          <a:off x="324000" y="1484280"/>
          <a:ext cx="8569080" cy="5020200"/>
        </p:xfrm>
        <a:graphic>
          <a:graphicData uri="http://schemas.openxmlformats.org/drawingml/2006/table">
            <a:tbl>
              <a:tblPr/>
              <a:tblGrid>
                <a:gridCol w="4351320"/>
                <a:gridCol w="4217760"/>
              </a:tblGrid>
              <a:tr h="75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Five years a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N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dn’t eat a lot of vegetab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oves carrots and tomat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istened to pop mus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joys country mus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0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atched scary mov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ates scary mov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0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dn’t read a lot of book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ads at least six books a y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04" name="Oval 2"/>
          <p:cNvSpPr/>
          <p:nvPr/>
        </p:nvSpPr>
        <p:spPr>
          <a:xfrm>
            <a:off x="324000" y="260280"/>
            <a:ext cx="718920" cy="647280"/>
          </a:xfrm>
          <a:prstGeom prst="ellipse">
            <a:avLst/>
          </a:prstGeom>
          <a:solidFill>
            <a:srgbClr val="ffff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1187280" y="0"/>
            <a:ext cx="7524360" cy="129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宋体"/>
              </a:rPr>
              <a:t>Look at the information and write sentences about E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9"/>
          <p:cNvSpPr/>
          <p:nvPr/>
        </p:nvSpPr>
        <p:spPr>
          <a:xfrm>
            <a:off x="395280" y="2133720"/>
            <a:ext cx="8280000" cy="41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shy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possible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反义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Asia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形容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success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敢于做某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汉译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应付；处理（汉译英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再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汉译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771640" y="549360"/>
            <a:ext cx="3311280" cy="864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401" strike="noStrike">
                <a:ln w="0">
                  <a:noFill/>
                </a:ln>
                <a:solidFill>
                  <a:srgbClr val="ff00ff"/>
                </a:solidFill>
                <a:latin typeface="Arial"/>
                <a:ea typeface="宋体"/>
              </a:rPr>
              <a:t>Revision</a:t>
            </a:r>
            <a:endParaRPr b="0" lang="en-US" sz="40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1484280"/>
            <a:ext cx="676872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按要求写出下列词汇或词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4716360" y="4508640"/>
            <a:ext cx="360000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are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3059280" y="2133720"/>
            <a:ext cx="194436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y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3492360" y="3284640"/>
            <a:ext cx="172836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4140360" y="2708280"/>
            <a:ext cx="251892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564000" y="3905280"/>
            <a:ext cx="187128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859280" y="5084640"/>
            <a:ext cx="338436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eal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635280" y="5661000"/>
            <a:ext cx="331128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ot…any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468360" y="765000"/>
            <a:ext cx="8280000" cy="20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e.g. Emily didn’t use to eat 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lot of vegetables, but now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he loves carrots and tomato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12360" y="2924280"/>
            <a:ext cx="7522200" cy="140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2. Emily used to listen to pop music,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but now she enjoys country mus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4"/>
          <p:cNvSpPr/>
          <p:nvPr/>
        </p:nvSpPr>
        <p:spPr>
          <a:xfrm>
            <a:off x="539640" y="836640"/>
            <a:ext cx="7561080" cy="140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3. Emily used to watch scary movies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but now she hates scary mov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68360" y="2276640"/>
            <a:ext cx="8208720" cy="20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0720" indent="-450720">
              <a:lnSpc>
                <a:spcPct val="12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4. Emily didn’t use to read a lot of books, but now she reads at least six books a ye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6"/>
          <p:cNvSpPr/>
          <p:nvPr/>
        </p:nvSpPr>
        <p:spPr>
          <a:xfrm>
            <a:off x="1476360" y="1413000"/>
            <a:ext cx="7056000" cy="3380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Which of these things did you use to be afraid of? Which ones are you still afraid of? Check the boxes and then ask your partner.</a:t>
            </a:r>
            <a:r>
              <a:rPr b="1" lang="en-US" sz="3600" spc="-1" strike="noStrike">
                <a:solidFill>
                  <a:srgbClr val="00b0f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"/>
          <p:cNvSpPr/>
          <p:nvPr/>
        </p:nvSpPr>
        <p:spPr>
          <a:xfrm>
            <a:off x="684360" y="1484280"/>
            <a:ext cx="718920" cy="720360"/>
          </a:xfrm>
          <a:prstGeom prst="ellipse">
            <a:avLst/>
          </a:prstGeom>
          <a:solidFill>
            <a:srgbClr val="ffff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Group 94"/>
          <p:cNvGraphicFramePr/>
          <p:nvPr/>
        </p:nvGraphicFramePr>
        <p:xfrm>
          <a:off x="457200" y="469800"/>
          <a:ext cx="8291160" cy="5609880"/>
        </p:xfrm>
        <a:graphic>
          <a:graphicData uri="http://schemas.openxmlformats.org/drawingml/2006/table">
            <a:tbl>
              <a:tblPr/>
              <a:tblGrid>
                <a:gridCol w="3348000"/>
                <a:gridCol w="2611080"/>
                <a:gridCol w="2331720"/>
              </a:tblGrid>
              <a:tr h="157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 used to be afraid of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’m st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fraid of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d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eing al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8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y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gh 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iving a speech in pub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Group 131"/>
          <p:cNvGraphicFramePr/>
          <p:nvPr/>
        </p:nvGraphicFramePr>
        <p:xfrm>
          <a:off x="468360" y="549360"/>
          <a:ext cx="8206920" cy="5585040"/>
        </p:xfrm>
        <a:graphic>
          <a:graphicData uri="http://schemas.openxmlformats.org/drawingml/2006/table">
            <a:tbl>
              <a:tblPr/>
              <a:tblGrid>
                <a:gridCol w="3184200"/>
                <a:gridCol w="2617560"/>
                <a:gridCol w="2404800"/>
              </a:tblGrid>
              <a:tr h="117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My part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y partner used to be afraid of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y partner is still afraid of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d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eing al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y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gh 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iving a speech in pub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66ff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http://t12.baidu.com/it/u=173218248,3983651141&amp;fm=23&amp;gp=0.jpg"/>
          <p:cNvPicPr/>
          <p:nvPr/>
        </p:nvPicPr>
        <p:blipFill>
          <a:blip r:embed="rId2"/>
          <a:stretch/>
        </p:blipFill>
        <p:spPr>
          <a:xfrm>
            <a:off x="611280" y="1484280"/>
            <a:ext cx="3047760" cy="2285640"/>
          </a:xfrm>
          <a:prstGeom prst="rect">
            <a:avLst/>
          </a:prstGeom>
          <a:ln w="9525">
            <a:noFill/>
          </a:ln>
        </p:spPr>
      </p:pic>
      <p:sp>
        <p:nvSpPr>
          <p:cNvPr id="215" name="圆角矩形标注 6"/>
          <p:cNvSpPr/>
          <p:nvPr/>
        </p:nvSpPr>
        <p:spPr>
          <a:xfrm>
            <a:off x="3708360" y="836640"/>
            <a:ext cx="4824000" cy="1439640"/>
          </a:xfrm>
          <a:prstGeom prst="wedgeRoundRectCallout">
            <a:avLst>
              <a:gd name="adj1" fmla="val -75667"/>
              <a:gd name="adj2" fmla="val 93000"/>
              <a:gd name="adj3" fmla="val 16667"/>
            </a:avLst>
          </a:prstGeom>
          <a:noFill/>
          <a:ln w="254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I used to be afraid of being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标注 7"/>
          <p:cNvSpPr/>
          <p:nvPr/>
        </p:nvSpPr>
        <p:spPr>
          <a:xfrm>
            <a:off x="2843280" y="4149720"/>
            <a:ext cx="5436720" cy="1439640"/>
          </a:xfrm>
          <a:prstGeom prst="wedgeRoundRectCallout">
            <a:avLst>
              <a:gd name="adj1" fmla="val -54010"/>
              <a:gd name="adj2" fmla="val -110960"/>
              <a:gd name="adj3" fmla="val 16667"/>
            </a:avLst>
          </a:prstGeom>
          <a:noFill/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I’m still afraid of being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0" descr="http://t10.baidu.com/it/u=1256244411,1224877152&amp;fm=21&amp;gp=0.jpg"/>
          <p:cNvPicPr/>
          <p:nvPr/>
        </p:nvPicPr>
        <p:blipFill>
          <a:blip r:embed="rId2"/>
          <a:stretch/>
        </p:blipFill>
        <p:spPr>
          <a:xfrm>
            <a:off x="1692360" y="2708280"/>
            <a:ext cx="2808000" cy="1893600"/>
          </a:xfrm>
          <a:prstGeom prst="rect">
            <a:avLst/>
          </a:prstGeom>
          <a:ln w="9525">
            <a:noFill/>
          </a:ln>
        </p:spPr>
      </p:pic>
      <p:sp>
        <p:nvSpPr>
          <p:cNvPr id="218" name="圆角矩形标注 6"/>
          <p:cNvSpPr/>
          <p:nvPr/>
        </p:nvSpPr>
        <p:spPr>
          <a:xfrm>
            <a:off x="611280" y="836640"/>
            <a:ext cx="5435280" cy="1439640"/>
          </a:xfrm>
          <a:prstGeom prst="wedgeRoundRectCallout">
            <a:avLst>
              <a:gd name="adj1" fmla="val -18398"/>
              <a:gd name="adj2" fmla="val 122657"/>
              <a:gd name="adj3" fmla="val 16667"/>
            </a:avLst>
          </a:prstGeom>
          <a:noFill/>
          <a:ln w="254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id you use to be afraid of the da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标注 7"/>
          <p:cNvSpPr/>
          <p:nvPr/>
        </p:nvSpPr>
        <p:spPr>
          <a:xfrm>
            <a:off x="1979640" y="4986360"/>
            <a:ext cx="6335280" cy="1466640"/>
          </a:xfrm>
          <a:prstGeom prst="wedgeRoundRectCallout">
            <a:avLst>
              <a:gd name="adj1" fmla="val -31134"/>
              <a:gd name="adj2" fmla="val -124676"/>
              <a:gd name="adj3" fmla="val 16667"/>
            </a:avLst>
          </a:prstGeom>
          <a:noFill/>
          <a:ln w="254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es, I used to be afraid of the dark. I’m still afraid of the d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" descr="http://t10.baidu.com/it/u=1256244411,1224877152&amp;fm=21&amp;gp=0.jpg"/>
          <p:cNvPicPr/>
          <p:nvPr/>
        </p:nvPicPr>
        <p:blipFill>
          <a:blip r:embed="rId2"/>
          <a:stretch/>
        </p:blipFill>
        <p:spPr>
          <a:xfrm>
            <a:off x="2484360" y="2781360"/>
            <a:ext cx="2663640" cy="1796760"/>
          </a:xfrm>
          <a:prstGeom prst="rect">
            <a:avLst/>
          </a:prstGeom>
          <a:ln w="9525">
            <a:noFill/>
          </a:ln>
        </p:spPr>
      </p:pic>
      <p:sp>
        <p:nvSpPr>
          <p:cNvPr id="221" name="圆角矩形标注 8"/>
          <p:cNvSpPr/>
          <p:nvPr/>
        </p:nvSpPr>
        <p:spPr>
          <a:xfrm>
            <a:off x="611280" y="981000"/>
            <a:ext cx="3528720" cy="1584000"/>
          </a:xfrm>
          <a:prstGeom prst="wedgeRoundRectCallout">
            <a:avLst>
              <a:gd name="adj1" fmla="val 15856"/>
              <a:gd name="adj2" fmla="val 63727"/>
              <a:gd name="adj3" fmla="val 16667"/>
            </a:avLst>
          </a:prstGeom>
          <a:noFill/>
          <a:ln w="254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id you use to be afraid of being al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标注 12"/>
          <p:cNvSpPr/>
          <p:nvPr/>
        </p:nvSpPr>
        <p:spPr>
          <a:xfrm>
            <a:off x="4861080" y="692280"/>
            <a:ext cx="4103280" cy="3168360"/>
          </a:xfrm>
          <a:prstGeom prst="wedgeRoundRectCallout">
            <a:avLst>
              <a:gd name="adj1" fmla="val -72477"/>
              <a:gd name="adj2" fmla="val 27856"/>
              <a:gd name="adj3" fmla="val 16667"/>
            </a:avLst>
          </a:prstGeom>
          <a:noFill/>
          <a:ln w="254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o, I didn’t. But I used to be afraid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iving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spee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in publ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讲话，发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give a speech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in public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宋体"/>
              </a:rPr>
              <a:t>公开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标注 13"/>
          <p:cNvSpPr/>
          <p:nvPr/>
        </p:nvSpPr>
        <p:spPr>
          <a:xfrm>
            <a:off x="468360" y="4797360"/>
            <a:ext cx="3744720" cy="1368000"/>
          </a:xfrm>
          <a:prstGeom prst="wedgeRoundRectCallout">
            <a:avLst>
              <a:gd name="adj1" fmla="val 16468"/>
              <a:gd name="adj2" fmla="val -90718"/>
              <a:gd name="adj3" fmla="val 16667"/>
            </a:avLst>
          </a:prstGeom>
          <a:noFill/>
          <a:ln w="254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id you use to be afraid of fly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标注 5"/>
          <p:cNvSpPr/>
          <p:nvPr/>
        </p:nvSpPr>
        <p:spPr>
          <a:xfrm>
            <a:off x="4716360" y="4508640"/>
            <a:ext cx="3816000" cy="1871280"/>
          </a:xfrm>
          <a:prstGeom prst="wedgeRoundRectCallout">
            <a:avLst>
              <a:gd name="adj1" fmla="val -56074"/>
              <a:gd name="adj2" fmla="val -83926"/>
              <a:gd name="adj3" fmla="val 16667"/>
            </a:avLst>
          </a:prstGeom>
          <a:noFill/>
          <a:ln w="254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o, I didn’t. But I used to be afraid of high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2987640" y="115920"/>
            <a:ext cx="2663640" cy="576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Exercises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68360" y="692280"/>
            <a:ext cx="8064000" cy="598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Ⅰ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根据括号内的汉语提示，完成下列英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句子，每空词数不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Mr Black __________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以前是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位医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, but now he is a si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Did your father _______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过去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常看电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after sup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You used to have long curly ha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是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I ________________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以前常常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自行车去上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, but now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习惯走着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700360" y="1844640"/>
            <a:ext cx="3887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宋体"/>
              </a:rPr>
              <a:t>used to be a do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635280" y="2924280"/>
            <a:ext cx="3887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宋体"/>
              </a:rPr>
              <a:t>use to watch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042920" y="4508640"/>
            <a:ext cx="3887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宋体"/>
              </a:rPr>
              <a:t>didn’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116000" y="5013360"/>
            <a:ext cx="5471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宋体"/>
              </a:rPr>
              <a:t>used to go to school by b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822600" y="6163920"/>
            <a:ext cx="5169240" cy="5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宋体"/>
              </a:rPr>
              <a:t>am used to walking to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395280" y="476280"/>
            <a:ext cx="8353080" cy="593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Ⅱ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根据括号内的要求完成下列句子，每空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数不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Mother used to grow flowers in her gar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否定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other _____________ grow fl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 her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Bill used to collect stamps when he wa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iddle school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一般疑问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 collect stamps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was in middle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411280" y="2924280"/>
            <a:ext cx="2592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宋体"/>
              </a:rPr>
              <a:t>didn’t us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042920" y="5230440"/>
            <a:ext cx="2735280" cy="5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宋体"/>
              </a:rPr>
              <a:t>Did Bill us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95280" y="1557360"/>
            <a:ext cx="8064000" cy="140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0720" indent="-366840">
              <a:lnSpc>
                <a:spcPct val="12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◆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ll something about Cand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0720" indent="-366840">
              <a:lnSpc>
                <a:spcPct val="12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Wang’s back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8360" y="2924280"/>
            <a:ext cx="7522920" cy="140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0720" indent="-450720">
              <a:lnSpc>
                <a:spcPct val="12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◆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ll something about how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Candy’s life has chang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68360" y="4221000"/>
            <a:ext cx="8208720" cy="140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0720" indent="-450720">
              <a:lnSpc>
                <a:spcPct val="12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◆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What’s Candy’s advice to yo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peo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1906560" y="1368360"/>
            <a:ext cx="5257440" cy="1123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40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宋体"/>
              </a:rPr>
              <a:t>Homework</a:t>
            </a:r>
            <a:endParaRPr b="0" lang="en-US" sz="4000" spc="-1" strike="noStrike">
              <a:ln w="0">
                <a:noFill/>
              </a:ln>
              <a:solidFill>
                <a:srgbClr val="ff66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258920" y="2997360"/>
            <a:ext cx="6768720" cy="80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调查你的家庭成员以前害怕的事情，并写成一个小报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"/>
          <p:cNvSpPr/>
          <p:nvPr/>
        </p:nvSpPr>
        <p:spPr>
          <a:xfrm>
            <a:off x="439560" y="5349960"/>
            <a:ext cx="82627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免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尽在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6920" cy="57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927640" cy="52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课件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1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63E30A18-8709-4796-B8DA-172703851DB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2"/>
          <p:cNvSpPr/>
          <p:nvPr/>
        </p:nvSpPr>
        <p:spPr>
          <a:xfrm>
            <a:off x="468360" y="1125360"/>
            <a:ext cx="5905080" cy="62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根据课本内容，完成下列句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395280" y="1700280"/>
            <a:ext cx="8208720" cy="475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以前是矮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______ ____ be sh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以前在学校不受欢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______ _____ to be popular i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保拉以前的确不爱说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aula _____ ____ be really qu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她以前不喜欢小测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e _____ ___ ___ like te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187280" y="189000"/>
            <a:ext cx="5689080" cy="907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Grammar Focus</a:t>
            </a:r>
            <a:endParaRPr b="0" lang="en-US" sz="4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58920" y="3429000"/>
            <a:ext cx="237600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332000" y="2205000"/>
            <a:ext cx="208728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    to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979640" y="4581360"/>
            <a:ext cx="201564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  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47640" y="5805360"/>
            <a:ext cx="3168360" cy="67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 use 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684360" y="836640"/>
            <a:ext cx="7991280" cy="540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你以前很矮，不是吗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You used to be short, ______ _____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的，我是。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/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不，不是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Yes, I _____. /  No, I _______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他以前戴眼镜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 he _____ ___ wear glass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的，他戴。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/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不，他不戴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Yes, he _____. / No, he ______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219640" y="1484280"/>
            <a:ext cx="3168360" cy="710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   yo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187280" y="3933720"/>
            <a:ext cx="3671640" cy="710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Did        use    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484360" y="2708280"/>
            <a:ext cx="3887280" cy="133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did                  didn’t</a:t>
            </a:r>
            <a:r>
              <a:rPr b="1" lang="en-US" sz="3400" spc="-1" strike="noStrike">
                <a:solidFill>
                  <a:srgbClr val="ff00ff"/>
                </a:solidFill>
                <a:latin typeface="Arial"/>
                <a:ea typeface="宋体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557440" y="5157720"/>
            <a:ext cx="4462200" cy="710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did                    didn’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403280" y="333360"/>
            <a:ext cx="5256000" cy="907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ln w="0">
                  <a:noFill/>
                </a:ln>
                <a:solidFill>
                  <a:srgbClr val="800080"/>
                </a:solidFill>
                <a:latin typeface="Arial"/>
                <a:ea typeface="宋体"/>
              </a:rPr>
              <a:t>Grammar</a:t>
            </a:r>
            <a:endParaRPr b="0" lang="en-US" sz="4000" spc="-1" strike="noStrike">
              <a:ln w="0">
                <a:noFill/>
              </a:ln>
              <a:solidFill>
                <a:srgbClr val="80008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68360" y="2205000"/>
            <a:ext cx="8280000" cy="140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to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意为“过去常常”，用于表示过去习惯性的动作或存在的状态（强调与现在的对比，暗示现在不做了）。其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o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为不定式符号，后跟动词原形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to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只用于一般过去时态，没有人称和数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39640" y="1484280"/>
            <a:ext cx="4174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used to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0"/>
          <p:cNvSpPr/>
          <p:nvPr/>
        </p:nvSpPr>
        <p:spPr>
          <a:xfrm>
            <a:off x="719280" y="1341360"/>
            <a:ext cx="8100720" cy="272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Tom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be very thin, but now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e’s big and stro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汤姆以前很瘦，但现在他又高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1"/>
          <p:cNvSpPr/>
          <p:nvPr/>
        </p:nvSpPr>
        <p:spPr>
          <a:xfrm>
            <a:off x="324000" y="620640"/>
            <a:ext cx="5903640" cy="69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used to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的句式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468360" y="1413000"/>
            <a:ext cx="7488000" cy="272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i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否定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no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主语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+                          to do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39640" y="4221000"/>
            <a:ext cx="7416360" cy="20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Mik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d not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study har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 Mik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 use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ha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迈克过去不努力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1979640" y="2708280"/>
            <a:ext cx="215640" cy="1079280"/>
          </a:xfrm>
          <a:prstGeom prst="leftBrace">
            <a:avLst>
              <a:gd name="adj1" fmla="val 35486"/>
              <a:gd name="adj2" fmla="val 51421"/>
            </a:avLst>
          </a:prstGeom>
          <a:noFill/>
          <a:ln w="508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0000"/>
              </a:solidFill>
              <a:latin typeface="Times New Roman"/>
              <a:ea typeface="宋体"/>
            </a:endParaRPr>
          </a:p>
        </p:txBody>
      </p:sp>
      <p:sp>
        <p:nvSpPr>
          <p:cNvPr id="166" name="AutoShape 7"/>
          <p:cNvSpPr/>
          <p:nvPr/>
        </p:nvSpPr>
        <p:spPr>
          <a:xfrm flipH="1">
            <a:off x="4284720" y="2708280"/>
            <a:ext cx="358560" cy="1079280"/>
          </a:xfrm>
          <a:prstGeom prst="leftBrace">
            <a:avLst>
              <a:gd name="adj1" fmla="val 35591"/>
              <a:gd name="adj2" fmla="val 51421"/>
            </a:avLst>
          </a:prstGeom>
          <a:noFill/>
          <a:ln w="508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0000"/>
              </a:solidFill>
              <a:latin typeface="Times New Roman"/>
              <a:ea typeface="宋体"/>
            </a:endParaRPr>
          </a:p>
        </p:txBody>
      </p:sp>
    </p:spTree>
  </p:cSld>
  <p:transition>
    <p:checke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1"/>
          <p:cNvSpPr/>
          <p:nvPr/>
        </p:nvSpPr>
        <p:spPr>
          <a:xfrm>
            <a:off x="468360" y="1197000"/>
            <a:ext cx="7776720" cy="20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一般疑问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id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主语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+ use + to do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答语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Yes, sb. did. / No, sb. did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95280" y="3357720"/>
            <a:ext cx="8137080" cy="272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.g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i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you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o to museum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以前常去博物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es, I did. / No, I didn’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的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773</Words>
  <Paragraphs>2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2:35:00Z</dcterms:created>
  <dc:creator>第一PPT模板网-WWW.1PPT.COM</dc:creator>
  <dc:description/>
  <dc:language>en-US</dc:language>
  <cp:lastModifiedBy>xinxing</cp:lastModifiedBy>
  <dcterms:modified xsi:type="dcterms:W3CDTF">2017-04-16T15:12:52Z</dcterms:modified>
  <cp:revision>3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32</vt:r8>
  </property>
</Properties>
</file>