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3.jpeg" ContentType="image/jpeg"/>
  <Override PartName="/ppt/media/image15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6.png" ContentType="image/png"/>
  <Override PartName="/ppt/media/image26.gif" ContentType="image/gif"/>
  <Override PartName="/ppt/media/image19.png" ContentType="image/pn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F731-1C99-47FB-978B-EF329B14F62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A19F-130A-4E2A-836C-F23BD2D497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7D8-7F29-4B12-91C3-FA3962E4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113-52A9-456E-9C23-BB40E1CF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F5B-ACE1-4D25-8263-D2692E47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B03-3437-4D32-9D18-C36B7B49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6DE-AD5B-455D-AF13-F775325B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61A-8B24-4CD3-A633-DDDA3B11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3E5-200E-43A1-8445-6F4F800A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F8D-5661-4D39-B5D9-9E9357B6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76C-F9E0-4665-8171-F94355F5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008-113A-4808-BEF1-9A533F9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0A7-435F-4776-B401-18FAE4A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878-1989-4359-8F3E-2F32463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A33A-CDA8-4A23-880F-353E897492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2D4-9364-4CE3-BF50-53E7B5F9A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8.jpe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6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765000"/>
          <a:ext cx="5929200" cy="71604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1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6  Sho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52320" y="2637000"/>
            <a:ext cx="78663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四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40408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55640" y="19890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It’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692360" y="446868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They a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T01A1D~1"/>
          <p:cNvPicPr/>
          <p:nvPr/>
        </p:nvPicPr>
        <p:blipFill>
          <a:blip r:embed="rId2"/>
          <a:stretch/>
        </p:blipFill>
        <p:spPr>
          <a:xfrm>
            <a:off x="2627280" y="1413000"/>
            <a:ext cx="3306960" cy="213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T011E4~1"/>
          <p:cNvPicPr/>
          <p:nvPr/>
        </p:nvPicPr>
        <p:blipFill>
          <a:blip r:embed="rId3"/>
          <a:stretch/>
        </p:blipFill>
        <p:spPr>
          <a:xfrm>
            <a:off x="4643280" y="3760920"/>
            <a:ext cx="3600720" cy="26924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3"/>
          <p:cNvSpPr txBox="1"/>
          <p:nvPr/>
        </p:nvSpPr>
        <p:spPr>
          <a:xfrm>
            <a:off x="250920" y="404640"/>
            <a:ext cx="3025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’s say 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2009042318005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T0147A~1"/>
          <p:cNvPicPr/>
          <p:nvPr/>
        </p:nvPicPr>
        <p:blipFill>
          <a:blip r:embed="rId2"/>
          <a:stretch/>
        </p:blipFill>
        <p:spPr>
          <a:xfrm>
            <a:off x="3995640" y="765000"/>
            <a:ext cx="2808360" cy="19544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4067280" y="907920"/>
            <a:ext cx="86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￥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500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50920" y="278136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250920" y="299736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250920" y="321300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50920" y="342900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504720" y="270972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y are very expens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5" descr="T017EA~1"/>
          <p:cNvPicPr/>
          <p:nvPr/>
        </p:nvPicPr>
        <p:blipFill>
          <a:blip r:embed="rId3"/>
          <a:stretch/>
        </p:blipFill>
        <p:spPr>
          <a:xfrm>
            <a:off x="4067280" y="353700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149" name="Line 16"/>
          <p:cNvSpPr/>
          <p:nvPr/>
        </p:nvSpPr>
        <p:spPr>
          <a:xfrm>
            <a:off x="179280" y="557532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179280" y="579132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179280" y="600696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179280" y="622296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720720" y="551016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y are too sm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21"/>
          <p:cNvSpPr txBox="1"/>
          <p:nvPr/>
        </p:nvSpPr>
        <p:spPr>
          <a:xfrm>
            <a:off x="250920" y="333360"/>
            <a:ext cx="3025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ook and write.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2009042318005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250920" y="263700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50920" y="285264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250920" y="306864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250920" y="328464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50920" y="293760"/>
            <a:ext cx="62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omic Sans MS"/>
              </a:rPr>
              <a:t>Draw your shoes and write a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79280" y="522936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179280" y="544500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179280" y="566100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179280" y="587700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11280" y="2565360"/>
            <a:ext cx="59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omic Sans MS"/>
              </a:rPr>
              <a:t>They are so n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7" descr="T017B6~1"/>
          <p:cNvPicPr/>
          <p:nvPr/>
        </p:nvPicPr>
        <p:blipFill>
          <a:blip r:embed="rId2"/>
          <a:stretch/>
        </p:blipFill>
        <p:spPr>
          <a:xfrm>
            <a:off x="5076720" y="1052640"/>
            <a:ext cx="2625840" cy="26254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8"/>
          <p:cNvSpPr txBox="1"/>
          <p:nvPr/>
        </p:nvSpPr>
        <p:spPr>
          <a:xfrm>
            <a:off x="539640" y="4149720"/>
            <a:ext cx="3382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hat about you?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200904231753376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裙子_副本"/>
          <p:cNvPicPr/>
          <p:nvPr/>
        </p:nvPicPr>
        <p:blipFill>
          <a:blip r:embed="rId2"/>
          <a:stretch/>
        </p:blipFill>
        <p:spPr>
          <a:xfrm>
            <a:off x="874800" y="3789360"/>
            <a:ext cx="145548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雨伞1_副本"/>
          <p:cNvPicPr/>
          <p:nvPr/>
        </p:nvPicPr>
        <p:blipFill>
          <a:blip r:embed="rId3"/>
          <a:stretch/>
        </p:blipFill>
        <p:spPr>
          <a:xfrm>
            <a:off x="6816600" y="4114800"/>
            <a:ext cx="1787760" cy="19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书包1_副本"/>
          <p:cNvPicPr/>
          <p:nvPr/>
        </p:nvPicPr>
        <p:blipFill>
          <a:blip r:embed="rId4"/>
          <a:stretch/>
        </p:blipFill>
        <p:spPr>
          <a:xfrm>
            <a:off x="2838600" y="3855960"/>
            <a:ext cx="1612800" cy="21654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1211400" y="3422520"/>
            <a:ext cx="8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3154320" y="3422520"/>
            <a:ext cx="16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u Yi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292720" y="349416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7280280" y="353232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490680" y="482760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403360" y="446724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5075280" y="57643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7331040" y="54752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5" descr="11_副本"/>
          <p:cNvPicPr/>
          <p:nvPr/>
        </p:nvPicPr>
        <p:blipFill>
          <a:blip r:embed="rId5"/>
          <a:stretch/>
        </p:blipFill>
        <p:spPr>
          <a:xfrm>
            <a:off x="4994280" y="3962520"/>
            <a:ext cx="1031760" cy="18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3635280" y="1019160"/>
          <a:ext cx="5040360" cy="2152800"/>
        </p:xfrm>
        <a:graphic>
          <a:graphicData uri="http://schemas.openxmlformats.org/drawingml/2006/table">
            <a:tbl>
              <a:tblPr/>
              <a:tblGrid>
                <a:gridCol w="2521080"/>
                <a:gridCol w="1079280"/>
                <a:gridCol w="1440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much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pretty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r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nic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_______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cheap 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expensive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WordArt 76"/>
          <p:cNvSpPr txBox="1"/>
          <p:nvPr/>
        </p:nvSpPr>
        <p:spPr>
          <a:xfrm>
            <a:off x="468360" y="333360"/>
            <a:ext cx="2590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play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5" name="Text Box 78"/>
          <p:cNvSpPr/>
          <p:nvPr/>
        </p:nvSpPr>
        <p:spPr>
          <a:xfrm>
            <a:off x="250920" y="126828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the pictures and complete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399600"/>
            <a:ext cx="6769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and answer with the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裙子_副本"/>
          <p:cNvPicPr/>
          <p:nvPr/>
        </p:nvPicPr>
        <p:blipFill>
          <a:blip r:embed="rId2"/>
          <a:stretch/>
        </p:blipFill>
        <p:spPr>
          <a:xfrm>
            <a:off x="874800" y="3789360"/>
            <a:ext cx="1455480" cy="2205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雨伞1_副本"/>
          <p:cNvPicPr/>
          <p:nvPr/>
        </p:nvPicPr>
        <p:blipFill>
          <a:blip r:embed="rId3"/>
          <a:stretch/>
        </p:blipFill>
        <p:spPr>
          <a:xfrm>
            <a:off x="6816600" y="4114800"/>
            <a:ext cx="1787760" cy="193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书包1_副本"/>
          <p:cNvPicPr/>
          <p:nvPr/>
        </p:nvPicPr>
        <p:blipFill>
          <a:blip r:embed="rId4"/>
          <a:stretch/>
        </p:blipFill>
        <p:spPr>
          <a:xfrm>
            <a:off x="2838600" y="3855960"/>
            <a:ext cx="1612800" cy="21654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922320" y="331632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154320" y="3316320"/>
            <a:ext cx="16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u Yi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354640" y="345924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280280" y="353232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490680" y="482760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403360" y="446724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5075280" y="57643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7331040" y="54752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11_副本"/>
          <p:cNvPicPr/>
          <p:nvPr/>
        </p:nvPicPr>
        <p:blipFill>
          <a:blip r:embed="rId5"/>
          <a:stretch/>
        </p:blipFill>
        <p:spPr>
          <a:xfrm>
            <a:off x="4994280" y="3962520"/>
            <a:ext cx="1031760" cy="18889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7"/>
          <p:cNvSpPr/>
          <p:nvPr/>
        </p:nvSpPr>
        <p:spPr>
          <a:xfrm>
            <a:off x="826920" y="1341360"/>
            <a:ext cx="561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— 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Who ha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— 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Sarah has a pretty dress. It’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50 yuan. It’s very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417240"/>
            <a:ext cx="8353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k about your clothes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11280" y="1916280"/>
            <a:ext cx="79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—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Who has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—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Sarah has a pretty dress. It’s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50 yuan. It’s very 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2009042318005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116000" y="2349360"/>
            <a:ext cx="4824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how ti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468360" y="333360"/>
            <a:ext cx="2590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show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1000" autoRev="1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3" dur="1000" autoRev="1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" dur="1000" autoRev="1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2006122183231811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979640" y="98100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ff"/>
                </a:solidFill>
                <a:latin typeface="Comic Sans MS"/>
              </a:rPr>
              <a:t>Homework</a:t>
            </a:r>
            <a:r>
              <a:rPr b="1" i="1" lang="en-US" sz="66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200652682520637"/>
          <p:cNvPicPr/>
          <p:nvPr/>
        </p:nvPicPr>
        <p:blipFill>
          <a:blip r:embed="rId2"/>
          <a:stretch/>
        </p:blipFill>
        <p:spPr>
          <a:xfrm>
            <a:off x="826920" y="981000"/>
            <a:ext cx="1152720" cy="1068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684360" y="266076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i="1" lang="zh-CN" sz="2800" spc="-1" strike="noStrike">
                <a:solidFill>
                  <a:srgbClr val="333399"/>
                </a:solidFill>
                <a:latin typeface="Arial"/>
              </a:rPr>
              <a:t>）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Listen to and repeat “Read and write”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zh-CN" sz="2800" spc="-1" strike="noStrike">
                <a:solidFill>
                  <a:srgbClr val="333399"/>
                </a:solidFill>
                <a:latin typeface="Arial"/>
              </a:rPr>
              <a:t>）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escribe your clothes and things to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"/>
          <p:cNvSpPr/>
          <p:nvPr/>
        </p:nvSpPr>
        <p:spPr>
          <a:xfrm>
            <a:off x="1563840" y="5111640"/>
            <a:ext cx="51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1B28-0B07-4E25-9B6E-F44EA70CE9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2303640" y="48625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782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How much is that doggie in the wind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The one with the waggity 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With his tail so short and his ears so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I do hope that doggie’s for s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5440" y="477720"/>
            <a:ext cx="25178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sing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6" name="Picture 6" descr="T01310~1"/>
          <p:cNvPicPr/>
          <p:nvPr/>
        </p:nvPicPr>
        <p:blipFill>
          <a:blip r:embed="rId2"/>
          <a:stretch/>
        </p:blipFill>
        <p:spPr>
          <a:xfrm>
            <a:off x="6659640" y="3573360"/>
            <a:ext cx="209844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Line 8"/>
          <p:cNvSpPr/>
          <p:nvPr/>
        </p:nvSpPr>
        <p:spPr>
          <a:xfrm>
            <a:off x="826920" y="2276640"/>
            <a:ext cx="2160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 rot="20930400">
            <a:off x="1071360" y="1720440"/>
            <a:ext cx="566100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3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How much 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3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395280" y="476280"/>
            <a:ext cx="424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How to ask the price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WordArt 9"/>
          <p:cNvSpPr txBox="1"/>
          <p:nvPr/>
        </p:nvSpPr>
        <p:spPr>
          <a:xfrm rot="20930400">
            <a:off x="3132000" y="3424320"/>
            <a:ext cx="3888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3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How much 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3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WordArt 10"/>
          <p:cNvSpPr txBox="1"/>
          <p:nvPr/>
        </p:nvSpPr>
        <p:spPr>
          <a:xfrm rot="20930400">
            <a:off x="4571640" y="4708440"/>
            <a:ext cx="271944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3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How much 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3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400" y="1341000"/>
            <a:ext cx="7653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the sentences in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246060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How much is that … in the wind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e one with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325440" y="333360"/>
            <a:ext cx="3166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review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Picture 6" descr="裙子_副本"/>
          <p:cNvPicPr/>
          <p:nvPr/>
        </p:nvPicPr>
        <p:blipFill>
          <a:blip r:embed="rId2"/>
          <a:stretch/>
        </p:blipFill>
        <p:spPr>
          <a:xfrm>
            <a:off x="5219640" y="3933720"/>
            <a:ext cx="1693800" cy="256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小群_副本"/>
          <p:cNvPicPr/>
          <p:nvPr/>
        </p:nvPicPr>
        <p:blipFill>
          <a:blip r:embed="rId3"/>
          <a:stretch/>
        </p:blipFill>
        <p:spPr>
          <a:xfrm>
            <a:off x="3564000" y="3933720"/>
            <a:ext cx="1942920" cy="1319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围巾_副本"/>
          <p:cNvPicPr/>
          <p:nvPr/>
        </p:nvPicPr>
        <p:blipFill>
          <a:blip r:embed="rId4"/>
          <a:stretch/>
        </p:blipFill>
        <p:spPr>
          <a:xfrm rot="20877000">
            <a:off x="6732720" y="3141360"/>
            <a:ext cx="14302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009042318005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250920" y="404640"/>
            <a:ext cx="266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check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7" name="Picture 8" descr="T0147A~1"/>
          <p:cNvPicPr/>
          <p:nvPr/>
        </p:nvPicPr>
        <p:blipFill>
          <a:blip r:embed="rId2"/>
          <a:stretch/>
        </p:blipFill>
        <p:spPr>
          <a:xfrm>
            <a:off x="611280" y="2211480"/>
            <a:ext cx="2520720" cy="175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11_副本"/>
          <p:cNvPicPr/>
          <p:nvPr/>
        </p:nvPicPr>
        <p:blipFill>
          <a:blip r:embed="rId3"/>
          <a:stretch/>
        </p:blipFill>
        <p:spPr>
          <a:xfrm>
            <a:off x="4356000" y="2138400"/>
            <a:ext cx="1176480" cy="2154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T011E4~1"/>
          <p:cNvPicPr/>
          <p:nvPr/>
        </p:nvPicPr>
        <p:blipFill>
          <a:blip r:embed="rId4"/>
          <a:stretch/>
        </p:blipFill>
        <p:spPr>
          <a:xfrm>
            <a:off x="755640" y="4076640"/>
            <a:ext cx="2368440" cy="1770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2"/>
          <p:cNvSpPr/>
          <p:nvPr/>
        </p:nvSpPr>
        <p:spPr>
          <a:xfrm>
            <a:off x="395280" y="1268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 and tick(√) or cross(×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364000" y="213840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手套1_副本"/>
          <p:cNvPicPr/>
          <p:nvPr/>
        </p:nvPicPr>
        <p:blipFill>
          <a:blip r:embed="rId5"/>
          <a:stretch/>
        </p:blipFill>
        <p:spPr>
          <a:xfrm>
            <a:off x="4140360" y="4292640"/>
            <a:ext cx="1736640" cy="1369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995640" y="206064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95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4067280" y="400536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1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468360" y="40464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check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0" name="Line 6"/>
          <p:cNvSpPr/>
          <p:nvPr/>
        </p:nvSpPr>
        <p:spPr>
          <a:xfrm>
            <a:off x="1260360" y="3645000"/>
            <a:ext cx="287280" cy="1224000"/>
          </a:xfrm>
          <a:prstGeom prst="line">
            <a:avLst/>
          </a:prstGeom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3421080" y="3932280"/>
            <a:ext cx="287280" cy="1368360"/>
          </a:xfrm>
          <a:prstGeom prst="line">
            <a:avLst/>
          </a:prstGeom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5797440" y="4076640"/>
            <a:ext cx="1511280" cy="1297080"/>
          </a:xfrm>
          <a:prstGeom prst="line">
            <a:avLst/>
          </a:prstGeom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6013440" y="4005360"/>
            <a:ext cx="1440000" cy="863640"/>
          </a:xfrm>
          <a:prstGeom prst="line">
            <a:avLst/>
          </a:prstGeom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T0120C~1"/>
          <p:cNvPicPr/>
          <p:nvPr/>
        </p:nvPicPr>
        <p:blipFill>
          <a:blip r:embed="rId2"/>
          <a:stretch/>
        </p:blipFill>
        <p:spPr>
          <a:xfrm>
            <a:off x="7164360" y="189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绿_副本"/>
          <p:cNvPicPr/>
          <p:nvPr/>
        </p:nvPicPr>
        <p:blipFill>
          <a:blip r:embed="rId3"/>
          <a:stretch/>
        </p:blipFill>
        <p:spPr>
          <a:xfrm>
            <a:off x="2989440" y="2133720"/>
            <a:ext cx="1419120" cy="180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T0147A~1"/>
          <p:cNvPicPr/>
          <p:nvPr/>
        </p:nvPicPr>
        <p:blipFill>
          <a:blip r:embed="rId4"/>
          <a:stretch/>
        </p:blipFill>
        <p:spPr>
          <a:xfrm>
            <a:off x="539640" y="2205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5"/>
          <p:cNvSpPr/>
          <p:nvPr/>
        </p:nvSpPr>
        <p:spPr>
          <a:xfrm>
            <a:off x="612720" y="486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ap sung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6300720" y="5373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nsive 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4067280" y="4797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y friend’s umbr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2411280" y="530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 pretty green sc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539640" y="220500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5653080" y="22766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468360" y="1268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nd m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3" descr="手套1_副本"/>
          <p:cNvPicPr/>
          <p:nvPr/>
        </p:nvPicPr>
        <p:blipFill>
          <a:blip r:embed="rId5"/>
          <a:stretch/>
        </p:blipFill>
        <p:spPr>
          <a:xfrm>
            <a:off x="4859280" y="2565360"/>
            <a:ext cx="1736640" cy="137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伞_副本"/>
          <p:cNvPicPr/>
          <p:nvPr/>
        </p:nvPicPr>
        <p:blipFill>
          <a:blip r:embed="rId6"/>
          <a:stretch/>
        </p:blipFill>
        <p:spPr>
          <a:xfrm>
            <a:off x="6804000" y="2421000"/>
            <a:ext cx="18716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WordArt 4" descr=""/>
          <p:cNvPicPr/>
          <p:nvPr/>
        </p:nvPicPr>
        <p:blipFill>
          <a:blip r:embed="rId2"/>
          <a:stretch/>
        </p:blipFill>
        <p:spPr>
          <a:xfrm>
            <a:off x="895320" y="2421000"/>
            <a:ext cx="4008600" cy="13986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973080" y="4149720"/>
            <a:ext cx="2735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Yes, it is.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gradFill rotWithShape="0">
                <a:gsLst>
                  <a:gs pos="0">
                    <a:srgbClr val="003300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325440" y="404640"/>
            <a:ext cx="3166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say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1" name="Picture 10" descr="裙子_副本"/>
          <p:cNvPicPr/>
          <p:nvPr/>
        </p:nvPicPr>
        <p:blipFill>
          <a:blip r:embed="rId3"/>
          <a:stretch/>
        </p:blipFill>
        <p:spPr>
          <a:xfrm>
            <a:off x="5292720" y="3933720"/>
            <a:ext cx="1693800" cy="2565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T01D95~1"/>
          <p:cNvPicPr/>
          <p:nvPr/>
        </p:nvPicPr>
        <p:blipFill>
          <a:blip r:embed="rId4"/>
          <a:stretch/>
        </p:blipFill>
        <p:spPr>
          <a:xfrm rot="21074400">
            <a:off x="4788000" y="404280"/>
            <a:ext cx="1873080" cy="172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图片1_副本"/>
          <p:cNvPicPr/>
          <p:nvPr/>
        </p:nvPicPr>
        <p:blipFill>
          <a:blip r:embed="rId5"/>
          <a:stretch/>
        </p:blipFill>
        <p:spPr>
          <a:xfrm rot="20620200">
            <a:off x="7083360" y="4243320"/>
            <a:ext cx="1484280" cy="22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袜子_副本"/>
          <p:cNvPicPr/>
          <p:nvPr/>
        </p:nvPicPr>
        <p:blipFill>
          <a:blip r:embed="rId6"/>
          <a:stretch/>
        </p:blipFill>
        <p:spPr>
          <a:xfrm>
            <a:off x="7380360" y="2924280"/>
            <a:ext cx="112536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围巾_副本"/>
          <p:cNvPicPr/>
          <p:nvPr/>
        </p:nvPicPr>
        <p:blipFill>
          <a:blip r:embed="rId7"/>
          <a:stretch/>
        </p:blipFill>
        <p:spPr>
          <a:xfrm rot="20877000">
            <a:off x="7093080" y="333000"/>
            <a:ext cx="1430280" cy="2506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手套1_副本"/>
          <p:cNvPicPr/>
          <p:nvPr/>
        </p:nvPicPr>
        <p:blipFill>
          <a:blip r:embed="rId8"/>
          <a:stretch/>
        </p:blipFill>
        <p:spPr>
          <a:xfrm>
            <a:off x="5148360" y="2452680"/>
            <a:ext cx="1800000" cy="1420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1"/>
          <p:cNvSpPr/>
          <p:nvPr/>
        </p:nvSpPr>
        <p:spPr>
          <a:xfrm>
            <a:off x="395280" y="1197000"/>
            <a:ext cx="41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the sentences according to the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4140360" y="4762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7885080" y="33336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4716360" y="458136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7956720" y="4437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7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324000" y="26028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writ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1125360"/>
            <a:ext cx="2808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A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8842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 all sunglasses and gloves are five yuan! They are very che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many nice scarves, too—red, yellow, brown and 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brellas are cheap, too. We have many pretty colours for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 and see us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457200" y="174456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uch is the red scar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How much are the brown glo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Is the umbrella too expen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46040" y="318456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Are the sunglasses che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4"/>
          <p:cNvSpPr txBox="1"/>
          <p:nvPr/>
        </p:nvSpPr>
        <p:spPr>
          <a:xfrm>
            <a:off x="250920" y="404640"/>
            <a:ext cx="41068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nswer the questions.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3:56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3:47Z</dcterms:modified>
  <cp:revision>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