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B2FB-073B-4E55-A043-43DC199D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E42D-0B48-44EB-972A-C12300A1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863D-2627-4B23-BD2B-0F2FDFB5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6EEB-F76D-48E0-B845-43E208F4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9B08-6554-4FF0-8450-0DDE7655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1F66-ABE6-40A3-851E-1EBF2162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DE86-327A-4E2F-8813-8F7BCB70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52D-8E58-4142-B98B-858F6AB0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894-22FA-4A33-888D-73AB1740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A683-75DF-4280-8255-7C414100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4D79-13E9-4D1E-87DE-C9B42C08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978-477D-4471-9DF5-53AF3891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FE99-10B2-4E2F-A6D5-7B5EA680C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66ffff"/>
            </a:gs>
            <a:gs pos="100000">
              <a:srgbClr val="ff99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43000" y="1981080"/>
            <a:ext cx="6742080" cy="18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时间的计算</a:t>
            </a:r>
            <a:endParaRPr b="1" lang="en-US" sz="8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233280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838080"/>
          <a:ext cx="5410080" cy="4224240"/>
        </p:xfrm>
        <a:graphic>
          <a:graphicData uri="http://schemas.openxmlformats.org/drawingml/2006/table">
            <a:tbl>
              <a:tblPr/>
              <a:tblGrid>
                <a:gridCol w="685800"/>
                <a:gridCol w="1905120"/>
                <a:gridCol w="2819160"/>
              </a:tblGrid>
              <a:tr h="305280">
                <a:tc rowSpan="7">
                  <a:txBody>
                    <a:bodyPr lIns="76320" rIns="7632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午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教师上班、英语晨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教师广播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~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学生广播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~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一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~9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~1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三节（眼保健操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~1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四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3">
                  <a:txBody>
                    <a:bodyPr lIns="76320" rIns="7632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午                休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rowSpan="5">
                  <a:txBody>
                    <a:bodyPr lIns="76320" rIns="7632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午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~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阅读时分、午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~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五节（眼保健操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~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六节（室内广播操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~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七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~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学生晚托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160"/>
          <p:cNvSpPr/>
          <p:nvPr/>
        </p:nvSpPr>
        <p:spPr>
          <a:xfrm>
            <a:off x="1523880" y="2286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安亭小学作息时间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55"/>
          <p:cNvSpPr/>
          <p:nvPr/>
        </p:nvSpPr>
        <p:spPr>
          <a:xfrm>
            <a:off x="4067280" y="5157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447840" y="5878440"/>
            <a:ext cx="72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5800" y="838080"/>
          <a:ext cx="5410080" cy="4224240"/>
        </p:xfrm>
        <a:graphic>
          <a:graphicData uri="http://schemas.openxmlformats.org/drawingml/2006/table">
            <a:tbl>
              <a:tblPr/>
              <a:tblGrid>
                <a:gridCol w="685800"/>
                <a:gridCol w="1905120"/>
                <a:gridCol w="2819160"/>
              </a:tblGrid>
              <a:tr h="305280">
                <a:tc rowSpan="7">
                  <a:txBody>
                    <a:bodyPr lIns="76320" rIns="7632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午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教师上班、英语晨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教师广播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~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学生广播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~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一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~9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~1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三节（眼保健操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~1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四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3">
                  <a:txBody>
                    <a:bodyPr lIns="76320" rIns="7632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午                休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rowSpan="5">
                  <a:txBody>
                    <a:bodyPr lIns="76320" rIns="7632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午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~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阅读时分、午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~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五节（眼保健操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~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六节（室内广播操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~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七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~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学生晚托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Text Box 51"/>
          <p:cNvSpPr/>
          <p:nvPr/>
        </p:nvSpPr>
        <p:spPr>
          <a:xfrm>
            <a:off x="1523880" y="2286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安亭小学作息时间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3"/>
          <p:cNvSpPr/>
          <p:nvPr/>
        </p:nvSpPr>
        <p:spPr>
          <a:xfrm>
            <a:off x="838080" y="5410080"/>
            <a:ext cx="2133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0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4"/>
          <p:cNvSpPr/>
          <p:nvPr/>
        </p:nvSpPr>
        <p:spPr>
          <a:xfrm>
            <a:off x="2914560" y="633096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答：这一节课上了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5"/>
          <p:cNvSpPr/>
          <p:nvPr/>
        </p:nvSpPr>
        <p:spPr>
          <a:xfrm>
            <a:off x="1600200" y="6273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56"/>
          <p:cNvSpPr/>
          <p:nvPr/>
        </p:nvSpPr>
        <p:spPr>
          <a:xfrm>
            <a:off x="914400" y="6248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7"/>
          <p:cNvSpPr/>
          <p:nvPr/>
        </p:nvSpPr>
        <p:spPr>
          <a:xfrm>
            <a:off x="6477120" y="1828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一节课上了多少时间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85800" y="838080"/>
          <a:ext cx="5410080" cy="4224240"/>
        </p:xfrm>
        <a:graphic>
          <a:graphicData uri="http://schemas.openxmlformats.org/drawingml/2006/table">
            <a:tbl>
              <a:tblPr/>
              <a:tblGrid>
                <a:gridCol w="685800"/>
                <a:gridCol w="1905120"/>
                <a:gridCol w="2819160"/>
              </a:tblGrid>
              <a:tr h="305280">
                <a:tc rowSpan="7">
                  <a:txBody>
                    <a:bodyPr lIns="76320" rIns="7632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午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教师上班、英语晨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教师广播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~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学生广播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~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一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~9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~1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三节（眼保健操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~1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四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3">
                  <a:txBody>
                    <a:bodyPr lIns="76320" rIns="7632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午                休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rowSpan="5">
                  <a:txBody>
                    <a:bodyPr lIns="76320" rIns="7632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午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~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阅读时分、午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~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五节（眼保健操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~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六节（室内广播操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~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七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~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学生晚托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51"/>
          <p:cNvSpPr/>
          <p:nvPr/>
        </p:nvSpPr>
        <p:spPr>
          <a:xfrm>
            <a:off x="1523880" y="2286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安亭小学作息时间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3"/>
          <p:cNvSpPr/>
          <p:nvPr/>
        </p:nvSpPr>
        <p:spPr>
          <a:xfrm>
            <a:off x="838080" y="5410080"/>
            <a:ext cx="2133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5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54"/>
          <p:cNvSpPr/>
          <p:nvPr/>
        </p:nvSpPr>
        <p:spPr>
          <a:xfrm>
            <a:off x="838080" y="62485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5"/>
          <p:cNvSpPr/>
          <p:nvPr/>
        </p:nvSpPr>
        <p:spPr>
          <a:xfrm>
            <a:off x="1604880" y="625464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6"/>
          <p:cNvSpPr/>
          <p:nvPr/>
        </p:nvSpPr>
        <p:spPr>
          <a:xfrm>
            <a:off x="2914560" y="633096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答：这一节课上了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7"/>
          <p:cNvSpPr/>
          <p:nvPr/>
        </p:nvSpPr>
        <p:spPr>
          <a:xfrm>
            <a:off x="6324480" y="4343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一节课上了多少时间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85800" y="838080"/>
          <a:ext cx="5410080" cy="4224240"/>
        </p:xfrm>
        <a:graphic>
          <a:graphicData uri="http://schemas.openxmlformats.org/drawingml/2006/table">
            <a:tbl>
              <a:tblPr/>
              <a:tblGrid>
                <a:gridCol w="685800"/>
                <a:gridCol w="1905120"/>
                <a:gridCol w="2819160"/>
              </a:tblGrid>
              <a:tr h="305280">
                <a:tc rowSpan="7">
                  <a:txBody>
                    <a:bodyPr lIns="76320" rIns="7632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午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教师上班、英语晨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教师广播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~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学生广播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~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一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~9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~1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三节（眼保健操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~1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四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</a:tr>
              <a:tr h="305280">
                <a:tc gridSpan="3">
                  <a:txBody>
                    <a:bodyPr lIns="76320" rIns="7632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午                休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rowSpan="5">
                  <a:txBody>
                    <a:bodyPr lIns="76320" rIns="7632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午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~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阅读时分、午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~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五节（眼保健操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~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六节（室内广播操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~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七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~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学生晚托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51"/>
          <p:cNvSpPr/>
          <p:nvPr/>
        </p:nvSpPr>
        <p:spPr>
          <a:xfrm>
            <a:off x="1523880" y="2286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安亭小学作息时间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2"/>
          <p:cNvSpPr/>
          <p:nvPr/>
        </p:nvSpPr>
        <p:spPr>
          <a:xfrm>
            <a:off x="624852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一节课上了多少时间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53"/>
          <p:cNvGrpSpPr/>
          <p:nvPr/>
        </p:nvGrpSpPr>
        <p:grpSpPr>
          <a:xfrm>
            <a:off x="838080" y="5410080"/>
            <a:ext cx="2133720" cy="1167480"/>
            <a:chOff x="838080" y="5410080"/>
            <a:chExt cx="2133720" cy="1167480"/>
          </a:xfrm>
        </p:grpSpPr>
        <p:sp>
          <p:nvSpPr>
            <p:cNvPr id="65" name="Text Box 54"/>
            <p:cNvSpPr/>
            <p:nvPr/>
          </p:nvSpPr>
          <p:spPr>
            <a:xfrm>
              <a:off x="838080" y="5410080"/>
              <a:ext cx="213372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1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 0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0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55"/>
            <p:cNvSpPr/>
            <p:nvPr/>
          </p:nvSpPr>
          <p:spPr>
            <a:xfrm>
              <a:off x="1143000" y="6248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85800" y="838080"/>
          <a:ext cx="5410080" cy="4224240"/>
        </p:xfrm>
        <a:graphic>
          <a:graphicData uri="http://schemas.openxmlformats.org/drawingml/2006/table">
            <a:tbl>
              <a:tblPr/>
              <a:tblGrid>
                <a:gridCol w="685800"/>
                <a:gridCol w="1905120"/>
                <a:gridCol w="2819160"/>
              </a:tblGrid>
              <a:tr h="305280">
                <a:tc rowSpan="7">
                  <a:txBody>
                    <a:bodyPr lIns="76320" rIns="7632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午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教师上班、英语晨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教师广播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~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学生广播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~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一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~9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~1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三节（眼保健操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~1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四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50000"/>
                      </a:srgbClr>
                    </a:solidFill>
                  </a:tcPr>
                </a:tc>
              </a:tr>
              <a:tr h="305280">
                <a:tc gridSpan="3">
                  <a:txBody>
                    <a:bodyPr lIns="76320" rIns="7632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午                休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rowSpan="5">
                  <a:txBody>
                    <a:bodyPr lIns="76320" rIns="7632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午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~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阅读时分、午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~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五节（眼保健操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~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六节（室内广播操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~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七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~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学生晚托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Text Box 51"/>
          <p:cNvSpPr/>
          <p:nvPr/>
        </p:nvSpPr>
        <p:spPr>
          <a:xfrm>
            <a:off x="1523880" y="2286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安亭小学作息时间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3"/>
          <p:cNvSpPr/>
          <p:nvPr/>
        </p:nvSpPr>
        <p:spPr>
          <a:xfrm>
            <a:off x="624852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一节课上了多少时间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63"/>
          <p:cNvGrpSpPr/>
          <p:nvPr/>
        </p:nvGrpSpPr>
        <p:grpSpPr>
          <a:xfrm>
            <a:off x="838080" y="5410080"/>
            <a:ext cx="2133720" cy="1167480"/>
            <a:chOff x="838080" y="5410080"/>
            <a:chExt cx="2133720" cy="1167480"/>
          </a:xfrm>
        </p:grpSpPr>
        <p:sp>
          <p:nvSpPr>
            <p:cNvPr id="71" name="Text Box 54"/>
            <p:cNvSpPr/>
            <p:nvPr/>
          </p:nvSpPr>
          <p:spPr>
            <a:xfrm>
              <a:off x="838080" y="5410080"/>
              <a:ext cx="213372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 0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0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55"/>
            <p:cNvSpPr/>
            <p:nvPr/>
          </p:nvSpPr>
          <p:spPr>
            <a:xfrm>
              <a:off x="1143000" y="6248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Line 57"/>
          <p:cNvSpPr/>
          <p:nvPr/>
        </p:nvSpPr>
        <p:spPr>
          <a:xfrm>
            <a:off x="2666880" y="6095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64"/>
          <p:cNvGrpSpPr/>
          <p:nvPr/>
        </p:nvGrpSpPr>
        <p:grpSpPr>
          <a:xfrm>
            <a:off x="3429000" y="5486400"/>
            <a:ext cx="2133720" cy="1167480"/>
            <a:chOff x="3429000" y="5486400"/>
            <a:chExt cx="2133720" cy="1167480"/>
          </a:xfrm>
        </p:grpSpPr>
        <p:sp>
          <p:nvSpPr>
            <p:cNvPr id="75" name="Text Box 58"/>
            <p:cNvSpPr/>
            <p:nvPr/>
          </p:nvSpPr>
          <p:spPr>
            <a:xfrm>
              <a:off x="3429000" y="5486400"/>
              <a:ext cx="213372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0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9 0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0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59"/>
            <p:cNvSpPr/>
            <p:nvPr/>
          </p:nvSpPr>
          <p:spPr>
            <a:xfrm>
              <a:off x="3809880" y="62485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Text Box 60"/>
          <p:cNvSpPr/>
          <p:nvPr/>
        </p:nvSpPr>
        <p:spPr>
          <a:xfrm>
            <a:off x="4417920" y="62388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1"/>
          <p:cNvSpPr/>
          <p:nvPr/>
        </p:nvSpPr>
        <p:spPr>
          <a:xfrm>
            <a:off x="5562720" y="62485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答：这一节课上了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2"/>
          <p:cNvSpPr/>
          <p:nvPr/>
        </p:nvSpPr>
        <p:spPr>
          <a:xfrm>
            <a:off x="2438280" y="54100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退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作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341D-73FE-409F-93BD-3D2E9561C2F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2:25:1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6:19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