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0" name="Picture 8" descr="C:\Documents and Settings\kings\桌面\LOGO.png"/>
          <p:cNvPicPr/>
          <p:nvPr/>
        </p:nvPicPr>
        <p:blipFill>
          <a:blip r:embed="rId3"/>
          <a:stretch/>
        </p:blipFill>
        <p:spPr>
          <a:xfrm>
            <a:off x="284040" y="6377040"/>
            <a:ext cx="2055960" cy="2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6800" y="833040"/>
            <a:ext cx="58579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以内的退位减法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082520" y="1985760"/>
            <a:ext cx="478656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</a:rPr>
              <a:t>十几减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79" name="Picture 5" descr="\\192.168.1.3\临时中转站1_以本人姓名建目录\开发中心-多媒体部\02美术部\晨会文件\04宁煌\人教数学教参\02.png"/>
          <p:cNvPicPr/>
          <p:nvPr/>
        </p:nvPicPr>
        <p:blipFill>
          <a:blip r:embed="rId2"/>
          <a:stretch/>
        </p:blipFill>
        <p:spPr>
          <a:xfrm>
            <a:off x="684360" y="952560"/>
            <a:ext cx="785520" cy="7858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2626920" y="6215040"/>
            <a:ext cx="47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Arial"/>
                <a:ea typeface="楷体_GB2312"/>
              </a:rPr>
              <a:t>幻灯片之家  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  <a:ea typeface="楷体_GB2312"/>
              </a:rPr>
              <a:t>http://www.eeppt.com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231120" y="501336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  <a:ea typeface="楷体_GB2312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  <a:ea typeface="楷体_GB2312"/>
              </a:rPr>
              <a:t>模板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8344-EE74-4AEC-B132-10D034362DA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游戏引入，唤醒旧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655640" y="3463920"/>
            <a:ext cx="42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说说你是怎么算的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1654200" y="58071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朵花里拿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朵，你想怎么拿？为什么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426960" y="1571760"/>
            <a:ext cx="7210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一）击鼓传花游戏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763640" y="2205000"/>
          <a:ext cx="5688000" cy="503280"/>
        </p:xfrm>
        <a:graphic>
          <a:graphicData uri="http://schemas.openxmlformats.org/drawingml/2006/table">
            <a:tbl>
              <a:tblPr/>
              <a:tblGrid>
                <a:gridCol w="568440"/>
                <a:gridCol w="568080"/>
                <a:gridCol w="569880"/>
                <a:gridCol w="568440"/>
                <a:gridCol w="569880"/>
                <a:gridCol w="568440"/>
                <a:gridCol w="568440"/>
                <a:gridCol w="568080"/>
                <a:gridCol w="568440"/>
                <a:gridCol w="569880"/>
              </a:tblGrid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0</a:t>
                      </a:r>
                      <a:endParaRPr b="1" lang="en-US" sz="2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4</a:t>
                      </a:r>
                      <a:endParaRPr b="1" lang="en-US" sz="2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3</a:t>
                      </a:r>
                      <a:endParaRPr b="1" lang="en-US" sz="2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7</a:t>
                      </a:r>
                      <a:endParaRPr b="1" lang="en-US" sz="2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9</a:t>
                      </a:r>
                      <a:endParaRPr b="1" lang="en-US" sz="2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2</a:t>
                      </a:r>
                      <a:endParaRPr b="1" lang="en-US" sz="2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5</a:t>
                      </a:r>
                      <a:endParaRPr b="1" lang="en-US" sz="2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8</a:t>
                      </a:r>
                      <a:endParaRPr b="1" lang="en-US" sz="2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6</a:t>
                      </a:r>
                      <a:endParaRPr b="1" lang="en-US" sz="2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1</a:t>
                      </a:r>
                      <a:endParaRPr b="1" lang="en-US" sz="2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grpSp>
        <p:nvGrpSpPr>
          <p:cNvPr id="87" name="Group 30"/>
          <p:cNvGrpSpPr/>
          <p:nvPr/>
        </p:nvGrpSpPr>
        <p:grpSpPr>
          <a:xfrm>
            <a:off x="1763640" y="2781360"/>
            <a:ext cx="504720" cy="504720"/>
            <a:chOff x="1763640" y="2781360"/>
            <a:chExt cx="504720" cy="504720"/>
          </a:xfrm>
        </p:grpSpPr>
        <p:sp>
          <p:nvSpPr>
            <p:cNvPr id="88" name="Oval 31"/>
            <p:cNvSpPr/>
            <p:nvPr/>
          </p:nvSpPr>
          <p:spPr>
            <a:xfrm>
              <a:off x="1763640" y="2781360"/>
              <a:ext cx="504720" cy="504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89" name="WordArt 32"/>
            <p:cNvSpPr txBox="1"/>
            <p:nvPr/>
          </p:nvSpPr>
          <p:spPr>
            <a:xfrm>
              <a:off x="1922400" y="2892600"/>
              <a:ext cx="201600" cy="276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90" name="Rectangle 4"/>
          <p:cNvSpPr/>
          <p:nvPr/>
        </p:nvSpPr>
        <p:spPr>
          <a:xfrm>
            <a:off x="426960" y="4149720"/>
            <a:ext cx="7210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二）动手试一试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1" name="Rectangle 50"/>
          <p:cNvSpPr/>
          <p:nvPr/>
        </p:nvSpPr>
        <p:spPr>
          <a:xfrm>
            <a:off x="2428920" y="620064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还剩几朵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92" name="Picture 94" descr="13-1"/>
          <p:cNvPicPr/>
          <p:nvPr/>
        </p:nvPicPr>
        <p:blipFill>
          <a:blip r:embed="rId1"/>
          <a:stretch/>
        </p:blipFill>
        <p:spPr>
          <a:xfrm>
            <a:off x="1666800" y="4724280"/>
            <a:ext cx="2720880" cy="9352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95"/>
          <p:cNvSpPr/>
          <p:nvPr/>
        </p:nvSpPr>
        <p:spPr>
          <a:xfrm>
            <a:off x="231120" y="501336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254 L 0.06685 0.00532 E">
                                      <p:cBhvr>
                                        <p:cTn id="19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684 0.00532 L 0.12986 0.00532 E">
                                      <p:cBhvr>
                                        <p:cTn id="23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986 0.00532 L 0.19288 0.00532 E">
                                      <p:cBhvr>
                                        <p:cTn id="27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288 0.00532 L 0.2559 0.00532 E">
                                      <p:cBhvr>
                                        <p:cTn id="31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59 0.00532 L 0.31892 0.00532 E">
                                      <p:cBhvr>
                                        <p:cTn id="35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892 0.00532 L 0.38194 0.00532 E">
                                      <p:cBhvr>
                                        <p:cTn id="39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194 0.00532 L 0.44496 0.00532 E">
                                      <p:cBhvr>
                                        <p:cTn id="43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496 0.00532 L 0.50781 0.00532 E">
                                      <p:cBhvr>
                                        <p:cTn id="47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781 0.00532 L 0.56302 0.00532 E">
                                      <p:cBhvr>
                                        <p:cTn id="51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12"/>
          <p:cNvSpPr/>
          <p:nvPr/>
        </p:nvSpPr>
        <p:spPr>
          <a:xfrm>
            <a:off x="3549600" y="342900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1" lang="en-US" sz="1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1" lang="en-US" sz="1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1" lang="en-US" sz="1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1" lang="en-US" sz="1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1" lang="en-US" sz="1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1" lang="en-US" sz="1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1" lang="en-US" sz="1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1" lang="en-US" sz="1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95" name="Picture 14" descr="13-2"/>
          <p:cNvPicPr/>
          <p:nvPr/>
        </p:nvPicPr>
        <p:blipFill>
          <a:blip r:embed="rId1"/>
          <a:stretch/>
        </p:blipFill>
        <p:spPr>
          <a:xfrm>
            <a:off x="2583000" y="1852560"/>
            <a:ext cx="5084640" cy="24400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684360" y="432288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图中你都知道了什么？ 能到前面边指边说吗？   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461960" y="4718160"/>
            <a:ext cx="63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要求的问题是什么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461960" y="5114880"/>
            <a:ext cx="56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能完整地说说这幅图的意思吗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426960" y="1571760"/>
            <a:ext cx="7210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一）收集信息，回答问题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1461960" y="551016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要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还剩几个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能解答吗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1461960" y="5907240"/>
            <a:ext cx="705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怎么得到的啊？把你们的算法和同桌的小朋友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说一说，也可以用学具摆一摆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5796000" y="55087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231120" y="501336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426960" y="1571760"/>
            <a:ext cx="7210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二）自主探究，暴露资源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619280" y="2060640"/>
            <a:ext cx="26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用学具摆一摆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620720" y="2457360"/>
            <a:ext cx="107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反馈：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619280" y="3429000"/>
            <a:ext cx="712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都是去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风车，他们的去掉方法一样吗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2403360" y="3825720"/>
            <a:ext cx="547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谁听明白了，能再说说吗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1619280" y="5950080"/>
            <a:ext cx="63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结：看来我们既可以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再加个位上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也可以先减去个位上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再减去剩下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112" name="Group 21"/>
          <p:cNvGrpSpPr/>
          <p:nvPr/>
        </p:nvGrpSpPr>
        <p:grpSpPr>
          <a:xfrm>
            <a:off x="2484360" y="2567160"/>
            <a:ext cx="2465640" cy="772920"/>
            <a:chOff x="2484360" y="2567160"/>
            <a:chExt cx="2465640" cy="772920"/>
          </a:xfrm>
        </p:grpSpPr>
        <p:pic>
          <p:nvPicPr>
            <p:cNvPr id="113" name="Picture 18" descr=""/>
            <p:cNvPicPr/>
            <p:nvPr/>
          </p:nvPicPr>
          <p:blipFill>
            <a:blip r:embed="rId1"/>
            <a:stretch/>
          </p:blipFill>
          <p:spPr>
            <a:xfrm>
              <a:off x="2484360" y="2567160"/>
              <a:ext cx="24656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AutoShape 17"/>
            <p:cNvSpPr/>
            <p:nvPr/>
          </p:nvSpPr>
          <p:spPr>
            <a:xfrm>
              <a:off x="2503440" y="2598840"/>
              <a:ext cx="1467000" cy="74124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  <p:sp>
        <p:nvSpPr>
          <p:cNvPr id="115" name="Rectangle 19"/>
          <p:cNvSpPr/>
          <p:nvPr/>
        </p:nvSpPr>
        <p:spPr>
          <a:xfrm>
            <a:off x="2403360" y="4221000"/>
            <a:ext cx="640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能把你们的过程用一个算式表示出来吗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116" name="Group 48"/>
          <p:cNvGrpSpPr/>
          <p:nvPr/>
        </p:nvGrpSpPr>
        <p:grpSpPr>
          <a:xfrm>
            <a:off x="3013200" y="4629240"/>
            <a:ext cx="2063160" cy="1394280"/>
            <a:chOff x="3013200" y="4629240"/>
            <a:chExt cx="2063160" cy="1394280"/>
          </a:xfrm>
        </p:grpSpPr>
        <p:sp>
          <p:nvSpPr>
            <p:cNvPr id="117" name="Text Box 25"/>
            <p:cNvSpPr/>
            <p:nvPr/>
          </p:nvSpPr>
          <p:spPr>
            <a:xfrm>
              <a:off x="3205080" y="4629240"/>
              <a:ext cx="18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grpSp>
          <p:nvGrpSpPr>
            <p:cNvPr id="118" name="Group 34"/>
            <p:cNvGrpSpPr/>
            <p:nvPr/>
          </p:nvGrpSpPr>
          <p:grpSpPr>
            <a:xfrm>
              <a:off x="3295440" y="4989600"/>
              <a:ext cx="319680" cy="215640"/>
              <a:chOff x="3295440" y="4989600"/>
              <a:chExt cx="319680" cy="215640"/>
            </a:xfrm>
          </p:grpSpPr>
          <p:sp>
            <p:nvSpPr>
              <p:cNvPr id="119" name="Line 26"/>
              <p:cNvSpPr/>
              <p:nvPr/>
            </p:nvSpPr>
            <p:spPr>
              <a:xfrm flipH="1">
                <a:off x="3295440" y="4989600"/>
                <a:ext cx="166320" cy="21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sp>
            <p:nvSpPr>
              <p:cNvPr id="120" name="Line 27"/>
              <p:cNvSpPr/>
              <p:nvPr/>
            </p:nvSpPr>
            <p:spPr>
              <a:xfrm flipH="1" flipV="1">
                <a:off x="3461400" y="4989600"/>
                <a:ext cx="153720" cy="21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</p:grpSp>
        <p:sp>
          <p:nvSpPr>
            <p:cNvPr id="121" name="Text Box 29"/>
            <p:cNvSpPr/>
            <p:nvPr/>
          </p:nvSpPr>
          <p:spPr>
            <a:xfrm>
              <a:off x="3013200" y="5180040"/>
              <a:ext cx="50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22" name="Text Box 30"/>
            <p:cNvSpPr/>
            <p:nvPr/>
          </p:nvSpPr>
          <p:spPr>
            <a:xfrm>
              <a:off x="3362400" y="5180040"/>
              <a:ext cx="50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grpSp>
          <p:nvGrpSpPr>
            <p:cNvPr id="123" name="Group 36"/>
            <p:cNvGrpSpPr/>
            <p:nvPr/>
          </p:nvGrpSpPr>
          <p:grpSpPr>
            <a:xfrm>
              <a:off x="3624120" y="4989240"/>
              <a:ext cx="288720" cy="649080"/>
              <a:chOff x="3624120" y="4989240"/>
              <a:chExt cx="288720" cy="649080"/>
            </a:xfrm>
          </p:grpSpPr>
          <p:sp>
            <p:nvSpPr>
              <p:cNvPr id="124" name="Line 31"/>
              <p:cNvSpPr/>
              <p:nvPr/>
            </p:nvSpPr>
            <p:spPr>
              <a:xfrm>
                <a:off x="3624120" y="5530680"/>
                <a:ext cx="0" cy="106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sp>
            <p:nvSpPr>
              <p:cNvPr id="125" name="Line 32"/>
              <p:cNvSpPr/>
              <p:nvPr/>
            </p:nvSpPr>
            <p:spPr>
              <a:xfrm>
                <a:off x="3624120" y="5637240"/>
                <a:ext cx="288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sp>
            <p:nvSpPr>
              <p:cNvPr id="126" name="Line 33"/>
              <p:cNvSpPr/>
              <p:nvPr/>
            </p:nvSpPr>
            <p:spPr>
              <a:xfrm flipV="1">
                <a:off x="3912840" y="4989240"/>
                <a:ext cx="0" cy="64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</p:grpSp>
        <p:sp>
          <p:nvSpPr>
            <p:cNvPr id="127" name="Text Box 35"/>
            <p:cNvSpPr/>
            <p:nvPr/>
          </p:nvSpPr>
          <p:spPr>
            <a:xfrm>
              <a:off x="3508200" y="5624640"/>
              <a:ext cx="50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  <p:grpSp>
        <p:nvGrpSpPr>
          <p:cNvPr id="128" name="Group 49"/>
          <p:cNvGrpSpPr/>
          <p:nvPr/>
        </p:nvGrpSpPr>
        <p:grpSpPr>
          <a:xfrm>
            <a:off x="5302080" y="4629240"/>
            <a:ext cx="1871640" cy="1393920"/>
            <a:chOff x="5302080" y="4629240"/>
            <a:chExt cx="1871640" cy="1393920"/>
          </a:xfrm>
        </p:grpSpPr>
        <p:sp>
          <p:nvSpPr>
            <p:cNvPr id="129" name="Text Box 37"/>
            <p:cNvSpPr/>
            <p:nvPr/>
          </p:nvSpPr>
          <p:spPr>
            <a:xfrm>
              <a:off x="5302080" y="4629240"/>
              <a:ext cx="18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grpSp>
          <p:nvGrpSpPr>
            <p:cNvPr id="130" name="Group 38"/>
            <p:cNvGrpSpPr/>
            <p:nvPr/>
          </p:nvGrpSpPr>
          <p:grpSpPr>
            <a:xfrm>
              <a:off x="5836680" y="4989240"/>
              <a:ext cx="321120" cy="215640"/>
              <a:chOff x="5836680" y="4989240"/>
              <a:chExt cx="321120" cy="215640"/>
            </a:xfrm>
          </p:grpSpPr>
          <p:sp>
            <p:nvSpPr>
              <p:cNvPr id="131" name="Line 39"/>
              <p:cNvSpPr/>
              <p:nvPr/>
            </p:nvSpPr>
            <p:spPr>
              <a:xfrm flipH="1">
                <a:off x="5836680" y="4989240"/>
                <a:ext cx="166680" cy="21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sp>
            <p:nvSpPr>
              <p:cNvPr id="132" name="Line 40"/>
              <p:cNvSpPr/>
              <p:nvPr/>
            </p:nvSpPr>
            <p:spPr>
              <a:xfrm flipH="1" flipV="1">
                <a:off x="6003720" y="4989240"/>
                <a:ext cx="154080" cy="21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</p:grpSp>
        <p:sp>
          <p:nvSpPr>
            <p:cNvPr id="133" name="Text Box 41"/>
            <p:cNvSpPr/>
            <p:nvPr/>
          </p:nvSpPr>
          <p:spPr>
            <a:xfrm>
              <a:off x="5573520" y="518004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34" name="Text Box 42"/>
            <p:cNvSpPr/>
            <p:nvPr/>
          </p:nvSpPr>
          <p:spPr>
            <a:xfrm>
              <a:off x="5910120" y="518004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grpSp>
          <p:nvGrpSpPr>
            <p:cNvPr id="135" name="Group 43"/>
            <p:cNvGrpSpPr/>
            <p:nvPr/>
          </p:nvGrpSpPr>
          <p:grpSpPr>
            <a:xfrm>
              <a:off x="5560560" y="4983120"/>
              <a:ext cx="274680" cy="648720"/>
              <a:chOff x="5560560" y="4983120"/>
              <a:chExt cx="274680" cy="648720"/>
            </a:xfrm>
          </p:grpSpPr>
          <p:sp>
            <p:nvSpPr>
              <p:cNvPr id="136" name="Line 44"/>
              <p:cNvSpPr/>
              <p:nvPr/>
            </p:nvSpPr>
            <p:spPr>
              <a:xfrm>
                <a:off x="5835240" y="5523840"/>
                <a:ext cx="0" cy="10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sp>
            <p:nvSpPr>
              <p:cNvPr id="137" name="Line 45"/>
              <p:cNvSpPr/>
              <p:nvPr/>
            </p:nvSpPr>
            <p:spPr>
              <a:xfrm flipH="1">
                <a:off x="5560560" y="5630400"/>
                <a:ext cx="274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sp>
            <p:nvSpPr>
              <p:cNvPr id="138" name="Line 46"/>
              <p:cNvSpPr/>
              <p:nvPr/>
            </p:nvSpPr>
            <p:spPr>
              <a:xfrm flipV="1">
                <a:off x="5560560" y="4983120"/>
                <a:ext cx="0" cy="648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</p:grpSp>
        <p:sp>
          <p:nvSpPr>
            <p:cNvPr id="139" name="Text Box 47"/>
            <p:cNvSpPr/>
            <p:nvPr/>
          </p:nvSpPr>
          <p:spPr>
            <a:xfrm>
              <a:off x="5446440" y="562428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  <p:sp>
        <p:nvSpPr>
          <p:cNvPr id="140" name="Rectangle 51">
            <a:hlinkClick r:id="rId2" action="ppaction://hlinksldjump"/>
          </p:cNvPr>
          <p:cNvSpPr/>
          <p:nvPr/>
        </p:nvSpPr>
        <p:spPr>
          <a:xfrm>
            <a:off x="2987640" y="4653000"/>
            <a:ext cx="1513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1" name="Rectangle 52">
            <a:hlinkClick r:id="rId3" action="ppaction://hlinksldjump"/>
          </p:cNvPr>
          <p:cNvSpPr/>
          <p:nvPr/>
        </p:nvSpPr>
        <p:spPr>
          <a:xfrm>
            <a:off x="5207040" y="4653000"/>
            <a:ext cx="1512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142" name="Group 54"/>
          <p:cNvGrpSpPr/>
          <p:nvPr/>
        </p:nvGrpSpPr>
        <p:grpSpPr>
          <a:xfrm>
            <a:off x="5470560" y="2565360"/>
            <a:ext cx="2486160" cy="771480"/>
            <a:chOff x="5470560" y="2565360"/>
            <a:chExt cx="2486160" cy="771480"/>
          </a:xfrm>
        </p:grpSpPr>
        <p:pic>
          <p:nvPicPr>
            <p:cNvPr id="143" name="Picture 11" descr=""/>
            <p:cNvPicPr/>
            <p:nvPr/>
          </p:nvPicPr>
          <p:blipFill>
            <a:blip r:embed="rId4"/>
            <a:stretch/>
          </p:blipFill>
          <p:spPr>
            <a:xfrm>
              <a:off x="5470560" y="2565360"/>
              <a:ext cx="2465280" cy="7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AutoShape 10"/>
            <p:cNvSpPr/>
            <p:nvPr/>
          </p:nvSpPr>
          <p:spPr>
            <a:xfrm>
              <a:off x="7493040" y="2595600"/>
              <a:ext cx="463680" cy="741240"/>
            </a:xfrm>
            <a:custGeom>
              <a:avLst/>
              <a:gdLst>
                <a:gd name="textAreaLeft" fmla="*/ 22320 w 463680"/>
                <a:gd name="textAreaRight" fmla="*/ 441360 w 463680"/>
                <a:gd name="textAreaTop" fmla="*/ 22320 h 741240"/>
                <a:gd name="textAreaBottom" fmla="*/ 718920 h 741240"/>
              </a:gdLst>
              <a:ahLst/>
              <a:rect l="textAreaLeft" t="textAreaTop" r="textAreaRight" b="textAreaBottom"/>
              <a:pathLst>
                <a:path w="21600" h="34520">
                  <a:moveTo>
                    <a:pt x="3600" y="0"/>
                  </a:moveTo>
                  <a:arcTo wR="3600" hR="3600" stAng="16200000" swAng="-5400000"/>
                  <a:lnTo>
                    <a:pt x="0" y="30920"/>
                  </a:lnTo>
                  <a:arcTo wR="3600" hR="3600" stAng="10800000" swAng="-5400000"/>
                  <a:lnTo>
                    <a:pt x="18000" y="3452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45" name="AutoShape 53"/>
            <p:cNvSpPr/>
            <p:nvPr/>
          </p:nvSpPr>
          <p:spPr>
            <a:xfrm>
              <a:off x="6235560" y="2595600"/>
              <a:ext cx="1079640" cy="74124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  <p:sp>
        <p:nvSpPr>
          <p:cNvPr id="146" name="Rectangle 55"/>
          <p:cNvSpPr/>
          <p:nvPr/>
        </p:nvSpPr>
        <p:spPr>
          <a:xfrm>
            <a:off x="231120" y="501336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26960" y="1571760"/>
            <a:ext cx="7210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二）自主探究，暴露资源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1619280" y="2276640"/>
            <a:ext cx="66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这道题还有其他的计算方法吗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619280" y="400536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挑一种喜欢的方法和你的同桌说一说。   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1" name="Rectangle 7">
            <a:hlinkClick r:id="rId1" action="ppaction://hlinksldjump"/>
          </p:cNvPr>
          <p:cNvSpPr/>
          <p:nvPr/>
        </p:nvSpPr>
        <p:spPr>
          <a:xfrm>
            <a:off x="2700360" y="3168720"/>
            <a:ext cx="2798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2" name="Rectangle 8">
            <a:hlinkClick r:id="rId2" action="ppaction://hlinksldjump"/>
          </p:cNvPr>
          <p:cNvSpPr/>
          <p:nvPr/>
        </p:nvSpPr>
        <p:spPr>
          <a:xfrm>
            <a:off x="2700360" y="3525840"/>
            <a:ext cx="2798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1619280" y="2673360"/>
            <a:ext cx="165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想加算减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426960" y="4873680"/>
            <a:ext cx="7210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三）同桌互查，巩固算法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1619280" y="5594400"/>
            <a:ext cx="727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同桌互相出两道关于十几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题，并说出自己是怎么算的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231120" y="501336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新知，自主练习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960480" y="1773360"/>
            <a:ext cx="7210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圈一圈，算一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403280" y="480708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结果是多少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为什么这么圈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160" name="Group 17"/>
          <p:cNvGrpSpPr/>
          <p:nvPr/>
        </p:nvGrpSpPr>
        <p:grpSpPr>
          <a:xfrm>
            <a:off x="1482840" y="2392200"/>
            <a:ext cx="6906960" cy="1710000"/>
            <a:chOff x="1482840" y="2392200"/>
            <a:chExt cx="6906960" cy="1710000"/>
          </a:xfrm>
        </p:grpSpPr>
        <p:pic>
          <p:nvPicPr>
            <p:cNvPr id="161" name="Picture 13" descr="13-3"/>
            <p:cNvPicPr/>
            <p:nvPr/>
          </p:nvPicPr>
          <p:blipFill>
            <a:blip r:embed="rId1"/>
            <a:stretch/>
          </p:blipFill>
          <p:spPr>
            <a:xfrm>
              <a:off x="1482840" y="2392200"/>
              <a:ext cx="6906960" cy="104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15" descr="13-5"/>
            <p:cNvPicPr/>
            <p:nvPr/>
          </p:nvPicPr>
          <p:blipFill>
            <a:blip r:embed="rId2"/>
            <a:stretch/>
          </p:blipFill>
          <p:spPr>
            <a:xfrm>
              <a:off x="2322360" y="3645000"/>
              <a:ext cx="1818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16" descr="13-4"/>
            <p:cNvPicPr/>
            <p:nvPr/>
          </p:nvPicPr>
          <p:blipFill>
            <a:blip r:embed="rId3"/>
            <a:stretch/>
          </p:blipFill>
          <p:spPr>
            <a:xfrm>
              <a:off x="5900760" y="3645000"/>
              <a:ext cx="176688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Rectangle 19"/>
          <p:cNvSpPr/>
          <p:nvPr/>
        </p:nvSpPr>
        <p:spPr>
          <a:xfrm>
            <a:off x="231120" y="501336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新知，自主练习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960480" y="1773360"/>
            <a:ext cx="7210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算一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332000" y="454644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边算边思考，你有什么发现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2111400" y="4976640"/>
            <a:ext cx="625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你能照样子再出三组题吗？说给同桌听一听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69" name="Picture 8" descr="93"/>
          <p:cNvPicPr/>
          <p:nvPr/>
        </p:nvPicPr>
        <p:blipFill>
          <a:blip r:embed="rId1"/>
          <a:srcRect l="10123" t="3197" r="10030" b="0"/>
          <a:stretch/>
        </p:blipFill>
        <p:spPr>
          <a:xfrm>
            <a:off x="1403280" y="2349360"/>
            <a:ext cx="7164360" cy="15494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9"/>
          <p:cNvSpPr/>
          <p:nvPr/>
        </p:nvSpPr>
        <p:spPr>
          <a:xfrm>
            <a:off x="231120" y="501336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447120" y="522936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新知，自主练习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960480" y="1773360"/>
            <a:ext cx="3898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看谁算得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4" name="Text Box 32"/>
          <p:cNvSpPr/>
          <p:nvPr/>
        </p:nvSpPr>
        <p:spPr>
          <a:xfrm>
            <a:off x="1330200" y="623736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算得快的同学，你有什么窍门吗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75" name="Picture 35" descr="161">
            <a:hlinkClick r:id="rId1" action="ppaction://hlinksldjump"/>
          </p:cNvPr>
          <p:cNvPicPr/>
          <p:nvPr/>
        </p:nvPicPr>
        <p:blipFill>
          <a:blip r:embed="rId2"/>
          <a:srcRect l="0" t="1873" r="0" b="0"/>
          <a:stretch/>
        </p:blipFill>
        <p:spPr>
          <a:xfrm>
            <a:off x="2050920" y="2349360"/>
            <a:ext cx="5113440" cy="37404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6"/>
          <p:cNvSpPr/>
          <p:nvPr/>
        </p:nvSpPr>
        <p:spPr>
          <a:xfrm>
            <a:off x="231120" y="501336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7" name="Rectangle 37"/>
          <p:cNvSpPr/>
          <p:nvPr/>
        </p:nvSpPr>
        <p:spPr>
          <a:xfrm>
            <a:off x="447120" y="522936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6"/>
          <p:cNvSpPr/>
          <p:nvPr/>
        </p:nvSpPr>
        <p:spPr>
          <a:xfrm>
            <a:off x="716040" y="2924280"/>
            <a:ext cx="76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“做一做”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四、布置作业</a:t>
            </a:r>
            <a:endParaRPr b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231120" y="501336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1" name="文本框 1"/>
          <p:cNvSpPr/>
          <p:nvPr/>
        </p:nvSpPr>
        <p:spPr>
          <a:xfrm>
            <a:off x="209520" y="6229440"/>
            <a:ext cx="738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更多免费</a:t>
            </a: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PPT</a:t>
            </a: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模板下载：</a:t>
            </a: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3:16Z</dcterms:modified>
  <cp:revision>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