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gif" ContentType="image/gif"/>
  <Override PartName="/ppt/media/image11.png" ContentType="image/png"/>
  <Override PartName="/ppt/media/image6.png" ContentType="image/png"/>
  <Override PartName="/ppt/media/image14.wmf" ContentType="image/x-wmf"/>
  <Override PartName="/ppt/media/image17.png" ContentType="image/png"/>
  <Override PartName="/ppt/media/image16.wmf" ContentType="image/x-wmf"/>
  <Override PartName="/ppt/media/image1.jpeg" ContentType="image/jpeg"/>
  <Override PartName="/ppt/media/chimes.wav" ContentType="audio/x-wav"/>
  <Override PartName="/ppt/media/image2.wmf" ContentType="image/x-wmf"/>
  <Override PartName="/ppt/media/image15.jpeg" ContentType="image/jpeg"/>
  <Override PartName="/ppt/media/image3.wmf" ContentType="image/x-wmf"/>
  <Override PartName="/ppt/media/image12.wmf" ContentType="image/x-wmf"/>
  <Override PartName="/ppt/media/image4.png" ContentType="image/png"/>
  <Override PartName="/ppt/media/image8.jpeg" ContentType="image/jpeg"/>
  <Override PartName="/ppt/media/image13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5C66-BFC0-4479-8B09-C44FE9A5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2778-1D07-4B6C-961C-FC0AE2648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C779-406A-4CDE-A967-6C2C0DA15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6C27-A0B8-4288-A967-54309AEC1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B82C-6582-4DA5-B75B-52DCD603C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BBDB-F181-4FFC-B70B-0332C36E7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B4C0-F5BC-4F04-902B-12B47E580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576E-79FF-43D8-BD32-12C7BCCAF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029E-0991-4A45-8967-D6A0B40E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D940-3690-4D68-8F32-37938FFDA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15C3-A563-473D-BC00-1D7BBFA9D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CF7F-B0F9-4606-A16D-A9E008ED0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4857-02EF-43F0-B0A3-289B5154D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D090-A485-4666-92B4-8B2D2FF24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8FF-C4CF-486C-A245-1A5F7D15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9C8B-0AA6-4ECD-9F45-F1FBA3DE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3C1-B62D-442D-9D32-0B812014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F5C-49B2-4181-97B3-4F8F01CE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380-0D34-4932-B180-C9209DD6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875-BE3C-46F7-9D24-2E32D144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964-C5CD-4EEA-8759-DA05455E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B43-54F2-4681-8492-0C1FAB3F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15F-50FB-4F98-9FD6-E0A4D963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F0F-723D-4D6F-BFA2-2C0D09BA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B60-0EE3-4B58-9D89-60FFAF29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5303-6E37-49C9-9B0C-B9BF6A2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56D2-315A-4CBE-A260-68B206C4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hyperlink" Target="http://www.eeppt.com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916280"/>
            <a:ext cx="712944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宋体"/>
              </a:rPr>
              <a:t>实际问题与一元二次方程课件</a:t>
            </a:r>
            <a:r>
              <a:rPr b="1" lang="en-US" sz="40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1" lang="zh-CN" sz="40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宋体"/>
              </a:rPr>
              <a:t>下载</a:t>
            </a:r>
            <a:endParaRPr b="1" lang="en-US" sz="40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9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116000" y="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练习</a:t>
            </a:r>
            <a:r>
              <a:rPr b="1" lang="en-US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116"/>
          <p:cNvPicPr/>
          <p:nvPr/>
        </p:nvPicPr>
        <p:blipFill>
          <a:blip r:embed="rId1"/>
          <a:stretch/>
        </p:blipFill>
        <p:spPr>
          <a:xfrm>
            <a:off x="0" y="0"/>
            <a:ext cx="971640" cy="828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0" y="812880"/>
            <a:ext cx="8923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某农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承包荒山若干亩，投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改造后种果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棵，其成活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在今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：今年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夏季全部结果时，随意摘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棵果树的水果，称得重量如下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位：千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样本平均数估计该农户今年水果的总产量是多少？⑵此水果在市场每千克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在水果园每千克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该农户用农用车将水果拉到市场出售，平均每天出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克，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帮助，每人每天付工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两种出售方式都在相同的时间内售完全部水果，选择哪种出售方式合理？为什么？⑶该农户加强果园管理，力争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三年合计纯收入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7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平均每年的增长率是多少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纯收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收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支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303120" y="1159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本平均数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ject 5" descr=""/>
          <p:cNvPicPr/>
          <p:nvPr/>
        </p:nvPicPr>
        <p:blipFill>
          <a:blip r:embed="rId1"/>
          <a:stretch/>
        </p:blipFill>
        <p:spPr>
          <a:xfrm>
            <a:off x="324000" y="673200"/>
            <a:ext cx="8497800" cy="887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03120" y="1536840"/>
            <a:ext cx="88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产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000×90%×10=18000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0" y="1989000"/>
            <a:ext cx="94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果园出售的利润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×18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800=12000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0" y="2492280"/>
            <a:ext cx="1054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市场出售的利润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×180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8000÷1000)×8×25=12000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0" y="3481560"/>
            <a:ext cx="89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两种出售方式相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哪一种都可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87480" y="4148280"/>
            <a:ext cx="83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平均每年的增长率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ject 11" descr=""/>
          <p:cNvPicPr/>
          <p:nvPr/>
        </p:nvPicPr>
        <p:blipFill>
          <a:blip r:embed="rId2"/>
          <a:stretch/>
        </p:blipFill>
        <p:spPr>
          <a:xfrm>
            <a:off x="324000" y="4776840"/>
            <a:ext cx="7993080" cy="6825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231840" y="5450040"/>
            <a:ext cx="83008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. 50=50%,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合题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舍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50920" y="6165720"/>
            <a:ext cx="88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平均每年的增长率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WordArt 2"/>
          <p:cNvSpPr txBox="1"/>
          <p:nvPr/>
        </p:nvSpPr>
        <p:spPr>
          <a:xfrm>
            <a:off x="1143000" y="380880"/>
            <a:ext cx="32004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结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2977920" y="175248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平均增长（降低）率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Object 4" descr=""/>
          <p:cNvPicPr/>
          <p:nvPr/>
        </p:nvPicPr>
        <p:blipFill>
          <a:blip r:embed="rId2"/>
          <a:stretch/>
        </p:blipFill>
        <p:spPr>
          <a:xfrm>
            <a:off x="1816200" y="2179800"/>
            <a:ext cx="3517920" cy="10206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677520" y="3160800"/>
            <a:ext cx="625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注意：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位置不要调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）解这类问题列出的方程一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用    </a:t>
            </a: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直接开平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6"/>
          <p:cNvSpPr txBox="1"/>
          <p:nvPr/>
        </p:nvSpPr>
        <p:spPr>
          <a:xfrm>
            <a:off x="457200" y="6095880"/>
            <a:ext cx="3124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学无止境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1" name="WordArt 7"/>
          <p:cNvSpPr txBox="1"/>
          <p:nvPr/>
        </p:nvSpPr>
        <p:spPr>
          <a:xfrm>
            <a:off x="5334120" y="6086520"/>
            <a:ext cx="3124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迎难而上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0" y="105264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(P53-7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山村种的水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平均每公顷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200kg,200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平均每公顷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450kg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求水稻每公顷产量的年平均增长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0" y="3716280"/>
            <a:ext cx="86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(P58-8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银行经过最近的两次降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一年期存款的年利率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2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降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98%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均每次降息的百分率是多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精确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01%)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1042920" y="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彩云"/>
              </a:rPr>
              <a:t>课后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3" descr="new"/>
          <p:cNvPicPr/>
          <p:nvPr/>
        </p:nvPicPr>
        <p:blipFill>
          <a:blip r:embed="rId1"/>
          <a:stretch/>
        </p:blipFill>
        <p:spPr>
          <a:xfrm>
            <a:off x="0" y="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F58-735D-4589-A9FD-5232667DC0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539640" y="-27000"/>
            <a:ext cx="2521080" cy="863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8380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两年前生产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甲种药品的成本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产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种药品的成本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着生产技术的进步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现在生产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甲种药品的成本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产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吨乙种药品的成本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哪种药品成本的年平均下降率较大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96920" y="3429000"/>
            <a:ext cx="87487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甲种药品成本的年平均下降额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5000-3000)÷2=1000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种药品成本的年平均下降额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6000-3600)÷2=1200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种药品成本的年平均下降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较大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是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年平均下降额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等同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年平均下降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百分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ject 3" descr=""/>
          <p:cNvPicPr/>
          <p:nvPr/>
        </p:nvPicPr>
        <p:blipFill>
          <a:blip r:embed="rId1"/>
          <a:stretch/>
        </p:blipFill>
        <p:spPr>
          <a:xfrm>
            <a:off x="1547640" y="1681200"/>
            <a:ext cx="4464360" cy="814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187640" y="0"/>
            <a:ext cx="658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设甲种药品成本的年平均下降率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x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则一年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甲种药品成本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000(1-x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两年后甲种药品成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5000(1-x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依题意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80600" y="2637000"/>
            <a:ext cx="14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7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7848360" cy="6588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1721160" y="4005360"/>
            <a:ext cx="57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甲种药品成本的年平均下降率约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2.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773720" y="4600440"/>
            <a:ext cx="509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算一算</a:t>
            </a:r>
            <a:r>
              <a:rPr b="1" lang="en-US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乙种药品成本的年平均下降率是多少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38000" y="5734080"/>
            <a:ext cx="40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比较</a:t>
            </a:r>
            <a:r>
              <a:rPr b="1" lang="en-US" sz="3200" spc="-1" strike="noStrike">
                <a:solidFill>
                  <a:srgbClr val="ff3300"/>
                </a:solidFill>
                <a:latin typeface="华文隶书"/>
                <a:ea typeface="华文隶书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两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药品成本的年平均下降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227640" y="5084640"/>
            <a:ext cx="14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2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880680" y="5805360"/>
            <a:ext cx="12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1563840" y="1268280"/>
            <a:ext cx="563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经过计算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能得出什么结论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成本下降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较大的药品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的成本下降率一定也较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吗 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应怎样全面地比较对象的变化状况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图片skk"/>
          <p:cNvPicPr/>
          <p:nvPr/>
        </p:nvPicPr>
        <p:blipFill>
          <a:blip r:embed="rId1"/>
          <a:stretch/>
        </p:blipFill>
        <p:spPr>
          <a:xfrm>
            <a:off x="0" y="0"/>
            <a:ext cx="1908000" cy="1195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250920" y="3429000"/>
            <a:ext cx="86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过计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成本下降额较大的药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它的成本下降率不一定较大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应比较降前及降后的价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79280" y="189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00000" y="3333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类似地 这种增长率的问题在实际生活普遍存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一定的模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755640" y="1773360"/>
            <a:ext cx="68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若平均增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降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百分率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降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的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增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降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次后的量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它们的数量关系可表示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5" descr=""/>
          <p:cNvPicPr/>
          <p:nvPr/>
        </p:nvPicPr>
        <p:blipFill>
          <a:blip r:embed="rId1"/>
          <a:stretch/>
        </p:blipFill>
        <p:spPr>
          <a:xfrm>
            <a:off x="1230480" y="2994120"/>
            <a:ext cx="6754680" cy="1633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1079640" y="46562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增长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降低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应用"/>
          <p:cNvPicPr/>
          <p:nvPr/>
        </p:nvPicPr>
        <p:blipFill>
          <a:blip r:embed="rId1"/>
          <a:stretch/>
        </p:blipFill>
        <p:spPr>
          <a:xfrm>
            <a:off x="0" y="0"/>
            <a:ext cx="1563840" cy="870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书写"/>
          <p:cNvPicPr/>
          <p:nvPr/>
        </p:nvPicPr>
        <p:blipFill>
          <a:blip r:embed="rId2"/>
          <a:stretch/>
        </p:blipFill>
        <p:spPr>
          <a:xfrm>
            <a:off x="8143920" y="0"/>
            <a:ext cx="1000080" cy="828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0" y="836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(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广州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广州日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道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底广州市自然保护区覆盖率（即自然保护区面积占全市面积的百分比）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，尚未达到国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级标准．因此，市政府决定加快绿化建设，力争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底自然保护区覆盖率达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以上．若要达到最低目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，则广州市自然保护区面积的年平均增长率应是多少？（结果保留三位有效数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0" y="306396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解：设广州市总面积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广州市自然保护区面积年平均增长率为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根据题意，得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×4.65% (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×8%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≈1.72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≈±1.31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≈ 0.312=31.2%,x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312(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不合题意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舍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答：要达到最低目标，自然保护区面积的年平均增长率应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116000" y="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练习</a:t>
            </a:r>
            <a:r>
              <a:rPr b="1" lang="en-US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24000" y="836640"/>
            <a:ext cx="8640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厂今年一月的总产量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月的总产量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均每月增长率是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列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500(1+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=720                 B.500(1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7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500(1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=7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720(1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某校去年对实验器材的投资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计今明两年的投资总额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万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设该校今明两年在实验器材投资上的平均增长率是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可列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116"/>
          <p:cNvPicPr/>
          <p:nvPr/>
        </p:nvPicPr>
        <p:blipFill>
          <a:blip r:embed="rId1"/>
          <a:stretch/>
        </p:blipFill>
        <p:spPr>
          <a:xfrm>
            <a:off x="0" y="0"/>
            <a:ext cx="1187280" cy="1012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7524720" y="1700280"/>
            <a:ext cx="13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8" descr=""/>
          <p:cNvPicPr/>
          <p:nvPr/>
        </p:nvPicPr>
        <p:blipFill>
          <a:blip r:embed="rId2"/>
          <a:stretch/>
        </p:blipFill>
        <p:spPr>
          <a:xfrm>
            <a:off x="1042920" y="5877000"/>
            <a:ext cx="42483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116000" y="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练习</a:t>
            </a:r>
            <a:r>
              <a:rPr b="1" lang="en-US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116"/>
          <p:cNvPicPr/>
          <p:nvPr/>
        </p:nvPicPr>
        <p:blipFill>
          <a:blip r:embed="rId1"/>
          <a:stretch/>
        </p:blipFill>
        <p:spPr>
          <a:xfrm>
            <a:off x="0" y="0"/>
            <a:ext cx="971640" cy="828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0" y="768240"/>
            <a:ext cx="5580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美化城市，改善人们的居住环境已成为城市建设的一项重要内容。某城市近几年来通过拆迁旧房，植草，栽树，修公园等措施，使城区绿地面积不断增加（如图所示）。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根据图中所提供的信息回答下列问题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底的绿地面积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公顷，比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底增加了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公顷；在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这三年中，绿地面积增加最多的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____________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为满足城市发展的需要，计划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底使城区绿地面积达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2.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公顷，试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200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两年绿地面积的年平均增长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8"/>
          <p:cNvGrpSpPr/>
          <p:nvPr/>
        </p:nvGrpSpPr>
        <p:grpSpPr>
          <a:xfrm>
            <a:off x="5435640" y="1197000"/>
            <a:ext cx="3887280" cy="4319640"/>
            <a:chOff x="5435640" y="1197000"/>
            <a:chExt cx="3887280" cy="4319640"/>
          </a:xfrm>
        </p:grpSpPr>
        <p:grpSp>
          <p:nvGrpSpPr>
            <p:cNvPr id="83" name="Group 15"/>
            <p:cNvGrpSpPr/>
            <p:nvPr/>
          </p:nvGrpSpPr>
          <p:grpSpPr>
            <a:xfrm>
              <a:off x="5435640" y="1197000"/>
              <a:ext cx="3711600" cy="4319640"/>
              <a:chOff x="5435640" y="1197000"/>
              <a:chExt cx="3711600" cy="4319640"/>
            </a:xfrm>
          </p:grpSpPr>
          <p:pic>
            <p:nvPicPr>
              <p:cNvPr id="8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5435640" y="1197000"/>
                <a:ext cx="3711600" cy="43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Rectangle 10"/>
              <p:cNvSpPr/>
              <p:nvPr/>
            </p:nvSpPr>
            <p:spPr>
              <a:xfrm>
                <a:off x="6071760" y="4756320"/>
                <a:ext cx="2615400" cy="257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9"/>
              <p:cNvSpPr/>
              <p:nvPr/>
            </p:nvSpPr>
            <p:spPr>
              <a:xfrm>
                <a:off x="7345080" y="472428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1"/>
              <p:cNvSpPr/>
              <p:nvPr/>
            </p:nvSpPr>
            <p:spPr>
              <a:xfrm>
                <a:off x="6567480" y="4724280"/>
                <a:ext cx="12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 Box 13"/>
              <p:cNvSpPr/>
              <p:nvPr/>
            </p:nvSpPr>
            <p:spPr>
              <a:xfrm>
                <a:off x="6001560" y="472428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 Box 14"/>
            <p:cNvSpPr/>
            <p:nvPr/>
          </p:nvSpPr>
          <p:spPr>
            <a:xfrm>
              <a:off x="8051400" y="4724280"/>
              <a:ext cx="12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6"/>
          <p:cNvSpPr/>
          <p:nvPr/>
        </p:nvSpPr>
        <p:spPr>
          <a:xfrm>
            <a:off x="3635280" y="3137040"/>
            <a:ext cx="13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564000" y="3500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376200" y="4653000"/>
            <a:ext cx="18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5435640" y="0"/>
            <a:ext cx="3708360" cy="746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两年绿地面积的年平均增长率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根据题意，得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 (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2.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1.2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±1.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.1=10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合题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舍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200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两年绿地面积的年平均增长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116000" y="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练习</a:t>
            </a:r>
            <a:r>
              <a:rPr b="1" lang="en-US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16"/>
          <p:cNvPicPr/>
          <p:nvPr/>
        </p:nvPicPr>
        <p:blipFill>
          <a:blip r:embed="rId1"/>
          <a:stretch/>
        </p:blipFill>
        <p:spPr>
          <a:xfrm>
            <a:off x="0" y="0"/>
            <a:ext cx="971640" cy="8287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0" y="692280"/>
            <a:ext cx="947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同学进行社会调查，随机抽查了某个地区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家庭的收入情况，并绘制了统计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你根据统计图给出的信息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填写完成下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家庭的年平均收入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元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样本中的中位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元，众数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元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平均数、中位数两数中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能反映这个地区家庭的年收入水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想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家庭的年平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收入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后达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每年的平均增长率是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916280"/>
          <a:ext cx="8569440" cy="1223640"/>
        </p:xfrm>
        <a:graphic>
          <a:graphicData uri="http://schemas.openxmlformats.org/drawingml/2006/table">
            <a:tbl>
              <a:tblPr/>
              <a:tblGrid>
                <a:gridCol w="2089080"/>
                <a:gridCol w="790560"/>
                <a:gridCol w="649440"/>
                <a:gridCol w="718920"/>
                <a:gridCol w="858960"/>
                <a:gridCol w="866880"/>
                <a:gridCol w="865080"/>
                <a:gridCol w="865080"/>
                <a:gridCol w="865440"/>
              </a:tblGrid>
              <a:tr h="634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收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万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家庭户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8" name="Group 212"/>
          <p:cNvGrpSpPr/>
          <p:nvPr/>
        </p:nvGrpSpPr>
        <p:grpSpPr>
          <a:xfrm>
            <a:off x="3940200" y="4437000"/>
            <a:ext cx="5024520" cy="2544840"/>
            <a:chOff x="3940200" y="4437000"/>
            <a:chExt cx="5024520" cy="2544840"/>
          </a:xfrm>
        </p:grpSpPr>
        <p:sp>
          <p:nvSpPr>
            <p:cNvPr id="99" name="Text Box 170"/>
            <p:cNvSpPr/>
            <p:nvPr/>
          </p:nvSpPr>
          <p:spPr>
            <a:xfrm>
              <a:off x="3975120" y="4730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75"/>
            <p:cNvSpPr/>
            <p:nvPr/>
          </p:nvSpPr>
          <p:spPr>
            <a:xfrm>
              <a:off x="4356000" y="6381720"/>
              <a:ext cx="3888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.6  0.9  1.0  1.1  1.2  1.3  1.4  9.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88"/>
            <p:cNvSpPr/>
            <p:nvPr/>
          </p:nvSpPr>
          <p:spPr>
            <a:xfrm>
              <a:off x="3940200" y="4749840"/>
              <a:ext cx="57636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11"/>
            <p:cNvGrpSpPr/>
            <p:nvPr/>
          </p:nvGrpSpPr>
          <p:grpSpPr>
            <a:xfrm>
              <a:off x="4356000" y="4724280"/>
              <a:ext cx="3911400" cy="1733400"/>
              <a:chOff x="4356000" y="4724280"/>
              <a:chExt cx="3911400" cy="17334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4356000" y="6455160"/>
                <a:ext cx="3911400" cy="360"/>
                <a:chOff x="4356000" y="6455160"/>
                <a:chExt cx="3911400" cy="360"/>
              </a:xfrm>
            </p:grpSpPr>
            <p:sp>
              <p:nvSpPr>
                <p:cNvPr id="104" name="Line 174"/>
                <p:cNvSpPr/>
                <p:nvPr/>
              </p:nvSpPr>
              <p:spPr>
                <a:xfrm>
                  <a:off x="4356000" y="6455160"/>
                  <a:ext cx="391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 txBox="1"/>
                <p:nvPr/>
              </p:nvSpPr>
              <p:spPr>
                <a:xfrm>
                  <a:off x="4356000" y="6455160"/>
                  <a:ext cx="3911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176"/>
              <p:cNvGrpSpPr/>
              <p:nvPr/>
            </p:nvGrpSpPr>
            <p:grpSpPr>
              <a:xfrm>
                <a:off x="4699800" y="6371280"/>
                <a:ext cx="360360" cy="83520"/>
                <a:chOff x="4699800" y="6371280"/>
                <a:chExt cx="360360" cy="8352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4699800" y="6371280"/>
                  <a:ext cx="360" cy="77760"/>
                  <a:chOff x="4699800" y="6371280"/>
                  <a:chExt cx="360" cy="77760"/>
                </a:xfrm>
              </p:grpSpPr>
              <p:sp>
                <p:nvSpPr>
                  <p:cNvPr id="108" name="Line 177"/>
                  <p:cNvSpPr/>
                  <p:nvPr/>
                </p:nvSpPr>
                <p:spPr>
                  <a:xfrm>
                    <a:off x="4699800" y="6371280"/>
                    <a:ext cx="0" cy="7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 txBox="1"/>
                  <p:nvPr/>
                </p:nvSpPr>
                <p:spPr>
                  <a:xfrm>
                    <a:off x="4699800" y="6371280"/>
                    <a:ext cx="360" cy="7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0960" bIns="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5059800" y="6377040"/>
                  <a:ext cx="360" cy="77760"/>
                  <a:chOff x="5059800" y="6377040"/>
                  <a:chExt cx="360" cy="77760"/>
                </a:xfrm>
              </p:grpSpPr>
              <p:sp>
                <p:nvSpPr>
                  <p:cNvPr id="111" name="Line 178"/>
                  <p:cNvSpPr/>
                  <p:nvPr/>
                </p:nvSpPr>
                <p:spPr>
                  <a:xfrm>
                    <a:off x="5059800" y="6377040"/>
                    <a:ext cx="0" cy="77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 txBox="1"/>
                  <p:nvPr/>
                </p:nvSpPr>
                <p:spPr>
                  <a:xfrm>
                    <a:off x="5059800" y="6377040"/>
                    <a:ext cx="360" cy="7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0960" bIns="30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Group 179"/>
              <p:cNvGrpSpPr/>
              <p:nvPr/>
            </p:nvGrpSpPr>
            <p:grpSpPr>
              <a:xfrm>
                <a:off x="5500800" y="6369480"/>
                <a:ext cx="445680" cy="77040"/>
                <a:chOff x="5500800" y="6369480"/>
                <a:chExt cx="445680" cy="7704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5500800" y="6369480"/>
                  <a:ext cx="360" cy="71640"/>
                  <a:chOff x="5500800" y="6369480"/>
                  <a:chExt cx="360" cy="71640"/>
                </a:xfrm>
              </p:grpSpPr>
              <p:sp>
                <p:nvSpPr>
                  <p:cNvPr id="115" name="Line 180"/>
                  <p:cNvSpPr/>
                  <p:nvPr/>
                </p:nvSpPr>
                <p:spPr>
                  <a:xfrm>
                    <a:off x="5500800" y="63694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 txBox="1"/>
                  <p:nvPr/>
                </p:nvSpPr>
                <p:spPr>
                  <a:xfrm>
                    <a:off x="5500800" y="6369480"/>
                    <a:ext cx="36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5946120" y="6374880"/>
                  <a:ext cx="360" cy="71640"/>
                  <a:chOff x="5946120" y="6374880"/>
                  <a:chExt cx="360" cy="71640"/>
                </a:xfrm>
              </p:grpSpPr>
              <p:sp>
                <p:nvSpPr>
                  <p:cNvPr id="118" name="Line 181"/>
                  <p:cNvSpPr/>
                  <p:nvPr/>
                </p:nvSpPr>
                <p:spPr>
                  <a:xfrm>
                    <a:off x="5946120" y="637488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 txBox="1"/>
                  <p:nvPr/>
                </p:nvSpPr>
                <p:spPr>
                  <a:xfrm>
                    <a:off x="5946120" y="6374880"/>
                    <a:ext cx="36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" name="Group 182"/>
              <p:cNvGrpSpPr/>
              <p:nvPr/>
            </p:nvGrpSpPr>
            <p:grpSpPr>
              <a:xfrm>
                <a:off x="6425280" y="6377760"/>
                <a:ext cx="445680" cy="77040"/>
                <a:chOff x="6425280" y="6377760"/>
                <a:chExt cx="445680" cy="7704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425280" y="6377760"/>
                  <a:ext cx="360" cy="71640"/>
                  <a:chOff x="6425280" y="6377760"/>
                  <a:chExt cx="360" cy="71640"/>
                </a:xfrm>
              </p:grpSpPr>
              <p:sp>
                <p:nvSpPr>
                  <p:cNvPr id="122" name="Line 183"/>
                  <p:cNvSpPr/>
                  <p:nvPr/>
                </p:nvSpPr>
                <p:spPr>
                  <a:xfrm>
                    <a:off x="6425280" y="637776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 txBox="1"/>
                  <p:nvPr/>
                </p:nvSpPr>
                <p:spPr>
                  <a:xfrm>
                    <a:off x="6425280" y="6377760"/>
                    <a:ext cx="36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6870600" y="6383160"/>
                  <a:ext cx="360" cy="71640"/>
                  <a:chOff x="6870600" y="6383160"/>
                  <a:chExt cx="360" cy="71640"/>
                </a:xfrm>
              </p:grpSpPr>
              <p:sp>
                <p:nvSpPr>
                  <p:cNvPr id="125" name="Line 184"/>
                  <p:cNvSpPr/>
                  <p:nvPr/>
                </p:nvSpPr>
                <p:spPr>
                  <a:xfrm>
                    <a:off x="6870600" y="638316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 txBox="1"/>
                  <p:nvPr/>
                </p:nvSpPr>
                <p:spPr>
                  <a:xfrm>
                    <a:off x="6870600" y="6383160"/>
                    <a:ext cx="36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185"/>
              <p:cNvGrpSpPr/>
              <p:nvPr/>
            </p:nvGrpSpPr>
            <p:grpSpPr>
              <a:xfrm>
                <a:off x="7307280" y="6377760"/>
                <a:ext cx="445680" cy="77040"/>
                <a:chOff x="7307280" y="6377760"/>
                <a:chExt cx="445680" cy="7704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7307280" y="6377760"/>
                  <a:ext cx="360" cy="71640"/>
                  <a:chOff x="7307280" y="6377760"/>
                  <a:chExt cx="360" cy="71640"/>
                </a:xfrm>
              </p:grpSpPr>
              <p:sp>
                <p:nvSpPr>
                  <p:cNvPr id="129" name="Line 186"/>
                  <p:cNvSpPr/>
                  <p:nvPr/>
                </p:nvSpPr>
                <p:spPr>
                  <a:xfrm>
                    <a:off x="7307280" y="637776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 txBox="1"/>
                  <p:nvPr/>
                </p:nvSpPr>
                <p:spPr>
                  <a:xfrm>
                    <a:off x="7307280" y="6377760"/>
                    <a:ext cx="36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7752600" y="6383160"/>
                  <a:ext cx="360" cy="71640"/>
                  <a:chOff x="7752600" y="6383160"/>
                  <a:chExt cx="360" cy="71640"/>
                </a:xfrm>
              </p:grpSpPr>
              <p:sp>
                <p:nvSpPr>
                  <p:cNvPr id="132" name="Line 187"/>
                  <p:cNvSpPr/>
                  <p:nvPr/>
                </p:nvSpPr>
                <p:spPr>
                  <a:xfrm>
                    <a:off x="7752600" y="6383160"/>
                    <a:ext cx="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 txBox="1"/>
                  <p:nvPr/>
                </p:nvSpPr>
                <p:spPr>
                  <a:xfrm>
                    <a:off x="7752600" y="6383160"/>
                    <a:ext cx="36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" name=""/>
              <p:cNvGrpSpPr/>
              <p:nvPr/>
            </p:nvGrpSpPr>
            <p:grpSpPr>
              <a:xfrm>
                <a:off x="4362840" y="4724280"/>
                <a:ext cx="360" cy="1730880"/>
                <a:chOff x="4362840" y="4724280"/>
                <a:chExt cx="360" cy="1730880"/>
              </a:xfrm>
            </p:grpSpPr>
            <p:sp>
              <p:nvSpPr>
                <p:cNvPr id="135" name="Line 189"/>
                <p:cNvSpPr/>
                <p:nvPr/>
              </p:nvSpPr>
              <p:spPr>
                <a:xfrm flipV="1">
                  <a:off x="4363200" y="4724280"/>
                  <a:ext cx="0" cy="173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 rot="10800000">
                  <a:off x="4362840" y="4724280"/>
                  <a:ext cx="360" cy="173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363200" y="6119280"/>
                <a:ext cx="106200" cy="360"/>
                <a:chOff x="4363200" y="6119280"/>
                <a:chExt cx="106200" cy="360"/>
              </a:xfrm>
            </p:grpSpPr>
            <p:sp>
              <p:nvSpPr>
                <p:cNvPr id="138" name="Line 190"/>
                <p:cNvSpPr/>
                <p:nvPr/>
              </p:nvSpPr>
              <p:spPr>
                <a:xfrm>
                  <a:off x="4363200" y="6119280"/>
                  <a:ext cx="106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4363200" y="6119280"/>
                  <a:ext cx="106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356000" y="5835240"/>
                <a:ext cx="85320" cy="6120"/>
                <a:chOff x="4356000" y="5835240"/>
                <a:chExt cx="85320" cy="6120"/>
              </a:xfrm>
            </p:grpSpPr>
            <p:sp>
              <p:nvSpPr>
                <p:cNvPr id="141" name="Line 191"/>
                <p:cNvSpPr/>
                <p:nvPr/>
              </p:nvSpPr>
              <p:spPr>
                <a:xfrm>
                  <a:off x="4356000" y="5835240"/>
                  <a:ext cx="85320" cy="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 txBox="1"/>
                <p:nvPr/>
              </p:nvSpPr>
              <p:spPr>
                <a:xfrm>
                  <a:off x="4356000" y="5835240"/>
                  <a:ext cx="85320" cy="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0680" bIns="-406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4363200" y="5557320"/>
                <a:ext cx="92160" cy="360"/>
                <a:chOff x="4363200" y="5557320"/>
                <a:chExt cx="92160" cy="360"/>
              </a:xfrm>
            </p:grpSpPr>
            <p:sp>
              <p:nvSpPr>
                <p:cNvPr id="144" name="Line 192"/>
                <p:cNvSpPr/>
                <p:nvPr/>
              </p:nvSpPr>
              <p:spPr>
                <a:xfrm>
                  <a:off x="4363200" y="5557320"/>
                  <a:ext cx="9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 txBox="1"/>
                <p:nvPr/>
              </p:nvSpPr>
              <p:spPr>
                <a:xfrm>
                  <a:off x="4363200" y="5557320"/>
                  <a:ext cx="92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363200" y="5234400"/>
                <a:ext cx="99360" cy="360"/>
                <a:chOff x="4363200" y="5234400"/>
                <a:chExt cx="99360" cy="360"/>
              </a:xfrm>
            </p:grpSpPr>
            <p:sp>
              <p:nvSpPr>
                <p:cNvPr id="147" name="Line 193"/>
                <p:cNvSpPr/>
                <p:nvPr/>
              </p:nvSpPr>
              <p:spPr>
                <a:xfrm>
                  <a:off x="4363200" y="5234400"/>
                  <a:ext cx="99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 txBox="1"/>
                <p:nvPr/>
              </p:nvSpPr>
              <p:spPr>
                <a:xfrm>
                  <a:off x="4363200" y="5234400"/>
                  <a:ext cx="99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363200" y="4982400"/>
                <a:ext cx="77760" cy="360"/>
                <a:chOff x="4363200" y="4982400"/>
                <a:chExt cx="77760" cy="360"/>
              </a:xfrm>
            </p:grpSpPr>
            <p:sp>
              <p:nvSpPr>
                <p:cNvPr id="150" name="Line 194"/>
                <p:cNvSpPr/>
                <p:nvPr/>
              </p:nvSpPr>
              <p:spPr>
                <a:xfrm>
                  <a:off x="4363200" y="4982400"/>
                  <a:ext cx="7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 txBox="1"/>
                <p:nvPr/>
              </p:nvSpPr>
              <p:spPr>
                <a:xfrm>
                  <a:off x="4363200" y="4982400"/>
                  <a:ext cx="77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41320" y="4982400"/>
                <a:ext cx="2346840" cy="360"/>
                <a:chOff x="4441320" y="4982400"/>
                <a:chExt cx="2346840" cy="360"/>
              </a:xfrm>
            </p:grpSpPr>
            <p:sp>
              <p:nvSpPr>
                <p:cNvPr id="153" name="Line 195"/>
                <p:cNvSpPr/>
                <p:nvPr/>
              </p:nvSpPr>
              <p:spPr>
                <a:xfrm>
                  <a:off x="4441320" y="4982400"/>
                  <a:ext cx="234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 txBox="1"/>
                <p:nvPr/>
              </p:nvSpPr>
              <p:spPr>
                <a:xfrm>
                  <a:off x="4441320" y="4982400"/>
                  <a:ext cx="234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448160" y="5227920"/>
                <a:ext cx="1884240" cy="360"/>
                <a:chOff x="4448160" y="5227920"/>
                <a:chExt cx="1884240" cy="360"/>
              </a:xfrm>
            </p:grpSpPr>
            <p:sp>
              <p:nvSpPr>
                <p:cNvPr id="156" name="Line 196"/>
                <p:cNvSpPr/>
                <p:nvPr/>
              </p:nvSpPr>
              <p:spPr>
                <a:xfrm>
                  <a:off x="4448160" y="5227920"/>
                  <a:ext cx="188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 txBox="1"/>
                <p:nvPr/>
              </p:nvSpPr>
              <p:spPr>
                <a:xfrm>
                  <a:off x="4448160" y="5227920"/>
                  <a:ext cx="1884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441320" y="5557320"/>
                <a:ext cx="2780280" cy="360"/>
                <a:chOff x="4441320" y="5557320"/>
                <a:chExt cx="2780280" cy="360"/>
              </a:xfrm>
            </p:grpSpPr>
            <p:sp>
              <p:nvSpPr>
                <p:cNvPr id="159" name="Line 197"/>
                <p:cNvSpPr/>
                <p:nvPr/>
              </p:nvSpPr>
              <p:spPr>
                <a:xfrm>
                  <a:off x="4441320" y="5557320"/>
                  <a:ext cx="2780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 txBox="1"/>
                <p:nvPr/>
              </p:nvSpPr>
              <p:spPr>
                <a:xfrm>
                  <a:off x="4441320" y="5557320"/>
                  <a:ext cx="2780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434120" y="5841360"/>
                <a:ext cx="995400" cy="360"/>
                <a:chOff x="4434120" y="5841360"/>
                <a:chExt cx="995400" cy="360"/>
              </a:xfrm>
            </p:grpSpPr>
            <p:sp>
              <p:nvSpPr>
                <p:cNvPr id="162" name="Line 198"/>
                <p:cNvSpPr/>
                <p:nvPr/>
              </p:nvSpPr>
              <p:spPr>
                <a:xfrm>
                  <a:off x="4434120" y="5841360"/>
                  <a:ext cx="995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4434120" y="5841360"/>
                  <a:ext cx="995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455720" y="6112800"/>
                <a:ext cx="3206880" cy="360"/>
                <a:chOff x="4455720" y="6112800"/>
                <a:chExt cx="3206880" cy="360"/>
              </a:xfrm>
            </p:grpSpPr>
            <p:sp>
              <p:nvSpPr>
                <p:cNvPr id="165" name="Line 199"/>
                <p:cNvSpPr/>
                <p:nvPr/>
              </p:nvSpPr>
              <p:spPr>
                <a:xfrm>
                  <a:off x="4455720" y="6112800"/>
                  <a:ext cx="320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>
                  <a:off x="4455720" y="6112800"/>
                  <a:ext cx="3206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Rectangle 200"/>
              <p:cNvSpPr/>
              <p:nvPr/>
            </p:nvSpPr>
            <p:spPr>
              <a:xfrm>
                <a:off x="4640760" y="6112800"/>
                <a:ext cx="134640" cy="342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201"/>
              <p:cNvSpPr/>
              <p:nvPr/>
            </p:nvSpPr>
            <p:spPr>
              <a:xfrm>
                <a:off x="5010480" y="6115320"/>
                <a:ext cx="144360" cy="3351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202"/>
              <p:cNvSpPr/>
              <p:nvPr/>
            </p:nvSpPr>
            <p:spPr>
              <a:xfrm>
                <a:off x="5436720" y="5843880"/>
                <a:ext cx="163800" cy="6112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203"/>
              <p:cNvSpPr/>
              <p:nvPr/>
            </p:nvSpPr>
            <p:spPr>
              <a:xfrm>
                <a:off x="5870520" y="5544360"/>
                <a:ext cx="163800" cy="9104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204"/>
              <p:cNvSpPr/>
              <p:nvPr/>
            </p:nvSpPr>
            <p:spPr>
              <a:xfrm>
                <a:off x="6354360" y="5223600"/>
                <a:ext cx="163080" cy="1226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205"/>
              <p:cNvSpPr/>
              <p:nvPr/>
            </p:nvSpPr>
            <p:spPr>
              <a:xfrm>
                <a:off x="6795000" y="4978080"/>
                <a:ext cx="163080" cy="1479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206"/>
              <p:cNvSpPr/>
              <p:nvPr/>
            </p:nvSpPr>
            <p:spPr>
              <a:xfrm>
                <a:off x="7236000" y="5553360"/>
                <a:ext cx="163800" cy="9043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207"/>
              <p:cNvSpPr/>
              <p:nvPr/>
            </p:nvSpPr>
            <p:spPr>
              <a:xfrm>
                <a:off x="7669800" y="6100200"/>
                <a:ext cx="135360" cy="3420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208"/>
            <p:cNvSpPr/>
            <p:nvPr/>
          </p:nvSpPr>
          <p:spPr>
            <a:xfrm>
              <a:off x="7956720" y="5805360"/>
              <a:ext cx="1008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年收入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万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09"/>
            <p:cNvSpPr/>
            <p:nvPr/>
          </p:nvSpPr>
          <p:spPr>
            <a:xfrm>
              <a:off x="4427640" y="4437000"/>
              <a:ext cx="30240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所占户数比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213"/>
          <p:cNvSpPr/>
          <p:nvPr/>
        </p:nvSpPr>
        <p:spPr>
          <a:xfrm>
            <a:off x="2463840" y="258444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4"/>
          <p:cNvSpPr/>
          <p:nvPr/>
        </p:nvSpPr>
        <p:spPr>
          <a:xfrm>
            <a:off x="3111480" y="260676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5"/>
          <p:cNvSpPr/>
          <p:nvPr/>
        </p:nvSpPr>
        <p:spPr>
          <a:xfrm>
            <a:off x="3851280" y="259092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6"/>
          <p:cNvSpPr/>
          <p:nvPr/>
        </p:nvSpPr>
        <p:spPr>
          <a:xfrm>
            <a:off x="4635360" y="258912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17"/>
          <p:cNvSpPr/>
          <p:nvPr/>
        </p:nvSpPr>
        <p:spPr>
          <a:xfrm>
            <a:off x="5518080" y="262260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18"/>
          <p:cNvSpPr/>
          <p:nvPr/>
        </p:nvSpPr>
        <p:spPr>
          <a:xfrm>
            <a:off x="6381720" y="262260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9"/>
          <p:cNvSpPr/>
          <p:nvPr/>
        </p:nvSpPr>
        <p:spPr>
          <a:xfrm>
            <a:off x="7288200" y="262260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0"/>
          <p:cNvSpPr/>
          <p:nvPr/>
        </p:nvSpPr>
        <p:spPr>
          <a:xfrm>
            <a:off x="8080200" y="2637000"/>
            <a:ext cx="8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21"/>
          <p:cNvSpPr/>
          <p:nvPr/>
        </p:nvSpPr>
        <p:spPr>
          <a:xfrm>
            <a:off x="3832200" y="314172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2"/>
          <p:cNvSpPr/>
          <p:nvPr/>
        </p:nvSpPr>
        <p:spPr>
          <a:xfrm>
            <a:off x="376200" y="361944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23"/>
          <p:cNvSpPr/>
          <p:nvPr/>
        </p:nvSpPr>
        <p:spPr>
          <a:xfrm>
            <a:off x="3111480" y="357336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4"/>
          <p:cNvSpPr/>
          <p:nvPr/>
        </p:nvSpPr>
        <p:spPr>
          <a:xfrm>
            <a:off x="34920" y="3933720"/>
            <a:ext cx="22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27"/>
          <p:cNvGrpSpPr/>
          <p:nvPr/>
        </p:nvGrpSpPr>
        <p:grpSpPr>
          <a:xfrm>
            <a:off x="0" y="4437000"/>
            <a:ext cx="9144000" cy="2535480"/>
            <a:chOff x="0" y="4437000"/>
            <a:chExt cx="9144000" cy="2535480"/>
          </a:xfrm>
        </p:grpSpPr>
        <p:sp>
          <p:nvSpPr>
            <p:cNvPr id="190" name="Text Box 225"/>
            <p:cNvSpPr/>
            <p:nvPr/>
          </p:nvSpPr>
          <p:spPr>
            <a:xfrm>
              <a:off x="0" y="4437000"/>
              <a:ext cx="9144000" cy="2535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解：设年平均增长率为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，根据题意，得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6 (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．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．∴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±1.2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0.25=25%,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.25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不合题意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舍去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答：每年的年平均增长率为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5%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Object 226" descr=""/>
            <p:cNvPicPr/>
            <p:nvPr/>
          </p:nvPicPr>
          <p:blipFill>
            <a:blip r:embed="rId10"/>
            <a:stretch/>
          </p:blipFill>
          <p:spPr>
            <a:xfrm>
              <a:off x="1547640" y="4869000"/>
              <a:ext cx="603360" cy="93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文本框 8200"/>
          <p:cNvSpPr/>
          <p:nvPr/>
        </p:nvSpPr>
        <p:spPr>
          <a:xfrm>
            <a:off x="2525760" y="1457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3:19:32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47:54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