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523-C49D-4E45-96EE-E80413D4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2B6-1271-4E37-BEDD-A42B53EF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8CF-3898-44D8-941B-119196E9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110-68BD-4B6F-80FA-320DF04A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20CF-BE3E-48E2-80EA-D4C6CDD7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B12F-B376-4AC9-B4AF-A0ADBA8C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DD7C-7F3A-45ED-986F-138EAE1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FF04-552D-483C-A7FE-EB01C132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F82C-7115-41AF-84B8-B988D885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BA3A-3802-4016-9819-B0DBC6DB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54EE-6FCA-453D-B1A7-C70E1648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94C-E0DC-48E4-B7D5-09C0A0E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6822-2BE4-4870-9798-3556090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67FD-9EEE-430D-82F9-65A38613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3124-ADC2-44DE-8649-0CF6C7B8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536B-5B89-48C2-B2DC-AC69D615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A41D-ED18-46D7-A3C7-FEB92FE3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987-B02E-49B3-B806-CB07688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122-DB1E-4C95-8D15-AEDFECEC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683-6F70-41A0-AC00-F89D459B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D82-8B1E-4A95-A417-DB68E27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BED-1767-4C93-8021-6C3D362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D33-FBE3-4D92-B783-7546984C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F57-BC75-4843-A429-8B0FCF08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18B-CC83-48A2-95F7-AB4D99E84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4781-018C-4749-B7A5-4B4FE7743BB6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实际问题与一元一次方程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144160" y="5661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7500" spc="-1" strike="noStrike">
                <a:solidFill>
                  <a:srgbClr val="66ccff"/>
                </a:solidFill>
                <a:latin typeface="Arial"/>
                <a:ea typeface="宋体-方正超大字符集"/>
              </a:rPr>
              <a:t>通过本节课的学习，你有哪些收获？</a:t>
            </a:r>
            <a:endParaRPr b="0" lang="en-US" sz="7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99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cc66ff"/>
                </a:solidFill>
                <a:latin typeface="华文新魏"/>
                <a:ea typeface="华文新魏"/>
              </a:rPr>
              <a:t>谢谢大家</a:t>
            </a:r>
            <a:r>
              <a:rPr b="1" lang="en-US" sz="12900" spc="-1" strike="noStrike">
                <a:solidFill>
                  <a:srgbClr val="cc66ff"/>
                </a:solidFill>
                <a:latin typeface="华文新魏"/>
                <a:ea typeface="华文新魏"/>
              </a:rPr>
              <a:t>,</a:t>
            </a:r>
            <a:r>
              <a:rPr b="1" lang="zh-CN" sz="12900" spc="-1" strike="noStrike">
                <a:solidFill>
                  <a:srgbClr val="cc66ff"/>
                </a:solidFill>
                <a:latin typeface="华文新魏"/>
                <a:ea typeface="华文新魏"/>
              </a:rPr>
              <a:t>再见</a:t>
            </a:r>
            <a:r>
              <a:rPr b="1" lang="en-US" sz="12900" spc="-1" strike="noStrike">
                <a:solidFill>
                  <a:srgbClr val="cc66ff"/>
                </a:solidFill>
                <a:latin typeface="华文新魏"/>
                <a:ea typeface="华文新魏"/>
              </a:rPr>
              <a:t>! </a:t>
            </a:r>
            <a:endParaRPr b="0" lang="en-US" sz="1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0372-3459-4CB4-A4A8-D475EB66AD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图片1"/>
          <p:cNvPicPr/>
          <p:nvPr/>
        </p:nvPicPr>
        <p:blipFill>
          <a:blip r:embed="rId1"/>
          <a:stretch/>
        </p:blipFill>
        <p:spPr>
          <a:xfrm>
            <a:off x="911160" y="609480"/>
            <a:ext cx="7319880" cy="548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11"/>
          <p:cNvPicPr/>
          <p:nvPr/>
        </p:nvPicPr>
        <p:blipFill>
          <a:blip r:embed="rId1"/>
          <a:stretch/>
        </p:blipFill>
        <p:spPr>
          <a:xfrm>
            <a:off x="1619280" y="-747720"/>
            <a:ext cx="6175440" cy="9158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600"/>
                </a:solidFill>
                <a:latin typeface="幼圆"/>
                <a:ea typeface="幼圆"/>
              </a:rPr>
              <a:t>2000</a:t>
            </a:r>
            <a:r>
              <a:rPr b="0" lang="zh-CN" sz="4100" spc="-1" strike="noStrike">
                <a:solidFill>
                  <a:srgbClr val="ff6600"/>
                </a:solidFill>
                <a:latin typeface="幼圆"/>
                <a:ea typeface="幼圆"/>
              </a:rPr>
              <a:t>赛季全国男篮甲</a:t>
            </a:r>
            <a:r>
              <a:rPr b="0" lang="en-US" sz="4100" spc="-1" strike="noStrike">
                <a:solidFill>
                  <a:srgbClr val="ff6600"/>
                </a:solidFill>
                <a:latin typeface="幼圆"/>
                <a:ea typeface="幼圆"/>
              </a:rPr>
              <a:t>A</a:t>
            </a:r>
            <a:r>
              <a:rPr b="0" lang="zh-CN" sz="4100" spc="-1" strike="noStrike">
                <a:solidFill>
                  <a:srgbClr val="ff6600"/>
                </a:solidFill>
                <a:latin typeface="幼圆"/>
                <a:ea typeface="幼圆"/>
              </a:rPr>
              <a:t>联赛常规赛积分榜</a:t>
            </a:r>
            <a:endParaRPr b="0" lang="en-US" sz="41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341360"/>
          <a:ext cx="8532720" cy="5267160"/>
        </p:xfrm>
        <a:graphic>
          <a:graphicData uri="http://schemas.openxmlformats.org/drawingml/2006/table">
            <a:tbl>
              <a:tblPr/>
              <a:tblGrid>
                <a:gridCol w="2160720"/>
                <a:gridCol w="1834920"/>
                <a:gridCol w="1728720"/>
                <a:gridCol w="1511640"/>
                <a:gridCol w="12967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队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场次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胜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负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上海东方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北京首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辽宁盼盼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前卫奥神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1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1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江苏南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浙江万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星济军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6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沈部雄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47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Arial"/>
                <a:ea typeface="华文行楷"/>
              </a:rPr>
              <a:t>问题一：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要解决问题时，必须求出胜一场积几分，负一场积几分，你能从积分表中得到负一场积几分吗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cc66ff"/>
                </a:solidFill>
                <a:latin typeface="Arial"/>
                <a:ea typeface="方正姚体"/>
              </a:rPr>
              <a:t>分析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新宋体"/>
              </a:rPr>
              <a:t>观察积分榜，从最下面的一行数据可以发现：负一场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新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新宋体"/>
              </a:rPr>
              <a:t>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设胜一场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分，从表中其他任何一行可以列方程，求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的值。例如，从第一行得方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18X+1×4=4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由此得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X=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用表中其他行可以验证，得出结论：负 一场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分，胜一场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64152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华文行楷"/>
              </a:rPr>
              <a:t>问题二：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你能不能列一个式子来表示积分与胜、负场数之间的数量关系？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133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一个队胜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场，则负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-m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场，胜场积分为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m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负场积分为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-m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总积分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m+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-m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m+2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111240" y="6485040"/>
            <a:ext cx="63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ff"/>
                </a:solidFill>
                <a:latin typeface="Verdana"/>
                <a:ea typeface="华文行楷"/>
              </a:rPr>
              <a:t>问题三：</a:t>
            </a:r>
            <a:r>
              <a:rPr b="0" lang="zh-CN" sz="4000" spc="-1" strike="noStrike">
                <a:solidFill>
                  <a:srgbClr val="ff6600"/>
                </a:solidFill>
                <a:latin typeface="Verdana"/>
                <a:ea typeface="新宋体"/>
              </a:rPr>
              <a:t>某队的胜场总积分能等于它的负场总积分吗？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一个队胜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场，则负了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-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场，如果这个队的胜场总积分等于负场总积分，则得方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-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-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此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2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华文行楷"/>
                <a:ea typeface="华文行楷"/>
              </a:rPr>
              <a:t>问题四：</a:t>
            </a:r>
            <a:r>
              <a:rPr b="1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想一想，</a:t>
            </a:r>
            <a:r>
              <a:rPr b="1" lang="en-US" sz="4000" spc="-1" strike="noStrike">
                <a:solidFill>
                  <a:srgbClr val="ff6600"/>
                </a:solidFill>
                <a:latin typeface="隶书"/>
                <a:ea typeface="隶书"/>
              </a:rPr>
              <a:t>X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表示什么量？它可以是分数吗？由此你能得出什么结论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解决实际问题时，要考虑得到的结果是不是符合实际。</a:t>
            </a:r>
            <a:r>
              <a:rPr b="1" lang="en-US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（所胜的场数）的值必须是整数，所以</a:t>
            </a:r>
            <a:r>
              <a:rPr b="1" lang="en-US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X=22÷3</a:t>
            </a:r>
            <a:r>
              <a:rPr b="1" lang="zh-CN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不符合实际，由此可以判定没有哪个队的胜场总积分等于负场总积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66ff"/>
                </a:solidFill>
                <a:latin typeface="华文行楷"/>
                <a:ea typeface="华文行楷"/>
              </a:rPr>
              <a:t>问题五：</a:t>
            </a:r>
            <a:r>
              <a:rPr b="1" lang="zh-CN" sz="4000" spc="-1" strike="noStrike">
                <a:solidFill>
                  <a:srgbClr val="ff6600"/>
                </a:solidFill>
                <a:latin typeface="华文中宋"/>
                <a:ea typeface="华文中宋"/>
              </a:rPr>
              <a:t>如果删去积分榜的最后一行，你还会求出胜 一场积几分，负一场积几分吗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2133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可以从积分榜中积分不相同的两行数据列方程求得，例如：第一行和第二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设胜一场积Ｘ分，则上海东方队胜场总积分为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18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Ｘ，负场总积分为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40-18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Ｘ，他共负了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场，所以负一场积分为（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40-18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Ｘ） 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÷4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同理从北京首钢队可知：负一场积分为（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36-14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Ｘ）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÷  8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负一场的积分一样，列方程为（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40-18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Ｘ） 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4=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36-14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Ｘ）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÷8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7:14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7:51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