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702-F5D8-4E52-AA0E-BD5DF001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7F4-F996-4165-AF0D-70FBF42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B0E-6AAE-4E35-B8C8-09F5056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EA6-119B-40E2-A1CE-1A5D1173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4E9-FA2C-4BFD-961E-B4F84FE4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E44-889D-4AA0-9CA6-C98A2C5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39C-2E92-4F1D-A0E6-7C2BE3F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327-3897-4793-A280-EA220E0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17A-CD31-472C-B73C-C83EC2B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0D7-A67F-4F87-9BE4-49C3B95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A1A-4B72-461F-A5A7-EA94B21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D70-9CAB-44C1-934C-9720966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45C-AC74-485A-8740-91FF203CDCF6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1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2bw.cn/cp_list.asp?id=23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619280" y="1484280"/>
            <a:ext cx="525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角的分类及画角</a:t>
            </a:r>
            <a:endParaRPr b="1" lang="en-US" sz="2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2470680" y="62136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89" name="AutoShape 2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Text Box 4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     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大于直角而小于平角的角叫钝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91" name="Picture 8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3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7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已知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=12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你能说出其他三个角各是多少度吗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4" name="Text Box 48"/>
          <p:cNvSpPr/>
          <p:nvPr/>
        </p:nvSpPr>
        <p:spPr>
          <a:xfrm>
            <a:off x="1835280" y="510048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2=6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3=12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∠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4=60°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95" name="Group 62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96" name="Line 50"/>
            <p:cNvSpPr/>
            <p:nvPr/>
          </p:nvSpPr>
          <p:spPr>
            <a:xfrm>
              <a:off x="2848320" y="334332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Line 51"/>
            <p:cNvSpPr/>
            <p:nvPr/>
          </p:nvSpPr>
          <p:spPr>
            <a:xfrm>
              <a:off x="2923200" y="3261960"/>
              <a:ext cx="2727720" cy="130968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52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Text Box 54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Text Box 55"/>
            <p:cNvSpPr/>
            <p:nvPr/>
          </p:nvSpPr>
          <p:spPr>
            <a:xfrm rot="5167800">
              <a:off x="3803400" y="3695040"/>
              <a:ext cx="89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Text Box 56"/>
            <p:cNvSpPr/>
            <p:nvPr/>
          </p:nvSpPr>
          <p:spPr>
            <a:xfrm rot="16200000">
              <a:off x="3708000" y="361116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Text Box 57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(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58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59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5" name="Text Box 60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6" name="Text Box 61"/>
            <p:cNvSpPr/>
            <p:nvPr/>
          </p:nvSpPr>
          <p:spPr>
            <a:xfrm>
              <a:off x="2998800" y="3507480"/>
              <a:ext cx="5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动画"/>
          <p:cNvPicPr/>
          <p:nvPr/>
        </p:nvPicPr>
        <p:blipFill>
          <a:blip r:embed="rId2"/>
          <a:stretch/>
        </p:blipFill>
        <p:spPr>
          <a:xfrm>
            <a:off x="7093080" y="1844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3"/>
          <a:stretch/>
        </p:blipFill>
        <p:spPr>
          <a:xfrm>
            <a:off x="1547640" y="1916280"/>
            <a:ext cx="5112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4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下面的角各是哪一种角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113" name="Picture 26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27"/>
            <p:cNvSpPr/>
            <p:nvPr/>
          </p:nvSpPr>
          <p:spPr>
            <a:xfrm>
              <a:off x="900000" y="2754000"/>
              <a:ext cx="150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想一想</a:t>
              </a:r>
              <a:endParaRPr b="1" lang="en-US" sz="32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5" name="Text Box 28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钝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直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平角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锐角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9" name="Group 51"/>
          <p:cNvGrpSpPr/>
          <p:nvPr/>
        </p:nvGrpSpPr>
        <p:grpSpPr>
          <a:xfrm>
            <a:off x="2627280" y="2923920"/>
            <a:ext cx="5940360" cy="1222920"/>
            <a:chOff x="2627280" y="2923920"/>
            <a:chExt cx="5940360" cy="1222920"/>
          </a:xfrm>
        </p:grpSpPr>
        <p:sp>
          <p:nvSpPr>
            <p:cNvPr id="120" name="Line 33"/>
            <p:cNvSpPr/>
            <p:nvPr/>
          </p:nvSpPr>
          <p:spPr>
            <a:xfrm>
              <a:off x="2627280" y="393228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 flipV="1">
              <a:off x="3851280" y="2924280"/>
              <a:ext cx="647640" cy="10080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2" name="Line 35"/>
            <p:cNvSpPr/>
            <p:nvPr/>
          </p:nvSpPr>
          <p:spPr>
            <a:xfrm>
              <a:off x="4498920" y="393228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 flipV="1">
              <a:off x="5506920" y="2924280"/>
              <a:ext cx="0" cy="100800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4" name="Line 37"/>
            <p:cNvSpPr/>
            <p:nvPr/>
          </p:nvSpPr>
          <p:spPr>
            <a:xfrm>
              <a:off x="5651280" y="3860640"/>
              <a:ext cx="165600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5" name="Line 38"/>
            <p:cNvSpPr/>
            <p:nvPr/>
          </p:nvSpPr>
          <p:spPr>
            <a:xfrm>
              <a:off x="7451640" y="386064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6" name="Line 39"/>
            <p:cNvSpPr/>
            <p:nvPr/>
          </p:nvSpPr>
          <p:spPr>
            <a:xfrm flipV="1">
              <a:off x="7451640" y="2923920"/>
              <a:ext cx="1042920" cy="93636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7" name="Line 40"/>
            <p:cNvSpPr/>
            <p:nvPr/>
          </p:nvSpPr>
          <p:spPr>
            <a:xfrm flipV="1">
              <a:off x="6443640" y="3789360"/>
              <a:ext cx="0" cy="71280"/>
            </a:xfrm>
            <a:prstGeom prst="line">
              <a:avLst/>
            </a:prstGeom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8" name="Text Box 41"/>
            <p:cNvSpPr/>
            <p:nvPr/>
          </p:nvSpPr>
          <p:spPr>
            <a:xfrm rot="3205200">
              <a:off x="3489840" y="34999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5362560" y="3716280"/>
              <a:ext cx="144360" cy="21600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Text Box 44"/>
            <p:cNvSpPr/>
            <p:nvPr/>
          </p:nvSpPr>
          <p:spPr>
            <a:xfrm rot="9359400">
              <a:off x="7595280" y="342756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1" name="Text Box 45"/>
            <p:cNvSpPr/>
            <p:nvPr/>
          </p:nvSpPr>
          <p:spPr>
            <a:xfrm>
              <a:off x="3419280" y="32702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2" name="Text Box 46"/>
            <p:cNvSpPr/>
            <p:nvPr/>
          </p:nvSpPr>
          <p:spPr>
            <a:xfrm>
              <a:off x="5002200" y="3213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3" name="Text Box 47"/>
            <p:cNvSpPr/>
            <p:nvPr/>
          </p:nvSpPr>
          <p:spPr>
            <a:xfrm>
              <a:off x="6227640" y="31971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4" name="Text Box 48"/>
            <p:cNvSpPr/>
            <p:nvPr/>
          </p:nvSpPr>
          <p:spPr>
            <a:xfrm>
              <a:off x="7885080" y="34131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5" name="Arc 50"/>
            <p:cNvSpPr/>
            <p:nvPr/>
          </p:nvSpPr>
          <p:spPr>
            <a:xfrm flipV="1">
              <a:off x="6227640" y="3644280"/>
              <a:ext cx="360360" cy="215640"/>
            </a:xfrm>
            <a:custGeom>
              <a:avLst/>
              <a:gdLst/>
              <a:ahLst/>
              <a:rect l="l" t="t" r="r" b="b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lnTo>
                    <a:pt x="42778" y="-1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547640" y="1700280"/>
            <a:ext cx="65534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分别画出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7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、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05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角，你都有些什么方法？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38" name="Group 31"/>
          <p:cNvGrpSpPr/>
          <p:nvPr/>
        </p:nvGrpSpPr>
        <p:grpSpPr>
          <a:xfrm>
            <a:off x="1763640" y="2592360"/>
            <a:ext cx="7040520" cy="3902040"/>
            <a:chOff x="1763640" y="2592360"/>
            <a:chExt cx="7040520" cy="3902040"/>
          </a:xfrm>
        </p:grpSpPr>
        <p:sp>
          <p:nvSpPr>
            <p:cNvPr id="139" name="AutoShape 28"/>
            <p:cNvSpPr/>
            <p:nvPr/>
          </p:nvSpPr>
          <p:spPr>
            <a:xfrm rot="220800">
              <a:off x="5076360" y="2708280"/>
              <a:ext cx="3673440" cy="1800360"/>
            </a:xfrm>
            <a:prstGeom prst="cloudCallout">
              <a:avLst>
                <a:gd name="adj1" fmla="val -63791"/>
                <a:gd name="adj2" fmla="val 5314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5581800" y="2781360"/>
              <a:ext cx="29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Times New Roman"/>
                </a:rPr>
                <a:t>        </a:t>
              </a: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可以用量角器画角也可以利用三角板画图。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141" name="Picture 29" descr="teacher02"/>
            <p:cNvPicPr/>
            <p:nvPr/>
          </p:nvPicPr>
          <p:blipFill>
            <a:blip r:embed="rId3"/>
            <a:stretch/>
          </p:blipFill>
          <p:spPr>
            <a:xfrm>
              <a:off x="1763640" y="3141720"/>
              <a:ext cx="223524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2" descr="ds知识拓展"/>
          <p:cNvPicPr/>
          <p:nvPr/>
        </p:nvPicPr>
        <p:blipFill>
          <a:blip r:embed="rId1"/>
          <a:stretch/>
        </p:blipFill>
        <p:spPr>
          <a:xfrm>
            <a:off x="900000" y="987480"/>
            <a:ext cx="1727280" cy="425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5"/>
          <p:cNvSpPr/>
          <p:nvPr/>
        </p:nvSpPr>
        <p:spPr>
          <a:xfrm>
            <a:off x="2700360" y="2205000"/>
            <a:ext cx="302400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</a:rPr>
              <a:t>顺口溜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小小角，真简单，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一个顶点两条边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画角时，要牢记，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先画顶点再画边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44" name="Picture 100" descr="d01"/>
          <p:cNvPicPr/>
          <p:nvPr/>
        </p:nvPicPr>
        <p:blipFill>
          <a:blip r:embed="rId2"/>
          <a:stretch/>
        </p:blipFill>
        <p:spPr>
          <a:xfrm>
            <a:off x="6372360" y="4149720"/>
            <a:ext cx="1807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ec2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4F8-0669-4A9F-B81E-285188B84E4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3059280" y="1989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体  操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时 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9" name="Picture 6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手  帕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2" name="Picture 5" descr="03"/>
          <p:cNvPicPr/>
          <p:nvPr/>
        </p:nvPicPr>
        <p:blipFill>
          <a:blip r:embed="rId2"/>
          <a:stretch/>
        </p:blipFill>
        <p:spPr>
          <a:xfrm>
            <a:off x="1547640" y="1844640"/>
            <a:ext cx="4176720" cy="40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356000" y="522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练习本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5" name="Picture 8" descr="dmxys_2005514172525779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844640"/>
            <a:ext cx="5715000" cy="32958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169920" y="5916600"/>
            <a:ext cx="88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1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4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平角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18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一条射线绕它的端点旋转半周所成的角叫做平角。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59" name="Group 61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60" name="AutoShape 62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61" name="Group 63"/>
            <p:cNvGrpSpPr/>
            <p:nvPr/>
          </p:nvGrpSpPr>
          <p:grpSpPr>
            <a:xfrm>
              <a:off x="1332000" y="1844640"/>
              <a:ext cx="6624000" cy="642960"/>
              <a:chOff x="1332000" y="1844640"/>
              <a:chExt cx="6624000" cy="642960"/>
            </a:xfrm>
          </p:grpSpPr>
          <p:sp>
            <p:nvSpPr>
              <p:cNvPr id="62" name="Line 64"/>
              <p:cNvSpPr/>
              <p:nvPr/>
            </p:nvSpPr>
            <p:spPr>
              <a:xfrm>
                <a:off x="1332000" y="248760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pic>
            <p:nvPicPr>
              <p:cNvPr id="63" name="Picture 65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Line 66"/>
            <p:cNvSpPr/>
            <p:nvPr/>
          </p:nvSpPr>
          <p:spPr>
            <a:xfrm flipH="1">
              <a:off x="3893760" y="2275920"/>
              <a:ext cx="195120" cy="218160"/>
            </a:xfrm>
            <a:prstGeom prst="line">
              <a:avLst/>
            </a:prstGeom>
            <a:ln w="15840">
              <a:solidFill>
                <a:srgbClr val="cc3300"/>
              </a:solidFill>
              <a:round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65" name="Picture 67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7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6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600" spc="-1" strike="noStrike">
                <a:solidFill>
                  <a:srgbClr val="002ec2"/>
                </a:solidFill>
                <a:latin typeface="Times New Roman"/>
              </a:rPr>
              <a:t>，一条射线绕它的端点旋转一周所成的角叫做周角。 </a:t>
            </a:r>
            <a:endParaRPr b="1" lang="en-US" sz="26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68" name="Group 51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69" name="AutoShape 52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0" name="Oval 53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1" name="Line 54"/>
            <p:cNvSpPr/>
            <p:nvPr/>
          </p:nvSpPr>
          <p:spPr>
            <a:xfrm flipV="1">
              <a:off x="2523600" y="2396520"/>
              <a:ext cx="19080" cy="49320"/>
            </a:xfrm>
            <a:prstGeom prst="line">
              <a:avLst/>
            </a:prstGeom>
            <a:ln w="15840">
              <a:solidFill>
                <a:srgbClr val="cc3300"/>
              </a:solidFill>
              <a:round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2" name="Line 55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pic>
        <p:nvPicPr>
          <p:cNvPr id="73" name="Picture 56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3"/>
          <p:cNvGrpSpPr/>
          <p:nvPr/>
        </p:nvGrpSpPr>
        <p:grpSpPr>
          <a:xfrm>
            <a:off x="5045760" y="2348280"/>
            <a:ext cx="3446640" cy="3960360"/>
            <a:chOff x="5045760" y="2348280"/>
            <a:chExt cx="3446640" cy="3960360"/>
          </a:xfrm>
        </p:grpSpPr>
        <p:sp>
          <p:nvSpPr>
            <p:cNvPr id="76" name="AutoShape 10"/>
            <p:cNvSpPr/>
            <p:nvPr/>
          </p:nvSpPr>
          <p:spPr>
            <a:xfrm rot="220800">
              <a:off x="5076720" y="2455560"/>
              <a:ext cx="3384360" cy="107928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7" name="Text Box 3"/>
            <p:cNvSpPr/>
            <p:nvPr/>
          </p:nvSpPr>
          <p:spPr>
            <a:xfrm>
              <a:off x="5279760" y="2631960"/>
              <a:ext cx="3132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平角的一半是直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78" name="Picture 11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24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9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83" name="AutoShape 2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2ec2"/>
                  </a:solidFill>
                  <a:latin typeface="Times New Roman"/>
                </a:rPr>
                <a:t>小于直角的角叫锐角</a:t>
              </a:r>
              <a:endParaRPr b="1" lang="en-US" sz="26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pic>
          <p:nvPicPr>
            <p:cNvPr id="85" name="Picture 8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38Z</dcterms:modified>
  <cp:revision>7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TAG2">
    <vt:lpwstr>0008001207000000000001024120</vt:lpwstr>
  </property>
</Properties>
</file>