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F52-4ACD-444A-B65D-742468F7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6090-A489-4019-B3DD-305BB927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9B7-4CB3-4169-A248-534DA7EC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BFDB-66F0-4442-8D65-DB62AC15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2B8-5AD6-403D-838E-5981D7DB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FAAE-0E5E-41D2-AF5A-A30CE166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DFD4-6E61-4117-B24F-AE1D3D95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CEE-DE12-484D-BA74-E80A5DAC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F00-82A5-48BA-AAA2-FA02D0D4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401-06A6-4C4B-BE5C-220544D4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B7A-6238-4E5E-B197-D307E4D3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3EF-C77C-4D56-9FCE-413AC647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7388-BF83-4B0C-A24C-A15364018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views-9bi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xin_3006012108475152141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页脚占位符 4"/>
          <p:cNvSpPr/>
          <p:nvPr/>
        </p:nvSpPr>
        <p:spPr>
          <a:xfrm>
            <a:off x="2627280" y="6248520"/>
            <a:ext cx="43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幻灯片之家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1655640" y="620640"/>
            <a:ext cx="5545440" cy="25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310201"/>
                  </a:outerShdw>
                </a:effectLst>
                <a:latin typeface="方正粗活意简体"/>
              </a:rPr>
              <a:t>使至塞上</a:t>
            </a:r>
            <a:endParaRPr b="1" lang="en-US" sz="3600" spc="-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310201"/>
                </a:outerShdw>
              </a:effectLst>
              <a:latin typeface="方正粗活意简体"/>
              <a:ea typeface="方正粗活意简体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6400800" y="4724280"/>
            <a:ext cx="160020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宋体"/>
              </a:rPr>
              <a:t>王维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然后抓住沙漠中的典型景物进行刻画：“大漠孤烟直，长河落日圆”。最后两句写到达边塞：“萧关逢候骑，都护在燕然”。到了边塞，却没有遇到将官，侦察兵告诉使臣：首将正在燕然前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诗人把笔墨重点用在了他最擅胜场的方面──写景。作者出使，恰在春天。途中见数行归雁北翔，诗人即景设喻，用归雁自比，既叙事，又写景，一笔两到，贴切自然。尤其是“大漠孤烟直，长河落日圆”一联，写进入边塞后所看到的塞外奇特壮丽的风光，画面开阔，意境雄浑，近人王国维称之为“千古壮观”的名句。边疆沙漠，浩瀚无边，所以用了“大漠“的“大”字。边塞荒凉，没有什么奇观异景，烽火台燃起的那一股浓烟就显得格外醒目，因此称作“孤烟”。一个“孤”字写出了景物的单调，紧接一个“直”字，却又表现了它的劲拔、坚毅之美。沙漠上没有山峦林木，那横贯其间的黄河，就非用一个“长”字不能表达诗人的感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6212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落日，本来容易给人以感伤的印象，这里用一“圆”字，却给人以亲切温暖而又苍茫的感觉。一个“圆”字，一个“直”字，不仅准确地描绘了沙漠的景象，而且表现了作者的深切的感受。诗人把自己的孤寂情绪巧妙地溶化在广阔的自然景象的描绘中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红楼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四十八回里说：“‘大漠孤烟直，长河落日圆’。想来烟如何直？日自然是圆的。这‘直’字似无理，‘圆’字似太俗。合上书一想，倒象是见了这景的。要说再找两个字换这两个，竟再找不出两个字来。”这就是“诗的好处，有口里说不出来的意思，想去却是逼真的；又似乎无理的，想去竟是有理有情的。”这段话可算道出了这两句诗高超的艺术境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836E-7F67-4427-95E5-DDE3A2C121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7"/>
          <p:cNvSpPr/>
          <p:nvPr/>
        </p:nvSpPr>
        <p:spPr>
          <a:xfrm>
            <a:off x="3708360" y="170028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31" descr="xin_1106012108490622378616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31" descr="xin_0406012108517183205124"/>
          <p:cNvPicPr/>
          <p:nvPr/>
        </p:nvPicPr>
        <p:blipFill>
          <a:blip r:embed="rId1"/>
          <a:stretch/>
        </p:blipFill>
        <p:spPr>
          <a:xfrm>
            <a:off x="685800" y="533520"/>
            <a:ext cx="791208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1"/>
          <p:cNvSpPr/>
          <p:nvPr/>
        </p:nvSpPr>
        <p:spPr>
          <a:xfrm>
            <a:off x="890640" y="5789520"/>
            <a:ext cx="6748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NewsMedia_596"/>
          <p:cNvPicPr/>
          <p:nvPr/>
        </p:nvPicPr>
        <p:blipFill>
          <a:blip r:embed="rId1"/>
          <a:stretch/>
        </p:blipFill>
        <p:spPr>
          <a:xfrm>
            <a:off x="457200" y="457200"/>
            <a:ext cx="7620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3049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居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故址在现在内蒙古额济纳旗一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征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飘飞的蓬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烽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报警时点的烽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长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黄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侯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骑马的侦察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都护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唐代边疆设都护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长官称都护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里指前敌统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燕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燕然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现在蒙古国境内杭爱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指边防前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094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维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1—76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字摩诘。先世为太原祁（今山西省祁县）人，后迁至蒲（今山西省永济县），故又是蒲人。盛唐山水田园诗人。少有才名，开元九年中进士，调太乐丞，以罪谪济州司仓。曾在淇上、嵩山一带隐居。张九龄执政，开元二十三年擢其为右拾遗，后为监察御史，左补阙，奉使出塞，在凉州河西节度使幕兼判宫。累官至给事中。天宝年间先后在终南山和车辋川隐居。安史乱起，他被叛军俘获，送至洛阳，他虽饮药称瘖，又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凝碧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诗以悲时事，但终被迫接受伪职。两京收复后，降为太子中允，复拜给事中，终尚书右丞。他早年曾有进取之心，写过一些意气慷慨的诗歌。但思想里消极成分较多，三十岁丧妻后，过着独身生活，即喜参禅，张九龄罢相后，他政治上灰心，故寄情山水田园和佛教禅理，在辋川别墅过亦官亦隐的生活。晚年更趋消极。他是诗人，又兼画师，成为南派泼墨山水的宗师。他还精通音乐。这些对他的诗歌创作有积极的影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使至塞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76160" y="182844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单车欲问边，   属国过居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征蓬出汉塞，   归雁入胡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漠孤烟直，   长河落日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萧关逢侯骑，   都护在燕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元二十五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3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河西节度副大使崔希逸战胜吐蕃，唐玄宗命王维以监察御史的身份出塞宣慰，察访军情。这实际是将王维排挤出朝廷。这首诗作于赴边途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948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车欲问边”，轻车前往，向哪里去呢？“属国过居延”，居延在今甘肃张掖县西北，远在西北边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征蓬出汉塞，归雁入胡天”，诗人以“蓬”、“雁”自比，说自己象随风而去的蓬草一样出临“汉塞”，象振翮北飞的“归雁”一样进入“胡天”。古诗中多用飞蓬比喻漂流在外的游子，这里却是比喻一个负有朝廷使命的大臣，正是暗写诗人内心的激愤和抑郁。与首句的“单车”相呼应。万里行程只用了十个字轻轻带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26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0:00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