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49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" Target="slide5.xm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1"/>
          <a:stretch/>
        </p:blipFill>
        <p:spPr>
          <a:xfrm>
            <a:off x="1992240" y="137016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1116000" y="1311120"/>
            <a:ext cx="5505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501480" y="2565360"/>
            <a:ext cx="6775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上、下、前、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387360" y="5962680"/>
            <a:ext cx="52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6E43-AAE9-4761-924B-5659AD0017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00120" y="1571760"/>
            <a:ext cx="6000840" cy="3024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交流辨析，探究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4725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这幅图，你看到了什么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403280" y="522504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、下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词说一说这些交通工具的位置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13000" y="5774040"/>
            <a:ext cx="77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一会儿说火车在上面，一会儿又说火车在下面，火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底在哪里呀？这是怎么回事啊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11280" y="469944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才能说清楚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577404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有时我们需要说清楚谁在谁的上面，谁在谁的下面，这样别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能听明白各种物品的位置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9"/>
          <p:cNvGrpSpPr/>
          <p:nvPr/>
        </p:nvGrpSpPr>
        <p:grpSpPr>
          <a:xfrm>
            <a:off x="4066920" y="4130280"/>
            <a:ext cx="2520720" cy="2045160"/>
            <a:chOff x="4066920" y="4130280"/>
            <a:chExt cx="2520720" cy="2045160"/>
          </a:xfrm>
        </p:grpSpPr>
        <p:sp>
          <p:nvSpPr>
            <p:cNvPr id="89" name="Rectangle 3"/>
            <p:cNvSpPr/>
            <p:nvPr/>
          </p:nvSpPr>
          <p:spPr>
            <a:xfrm>
              <a:off x="4644720" y="4130280"/>
              <a:ext cx="1942920" cy="20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          的上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          的下面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4066920" y="5149800"/>
              <a:ext cx="64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 flipH="1">
              <a:off x="4066920" y="5616360"/>
              <a:ext cx="64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 flipH="1">
              <a:off x="5009400" y="5616360"/>
              <a:ext cx="64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 flipH="1">
              <a:off x="5009400" y="5130720"/>
              <a:ext cx="64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95280" y="304920"/>
            <a:ext cx="8348760" cy="6269040"/>
          </a:xfrm>
          <a:prstGeom prst="rect">
            <a:avLst/>
          </a:prstGeom>
          <a:ln w="0">
            <a:noFill/>
          </a:ln>
        </p:spPr>
      </p:pic>
      <p:pic>
        <p:nvPicPr>
          <p:cNvPr id="95" name="ShockwaveFlash1" descr=""/>
          <p:cNvPicPr/>
          <p:nvPr/>
        </p:nvPicPr>
        <p:blipFill>
          <a:blip r:embed="rId3"/>
          <a:stretch/>
        </p:blipFill>
        <p:spPr>
          <a:xfrm>
            <a:off x="395280" y="30636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5"/>
          <p:cNvSpPr/>
          <p:nvPr/>
        </p:nvSpPr>
        <p:spPr>
          <a:xfrm>
            <a:off x="1979640" y="350028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1314360" y="1528920"/>
            <a:ext cx="6072120" cy="3060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交流辨析，探究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11280" y="472500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又看到了什么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403280" y="52250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、后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词说一说这些车的位置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13000" y="5774040"/>
            <a:ext cx="77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一会儿说卡车在后面，一会儿又说卡车在前面，这又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回事啊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1280" y="46994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才能说清楚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1280" y="577908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在说明位置时，有时需要我们说清楚是谁和谁在进行比较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4066920" y="4130280"/>
            <a:ext cx="2520720" cy="2045160"/>
            <a:chOff x="4066920" y="4130280"/>
            <a:chExt cx="2520720" cy="2045160"/>
          </a:xfrm>
        </p:grpSpPr>
        <p:sp>
          <p:nvSpPr>
            <p:cNvPr id="105" name="Rectangle 3"/>
            <p:cNvSpPr/>
            <p:nvPr/>
          </p:nvSpPr>
          <p:spPr>
            <a:xfrm>
              <a:off x="4644720" y="4130280"/>
              <a:ext cx="1942920" cy="20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          的前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          的后面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H="1">
              <a:off x="4066920" y="5149800"/>
              <a:ext cx="64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H="1">
              <a:off x="4066920" y="5616360"/>
              <a:ext cx="64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6"/>
            <p:cNvSpPr/>
            <p:nvPr/>
          </p:nvSpPr>
          <p:spPr>
            <a:xfrm flipH="1">
              <a:off x="5009400" y="5616360"/>
              <a:ext cx="64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7"/>
            <p:cNvSpPr/>
            <p:nvPr/>
          </p:nvSpPr>
          <p:spPr>
            <a:xfrm flipH="1">
              <a:off x="5009400" y="5130720"/>
              <a:ext cx="64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"/>
                            </p:stCondLst>
                            <p:childTnLst>
                              <p:par>
                                <p:cTn id="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12920" y="291960"/>
            <a:ext cx="8358120" cy="6269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747800" y="2060640"/>
            <a:ext cx="568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年新人教版一年级上册数学全册课件下载页面：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1ppt.com/kejian/shuxue/1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ShockwaveFlash1" descr=""/>
          <p:cNvPicPr/>
          <p:nvPr/>
        </p:nvPicPr>
        <p:blipFill>
          <a:blip r:embed="rId3"/>
          <a:stretch/>
        </p:blipFill>
        <p:spPr>
          <a:xfrm>
            <a:off x="411120" y="298440"/>
            <a:ext cx="8353440" cy="626436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"/>
          <p:cNvSpPr/>
          <p:nvPr/>
        </p:nvSpPr>
        <p:spPr>
          <a:xfrm>
            <a:off x="1278000" y="5365800"/>
            <a:ext cx="66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交流辨析，探究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28800" y="55155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谁在谁的前面，谁在谁的后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719360" y="5995080"/>
            <a:ext cx="74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玉在小兵的前面还是后面呢？你是怎样想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029720" cy="3590640"/>
          </a:xfrm>
          <a:prstGeom prst="rect">
            <a:avLst/>
          </a:prstGeom>
          <a:ln w="0">
            <a:noFill/>
          </a:ln>
        </p:spPr>
      </p:pic>
      <p:sp>
        <p:nvSpPr>
          <p:cNvPr id="118" name="任意多边形 7"/>
          <p:cNvSpPr/>
          <p:nvPr/>
        </p:nvSpPr>
        <p:spPr>
          <a:xfrm>
            <a:off x="733320" y="2066760"/>
            <a:ext cx="2562480" cy="3219480"/>
          </a:xfrm>
          <a:custGeom>
            <a:avLst/>
            <a:gdLst/>
            <a:ahLst/>
            <a:rect l="l" t="t" r="r" b="b"/>
            <a:pathLst>
              <a:path w="2562225" h="3219450">
                <a:moveTo>
                  <a:pt x="590550" y="9525"/>
                </a:moveTo>
                <a:lnTo>
                  <a:pt x="2238375" y="0"/>
                </a:lnTo>
                <a:lnTo>
                  <a:pt x="2266950" y="885825"/>
                </a:lnTo>
                <a:cubicBezTo>
                  <a:pt x="2198326" y="974056"/>
                  <a:pt x="2200275" y="935349"/>
                  <a:pt x="2200275" y="981075"/>
                </a:cubicBezTo>
                <a:lnTo>
                  <a:pt x="2238375" y="1133475"/>
                </a:lnTo>
                <a:cubicBezTo>
                  <a:pt x="2132918" y="1612826"/>
                  <a:pt x="1971054" y="1609725"/>
                  <a:pt x="2143125" y="1609725"/>
                </a:cubicBezTo>
                <a:lnTo>
                  <a:pt x="2562225" y="2705100"/>
                </a:lnTo>
                <a:lnTo>
                  <a:pt x="2133600" y="3219450"/>
                </a:lnTo>
                <a:lnTo>
                  <a:pt x="1590675" y="2933700"/>
                </a:lnTo>
                <a:lnTo>
                  <a:pt x="1371600" y="2743200"/>
                </a:lnTo>
                <a:lnTo>
                  <a:pt x="590550" y="3048000"/>
                </a:lnTo>
                <a:lnTo>
                  <a:pt x="66675" y="2943225"/>
                </a:lnTo>
                <a:lnTo>
                  <a:pt x="0" y="2314575"/>
                </a:lnTo>
                <a:lnTo>
                  <a:pt x="762000" y="1695450"/>
                </a:lnTo>
                <a:lnTo>
                  <a:pt x="800100" y="685800"/>
                </a:lnTo>
                <a:lnTo>
                  <a:pt x="590550" y="952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巩固练习，强化认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66560" y="1628640"/>
            <a:ext cx="439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说一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26920" y="2744640"/>
            <a:ext cx="83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用</a:t>
            </a: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、下、前、后</a:t>
            </a: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教室里的人或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品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99640" y="4077360"/>
            <a:ext cx="3846960" cy="1677960"/>
            <a:chOff x="899640" y="4077360"/>
            <a:chExt cx="3846960" cy="1677960"/>
          </a:xfrm>
        </p:grpSpPr>
        <p:sp>
          <p:nvSpPr>
            <p:cNvPr id="123" name="Rectangle 3"/>
            <p:cNvSpPr/>
            <p:nvPr/>
          </p:nvSpPr>
          <p:spPr>
            <a:xfrm>
              <a:off x="1693800" y="4077360"/>
              <a:ext cx="3052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          的上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          的下面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0"/>
            <p:cNvSpPr/>
            <p:nvPr/>
          </p:nvSpPr>
          <p:spPr>
            <a:xfrm flipH="1">
              <a:off x="899640" y="4865760"/>
              <a:ext cx="826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1"/>
            <p:cNvSpPr/>
            <p:nvPr/>
          </p:nvSpPr>
          <p:spPr>
            <a:xfrm flipH="1">
              <a:off x="899640" y="5646600"/>
              <a:ext cx="826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2199960" y="5646600"/>
              <a:ext cx="826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3"/>
            <p:cNvSpPr/>
            <p:nvPr/>
          </p:nvSpPr>
          <p:spPr>
            <a:xfrm flipH="1">
              <a:off x="2199960" y="4846680"/>
              <a:ext cx="826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5117760" y="4077360"/>
            <a:ext cx="3846960" cy="1677960"/>
            <a:chOff x="5117760" y="4077360"/>
            <a:chExt cx="3846960" cy="1677960"/>
          </a:xfrm>
        </p:grpSpPr>
        <p:sp>
          <p:nvSpPr>
            <p:cNvPr id="129" name="Rectangle 3"/>
            <p:cNvSpPr/>
            <p:nvPr/>
          </p:nvSpPr>
          <p:spPr>
            <a:xfrm>
              <a:off x="5911920" y="4077360"/>
              <a:ext cx="3052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          的前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          的后面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>
              <a:off x="5117760" y="4865760"/>
              <a:ext cx="826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H="1">
              <a:off x="5117760" y="5646600"/>
              <a:ext cx="826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6"/>
            <p:cNvSpPr/>
            <p:nvPr/>
          </p:nvSpPr>
          <p:spPr>
            <a:xfrm flipH="1">
              <a:off x="6418080" y="5646600"/>
              <a:ext cx="826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 flipH="1">
              <a:off x="6418080" y="4846680"/>
              <a:ext cx="826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210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巩固练习，强化认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66560" y="170172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做一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619280" y="2713680"/>
            <a:ext cx="7524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铅笔盒放在桌子的上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数学书放在铅笔盒的下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坐在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***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面的同学起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坐在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***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面的同学把手举起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"/>
          <p:cNvPicPr/>
          <p:nvPr/>
        </p:nvPicPr>
        <p:blipFill>
          <a:blip r:embed="rId1"/>
          <a:stretch/>
        </p:blipFill>
        <p:spPr>
          <a:xfrm>
            <a:off x="189000" y="2147760"/>
            <a:ext cx="5084640" cy="3448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4498920" y="606636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讲一个故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5003640" y="1557360"/>
            <a:ext cx="3900600" cy="1557360"/>
            <a:chOff x="5003640" y="1557360"/>
            <a:chExt cx="3900600" cy="1557360"/>
          </a:xfrm>
        </p:grpSpPr>
        <p:sp>
          <p:nvSpPr>
            <p:cNvPr id="140" name="云形标注 12"/>
            <p:cNvSpPr/>
            <p:nvPr/>
          </p:nvSpPr>
          <p:spPr>
            <a:xfrm>
              <a:off x="5003640" y="1557360"/>
              <a:ext cx="1874880" cy="1079640"/>
            </a:xfrm>
            <a:prstGeom prst="cloudCallout">
              <a:avLst>
                <a:gd name="adj1" fmla="val 81500"/>
                <a:gd name="adj2" fmla="val 7796"/>
              </a:avLst>
            </a:prstGeom>
            <a:solidFill>
              <a:srgbClr val="ebf5ff"/>
            </a:solidFill>
            <a:ln w="15120">
              <a:solidFill>
                <a:srgbClr val="6ac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做一做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一说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4" descr="男天使"/>
            <p:cNvPicPr/>
            <p:nvPr/>
          </p:nvPicPr>
          <p:blipFill>
            <a:blip r:embed="rId2"/>
            <a:stretch/>
          </p:blipFill>
          <p:spPr>
            <a:xfrm>
              <a:off x="7380000" y="1700280"/>
              <a:ext cx="1524240" cy="14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7"/>
          <p:cNvGrpSpPr/>
          <p:nvPr/>
        </p:nvGrpSpPr>
        <p:grpSpPr>
          <a:xfrm>
            <a:off x="4498920" y="5126040"/>
            <a:ext cx="4537080" cy="966960"/>
            <a:chOff x="4498920" y="5126040"/>
            <a:chExt cx="4537080" cy="966960"/>
          </a:xfrm>
        </p:grpSpPr>
        <p:sp>
          <p:nvSpPr>
            <p:cNvPr id="143" name="TextBox 5"/>
            <p:cNvSpPr/>
            <p:nvPr/>
          </p:nvSpPr>
          <p:spPr>
            <a:xfrm>
              <a:off x="4498920" y="543240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请你把     、      贴在图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7" descr="图1"/>
            <p:cNvPicPr/>
            <p:nvPr/>
          </p:nvPicPr>
          <p:blipFill>
            <a:blip r:embed="rId3"/>
            <a:stretch/>
          </p:blipFill>
          <p:spPr>
            <a:xfrm>
              <a:off x="5638680" y="5126040"/>
              <a:ext cx="53676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8" descr="图2"/>
            <p:cNvPicPr/>
            <p:nvPr/>
          </p:nvPicPr>
          <p:blipFill>
            <a:blip r:embed="rId4"/>
            <a:stretch/>
          </p:blipFill>
          <p:spPr>
            <a:xfrm>
              <a:off x="6394320" y="5408640"/>
              <a:ext cx="865440" cy="6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4"/>
          <p:cNvSpPr/>
          <p:nvPr/>
        </p:nvSpPr>
        <p:spPr>
          <a:xfrm>
            <a:off x="457200" y="417600"/>
            <a:ext cx="7210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灵活应用，拓展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5:36:53Z</dcterms:modified>
  <cp:revision>24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