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758-72F9-4016-982D-4CA97388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F7D-5371-4575-AE48-283DAB74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307-0043-4B69-B9AE-17782A59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578-D787-4992-AC1C-E9733014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0354-817F-4317-96EC-AC421768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B685-1124-4BF0-9826-E07CD413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9857-E4A8-447D-9FD5-8B425613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AC31-0E23-4C3D-98CA-E3E6A223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498B-4701-44F7-9F75-31DA4194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00AF-EFEC-4342-8C55-5B892422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0599-E3B6-4DD3-89DD-873F21C0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422-E256-494E-A08D-BC21C313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95B8-C168-4B8D-A05F-8806065A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FEBE-C324-404B-A833-67108DB3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F208-21DB-4307-BF5B-56B37DA1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FE0F-75BC-4226-8E50-2743688E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FAD6-F1ED-428F-BE8E-6898888D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F0C-92EB-4FB5-888C-26C5E36B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1A1-A6E8-4192-8418-94E53661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6A1-7B89-47EC-9BE7-26B21023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9D8D-B2DE-4D7D-B72F-5563F96F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760-074E-499E-A8C5-F037B43D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458-D575-4207-8516-14133E3C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F54-35AA-4DA7-87E2-AF6C43A4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C44C-9CE4-44D9-AE9C-8A03A056102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6E40-A44D-4493-B4AF-A2FA2ECD469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file:///&#12298;&#36855;&#20154;&#30340;&#24352;&#23478;&#30028;&#12299;&#35829;&#35835;.swf" TargetMode="External"/><Relationship Id="rId17" Type="http://schemas.openxmlformats.org/officeDocument/2006/relationships/image" Target="../media/image3.png"/><Relationship Id="rId18" Type="http://schemas.openxmlformats.org/officeDocument/2006/relationships/image" Target="../media/image4.jpeg"/><Relationship Id="rId19" Type="http://schemas.openxmlformats.org/officeDocument/2006/relationships/hyperlink" Target="file:///&#12298;&#32034;&#28330;&#23786;&#30340;&#8220;&#37326;&#8221;&#12299;&#35829;&#35835;.swf" TargetMode="External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 Box 4" descr=""/>
          <p:cNvPicPr/>
          <p:nvPr/>
        </p:nvPicPr>
        <p:blipFill>
          <a:blip r:embed="rId1"/>
          <a:stretch/>
        </p:blipFill>
        <p:spPr>
          <a:xfrm>
            <a:off x="333360" y="1197000"/>
            <a:ext cx="9086760" cy="2216160"/>
          </a:xfrm>
          <a:prstGeom prst="rect">
            <a:avLst/>
          </a:prstGeom>
          <a:ln w="0">
            <a:noFill/>
          </a:ln>
        </p:spPr>
      </p:pic>
      <p:sp>
        <p:nvSpPr>
          <p:cNvPr id="83" name="矩形 5"/>
          <p:cNvSpPr/>
          <p:nvPr/>
        </p:nvSpPr>
        <p:spPr>
          <a:xfrm>
            <a:off x="2504160" y="5805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2638440" y="620640"/>
            <a:ext cx="365760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自然美</a:t>
            </a:r>
            <a:endParaRPr b="1" lang="en-US" sz="9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2714760" y="2849400"/>
            <a:ext cx="365760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6600"/>
                  </a:solidFill>
                  <a:round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天然美</a:t>
            </a:r>
            <a:endParaRPr b="1" lang="en-US" sz="9600" spc="1" strike="noStrike">
              <a:ln w="9360">
                <a:solidFill>
                  <a:srgbClr val="cc6600"/>
                </a:solidFill>
                <a:round/>
              </a:ln>
              <a:solidFill>
                <a:srgbClr val="cc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43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1EFE-4513-4805-8939-8F362FA820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5029200" y="15382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桂林山水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029200" y="297180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16"/>
              </a:rPr>
              <a:t>迷人的张家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7" name="《桂林山水》课文朗读.MP3" descr=""/>
          <p:cNvPicPr/>
          <p:nvPr/>
        </p:nvPicPr>
        <p:blipFill>
          <a:blip r:embed="rId17"/>
          <a:stretch/>
        </p:blipFill>
        <p:spPr>
          <a:xfrm>
            <a:off x="8001000" y="1752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4716360" y="429264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9" name="Picture 6" descr="《索溪峪的“野”》插图"/>
          <p:cNvPicPr/>
          <p:nvPr/>
        </p:nvPicPr>
        <p:blipFill>
          <a:blip r:embed="rId18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5029200" y="3830760"/>
            <a:ext cx="285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19"/>
              </a:rPr>
              <a:t>索溪峪的“野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895480" y="4762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阅读提示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177156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索溪峪是张家界的一个主要景点。这里的一切都有一种野性的美。认真读读课文，想一想：“野”在本课是什么意思，课文从哪几个方面描写了索溪峪的“野”，是怎样写出这种野性美的。把你觉得写得好的地方多读一读，体会这样写好在哪里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3" name="《索溪峪的“野”》课文朗读.MP3" descr=""/>
          <p:cNvPicPr/>
          <p:nvPr/>
        </p:nvPicPr>
        <p:blipFill>
          <a:blip r:embed="rId1"/>
          <a:stretch/>
        </p:blipFill>
        <p:spPr>
          <a:xfrm>
            <a:off x="5791320" y="704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629080" y="333360"/>
            <a:ext cx="39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读读下列词语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933560"/>
            <a:ext cx="82296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赋予  倩影  崛起  巍巍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千峰万仞  绵亘蜿蜒  窈窕淑女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撅着  水花四溅  老叟  荡涤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3352680" y="1600200"/>
            <a:ext cx="16002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琥珀"/>
              </a:rPr>
              <a:t>野</a:t>
            </a:r>
            <a:endParaRPr b="1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1600200" y="762120"/>
            <a:ext cx="76212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琥珀"/>
              </a:rPr>
              <a:t>山</a:t>
            </a:r>
            <a:endParaRPr b="0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600200" y="2057400"/>
            <a:ext cx="7714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水</a:t>
            </a:r>
            <a:endParaRPr b="1" lang="en-US" sz="6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1219320" y="2895480"/>
            <a:ext cx="1542960" cy="13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琥珀"/>
              </a:rPr>
              <a:t>动物</a:t>
            </a:r>
            <a:endParaRPr b="1" lang="en-US" sz="6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1600200" y="4772160"/>
            <a:ext cx="771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人</a:t>
            </a:r>
            <a:endParaRPr b="1" lang="en-US" sz="6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5486400" y="533520"/>
            <a:ext cx="182880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琥珀"/>
              </a:rPr>
              <a:t>姿态各异</a:t>
            </a:r>
            <a:endParaRPr b="0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5562720" y="1981080"/>
            <a:ext cx="190476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蜿蜒变幻</a:t>
            </a:r>
            <a:endParaRPr b="1" lang="en-US" sz="6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5486400" y="2819520"/>
            <a:ext cx="213372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琥珀"/>
              </a:rPr>
              <a:t>自由自在</a:t>
            </a:r>
            <a:endParaRPr b="1" lang="en-US" sz="6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5486400" y="4800600"/>
            <a:ext cx="2286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返璞归真</a:t>
            </a:r>
            <a:endParaRPr b="1" lang="en-US" sz="60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索溪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索溪峪风光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索溪峪风光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1"/>
          <p:cNvSpPr/>
          <p:nvPr/>
        </p:nvSpPr>
        <p:spPr>
          <a:xfrm>
            <a:off x="1028880" y="303120"/>
            <a:ext cx="67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索溪峪风光1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索溪峪风光2"/>
          <p:cNvPicPr/>
          <p:nvPr/>
        </p:nvPicPr>
        <p:blipFill>
          <a:blip r:embed="rId2"/>
          <a:stretch/>
        </p:blipFill>
        <p:spPr>
          <a:xfrm>
            <a:off x="4572000" y="0"/>
            <a:ext cx="46483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07:39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6:52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