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chimes.wav" ContentType="audio/x-wav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681F-CA1F-4818-9ABC-79083E8140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CC05-35C3-476C-8D82-CC79CF2D6AE8}" type="slidenum">
              <a:rPr b="0" lang="zh-CN" sz="12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FAE-B1ED-414A-8518-9CDA02C3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5AF-8B1E-4BD7-8B08-5F253889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6B054-43FD-490A-B415-60E1E954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7F71D-01F6-4F59-A620-7FD92B5A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1F279-A03E-4435-AE34-55465ABF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049FE-A12E-4E7C-AED3-F1D9B8B8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56464-830D-4605-B63F-1FD0AEA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28CF7-9CB8-4A3B-9CA5-5AAE1D4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25B88-6DA0-49A1-A728-25B1429F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8D924-1962-4DAD-8E73-A8E4B962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12681-8B8D-4FBA-A281-0DF91F10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A23AA-3BAB-4D4F-9499-F5721EE6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890-04B0-4459-BEEE-97E91976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8B7FA-D574-4A06-94AE-A464F7DF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7E4EE-C004-41F8-B17E-E5485C72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E6A5D-DC48-419F-8362-8E15E14F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278A6-C617-4776-B9E2-2BE38E4D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964D0-646F-4221-AB75-04301888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B64F1-3F92-4AA5-8D61-2B92699C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5ECA2-33EE-48C6-B94D-090B687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991E7-6BE2-4428-8B9C-A36BCA57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01334-213A-458E-B08A-01103EE7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F91F8-5ECD-4BFC-B2FE-138B26A3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F25-E864-4941-875D-C64D5446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4A83E-5132-4A94-875A-B7ECEF53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C5D-9B01-4218-BE4A-2884980F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6FF5-1907-4284-9B53-33E99F3A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1A1B-B783-4E60-9989-02B8EDD8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A46-AD60-44F9-845E-817AEC51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F9E1-5C88-45C5-AE79-CD836A14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D4BF-AA31-489D-B7D4-C0F9276D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A866-D6B7-4903-9E4A-ECE7DC9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D5C-0F72-4F75-BD93-254F6F07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6AAD-8B5C-449B-8E14-C1CCB38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B653-3BB2-4C17-92E2-0A83433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EFB3-2E0E-42B7-8C7A-0F8A00B0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AC90-17B9-4C8C-9224-FF05A3E7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B40D-C5EC-45DE-9D58-921B70F3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611E-7B58-46A5-B987-3309CF39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9EC9-89ED-4715-B620-8F29858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1DEF-46AC-40A2-8EE1-65816102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A8AA-68E3-4DBC-B2FF-EBD12A1F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F806-A2E2-44CD-B5F9-40587433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AFA-D1E0-4DB3-B2D6-D79026C9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109D-176D-495C-B1B7-2A75C550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EBFB-E089-4D61-A7DA-AEA217F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782E-E1E2-474A-89EB-3B54DD4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7189-088A-483A-BF14-E9C198F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AEB4-0634-4E31-AEC6-BE2C2620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0175-B1A2-450B-8C00-ED6C09EF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50F3-FFE4-4D67-A5B7-A06C7327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4C77-7B89-43EF-B16D-504C0222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A1D6-EAA0-4A0E-9161-C2F14E0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0E1C-05EF-4D12-9EED-AA181990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B40-8CA6-44F3-B655-38D0896F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6E51-AA66-4E68-9E60-D2C8A51E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06E4C-2B1F-4E6A-97D4-6BEF71DC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FBC7-6485-4DED-9EEC-C7042DDC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535F-E094-4A8C-82EE-5A31DCC7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998C-7438-4D6E-A6F8-89DFD3B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34D2-3DB5-41E7-B412-A0B71268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D6F7-784C-4042-996B-DE024607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B79CE-BB67-4A0B-B03D-1D284455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F8B8-2457-47AC-8557-544AA526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1AE5B-8848-467B-A52B-A7C38B11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D8B-EDEB-4811-A082-3082D11A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A948-25AF-45BC-8EBC-DC6494FC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5A066-27DD-4F2D-B3D2-31DC4F1B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33FE-E6B5-481C-9AD6-E545830E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09CB-BDAF-4830-A328-FAA9022D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8C5D9-F52B-4DB7-B1AB-7DED5CA6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D448-546E-4B00-902B-BDA95C8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A834-8CD5-46C4-B646-8DF74B2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3F6C-6D6A-4718-B094-0D597828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6E9E-9B72-46E1-ADFD-B84D233A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884D-A7CB-4305-956A-F7671BFD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A51-27B1-401F-A449-5B45041D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F993-CF99-4D84-A575-F0F3B428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ED49-308E-40FD-A67E-E6572BF2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D52D-3B7A-4455-97DD-3B6BDC91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1490-FE41-482A-8296-2109A2B4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6135D-5AA9-4FFB-8DE7-EC01DEB4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CD47-935D-4DAE-968F-906C0C1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FE65-DBE6-4B8C-A014-F8787595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57994-E0A0-47CF-B063-E09621F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603A-6E8C-4D56-933E-3086810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8C6EC-15C6-4523-9A60-AAB5DB59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631-7863-4BB9-B93B-B4078BF1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1DD8-20E3-4D64-A53E-4D15A8F0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5CE37-8A24-4823-B6F5-F1DD0DBB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75446-9411-48B2-9A25-322F11D5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A8F3-441A-4750-9CF6-E6BBD025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39DC6-FFF3-4E61-8487-49A71BB5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3335-5C46-4DCD-8FB1-2AE22D96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C3470-BEEA-4530-BF6F-E554F345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084B8-0AB8-4FF5-B6DA-49474AB6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C3EB6-74E3-4B59-B4C7-61CEF781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AACD0-BE25-4C3E-8DB6-FAB79926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270-D6BD-4B5C-A133-763C28D4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E392-2506-4166-837E-29A277F2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996C-3120-437A-8D4E-BE6E99B1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69335-4BE6-43CD-BA04-BE9B647E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9FC5-A1B2-4B2A-8CA3-0772F0F5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3DAFA-E8C4-4515-9FA6-10CAAFCD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AC1DB-979E-4CEE-9CB7-197F6D82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7AE5-6AB6-4B1A-9E08-F872E155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AA7C3-045D-4B2C-BFAE-76CD2537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8852D-AB18-488C-BA69-7BEADE93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E0099-BD61-46D3-91EF-F7F8ACE3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EAD-EC36-41A3-9C32-EC6DEBF2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9FFA0-D689-42FB-861B-169316C9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95723-8DCA-410E-B2BE-54B32DF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EC574-26E8-4289-A91A-661DE247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C61F3-E1A0-47CC-B8C4-B7103AEE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379F6-4DE6-4EA0-AB0A-F0330229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EB485-005D-4114-9BA0-6D27FB23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1065E-F3FB-488D-B6E1-77763325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873CF-4EE1-413D-9E24-8F8931CA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4ED1E-5887-43ED-909C-547D9385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28DD4-263B-4CF1-8840-0409E143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3EF9-5208-42CD-AA29-74A87D894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820B-0066-495D-9F18-EFFC88C5FCE9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FAC6-9CBF-466B-8FD5-8C01A25127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A3CA-8C91-4DFB-8510-0CD3DEABDD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7376-1547-47F2-B97F-E449D3C602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55D8-D4A0-411F-8750-44BA4A973D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04D4-F489-4F6D-B14D-0B2A0DE911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FD1D-E2A4-4DA7-AFE7-85543780B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107F-06FC-4DAF-904D-0CA0108968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714D-50EE-487B-B086-58C8B12B47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34080"/>
          </a:xfrm>
          <a:prstGeom prst="rect">
            <a:avLst/>
          </a:prstGeom>
          <a:ln w="0">
            <a:noFill/>
          </a:ln>
        </p:spPr>
      </p:pic>
      <p:pic>
        <p:nvPicPr>
          <p:cNvPr id="418" name="矩形 4" descr=""/>
          <p:cNvPicPr/>
          <p:nvPr/>
        </p:nvPicPr>
        <p:blipFill>
          <a:blip r:embed="rId2"/>
          <a:stretch/>
        </p:blipFill>
        <p:spPr>
          <a:xfrm>
            <a:off x="1244520" y="1224000"/>
            <a:ext cx="7818480" cy="1322280"/>
          </a:xfrm>
          <a:prstGeom prst="rect">
            <a:avLst/>
          </a:prstGeom>
          <a:ln w="0">
            <a:noFill/>
          </a:ln>
        </p:spPr>
      </p:pic>
      <p:sp>
        <p:nvSpPr>
          <p:cNvPr id="419" name="矩形 6"/>
          <p:cNvSpPr/>
          <p:nvPr/>
        </p:nvSpPr>
        <p:spPr>
          <a:xfrm>
            <a:off x="2384640" y="58672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76320" y="991800"/>
            <a:ext cx="8991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推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乘上转椅，要使看到的周围景物在 顺时针 旋转，你的转椅应该往哪个方向旋转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2"/>
          <p:cNvGrpSpPr/>
          <p:nvPr/>
        </p:nvGrpSpPr>
        <p:grpSpPr>
          <a:xfrm>
            <a:off x="304920" y="2743200"/>
            <a:ext cx="2952720" cy="1944720"/>
            <a:chOff x="304920" y="2743200"/>
            <a:chExt cx="2952720" cy="1944720"/>
          </a:xfrm>
        </p:grpSpPr>
        <p:sp>
          <p:nvSpPr>
            <p:cNvPr id="458" name="Text Box 3"/>
            <p:cNvSpPr/>
            <p:nvPr/>
          </p:nvSpPr>
          <p:spPr>
            <a:xfrm>
              <a:off x="304920" y="2743200"/>
              <a:ext cx="29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自西向东？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AutoShape 4"/>
            <p:cNvSpPr/>
            <p:nvPr/>
          </p:nvSpPr>
          <p:spPr>
            <a:xfrm>
              <a:off x="2249640" y="3319560"/>
              <a:ext cx="720720" cy="1368360"/>
            </a:xfrm>
            <a:custGeom>
              <a:avLst/>
              <a:gdLst>
                <a:gd name="textAreaLeft" fmla="*/ 96480 w 720720"/>
                <a:gd name="textAreaRight" fmla="*/ 624240 w 720720"/>
                <a:gd name="textAreaTop" fmla="*/ 259200 h 1368360"/>
                <a:gd name="textAreaBottom" fmla="*/ 85680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89" stAng="-5400000" swAng="-5400000"/>
                  <a:lnTo>
                    <a:pt x="0" y="9427"/>
                  </a:lnTo>
                  <a:arcTo wR="21600" hR="8189" stAng="10800000" swAng="-1402876"/>
                  <a:lnTo>
                    <a:pt x="7359" y="19568"/>
                  </a:lnTo>
                  <a:lnTo>
                    <a:pt x="21600" y="16997"/>
                  </a:lnTo>
                  <a:lnTo>
                    <a:pt x="7359" y="10362"/>
                  </a:lnTo>
                  <a:lnTo>
                    <a:pt x="7359" y="14346"/>
                  </a:lnTo>
                  <a:arcTo wR="21600" hR="8189" stAng="9397124" swAng="1304104"/>
                  <a:lnTo>
                    <a:pt x="62" y="8808"/>
                  </a:lnTo>
                  <a:arcTo wR="21600" hR="8189" stAng="-10701228" swAng="5301228"/>
                  <a:close/>
                </a:path>
                <a:path fill="darkenLess" w="21600" h="21600">
                  <a:moveTo>
                    <a:pt x="21600" y="0"/>
                  </a:moveTo>
                  <a:arcTo wR="21600" hR="8189" stAng="-5400000" swAng="-5400000"/>
                  <a:lnTo>
                    <a:pt x="0" y="8189"/>
                  </a:lnTo>
                  <a:arcTo wR="21600" hR="8189" stAng="10800000" swAng="-98772"/>
                  <a:lnTo>
                    <a:pt x="62" y="8808"/>
                  </a:lnTo>
                  <a:arcTo wR="21600" hR="8189" stAng="-10701228" swAng="5301228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60" name="Picture 5" descr="841550xq2_193"/>
          <p:cNvPicPr/>
          <p:nvPr/>
        </p:nvPicPr>
        <p:blipFill>
          <a:blip r:embed="rId1"/>
          <a:stretch/>
        </p:blipFill>
        <p:spPr>
          <a:xfrm>
            <a:off x="2895480" y="1981080"/>
            <a:ext cx="3529080" cy="340992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6"/>
          <p:cNvGrpSpPr/>
          <p:nvPr/>
        </p:nvGrpSpPr>
        <p:grpSpPr>
          <a:xfrm>
            <a:off x="5715000" y="2971800"/>
            <a:ext cx="2627280" cy="2520720"/>
            <a:chOff x="5715000" y="2971800"/>
            <a:chExt cx="2627280" cy="2520720"/>
          </a:xfrm>
        </p:grpSpPr>
        <p:sp>
          <p:nvSpPr>
            <p:cNvPr id="462" name="AutoShape 7"/>
            <p:cNvSpPr/>
            <p:nvPr/>
          </p:nvSpPr>
          <p:spPr>
            <a:xfrm>
              <a:off x="7047000" y="2971800"/>
              <a:ext cx="576000" cy="1728720"/>
            </a:xfrm>
            <a:custGeom>
              <a:avLst/>
              <a:gdLst>
                <a:gd name="textAreaLeft" fmla="*/ 77040 w 576000"/>
                <a:gd name="textAreaRight" fmla="*/ 498960 w 576000"/>
                <a:gd name="textAreaTop" fmla="*/ 302400 h 1728720"/>
                <a:gd name="textAreaBottom" fmla="*/ 12535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906"/>
                  <a:lnTo>
                    <a:pt x="7199" y="21168"/>
                  </a:lnTo>
                  <a:lnTo>
                    <a:pt x="0" y="17280"/>
                  </a:lnTo>
                  <a:lnTo>
                    <a:pt x="7199" y="12528"/>
                  </a:lnTo>
                  <a:lnTo>
                    <a:pt x="7199" y="14688"/>
                  </a:lnTo>
                  <a:arcTo wR="21600" hR="7560" stAng="2682906" swAng="-2325471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Text Box 8"/>
            <p:cNvSpPr/>
            <p:nvPr/>
          </p:nvSpPr>
          <p:spPr>
            <a:xfrm>
              <a:off x="5715000" y="4849920"/>
              <a:ext cx="26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自东向西？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64" name="Text Box 9"/>
          <p:cNvSpPr/>
          <p:nvPr/>
        </p:nvSpPr>
        <p:spPr>
          <a:xfrm>
            <a:off x="1676520" y="838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地球是怎样自转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3"/>
          <p:cNvSpPr/>
          <p:nvPr/>
        </p:nvSpPr>
        <p:spPr>
          <a:xfrm>
            <a:off x="457200" y="762120"/>
            <a:ext cx="8369280" cy="581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观察太阳的运动方向，思考地球的自转方向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8077320" y="3962520"/>
            <a:ext cx="99036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04920" y="3962520"/>
            <a:ext cx="99036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8" name="图片 2" descr=""/>
          <p:cNvPicPr/>
          <p:nvPr/>
        </p:nvPicPr>
        <p:blipFill>
          <a:blip r:embed="rId1"/>
          <a:stretch/>
        </p:blipFill>
        <p:spPr>
          <a:xfrm>
            <a:off x="1380960" y="1676520"/>
            <a:ext cx="6382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地球自转"/>
          <p:cNvPicPr/>
          <p:nvPr/>
        </p:nvPicPr>
        <p:blipFill>
          <a:blip r:embed="rId1"/>
          <a:stretch/>
        </p:blipFill>
        <p:spPr>
          <a:xfrm>
            <a:off x="2971800" y="25909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1371600" y="1295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地球是不停地</a:t>
            </a:r>
            <a:r>
              <a:rPr b="1" lang="zh-CN" sz="3600" spc="-1" strike="noStrike">
                <a:solidFill>
                  <a:srgbClr val="f61b0a"/>
                </a:solidFill>
                <a:latin typeface="Arial"/>
                <a:ea typeface="宋体"/>
              </a:rPr>
              <a:t>自西向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自转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2057400" y="3352680"/>
            <a:ext cx="720720" cy="1368720"/>
          </a:xfrm>
          <a:custGeom>
            <a:avLst/>
            <a:gdLst>
              <a:gd name="textAreaLeft" fmla="*/ 96480 w 720720"/>
              <a:gd name="textAreaRight" fmla="*/ 624240 w 720720"/>
              <a:gd name="textAreaTop" fmla="*/ 247320 h 1368720"/>
              <a:gd name="textAreaBottom" fmla="*/ 86904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8" stAng="-5400000" swAng="-5400000"/>
                <a:lnTo>
                  <a:pt x="0" y="9808"/>
                </a:lnTo>
                <a:arcTo wR="21600" hR="7808" stAng="10800000" swAng="-1932425"/>
                <a:lnTo>
                  <a:pt x="10849" y="20564"/>
                </a:lnTo>
                <a:lnTo>
                  <a:pt x="21600" y="16616"/>
                </a:lnTo>
                <a:lnTo>
                  <a:pt x="10849" y="10596"/>
                </a:lnTo>
                <a:lnTo>
                  <a:pt x="10849" y="14580"/>
                </a:lnTo>
                <a:arcTo wR="21600" hR="7808" stAng="8867575" swAng="1772065"/>
                <a:lnTo>
                  <a:pt x="178" y="8808"/>
                </a:lnTo>
                <a:arcTo wR="21600" hR="7808" stAng="-10639640" swAng="5239640"/>
                <a:close/>
              </a:path>
              <a:path fill="darkenLess" w="21600" h="21600">
                <a:moveTo>
                  <a:pt x="21600" y="0"/>
                </a:moveTo>
                <a:arcTo wR="21600" hR="7808" stAng="-5400000" swAng="-5400000"/>
                <a:lnTo>
                  <a:pt x="0" y="7808"/>
                </a:lnTo>
                <a:arcTo wR="21600" hR="7808" stAng="10800000" swAng="-160360"/>
                <a:lnTo>
                  <a:pt x="178" y="8808"/>
                </a:lnTo>
                <a:arcTo wR="21600" hR="7808" stAng="-10639640" swAng="5239640"/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7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337400" y="228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1b0a"/>
                </a:solidFill>
                <a:latin typeface="Arial"/>
              </a:rPr>
              <a:t>谁先迎来黎明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Oval 5"/>
          <p:cNvSpPr/>
          <p:nvPr/>
        </p:nvSpPr>
        <p:spPr>
          <a:xfrm>
            <a:off x="2514600" y="4724280"/>
            <a:ext cx="304920" cy="304920"/>
          </a:xfrm>
          <a:prstGeom prst="ellipse">
            <a:avLst/>
          </a:prstGeom>
          <a:solidFill>
            <a:srgbClr val="f61b0a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Oval 6"/>
          <p:cNvSpPr/>
          <p:nvPr/>
        </p:nvSpPr>
        <p:spPr>
          <a:xfrm>
            <a:off x="6858000" y="2590920"/>
            <a:ext cx="304920" cy="304560"/>
          </a:xfrm>
          <a:prstGeom prst="ellipse">
            <a:avLst/>
          </a:prstGeom>
          <a:solidFill>
            <a:srgbClr val="f61b0a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7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337400" y="228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1b0a"/>
                </a:solidFill>
                <a:latin typeface="Arial"/>
                <a:ea typeface="宋体"/>
              </a:rPr>
              <a:t>谁先迎来黎明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4572000" y="4876920"/>
            <a:ext cx="304920" cy="304560"/>
          </a:xfrm>
          <a:prstGeom prst="ellipse">
            <a:avLst/>
          </a:prstGeom>
          <a:solidFill>
            <a:srgbClr val="f61b0a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Oval 6"/>
          <p:cNvSpPr/>
          <p:nvPr/>
        </p:nvSpPr>
        <p:spPr>
          <a:xfrm>
            <a:off x="7257960" y="1866960"/>
            <a:ext cx="304920" cy="304920"/>
          </a:xfrm>
          <a:prstGeom prst="ellipse">
            <a:avLst/>
          </a:prstGeom>
          <a:solidFill>
            <a:srgbClr val="f61b0a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7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1337400" y="228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1b0a"/>
                </a:solidFill>
                <a:latin typeface="Arial"/>
                <a:ea typeface="宋体"/>
              </a:rPr>
              <a:t>谁先迎来黎明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Oval 5"/>
          <p:cNvSpPr/>
          <p:nvPr/>
        </p:nvSpPr>
        <p:spPr>
          <a:xfrm>
            <a:off x="4057560" y="5514840"/>
            <a:ext cx="304920" cy="304920"/>
          </a:xfrm>
          <a:prstGeom prst="ellipse">
            <a:avLst/>
          </a:prstGeom>
          <a:solidFill>
            <a:srgbClr val="f61b0a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Oval 6"/>
          <p:cNvSpPr/>
          <p:nvPr/>
        </p:nvSpPr>
        <p:spPr>
          <a:xfrm>
            <a:off x="6381720" y="4667400"/>
            <a:ext cx="304920" cy="304560"/>
          </a:xfrm>
          <a:prstGeom prst="ellipse">
            <a:avLst/>
          </a:prstGeom>
          <a:solidFill>
            <a:srgbClr val="f61b0a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图片 7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489" name="Oval 4"/>
          <p:cNvSpPr/>
          <p:nvPr/>
        </p:nvSpPr>
        <p:spPr>
          <a:xfrm>
            <a:off x="2057400" y="2286000"/>
            <a:ext cx="304920" cy="304920"/>
          </a:xfrm>
          <a:prstGeom prst="ellipse">
            <a:avLst/>
          </a:prstGeom>
          <a:solidFill>
            <a:srgbClr val="f61b0a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5838840" y="292428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61b0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533520" y="3809880"/>
            <a:ext cx="7848360" cy="581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北京比乌鲁木齐早几小时迎来黎明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443880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443880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443880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Oval 5"/>
          <p:cNvSpPr/>
          <p:nvPr/>
        </p:nvSpPr>
        <p:spPr>
          <a:xfrm>
            <a:off x="640080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6934320" y="2743200"/>
            <a:ext cx="152280" cy="15228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0" y="58211"/>
                </a:moveTo>
                <a:lnTo>
                  <a:pt x="58211" y="58211"/>
                </a:lnTo>
                <a:lnTo>
                  <a:pt x="76200" y="0"/>
                </a:lnTo>
                <a:lnTo>
                  <a:pt x="94188" y="58211"/>
                </a:lnTo>
                <a:lnTo>
                  <a:pt x="152399" y="58211"/>
                </a:lnTo>
                <a:lnTo>
                  <a:pt x="105305" y="94187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5" y="152399"/>
                </a:lnTo>
                <a:lnTo>
                  <a:pt x="47094" y="94187"/>
                </a:lnTo>
                <a:close/>
              </a:path>
            </a:pathLst>
          </a:custGeom>
          <a:solidFill>
            <a:srgbClr val="f61b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2133720" y="586728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西 时 区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6019920" y="586728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东 时 区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9" name="Picture 9" descr="001 拷贝"/>
          <p:cNvPicPr/>
          <p:nvPr/>
        </p:nvPicPr>
        <p:blipFill>
          <a:blip r:embed="rId1"/>
          <a:stretch/>
        </p:blipFill>
        <p:spPr>
          <a:xfrm>
            <a:off x="0" y="990720"/>
            <a:ext cx="9169560" cy="5562360"/>
          </a:xfrm>
          <a:prstGeom prst="rect">
            <a:avLst/>
          </a:prstGeom>
          <a:ln w="0">
            <a:noFill/>
          </a:ln>
        </p:spPr>
      </p:pic>
      <p:sp>
        <p:nvSpPr>
          <p:cNvPr id="500" name="WordArt 10"/>
          <p:cNvSpPr txBox="1"/>
          <p:nvPr/>
        </p:nvSpPr>
        <p:spPr>
          <a:xfrm>
            <a:off x="3200400" y="304920"/>
            <a:ext cx="228600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世界时区图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2819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69840" y="1142640"/>
            <a:ext cx="9213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地球可以分为多少个时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每相邻时区相差几个小时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伦敦在（   ）时区，它和北京相差（   ）个时区，北京比伦敦早（   ）个小时迎来黎明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越是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边时区，就越先迎来黎明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295280" y="17524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个时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219320" y="30481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个小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281952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8305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5410080" y="4038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1981080" y="5715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tiananmen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北京鸟巢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ahngcheng"/>
          <p:cNvPicPr/>
          <p:nvPr/>
        </p:nvPicPr>
        <p:blipFill>
          <a:blip r:embed="rId3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北京天坛2"/>
          <p:cNvPicPr/>
          <p:nvPr/>
        </p:nvPicPr>
        <p:blipFill>
          <a:blip r:embed="rId4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0" y="1371600"/>
          <a:ext cx="9144000" cy="4089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04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0" name="Text Box 19"/>
          <p:cNvSpPr/>
          <p:nvPr/>
        </p:nvSpPr>
        <p:spPr>
          <a:xfrm>
            <a:off x="0" y="2133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地球的形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243828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自转的证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472428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自转方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701028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自转周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Text Box 23"/>
          <p:cNvSpPr/>
          <p:nvPr/>
        </p:nvSpPr>
        <p:spPr>
          <a:xfrm>
            <a:off x="152280" y="3962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球形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514600" y="3962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傅科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4800600" y="4038480"/>
            <a:ext cx="2209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自西向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逆时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Text Box 26"/>
          <p:cNvSpPr/>
          <p:nvPr/>
        </p:nvSpPr>
        <p:spPr>
          <a:xfrm>
            <a:off x="7162920" y="4114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2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小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5562-A237-47F8-8C94-84C7098F15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新疆草原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维吾尔族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303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维吾尔族"/>
          <p:cNvPicPr/>
          <p:nvPr/>
        </p:nvPicPr>
        <p:blipFill>
          <a:blip r:embed="rId3"/>
          <a:stretch/>
        </p:blipFill>
        <p:spPr>
          <a:xfrm>
            <a:off x="0" y="3213000"/>
            <a:ext cx="4500720" cy="3645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新疆风光1"/>
          <p:cNvPicPr/>
          <p:nvPr/>
        </p:nvPicPr>
        <p:blipFill>
          <a:blip r:embed="rId4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新疆风光1"/>
          <p:cNvPicPr/>
          <p:nvPr/>
        </p:nvPicPr>
        <p:blipFill>
          <a:blip r:embed="rId1"/>
          <a:stretch/>
        </p:blipFill>
        <p:spPr>
          <a:xfrm>
            <a:off x="0" y="457200"/>
            <a:ext cx="4572000" cy="3463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cahngcheng"/>
          <p:cNvPicPr/>
          <p:nvPr/>
        </p:nvPicPr>
        <p:blipFill>
          <a:blip r:embed="rId2"/>
          <a:stretch/>
        </p:blipFill>
        <p:spPr>
          <a:xfrm>
            <a:off x="4419720" y="457200"/>
            <a:ext cx="4724280" cy="34545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4"/>
          <p:cNvSpPr/>
          <p:nvPr/>
        </p:nvSpPr>
        <p:spPr>
          <a:xfrm>
            <a:off x="914400" y="3016080"/>
            <a:ext cx="22860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乌鲁木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5486400" y="2971800"/>
            <a:ext cx="22860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fd91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北   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2" name="矩形 1" descr=""/>
          <p:cNvPicPr/>
          <p:nvPr/>
        </p:nvPicPr>
        <p:blipFill>
          <a:blip r:embed="rId3"/>
          <a:stretch/>
        </p:blipFill>
        <p:spPr>
          <a:xfrm>
            <a:off x="1785960" y="4648320"/>
            <a:ext cx="58341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图片 1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434" name="Oval 3"/>
          <p:cNvSpPr/>
          <p:nvPr/>
        </p:nvSpPr>
        <p:spPr>
          <a:xfrm>
            <a:off x="1981080" y="2133720"/>
            <a:ext cx="304920" cy="304560"/>
          </a:xfrm>
          <a:prstGeom prst="ellipse">
            <a:avLst/>
          </a:prstGeom>
          <a:solidFill>
            <a:srgbClr val="f61b0a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5935680" y="277164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61b0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19720" y="63244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34200" y="1981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8408880" y="2514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东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339800" y="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304920" y="2743200"/>
            <a:ext cx="2952720" cy="1944720"/>
            <a:chOff x="304920" y="2743200"/>
            <a:chExt cx="2952720" cy="1944720"/>
          </a:xfrm>
        </p:grpSpPr>
        <p:sp>
          <p:nvSpPr>
            <p:cNvPr id="441" name="Text Box 3"/>
            <p:cNvSpPr/>
            <p:nvPr/>
          </p:nvSpPr>
          <p:spPr>
            <a:xfrm>
              <a:off x="304920" y="2743200"/>
              <a:ext cx="29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自西向东？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2249640" y="3319560"/>
              <a:ext cx="720720" cy="1368360"/>
            </a:xfrm>
            <a:custGeom>
              <a:avLst/>
              <a:gdLst>
                <a:gd name="textAreaLeft" fmla="*/ 96480 w 720720"/>
                <a:gd name="textAreaRight" fmla="*/ 624240 w 720720"/>
                <a:gd name="textAreaTop" fmla="*/ 259200 h 1368360"/>
                <a:gd name="textAreaBottom" fmla="*/ 85680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89" stAng="-5400000" swAng="-5400000"/>
                  <a:lnTo>
                    <a:pt x="0" y="9427"/>
                  </a:lnTo>
                  <a:arcTo wR="21600" hR="8189" stAng="10800000" swAng="-1402876"/>
                  <a:lnTo>
                    <a:pt x="7359" y="19568"/>
                  </a:lnTo>
                  <a:lnTo>
                    <a:pt x="21600" y="16997"/>
                  </a:lnTo>
                  <a:lnTo>
                    <a:pt x="7359" y="10362"/>
                  </a:lnTo>
                  <a:lnTo>
                    <a:pt x="7359" y="14346"/>
                  </a:lnTo>
                  <a:arcTo wR="21600" hR="8189" stAng="9397124" swAng="1304104"/>
                  <a:lnTo>
                    <a:pt x="62" y="8808"/>
                  </a:lnTo>
                  <a:arcTo wR="21600" hR="8189" stAng="-10701228" swAng="5301228"/>
                  <a:close/>
                </a:path>
                <a:path fill="darkenLess" w="21600" h="21600">
                  <a:moveTo>
                    <a:pt x="21600" y="0"/>
                  </a:moveTo>
                  <a:arcTo wR="21600" hR="8189" stAng="-5400000" swAng="-5400000"/>
                  <a:lnTo>
                    <a:pt x="0" y="8189"/>
                  </a:lnTo>
                  <a:arcTo wR="21600" hR="8189" stAng="10800000" swAng="-98772"/>
                  <a:lnTo>
                    <a:pt x="62" y="8808"/>
                  </a:lnTo>
                  <a:arcTo wR="21600" hR="8189" stAng="-10701228" swAng="5301228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43" name="Picture 5" descr="841550xq2_193"/>
          <p:cNvPicPr/>
          <p:nvPr/>
        </p:nvPicPr>
        <p:blipFill>
          <a:blip r:embed="rId1"/>
          <a:stretch/>
        </p:blipFill>
        <p:spPr>
          <a:xfrm>
            <a:off x="2895480" y="1981080"/>
            <a:ext cx="3529080" cy="340992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6"/>
          <p:cNvGrpSpPr/>
          <p:nvPr/>
        </p:nvGrpSpPr>
        <p:grpSpPr>
          <a:xfrm>
            <a:off x="5715000" y="2971800"/>
            <a:ext cx="2627280" cy="2520720"/>
            <a:chOff x="5715000" y="2971800"/>
            <a:chExt cx="2627280" cy="2520720"/>
          </a:xfrm>
        </p:grpSpPr>
        <p:sp>
          <p:nvSpPr>
            <p:cNvPr id="445" name="AutoShape 7"/>
            <p:cNvSpPr/>
            <p:nvPr/>
          </p:nvSpPr>
          <p:spPr>
            <a:xfrm>
              <a:off x="7047000" y="2971800"/>
              <a:ext cx="576000" cy="1728720"/>
            </a:xfrm>
            <a:custGeom>
              <a:avLst/>
              <a:gdLst>
                <a:gd name="textAreaLeft" fmla="*/ 77040 w 576000"/>
                <a:gd name="textAreaRight" fmla="*/ 498960 w 576000"/>
                <a:gd name="textAreaTop" fmla="*/ 302400 h 1728720"/>
                <a:gd name="textAreaBottom" fmla="*/ 12535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906"/>
                  <a:lnTo>
                    <a:pt x="7199" y="21168"/>
                  </a:lnTo>
                  <a:lnTo>
                    <a:pt x="0" y="17280"/>
                  </a:lnTo>
                  <a:lnTo>
                    <a:pt x="7199" y="12528"/>
                  </a:lnTo>
                  <a:lnTo>
                    <a:pt x="7199" y="14688"/>
                  </a:lnTo>
                  <a:arcTo wR="21600" hR="7560" stAng="2682906" swAng="-2325471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Text Box 8"/>
            <p:cNvSpPr/>
            <p:nvPr/>
          </p:nvSpPr>
          <p:spPr>
            <a:xfrm>
              <a:off x="5715000" y="4849920"/>
              <a:ext cx="26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自东向西？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47" name="Text Box 9"/>
          <p:cNvSpPr/>
          <p:nvPr/>
        </p:nvSpPr>
        <p:spPr>
          <a:xfrm>
            <a:off x="1676520" y="838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地球是怎样自转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文本框 3"/>
          <p:cNvSpPr/>
          <p:nvPr/>
        </p:nvSpPr>
        <p:spPr>
          <a:xfrm>
            <a:off x="1069920" y="5991120"/>
            <a:ext cx="70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模板下载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"/>
          <p:cNvSpPr/>
          <p:nvPr/>
        </p:nvSpPr>
        <p:spPr>
          <a:xfrm>
            <a:off x="0" y="20408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拟实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六名学生手拉手、面朝外围成一个圈模拟“地球”，其中两个同学分别代表“北京”和“乌鲁木齐”，再请一个同学站在圈外代表“太阳”。在自转的过程中，这两位同学看到太阳的时候就喊一声“天亮啦”好吗？开始。（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西向动转两圈，自东向西转两圈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矩形 2"/>
          <p:cNvSpPr/>
          <p:nvPr/>
        </p:nvSpPr>
        <p:spPr>
          <a:xfrm>
            <a:off x="228600" y="6149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通过这个模拟实验，你们有什么发现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3"/>
          <p:cNvSpPr/>
          <p:nvPr/>
        </p:nvSpPr>
        <p:spPr>
          <a:xfrm>
            <a:off x="533520" y="12193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乘在向前行驶的汽车上，看到外面的景物是怎样运动的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矩形 3"/>
          <p:cNvSpPr/>
          <p:nvPr/>
        </p:nvSpPr>
        <p:spPr>
          <a:xfrm>
            <a:off x="552960" y="38088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拟实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3" name="图片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358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看到窗外的景物向前运动，你能判断车子向哪个方向运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35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39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22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