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7.jpeg" ContentType="image/jpeg"/>
  <Override PartName="/ppt/media/breeze.wav" ContentType="audio/x-wav"/>
  <Override PartName="/ppt/media/camera.wav" ContentType="audio/x-wav"/>
  <Override PartName="/ppt/media/click.wav" ContentType="audio/x-wav"/>
  <Override PartName="/ppt/media/image14.png" ContentType="image/png"/>
  <Override PartName="/ppt/media/image10.jpeg" ContentType="image/jpeg"/>
  <Override PartName="/ppt/media/image13.jpeg" ContentType="image/jpeg"/>
  <Override PartName="/ppt/media/image12.png" ContentType="image/png"/>
  <Override PartName="/ppt/media/image23.jpeg" ContentType="image/jpeg"/>
  <Override PartName="/ppt/media/explode.wav" ContentType="audio/x-wav"/>
  <Override PartName="/ppt/media/image5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5.png" ContentType="image/png"/>
  <Override PartName="/ppt/media/image8.gif" ContentType="image/gif"/>
  <Override PartName="/ppt/media/image20.jpeg" ContentType="image/jpeg"/>
  <Override PartName="/ppt/media/image1.jpeg" ContentType="image/jpeg"/>
  <Override PartName="/ppt/media/image19.gif" ContentType="image/gif"/>
  <Override PartName="/ppt/media/image24.jpeg" ContentType="image/jpeg"/>
  <Override PartName="/ppt/media/image30.jpeg" ContentType="image/jpeg"/>
  <Override PartName="/ppt/media/drumroll.wav" ContentType="audio/x-wav"/>
  <Override PartName="/ppt/media/image26.jpeg" ContentType="image/jpeg"/>
  <Override PartName="/ppt/media/image22.jpeg" ContentType="image/jpeg"/>
  <Override PartName="/ppt/media/cashreg.wav" ContentType="audio/x-wav"/>
  <Override PartName="/ppt/media/image27.jpeg" ContentType="image/jpeg"/>
  <Override PartName="/ppt/media/image28.jpeg" ContentType="image/jpeg"/>
  <Override PartName="/ppt/media/image31.wmf" ContentType="image/x-wmf"/>
  <Override PartName="/ppt/media/image7.jpeg" ContentType="image/jpeg"/>
  <Override PartName="/ppt/media/image3.jpeg" ContentType="image/jpeg"/>
  <Override PartName="/ppt/media/voltage.wav" ContentType="audio/x-wav"/>
  <Override PartName="/ppt/media/image25.png" ContentType="image/png"/>
  <Override PartName="/ppt/media/suction.wav" ContentType="audio/x-wav"/>
  <Override PartName="/ppt/media/MS900097487%5B2%5D.wav" ContentType="audio/x-wav"/>
  <Override PartName="/ppt/media/image29.jpeg" ContentType="image/jpeg"/>
  <Override PartName="/ppt/media/image2.jpeg" ContentType="image/jpeg"/>
  <Override PartName="/ppt/media/push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image4.jpeg" ContentType="image/jpeg"/>
  <Override PartName="/ppt/media/%E7%9C%8B%E7%AD%94%E6%A1%88.wav" ContentType="audio/x-wav"/>
  <Override PartName="/ppt/media/image16.jpeg" ContentType="image/jpeg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094-A99B-4148-A80D-62C0363E5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24C-61D6-4DBB-8026-FA7065BF0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7ACB-98AF-4748-B4BA-5F741BCD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03FE-C6DE-45A1-838F-2D59E0F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0FB4-3931-4FA4-9844-515B93E0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B522-5159-44D0-9E83-66B3A79A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B1A4-DA8B-46A8-940D-11761FA5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CDD-8312-45AE-9813-24B34A0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88D8-0FFC-44A3-8BDE-171E2F2C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4918-4EB1-426C-9AA9-90B7789C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CB5A-51FC-43CD-B4CF-B39D8F87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B612-F2D9-4E17-B363-512B3C2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1388-CBCC-4565-ACEE-6994E1F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1456-3A88-4016-A063-57826DF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9E7A-C00D-4C11-BAD4-021764B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5FF-07C7-48C5-84EF-C178699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8ED9-C8AA-4307-8EB5-2E4B0B3D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9F4-0B02-4E38-A2D9-0890F112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C02-6D34-4992-97DE-DB47351F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9034-F8A9-4D01-BE66-EA31931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F442-93CD-4C07-97BD-4F8935D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E926-A893-4A8E-BE8D-F0B1FAE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A2CD-56BB-4BB4-993F-8670C7A3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5F57-BA35-4162-B826-D19D9F2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0A73-8752-4D33-A81F-CEE98C7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8B75-C3D3-4BB5-A180-B26A01C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3DD-9800-4A2A-9F73-6846D127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ED80-D2B9-4716-BE0E-108A412B81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audio" Target="../media/suction.wav"/><Relationship Id="rId5" Type="http://schemas.openxmlformats.org/officeDocument/2006/relationships/audio" Target="../media/voltage.wav"/><Relationship Id="rId6" Type="http://schemas.openxmlformats.org/officeDocument/2006/relationships/audio" Target="../media/click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30475;&#31572;&#26696;.wav"/><Relationship Id="rId3" Type="http://schemas.openxmlformats.org/officeDocument/2006/relationships/audio" Target="../media/&#30475;&#31572;&#26696;.wav"/><Relationship Id="rId4" Type="http://schemas.openxmlformats.org/officeDocument/2006/relationships/audio" Target="../media/&#30475;&#31572;&#26696;.wav"/><Relationship Id="rId5" Type="http://schemas.openxmlformats.org/officeDocument/2006/relationships/audio" Target="../media/&#30475;&#31572;&#26696;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S900097487%5B2%5D.wav"/><Relationship Id="rId2" Type="http://schemas.openxmlformats.org/officeDocument/2006/relationships/audio" Target="../media/MS900097487%5B2%5D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&#30475;&#31572;&#26696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30475;&#31572;&#26696;.wav"/><Relationship Id="rId2" Type="http://schemas.openxmlformats.org/officeDocument/2006/relationships/audio" Target="../media/&#30475;&#31572;&#26696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audio" Target="../media/&#30475;&#31572;&#26696;.wav"/><Relationship Id="rId5" Type="http://schemas.openxmlformats.org/officeDocument/2006/relationships/audio" Target="../media/&#30475;&#31572;&#26696;.wav"/><Relationship Id="rId6" Type="http://schemas.openxmlformats.org/officeDocument/2006/relationships/audio" Target="../media/&#30475;&#31572;&#26696;.wav"/><Relationship Id="rId7" Type="http://schemas.openxmlformats.org/officeDocument/2006/relationships/audio" Target="../media/&#30475;&#31572;&#26696;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MS900097487%5B2%5D.wav"/><Relationship Id="rId3" Type="http://schemas.openxmlformats.org/officeDocument/2006/relationships/audio" Target="../media/MS900097487%5B2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611280" y="1700280"/>
            <a:ext cx="785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土壤里有什么？</a:t>
            </a:r>
            <a:endParaRPr b="1" lang="en-US" sz="6000" spc="-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162520" y="5877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蝼蛄"/>
          <p:cNvPicPr/>
          <p:nvPr/>
        </p:nvPicPr>
        <p:blipFill>
          <a:blip r:embed="rId1"/>
          <a:stretch/>
        </p:blipFill>
        <p:spPr>
          <a:xfrm>
            <a:off x="250920" y="476280"/>
            <a:ext cx="43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红脚绿金龟子（幼虫）"/>
          <p:cNvPicPr/>
          <p:nvPr/>
        </p:nvPicPr>
        <p:blipFill>
          <a:blip r:embed="rId2"/>
          <a:stretch/>
        </p:blipFill>
        <p:spPr>
          <a:xfrm>
            <a:off x="250920" y="3284640"/>
            <a:ext cx="4319640" cy="30956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/>
          <p:cNvSpPr/>
          <p:nvPr/>
        </p:nvSpPr>
        <p:spPr>
          <a:xfrm>
            <a:off x="4859280" y="1557360"/>
            <a:ext cx="1513080" cy="503280"/>
          </a:xfrm>
          <a:prstGeom prst="leftArrow">
            <a:avLst>
              <a:gd name="adj1" fmla="val 50000"/>
              <a:gd name="adj2" fmla="val 751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5"/>
          <p:cNvSpPr/>
          <p:nvPr/>
        </p:nvSpPr>
        <p:spPr>
          <a:xfrm rot="19349400">
            <a:off x="4355640" y="2997000"/>
            <a:ext cx="2030400" cy="649080"/>
          </a:xfrm>
          <a:prstGeom prst="leftArrow">
            <a:avLst>
              <a:gd name="adj1" fmla="val 50000"/>
              <a:gd name="adj2" fmla="val 7818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977160" y="476280"/>
            <a:ext cx="45864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178760" y="16542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143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77080" y="33336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土壤中能发现许多不同种类的昆虫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2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dur="indefinite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dur="indefinite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972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/>
          <p:cNvSpPr/>
          <p:nvPr/>
        </p:nvSpPr>
        <p:spPr>
          <a:xfrm>
            <a:off x="4643280" y="260280"/>
            <a:ext cx="4249800" cy="5761080"/>
          </a:xfrm>
          <a:prstGeom prst="wedgeEllipseCallout">
            <a:avLst>
              <a:gd name="adj1" fmla="val -108310"/>
              <a:gd name="adj2" fmla="val 841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382280" y="692280"/>
            <a:ext cx="3837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穴居动物，如老鼠在土壤中筑窝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61_47498"/>
          <p:cNvPicPr/>
          <p:nvPr/>
        </p:nvPicPr>
        <p:blipFill>
          <a:blip r:embed="rId1"/>
          <a:stretch/>
        </p:blipFill>
        <p:spPr>
          <a:xfrm>
            <a:off x="1014480" y="189000"/>
            <a:ext cx="6912000" cy="468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2615760" y="5300640"/>
            <a:ext cx="4204080" cy="76428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蚂蚁是在土壤中穴居的昆虫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600720" cy="2624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丽金龟子"/>
          <p:cNvPicPr/>
          <p:nvPr/>
        </p:nvPicPr>
        <p:blipFill>
          <a:blip r:embed="rId3"/>
          <a:stretch/>
        </p:blipFill>
        <p:spPr>
          <a:xfrm>
            <a:off x="324000" y="3645000"/>
            <a:ext cx="3024000" cy="2808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581280" y="419112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蜗牛和甲虫靠腐烂的生物为生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无标题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043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52280" y="1522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楷体_GB2312"/>
              </a:rPr>
              <a:t>蚯蚓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能穿破坚硬、紧密的土壤，使植物的根更容易伸展，使空气和水更容易进入土壤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152280" y="152280"/>
            <a:ext cx="2667240" cy="1371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讨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 rot="20856600">
            <a:off x="685800" y="8377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土壤中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腐殖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的来源和作用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90920" y="45720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为土壤动物提供食物，为植物提供养分，增强土壤肥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666880" y="3124080"/>
            <a:ext cx="52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植物的根、茎、叶及生物的排泄物和死亡的生物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238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523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219320" y="33526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144792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空气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023000" y="1905120"/>
            <a:ext cx="26190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植物根呼吸氧气的来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82800" y="266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水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40560" y="2819520"/>
            <a:ext cx="2375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植物生长必要的条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80880" y="762120"/>
            <a:ext cx="73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土壤中的非生命物质的作用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219320" y="3962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腐殖质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00400" y="3733920"/>
            <a:ext cx="53341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276720" y="3809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土壤动物提供食物，为植物提供养分，增强土壤肥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11">
            <a:hlinkClick r:id="rId1" action="ppaction://hlinksldjump"/>
          </p:cNvPr>
          <p:cNvSpPr/>
          <p:nvPr/>
        </p:nvSpPr>
        <p:spPr>
          <a:xfrm>
            <a:off x="395280" y="6308640"/>
            <a:ext cx="504720" cy="358920"/>
          </a:xfrm>
          <a:custGeom>
            <a:avLst/>
            <a:gdLst>
              <a:gd name="textAreaLeft" fmla="*/ 88200 w 504720"/>
              <a:gd name="textAreaRight" fmla="*/ 366120 w 5047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8640" y="15235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黑体"/>
              </a:rPr>
              <a:t>土壤的成分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2590920"/>
          <a:ext cx="7777080" cy="4064040"/>
        </p:xfrm>
        <a:graphic>
          <a:graphicData uri="http://schemas.openxmlformats.org/drawingml/2006/table">
            <a:tbl>
              <a:tblPr/>
              <a:tblGrid>
                <a:gridCol w="2736720"/>
                <a:gridCol w="50403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  </a:t>
                      </a: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观察途径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我在土壤里看到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肉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放大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倒入水中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21"/>
          <p:cNvSpPr/>
          <p:nvPr/>
        </p:nvSpPr>
        <p:spPr>
          <a:xfrm>
            <a:off x="3657600" y="37339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土壤湿润、有捻不碎的小石子、草根和小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657600" y="472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有小石子、大小不同的沙粒、粉末状的微粒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5715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有气泡冒出、土壤按颗粒大小沉积下来，越到底下颗粒越粗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WordArt 24"/>
          <p:cNvSpPr txBox="1"/>
          <p:nvPr/>
        </p:nvSpPr>
        <p:spPr>
          <a:xfrm>
            <a:off x="2514600" y="7621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这堂课你有什么收获呢？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0" y="533520"/>
            <a:ext cx="26668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小结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3"/>
          <p:cNvSpPr txBox="1"/>
          <p:nvPr/>
        </p:nvSpPr>
        <p:spPr>
          <a:xfrm>
            <a:off x="2971800" y="106668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这堂课你有什么收获呢？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78720" y="441972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254120" y="3809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15080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23828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空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006800" y="3276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150800" y="27432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578720" y="525780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653200" y="4648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非生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612880" y="281952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生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21720" y="5562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矿物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221720" y="502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腐殖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19320" y="3581280"/>
            <a:ext cx="10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土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组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3745080" y="2490840"/>
            <a:ext cx="174600" cy="1143000"/>
          </a:xfrm>
          <a:custGeom>
            <a:avLst/>
            <a:gdLst>
              <a:gd name="textAreaLeft" fmla="*/ 111600 w 174600"/>
              <a:gd name="textAreaRight" fmla="*/ 174960 w 174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3832200" y="4114800"/>
            <a:ext cx="174600" cy="1752480"/>
          </a:xfrm>
          <a:custGeom>
            <a:avLst/>
            <a:gdLst>
              <a:gd name="textAreaLeft" fmla="*/ 111600 w 174600"/>
              <a:gd name="textAreaRight" fmla="*/ 174960 w 174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7578720" y="380988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351160" y="3200400"/>
            <a:ext cx="174600" cy="1752480"/>
          </a:xfrm>
          <a:custGeom>
            <a:avLst/>
            <a:gdLst>
              <a:gd name="textAreaLeft" fmla="*/ 111600 w 174600"/>
              <a:gd name="textAreaRight" fmla="*/ 174960 w 174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304920" y="914400"/>
            <a:ext cx="26668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小结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8"/>
          <p:cNvSpPr/>
          <p:nvPr/>
        </p:nvSpPr>
        <p:spPr>
          <a:xfrm>
            <a:off x="324000" y="1916280"/>
            <a:ext cx="867564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是由         、           、       、              、        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等物质组成的混合物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根据颗粒大小可以把土壤的微粒分类，从大到小分别是              、             、            和            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把土壤放入水中，发现有气泡冒出，说明土壤中有          。土壤中还含有植物生长所需要的                 和               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124000" y="256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334800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364000" y="2565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65964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195640" y="45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3635280" y="4581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148360" y="45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766764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4788000" y="59500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588000" y="59500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86736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808164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33172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44100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547956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788508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331884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小石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102528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269064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397656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54180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786564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5119200" y="54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8456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盐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62120" y="1905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岩石在大气、水、动植物的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长期联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用下，发生变化，这种现象叫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952880" y="396252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风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0"/>
          <p:cNvSpPr/>
          <p:nvPr/>
        </p:nvSpPr>
        <p:spPr>
          <a:xfrm>
            <a:off x="0" y="1268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把土壤拿来烧会闻到一股焦臭味，这是因为土壤中有（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水分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最大的土壤颗粒是（         ）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因为土壤中有（        ），所以很多小动物能生活在土壤里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蚯蚓的主要作用是（        ）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给植物提供盐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使植物的根更容易伸展使空气和水更容易进入土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分解动物、植物残留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8034480" y="14842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3635640" y="2565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922840" y="3141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3348000" y="260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427640" y="414972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2770200" y="206064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可以用来烧制砖块的是（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颗粒直径大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毫米的是（   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810480" y="2205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163280" y="3357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8" descr="土壤"/>
          <p:cNvPicPr/>
          <p:nvPr/>
        </p:nvPicPr>
        <p:blipFill>
          <a:blip r:embed="rId1"/>
          <a:stretch/>
        </p:blipFill>
        <p:spPr>
          <a:xfrm>
            <a:off x="324000" y="3789360"/>
            <a:ext cx="1692000" cy="2392200"/>
          </a:xfrm>
          <a:prstGeom prst="rect">
            <a:avLst/>
          </a:prstGeom>
          <a:ln w="0">
            <a:noFill/>
          </a:ln>
        </p:spPr>
      </p:pic>
      <p:sp>
        <p:nvSpPr>
          <p:cNvPr id="263" name="Line 9"/>
          <p:cNvSpPr/>
          <p:nvPr/>
        </p:nvSpPr>
        <p:spPr>
          <a:xfrm>
            <a:off x="1908000" y="4724280"/>
            <a:ext cx="1727280" cy="7308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1908000" y="5013360"/>
            <a:ext cx="1727280" cy="216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908000" y="5229360"/>
            <a:ext cx="1727280" cy="576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1835280" y="5805360"/>
            <a:ext cx="1800000" cy="50328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3635280" y="458136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3635280" y="508464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35280" y="558792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635280" y="609120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84760" y="45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3884760" y="5084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3833280" y="558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388476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742200" y="1844640"/>
            <a:ext cx="171684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是由水、空气、沙、黏土腐殖质等混合成的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不同的地方，土壤的颜色是不同的。（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腐殖质多的土壤，小动物也会比较少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每立方米的土壤中，生活着几十亿个生物体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最小的颗粒是黏土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在水中搅拌后沉淀可以按颗粒大小分成几层。（ 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的腐殖质和盐分，是植物生长所需营养元素。（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92504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05160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73486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4227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490068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792504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27672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821232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140360" y="5229360"/>
            <a:ext cx="43192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140360" y="4653000"/>
            <a:ext cx="287964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140360" y="4149720"/>
            <a:ext cx="251928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067280" y="3573360"/>
            <a:ext cx="2305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067280" y="3068640"/>
            <a:ext cx="2376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067280" y="2492280"/>
            <a:ext cx="3600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84360" y="234936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蚂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蚯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蜗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老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细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植物的茎、根、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067280" y="2421000"/>
            <a:ext cx="4608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分解动物、植物的残留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在土壤中群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在土壤中筑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靠腐烂的生物为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是腐殖质的主要来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使植物的根更容易伸展使空气水更容易进入泥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1619280" y="2637000"/>
            <a:ext cx="2448000" cy="57600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1547640" y="3357720"/>
            <a:ext cx="2592720" cy="208728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1547640" y="4005360"/>
            <a:ext cx="2664000" cy="36036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6"/>
          <p:cNvSpPr/>
          <p:nvPr/>
        </p:nvSpPr>
        <p:spPr>
          <a:xfrm flipV="1">
            <a:off x="1547640" y="3789000"/>
            <a:ext cx="2519640" cy="86364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1476360" y="2707920"/>
            <a:ext cx="2590920" cy="252108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18"/>
          <p:cNvSpPr/>
          <p:nvPr/>
        </p:nvSpPr>
        <p:spPr>
          <a:xfrm flipV="1">
            <a:off x="3564000" y="4869000"/>
            <a:ext cx="576360" cy="100800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活动小人"/>
          <p:cNvPicPr/>
          <p:nvPr/>
        </p:nvPicPr>
        <p:blipFill>
          <a:blip r:embed="rId1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156200" y="13302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29528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</a:rPr>
              <a:t>土壤</a:t>
            </a:r>
            <a:r>
              <a:rPr b="0" lang="zh-CN" sz="8000" spc="-1" strike="noStrike">
                <a:solidFill>
                  <a:srgbClr val="00cc00"/>
                </a:solidFill>
                <a:latin typeface="Arial"/>
              </a:rPr>
              <a:t>是地球上最有价值的资源！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17409[1]"/>
          <p:cNvPicPr/>
          <p:nvPr/>
        </p:nvPicPr>
        <p:blipFill>
          <a:blip r:embed="rId1"/>
          <a:stretch/>
        </p:blipFill>
        <p:spPr>
          <a:xfrm>
            <a:off x="0" y="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种植果木的红壤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大兴安岭"/>
          <p:cNvPicPr/>
          <p:nvPr/>
        </p:nvPicPr>
        <p:blipFill>
          <a:blip r:embed="rId3"/>
          <a:stretch/>
        </p:blipFill>
        <p:spPr>
          <a:xfrm>
            <a:off x="3809880" y="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草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3657600" y="5877000"/>
            <a:ext cx="2498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过度放牧</a:t>
            </a:r>
            <a:endParaRPr b="0" lang="en-US" sz="1800" spc="1" strike="noStrike">
              <a:ln w="12600">
                <a:solidFill>
                  <a:srgbClr val="ff99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2003070413443701442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4932360" y="5445000"/>
            <a:ext cx="4032360" cy="108108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WordArt 4"/>
          <p:cNvSpPr txBox="1"/>
          <p:nvPr/>
        </p:nvSpPr>
        <p:spPr>
          <a:xfrm>
            <a:off x="5364000" y="5589720"/>
            <a:ext cx="3240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彩云"/>
              </a:rPr>
              <a:t>乱倒垃圾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310" name="Picture 5" descr="垃圾污染1"/>
          <p:cNvPicPr/>
          <p:nvPr/>
        </p:nvPicPr>
        <p:blipFill>
          <a:blip r:embed="rId4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11" name="WordArt 6"/>
          <p:cNvSpPr txBox="1"/>
          <p:nvPr/>
        </p:nvSpPr>
        <p:spPr>
          <a:xfrm>
            <a:off x="2771640" y="11592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彩云"/>
              </a:rPr>
              <a:t>污染环境</a:t>
            </a:r>
            <a:endParaRPr b="0" lang="en-US" sz="1800" spc="1" strike="noStrike">
              <a:ln w="9360">
                <a:solidFill>
                  <a:srgbClr val="ff99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乱砍滥伐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3"/>
          <p:cNvSpPr txBox="1"/>
          <p:nvPr/>
        </p:nvSpPr>
        <p:spPr>
          <a:xfrm>
            <a:off x="468360" y="404640"/>
            <a:ext cx="3865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乱砍滥伐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黄土高原水土流失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185280" y="6033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黄土高原水土流失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14400" y="4648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岩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0" y="4267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风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828800" y="48769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290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岩石破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952880" y="487692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292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继续风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62940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小石子和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9" descr="图片11"/>
          <p:cNvPicPr/>
          <p:nvPr/>
        </p:nvPicPr>
        <p:blipFill>
          <a:blip r:embed="rId1"/>
          <a:stretch/>
        </p:blipFill>
        <p:spPr>
          <a:xfrm>
            <a:off x="380880" y="11430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图片12pg"/>
          <p:cNvPicPr/>
          <p:nvPr/>
        </p:nvPicPr>
        <p:blipFill>
          <a:blip r:embed="rId2"/>
          <a:stretch/>
        </p:blipFill>
        <p:spPr>
          <a:xfrm>
            <a:off x="3352680" y="114300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图片13jpg"/>
          <p:cNvPicPr/>
          <p:nvPr/>
        </p:nvPicPr>
        <p:blipFill>
          <a:blip r:embed="rId3"/>
          <a:stretch/>
        </p:blipFill>
        <p:spPr>
          <a:xfrm>
            <a:off x="6324480" y="114300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2"/>
          <p:cNvSpPr/>
          <p:nvPr/>
        </p:nvSpPr>
        <p:spPr>
          <a:xfrm>
            <a:off x="2895480" y="1828800"/>
            <a:ext cx="609840" cy="533520"/>
          </a:xfrm>
          <a:prstGeom prst="rightArrow">
            <a:avLst>
              <a:gd name="adj1" fmla="val 50000"/>
              <a:gd name="adj2" fmla="val 2857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5867280" y="1752480"/>
            <a:ext cx="609840" cy="533520"/>
          </a:xfrm>
          <a:prstGeom prst="rightArrow">
            <a:avLst>
              <a:gd name="adj1" fmla="val 50000"/>
              <a:gd name="adj2" fmla="val 2857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土地沙化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西北沙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360540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Comic Sans MS"/>
              </a:rPr>
              <a:t>西北沙漠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3301920" y="310824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1066680" y="1066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说一说：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新魏"/>
              </a:rPr>
              <a:t>我们人类应该怎样保护一切生物赖以生存的土壤呢？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EACH_CH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62085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50920" y="476280"/>
            <a:ext cx="533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a886e0"/>
                </a:solidFill>
                <a:latin typeface="黑体"/>
                <a:ea typeface="黑体"/>
              </a:rPr>
              <a:t>保护大自然就是保护人类赖以生存的环境，人人都要关心，人人都要尽力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Garamond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D932-9F9E-4F29-AA17-895A3DD3E0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4"/>
          <p:cNvSpPr/>
          <p:nvPr/>
        </p:nvSpPr>
        <p:spPr>
          <a:xfrm>
            <a:off x="4341960" y="23875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image002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 rot="184200">
            <a:off x="5722560" y="5016600"/>
            <a:ext cx="2879640" cy="1368360"/>
          </a:xfrm>
          <a:prstGeom prst="wedgeEllipseCallout">
            <a:avLst>
              <a:gd name="adj1" fmla="val -121499"/>
              <a:gd name="adj2" fmla="val -203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724360" y="189000"/>
            <a:ext cx="2880000" cy="1224000"/>
          </a:xfrm>
          <a:prstGeom prst="wedgeEllipseCallout">
            <a:avLst>
              <a:gd name="adj1" fmla="val -96527"/>
              <a:gd name="adj2" fmla="val 162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"/>
          <p:cNvSpPr/>
          <p:nvPr/>
        </p:nvSpPr>
        <p:spPr>
          <a:xfrm rot="462000">
            <a:off x="5795640" y="3499920"/>
            <a:ext cx="2870280" cy="1233720"/>
          </a:xfrm>
          <a:prstGeom prst="wedgeEllipseCallout">
            <a:avLst>
              <a:gd name="adj1" fmla="val -143189"/>
              <a:gd name="adj2" fmla="val -6499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148360" y="1557360"/>
            <a:ext cx="3529080" cy="1582560"/>
          </a:xfrm>
          <a:prstGeom prst="wedgeEllipseCallout">
            <a:avLst>
              <a:gd name="adj1" fmla="val -114999"/>
              <a:gd name="adj2" fmla="val -508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56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枯枝落叶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156360" y="393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亚土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12000" y="551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岩石碎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443640" y="1989000"/>
            <a:ext cx="16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72436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有腐殖质的表土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380880"/>
          <a:ext cx="9144000" cy="5413320"/>
        </p:xfrm>
        <a:graphic>
          <a:graphicData uri="http://schemas.openxmlformats.org/drawingml/2006/table">
            <a:tbl>
              <a:tblPr/>
              <a:tblGrid>
                <a:gridCol w="1828800"/>
                <a:gridCol w="7315200"/>
              </a:tblGrid>
              <a:tr h="1082520"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 </a:t>
                      </a: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寻找土壤的成分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方法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我在土壤里看到的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肉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Garamond"/>
                        </a:rPr>
                        <a:t>  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放大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Garamond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9"/>
          <p:cNvSpPr/>
          <p:nvPr/>
        </p:nvSpPr>
        <p:spPr>
          <a:xfrm>
            <a:off x="19051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土壤湿润、有捻不碎的小石子、 草根和小虫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2575080" y="-122400"/>
            <a:ext cx="4435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057400" y="4495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小石子、大小不同的沙粒、粉末状的微粒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、始终要仔细观察，记录下每一步骤看到的现象。阅读此资料后开始动手操作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7621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把小土块放入水中，你看到了什么现象？说明土壤里有什么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1752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将土块搅动后静置一段时间， 观察静置后的水杯中的情况，水里有什么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3048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0" y="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实验步骤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144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土块要轻放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搅拌要彻底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0" y="480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静置时间要长。观察时，杯子也应保持静置不动的状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1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731520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535520" y="340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40200" y="4390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39152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19320" y="533520"/>
            <a:ext cx="1523880" cy="533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752480" y="609480"/>
            <a:ext cx="45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73360" y="1905120"/>
            <a:ext cx="1642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土壤中有什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10" descr="upload__627569e6_115b7821a75__7ffe_00000561"/>
          <p:cNvPicPr/>
          <p:nvPr/>
        </p:nvPicPr>
        <p:blipFill>
          <a:blip r:embed="rId2"/>
          <a:stretch/>
        </p:blipFill>
        <p:spPr>
          <a:xfrm>
            <a:off x="1219320" y="380880"/>
            <a:ext cx="761760" cy="17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4402D"/>
          <p:cNvPicPr/>
          <p:nvPr/>
        </p:nvPicPr>
        <p:blipFill>
          <a:blip r:embed="rId3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Line 12"/>
          <p:cNvSpPr/>
          <p:nvPr/>
        </p:nvSpPr>
        <p:spPr>
          <a:xfrm>
            <a:off x="4038480" y="2666880"/>
            <a:ext cx="3276720" cy="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3886200" y="3733920"/>
            <a:ext cx="3429000" cy="91440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3657600" y="4724280"/>
            <a:ext cx="3733920" cy="15264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505320" y="5486400"/>
            <a:ext cx="3809880" cy="15228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挖土小人"/>
          <p:cNvPicPr/>
          <p:nvPr/>
        </p:nvPicPr>
        <p:blipFill>
          <a:blip r:embed="rId1"/>
          <a:stretch/>
        </p:blipFill>
        <p:spPr>
          <a:xfrm>
            <a:off x="4500720" y="3408480"/>
            <a:ext cx="4643280" cy="34495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152280" y="533520"/>
            <a:ext cx="8507520" cy="41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寻找土壤中的生命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S900097487%5B2%5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zhenyuan.sdedu.net/Resource/GZ/GZDL/DGJC/XDLS/U4/tbjx0217zw_04_0006_1.jpg"/>
          <p:cNvPicPr/>
          <p:nvPr/>
        </p:nvPicPr>
        <p:blipFill>
          <a:blip r:embed="rId1"/>
          <a:stretch/>
        </p:blipFill>
        <p:spPr>
          <a:xfrm>
            <a:off x="0" y="317520"/>
            <a:ext cx="5940360" cy="65404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5867280" y="914400"/>
            <a:ext cx="2741760" cy="4967280"/>
          </a:xfrm>
          <a:prstGeom prst="wedgeRectCallout">
            <a:avLst>
              <a:gd name="adj1" fmla="val -166736"/>
              <a:gd name="adj2" fmla="val 278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212080" y="981000"/>
            <a:ext cx="310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楷体_GB2312"/>
              </a:rPr>
              <a:t>植物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的根穿过土壤并占有适当的位置 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5:09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47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