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57D5-53D9-4336-9DB3-7BFF49269B9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0171-BBAB-4463-84CB-5338935CDFA6}" type="slidenum">
              <a:rPr b="1" lang="zh-CN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E79-E2FD-4863-B86B-223C9C88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CDE-70E7-45B7-81F9-7238EC56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847-F131-4F25-9756-2B6D9808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4CF-4252-4698-BDD7-D2D74DAA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4A71-23D7-4D6B-A13B-346F0CAB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BB0E-8742-4555-A9CD-DEBFED9D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88E-5ACC-418D-9CB6-C105C7F7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B840-793F-4129-889C-5C751478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9BE4-E97E-4EAD-AEA2-7FDC6955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23AA-A9A8-4B60-BCC0-EA0829CE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ADC8-432A-43C4-921B-7DA4D280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EFB-27ED-4C08-AFA6-76B7AD8A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EDC3-5642-4AA1-A9F3-E82BD384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BAAD-7958-4F1A-94C7-F0FCEC45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8288-0A26-4B72-9D43-34B13036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41BC-BAF9-4E71-9D4F-2CBAD185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FCC5-232E-439C-87AF-826A8C9C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AD2-8882-4710-88C9-45FF417E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AF9-3B87-4BD8-8AC3-16F81198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000-9AD0-40E3-A463-259967FA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03E-FF9E-47CD-BFD5-A9A8AA0E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9AB-875C-4401-A511-47E8FEA3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794-FDFF-4593-996A-244D08D4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0B2-BF8B-4352-8AC1-5C8EBFA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32FA-349A-4316-93DF-30681395B5F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7277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A46C-D3BA-4144-AC74-F8412BA08162}" type="slidenum">
              <a:rPr b="1" lang="en-US" sz="14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920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72776"/>
                </a:solidFill>
                <a:latin typeface="微软雅黑"/>
                <a:ea typeface="微软雅黑"/>
              </a:rPr>
              <a:t>探索土地被侵蚀的因素</a:t>
            </a:r>
            <a:endParaRPr b="0" lang="en-US" sz="6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681560" y="5877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d59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1d1d5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1d1d59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9dfcff959b94cb79f5146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635280" y="3500280"/>
            <a:ext cx="5329440" cy="3168720"/>
          </a:xfrm>
          <a:prstGeom prst="rect">
            <a:avLst/>
          </a:prstGeom>
          <a:solidFill>
            <a:srgbClr val="f3f1e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entury Gothic"/>
              </a:rPr>
              <a:t>思考：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entury Gothic"/>
              </a:rPr>
              <a:t>由此我们可以推测，在自然界中什么样的土地容易发生侵蚀？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entury Gothic"/>
              </a:rPr>
              <a:t>侵蚀会给我们带来什么？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entury Gothic"/>
              </a:rPr>
              <a:t>我们还应该怎么办？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我们怎么办？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15" name="Picture 5" descr="20094149224991"/>
          <p:cNvPicPr/>
          <p:nvPr/>
        </p:nvPicPr>
        <p:blipFill>
          <a:blip r:embed="rId1"/>
          <a:stretch/>
        </p:blipFill>
        <p:spPr>
          <a:xfrm>
            <a:off x="684360" y="1268280"/>
            <a:ext cx="77500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entury Gothic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entury Gothic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dongtai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chuangyi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gongzuo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kejian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shangwu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sucai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fengjing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jianjie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jiaoyu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lunwen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yiliao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72776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DB28-5501-4BF1-9BFF-313DE749B0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7277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72776"/>
                </a:solidFill>
                <a:latin typeface="Century Gothic"/>
              </a:rPr>
              <a:t>教学目标</a:t>
            </a:r>
            <a:endParaRPr b="1" lang="en-US" sz="3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7277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72776"/>
                </a:solidFill>
                <a:latin typeface="Century Gothic"/>
              </a:rPr>
              <a:t>交流影响土地被侵蚀的因素的研究计划；</a:t>
            </a:r>
            <a:endParaRPr b="1" lang="en-US" sz="3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7277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72776"/>
                </a:solidFill>
                <a:latin typeface="Century Gothic"/>
              </a:rPr>
              <a:t>经历影响土地被侵蚀的因素的研究实验；</a:t>
            </a:r>
            <a:endParaRPr b="1" lang="en-US" sz="3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7277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72776"/>
                </a:solidFill>
                <a:latin typeface="Century Gothic"/>
              </a:rPr>
              <a:t>说出并解释自然界中什么样的土地最易被侵蚀，提出我们的保护土地资源的建议。</a:t>
            </a:r>
            <a:endParaRPr b="1" lang="en-US" sz="3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交流、讨论实验方案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雨水的大小对土地侵蚀的影响；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坡度的大小对土地侵蚀的影响；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有无植被对土地侵蚀的影响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36"/>
          <p:cNvSpPr/>
          <p:nvPr/>
        </p:nvSpPr>
        <p:spPr>
          <a:xfrm>
            <a:off x="6012000" y="2708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" name="Rectangle 40"/>
          <p:cNvSpPr/>
          <p:nvPr/>
        </p:nvSpPr>
        <p:spPr>
          <a:xfrm>
            <a:off x="2556000" y="1773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2627280" y="1844640"/>
            <a:ext cx="28908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509760"/>
          </a:xfrm>
          <a:prstGeom prst="rect">
            <a:avLst/>
          </a:prstGeom>
          <a:solidFill>
            <a:srgbClr val="af6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作业：“雨如何影响土地”点评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1197000"/>
          <a:ext cx="8229600" cy="501336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我们的问题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72776"/>
                          </a:solidFill>
                          <a:latin typeface="Arial"/>
                          <a:ea typeface="宋体"/>
                        </a:rPr>
                        <a:t>雨水是如何侵蚀土地的？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我们的猜测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272776"/>
                          </a:solidFill>
                          <a:latin typeface="Arial"/>
                          <a:ea typeface="宋体"/>
                        </a:rPr>
                        <a:t>雨水越大对土地侵蚀会越严重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相同条件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72776"/>
                          </a:solidFill>
                          <a:latin typeface="Arial"/>
                          <a:ea typeface="宋体"/>
                        </a:rPr>
                        <a:t>同样的坡度、土质和植被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不同条件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72776"/>
                          </a:solidFill>
                          <a:latin typeface="Arial"/>
                          <a:ea typeface="宋体"/>
                        </a:rPr>
                        <a:t>雨水的大小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准备材料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72776"/>
                          </a:solidFill>
                          <a:latin typeface="Arial"/>
                          <a:ea typeface="宋体"/>
                        </a:rPr>
                        <a:t>水槽、土、水、喷水器、水盆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试验方法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272776"/>
                          </a:solidFill>
                          <a:latin typeface="Arial"/>
                          <a:ea typeface="宋体"/>
                        </a:rPr>
                        <a:t>实验组和对照组的“山坡”是同样的坡度、土质和植被，但在实验组下大雨，在对照组下小雨。</a:t>
                      </a:r>
                      <a:endParaRPr b="1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</a:tr>
              <a:tr h="119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我们的发现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272776"/>
                          </a:solidFill>
                          <a:latin typeface="Arial"/>
                          <a:ea typeface="宋体"/>
                        </a:rPr>
                        <a:t>雨水降落时，就开始了对土地侵蚀。它打散并溅起土壤颗粒，同时形成径流，带走土壤颗粒。</a:t>
                      </a:r>
                      <a:endParaRPr b="1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</a:tr>
              <a:tr h="82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我们的解释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72776"/>
                          </a:solidFill>
                          <a:latin typeface="Arial"/>
                          <a:ea typeface="宋体"/>
                        </a:rPr>
                        <a:t>雨水会侵蚀土地，并降雨越大，侵蚀就越严重。</a:t>
                      </a:r>
                      <a:endParaRPr b="1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f3f1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728028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什么样的土地容易被侵蚀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42560" y="2924280"/>
            <a:ext cx="576108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entury Gothic"/>
              </a:rPr>
              <a:t>1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、巩固、掌握对比实验、研究计划的写法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entury Gothic"/>
              </a:rPr>
              <a:t>2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、交流、合作，反思、完善自己的实验计划（方案）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entury Gothic"/>
              </a:rPr>
              <a:t>3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、用实验结果，探测自然界的情况，洪水及灾害，以及防治的措施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一、交流、讨论我们的方案（上）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1719360"/>
            <a:ext cx="8893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我们小组的研究计划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研究题目：土地上有无植物覆盖对侵蚀的影响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我们的推测：如果有植物覆盖，土地受侵蚀的程度小；如果无植物覆盖，土地受侵蚀的程度大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实验方法：用对比实验，设实验组和对照组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器材：</a:t>
            </a:r>
            <a:r>
              <a:rPr b="1" lang="zh-CN" sz="3200" spc="-1" strike="noStrike">
                <a:solidFill>
                  <a:srgbClr val="990033"/>
                </a:solidFill>
                <a:latin typeface="Century Gothic"/>
              </a:rPr>
              <a:t>塑料箱（</a:t>
            </a:r>
            <a:r>
              <a:rPr b="1" lang="zh-CN" sz="3200" spc="-1" strike="noStrike">
                <a:solidFill>
                  <a:srgbClr val="3333cc"/>
                </a:solidFill>
                <a:latin typeface="Century Gothic"/>
              </a:rPr>
              <a:t>桶</a:t>
            </a:r>
            <a:r>
              <a:rPr b="1" lang="zh-CN" sz="3200" spc="-1" strike="noStrike">
                <a:solidFill>
                  <a:srgbClr val="990033"/>
                </a:solidFill>
                <a:latin typeface="Century Gothic"/>
              </a:rPr>
              <a:t>）、沙石土、植被、塑料薄膜、小铲子、降雨器（</a:t>
            </a:r>
            <a:r>
              <a:rPr b="1" lang="zh-CN" sz="3200" spc="-1" strike="noStrike">
                <a:solidFill>
                  <a:srgbClr val="3333cc"/>
                </a:solidFill>
                <a:latin typeface="Century Gothic"/>
              </a:rPr>
              <a:t>饮料瓶，在其盖子上扎一些孔</a:t>
            </a:r>
            <a:r>
              <a:rPr b="1" lang="zh-CN" sz="3200" spc="-1" strike="noStrike">
                <a:solidFill>
                  <a:srgbClr val="990033"/>
                </a:solidFill>
                <a:latin typeface="Century Gothic"/>
              </a:rPr>
              <a:t>）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一、交流、讨论我们的方案（下）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不同的条件：</a:t>
            </a:r>
            <a:r>
              <a:rPr b="1" lang="zh-CN" sz="3200" spc="-1" strike="noStrike">
                <a:solidFill>
                  <a:srgbClr val="990033"/>
                </a:solidFill>
                <a:latin typeface="Century Gothic"/>
              </a:rPr>
              <a:t>实验组土上覆盖植被，对照组的土上没有植被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相同条件：</a:t>
            </a:r>
            <a:r>
              <a:rPr b="1" lang="zh-CN" sz="3200" spc="-1" strike="noStrike">
                <a:solidFill>
                  <a:srgbClr val="990033"/>
                </a:solidFill>
                <a:latin typeface="Century Gothic"/>
              </a:rPr>
              <a:t>保持其他条件相同，如土坡的坡度（土质）不变、雨量大小等不变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实验过程：</a:t>
            </a:r>
            <a:r>
              <a:rPr b="1" lang="zh-CN" sz="3200" spc="-1" strike="noStrike">
                <a:solidFill>
                  <a:srgbClr val="990033"/>
                </a:solidFill>
                <a:latin typeface="Century Gothic"/>
              </a:rPr>
              <a:t>用相同的降雨量</a:t>
            </a: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Century Gothic"/>
              </a:rPr>
              <a:t>瓶中装同样多的水，盖上同样大小的孔，以同样的高度、角度“下雨”），</a:t>
            </a:r>
            <a:r>
              <a:rPr b="1" lang="zh-CN" sz="3200" spc="-1" strike="noStrike">
                <a:solidFill>
                  <a:srgbClr val="990033"/>
                </a:solidFill>
                <a:latin typeface="Century Gothic"/>
              </a:rPr>
              <a:t>对实验组和对照组的地面降雨，观察泥土被侵蚀（</a:t>
            </a:r>
            <a:r>
              <a:rPr b="1" lang="zh-CN" sz="3200" spc="-1" strike="noStrike">
                <a:solidFill>
                  <a:srgbClr val="3333cc"/>
                </a:solidFill>
                <a:latin typeface="Century Gothic"/>
              </a:rPr>
              <a:t>泥土流失严重</a:t>
            </a:r>
            <a:r>
              <a:rPr b="1" lang="zh-CN" sz="3200" spc="-1" strike="noStrike">
                <a:solidFill>
                  <a:srgbClr val="990033"/>
                </a:solidFill>
                <a:latin typeface="Century Gothic"/>
              </a:rPr>
              <a:t>）的程度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结论：</a:t>
            </a:r>
            <a:r>
              <a:rPr b="1" lang="zh-CN" sz="3200" spc="-1" strike="noStrike">
                <a:solidFill>
                  <a:srgbClr val="990033"/>
                </a:solidFill>
                <a:latin typeface="Century Gothic"/>
              </a:rPr>
              <a:t>有植被的土地比没有植被的土地侵蚀小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交流、讨论我们的方案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坡度的大小对土地侵蚀的影响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1187280" y="6126120"/>
            <a:ext cx="58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72776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272776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272776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272776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探索侵蚀的实验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1700280"/>
            <a:ext cx="8064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完成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影响侵蚀的因素的研究计划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》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完成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土地被侵蚀的程度和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Century Gothic"/>
              </a:rPr>
              <a:t>   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坡度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Century Gothic"/>
              </a:rPr>
              <a:t>       </a:t>
            </a: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因素有关的实验记录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》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通过研究我们知道，土地被侵蚀的程度跟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Century Gothic"/>
              </a:rPr>
              <a:t>            </a:t>
            </a: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、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Century Gothic"/>
              </a:rPr>
              <a:t>          </a:t>
            </a: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和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Century Gothic"/>
              </a:rPr>
              <a:t>            </a:t>
            </a: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等因素有关 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Century Gothic"/>
              </a:rPr>
              <a:t>            </a:t>
            </a:r>
            <a:r>
              <a:rPr b="1" lang="zh-CN" sz="3200" spc="-1" strike="noStrike">
                <a:solidFill>
                  <a:srgbClr val="0066ff"/>
                </a:solidFill>
                <a:latin typeface="Century Gothic"/>
              </a:rPr>
              <a:t>  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Century Gothic"/>
              </a:rPr>
              <a:t>              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0:34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17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