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502-7F26-4A4C-8CB2-F7DDED3F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69A-FEAE-40D1-9638-8D777945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007-8F55-4DD9-B250-4C7EAA99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484-7202-487F-B210-0981B620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F38-34A7-4F16-9A87-C245FD85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889-F5AF-4464-809F-ABD962E1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030-D572-46DE-B4D6-CDD390BF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9A4-61F4-4C8B-8E32-FB5DA0A6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40F-B0F1-4993-B67F-374A8E00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6A5-659E-4CFE-A562-C4428509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075-E5CA-478E-B23E-5111540D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305-E3B3-4850-A3A4-1415CA9A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B457-92A4-417A-9D59-1000079075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 rot="20684400">
            <a:off x="1513800" y="8190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华文新魏"/>
              </a:rPr>
              <a:t>图形的拼组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5"/>
          <p:cNvSpPr/>
          <p:nvPr/>
        </p:nvSpPr>
        <p:spPr>
          <a:xfrm rot="20685000">
            <a:off x="395280" y="2349360"/>
            <a:ext cx="287280" cy="792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326520 h 792360"/>
              <a:gd name="textAreaBottom" fmla="*/ 465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5f4d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7"/>
          <p:cNvSpPr/>
          <p:nvPr/>
        </p:nvSpPr>
        <p:spPr>
          <a:xfrm rot="20680800">
            <a:off x="6875640" y="1486080"/>
            <a:ext cx="144360" cy="647640"/>
          </a:xfrm>
          <a:custGeom>
            <a:avLst/>
            <a:gdLst>
              <a:gd name="textAreaLeft" fmla="*/ 59400 w 144360"/>
              <a:gd name="textAreaRight" fmla="*/ 84960 w 144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489400" y="63086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5989 -0.17593 C -0.06962 -0.13889 -0.07864 -0.10255 -0.09809 -0.06713 C -0.11632 -0.03264 -0.14548 0.03727 -0.17205 0.03333 C -0.19861 0.02963 -0.23316 -0.09445 -0.25503 -0.09028 C -0.27656 -0.08727 -0.27344 0.04167 -0.29896 0.05417 C -0.32482 0.0669 -0.38246 -0.02824 -0.40798 -0.01505 C -0.43368 -0.00093 -0.42951 0.13055 -0.45104 0.13565 C -0.47257 0.14074 -0.51684 0.00509 -0.53576 0.01528 C -0.55347 0.02523 -0.54357 0.18773 -0.56215 0.19583 C -0.57969 0.20324 -0.625 0.05625 -0.64253 0.06157 C -0.66041 0.0669 -0.66423 0.1993 -0.66857 0.22639 E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5.55556E-007 5.92593E-006 L 0.70868 5.92593E-006 E">
                                      <p:cBhvr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4436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31"/>
          <p:cNvGrpSpPr/>
          <p:nvPr/>
        </p:nvGrpSpPr>
        <p:grpSpPr>
          <a:xfrm>
            <a:off x="5136120" y="1256400"/>
            <a:ext cx="2364120" cy="1566720"/>
            <a:chOff x="5136120" y="1256400"/>
            <a:chExt cx="2364120" cy="1566720"/>
          </a:xfrm>
        </p:grpSpPr>
        <p:sp>
          <p:nvSpPr>
            <p:cNvPr id="118" name="AutoShape 15"/>
            <p:cNvSpPr/>
            <p:nvPr/>
          </p:nvSpPr>
          <p:spPr>
            <a:xfrm rot="12300000">
              <a:off x="5186160" y="1483920"/>
              <a:ext cx="1057680" cy="4723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7"/>
            <p:cNvSpPr/>
            <p:nvPr/>
          </p:nvSpPr>
          <p:spPr>
            <a:xfrm flipH="1" rot="1752000">
              <a:off x="5185800" y="1484280"/>
              <a:ext cx="1057680" cy="4723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8"/>
            <p:cNvSpPr/>
            <p:nvPr/>
          </p:nvSpPr>
          <p:spPr>
            <a:xfrm flipH="1" rot="1738200">
              <a:off x="6393240" y="2124000"/>
              <a:ext cx="1057680" cy="472320"/>
            </a:xfrm>
            <a:prstGeom prst="rtTriangl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 flipH="1" rot="12432000">
              <a:off x="6392520" y="2124000"/>
              <a:ext cx="1057680" cy="472320"/>
            </a:xfrm>
            <a:prstGeom prst="rtTriangl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20"/>
          <p:cNvSpPr/>
          <p:nvPr/>
        </p:nvSpPr>
        <p:spPr>
          <a:xfrm flipH="1">
            <a:off x="4949280" y="2265480"/>
            <a:ext cx="1407960" cy="140652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1"/>
          <p:cNvSpPr/>
          <p:nvPr/>
        </p:nvSpPr>
        <p:spPr>
          <a:xfrm flipH="1" rot="16200000">
            <a:off x="4948920" y="3667680"/>
            <a:ext cx="1406520" cy="14083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4950000" y="3672000"/>
            <a:ext cx="1407960" cy="14079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3"/>
          <p:cNvSpPr/>
          <p:nvPr/>
        </p:nvSpPr>
        <p:spPr>
          <a:xfrm flipH="1" rot="16200000">
            <a:off x="4948920" y="5077440"/>
            <a:ext cx="1406520" cy="140832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4"/>
          <p:cNvSpPr/>
          <p:nvPr/>
        </p:nvSpPr>
        <p:spPr>
          <a:xfrm flipH="1" flipV="1">
            <a:off x="3542760" y="3671280"/>
            <a:ext cx="1406520" cy="14079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5"/>
          <p:cNvSpPr/>
          <p:nvPr/>
        </p:nvSpPr>
        <p:spPr>
          <a:xfrm flipH="1" flipV="1">
            <a:off x="2136600" y="3671280"/>
            <a:ext cx="1408320" cy="140796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7"/>
          <p:cNvSpPr/>
          <p:nvPr/>
        </p:nvSpPr>
        <p:spPr>
          <a:xfrm flipV="1" rot="16200000">
            <a:off x="3543840" y="3672000"/>
            <a:ext cx="1407960" cy="14065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8"/>
          <p:cNvSpPr/>
          <p:nvPr/>
        </p:nvSpPr>
        <p:spPr>
          <a:xfrm flipV="1" rot="16200000">
            <a:off x="2136600" y="3670920"/>
            <a:ext cx="1407960" cy="1408320"/>
          </a:xfrm>
          <a:prstGeom prst="rtTriangl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9"/>
          <p:cNvSpPr/>
          <p:nvPr/>
        </p:nvSpPr>
        <p:spPr>
          <a:xfrm rot="5400000">
            <a:off x="2135880" y="5077440"/>
            <a:ext cx="1406520" cy="140832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0"/>
          <p:cNvSpPr/>
          <p:nvPr/>
        </p:nvSpPr>
        <p:spPr>
          <a:xfrm flipH="1" rot="16200000">
            <a:off x="1041840" y="2577960"/>
            <a:ext cx="1095480" cy="10954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36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8"/>
          <p:cNvSpPr/>
          <p:nvPr/>
        </p:nvSpPr>
        <p:spPr>
          <a:xfrm flipH="1">
            <a:off x="3002760" y="1197000"/>
            <a:ext cx="1087560" cy="224460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2295000" y="3441240"/>
            <a:ext cx="3891960" cy="1573200"/>
            <a:chOff x="2295000" y="3441240"/>
            <a:chExt cx="3891960" cy="1573200"/>
          </a:xfrm>
        </p:grpSpPr>
        <p:sp>
          <p:nvSpPr>
            <p:cNvPr id="136" name="AutoShape 12"/>
            <p:cNvSpPr/>
            <p:nvPr/>
          </p:nvSpPr>
          <p:spPr>
            <a:xfrm flipH="1" flipV="1">
              <a:off x="2294640" y="3443400"/>
              <a:ext cx="3891960" cy="157104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4"/>
            <p:cNvSpPr/>
            <p:nvPr/>
          </p:nvSpPr>
          <p:spPr>
            <a:xfrm flipV="1" rot="16200000">
              <a:off x="3455280" y="2280600"/>
              <a:ext cx="1571400" cy="389196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17"/>
          <p:cNvSpPr/>
          <p:nvPr/>
        </p:nvSpPr>
        <p:spPr>
          <a:xfrm flipV="1" rot="16200000">
            <a:off x="4091040" y="1194480"/>
            <a:ext cx="672840" cy="6732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3"/>
          <p:cNvGrpSpPr/>
          <p:nvPr/>
        </p:nvGrpSpPr>
        <p:grpSpPr>
          <a:xfrm>
            <a:off x="1547640" y="5014440"/>
            <a:ext cx="5688000" cy="1197000"/>
            <a:chOff x="1547640" y="5014440"/>
            <a:chExt cx="5688000" cy="1197000"/>
          </a:xfrm>
        </p:grpSpPr>
        <p:sp>
          <p:nvSpPr>
            <p:cNvPr id="140" name="Freeform 20"/>
            <p:cNvSpPr/>
            <p:nvPr/>
          </p:nvSpPr>
          <p:spPr>
            <a:xfrm>
              <a:off x="1547640" y="5016240"/>
              <a:ext cx="2884680" cy="1195200"/>
            </a:xfrm>
            <a:custGeom>
              <a:avLst/>
              <a:gdLst/>
              <a:ahLst/>
              <a:rect l="l" t="t" r="r" b="b"/>
              <a:pathLst>
                <a:path w="1496" h="816">
                  <a:moveTo>
                    <a:pt x="1496" y="0"/>
                  </a:moveTo>
                  <a:lnTo>
                    <a:pt x="0" y="0"/>
                  </a:lnTo>
                  <a:lnTo>
                    <a:pt x="544" y="816"/>
                  </a:lnTo>
                  <a:lnTo>
                    <a:pt x="1496" y="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4350960" y="5014800"/>
              <a:ext cx="2884680" cy="1195560"/>
            </a:xfrm>
            <a:custGeom>
              <a:avLst/>
              <a:gdLst/>
              <a:ahLst/>
              <a:rect l="l" t="t" r="r" b="b"/>
              <a:pathLst>
                <a:path w="1496" h="816">
                  <a:moveTo>
                    <a:pt x="1496" y="0"/>
                  </a:moveTo>
                  <a:lnTo>
                    <a:pt x="0" y="0"/>
                  </a:lnTo>
                  <a:lnTo>
                    <a:pt x="544" y="816"/>
                  </a:lnTo>
                  <a:lnTo>
                    <a:pt x="1496" y="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 flipH="1" flipV="1">
              <a:off x="2535840" y="5014080"/>
              <a:ext cx="2884680" cy="1195560"/>
            </a:xfrm>
            <a:custGeom>
              <a:avLst/>
              <a:gdLst/>
              <a:ahLst/>
              <a:rect l="l" t="t" r="r" b="b"/>
              <a:pathLst>
                <a:path w="1496" h="816">
                  <a:moveTo>
                    <a:pt x="1496" y="0"/>
                  </a:moveTo>
                  <a:lnTo>
                    <a:pt x="0" y="0"/>
                  </a:lnTo>
                  <a:lnTo>
                    <a:pt x="544" y="816"/>
                  </a:lnTo>
                  <a:lnTo>
                    <a:pt x="1496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4436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8"/>
          <p:cNvGrpSpPr/>
          <p:nvPr/>
        </p:nvGrpSpPr>
        <p:grpSpPr>
          <a:xfrm>
            <a:off x="3191760" y="1478160"/>
            <a:ext cx="496800" cy="1067760"/>
            <a:chOff x="3191760" y="1478160"/>
            <a:chExt cx="496800" cy="1067760"/>
          </a:xfrm>
        </p:grpSpPr>
        <p:sp>
          <p:nvSpPr>
            <p:cNvPr id="146" name="AutoShape 6"/>
            <p:cNvSpPr/>
            <p:nvPr/>
          </p:nvSpPr>
          <p:spPr>
            <a:xfrm rot="16171200">
              <a:off x="2910960" y="1775880"/>
              <a:ext cx="1057680" cy="473040"/>
            </a:xfrm>
            <a:prstGeom prst="rtTriangl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7"/>
            <p:cNvSpPr/>
            <p:nvPr/>
          </p:nvSpPr>
          <p:spPr>
            <a:xfrm rot="5478000">
              <a:off x="2911320" y="1775520"/>
              <a:ext cx="1057320" cy="473040"/>
            </a:xfrm>
            <a:prstGeom prst="rtTriangl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9"/>
          <p:cNvGrpSpPr/>
          <p:nvPr/>
        </p:nvGrpSpPr>
        <p:grpSpPr>
          <a:xfrm>
            <a:off x="4211280" y="2541600"/>
            <a:ext cx="2231640" cy="1078920"/>
            <a:chOff x="4211280" y="2541600"/>
            <a:chExt cx="2231640" cy="1078920"/>
          </a:xfrm>
        </p:grpSpPr>
        <p:sp>
          <p:nvSpPr>
            <p:cNvPr id="149" name="AutoShape 20"/>
            <p:cNvSpPr/>
            <p:nvPr/>
          </p:nvSpPr>
          <p:spPr>
            <a:xfrm flipH="1" flipV="1">
              <a:off x="4210920" y="2541960"/>
              <a:ext cx="2231640" cy="1078200"/>
            </a:xfrm>
            <a:prstGeom prst="rtTriangl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1"/>
            <p:cNvSpPr/>
            <p:nvPr/>
          </p:nvSpPr>
          <p:spPr>
            <a:xfrm flipV="1" rot="16200000">
              <a:off x="4787640" y="1964880"/>
              <a:ext cx="1078560" cy="2231640"/>
            </a:xfrm>
            <a:prstGeom prst="rtTriangl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2482560" y="2541600"/>
            <a:ext cx="1728360" cy="1078920"/>
            <a:chOff x="2482560" y="2541600"/>
            <a:chExt cx="1728360" cy="1078920"/>
          </a:xfrm>
        </p:grpSpPr>
        <p:sp>
          <p:nvSpPr>
            <p:cNvPr id="152" name="AutoShape 23"/>
            <p:cNvSpPr/>
            <p:nvPr/>
          </p:nvSpPr>
          <p:spPr>
            <a:xfrm flipH="1" flipV="1">
              <a:off x="2482200" y="2541960"/>
              <a:ext cx="1728360" cy="1078200"/>
            </a:xfrm>
            <a:prstGeom prst="rtTriangl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24"/>
            <p:cNvSpPr/>
            <p:nvPr/>
          </p:nvSpPr>
          <p:spPr>
            <a:xfrm flipV="1" rot="16200000">
              <a:off x="2807280" y="2216520"/>
              <a:ext cx="1078560" cy="1728360"/>
            </a:xfrm>
            <a:prstGeom prst="rtTriangl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AutoShape 25"/>
          <p:cNvSpPr/>
          <p:nvPr/>
        </p:nvSpPr>
        <p:spPr>
          <a:xfrm flipH="1">
            <a:off x="1402560" y="2540160"/>
            <a:ext cx="1079640" cy="107784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6443640" y="2541600"/>
            <a:ext cx="1657440" cy="107784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0"/>
          <p:cNvGrpSpPr/>
          <p:nvPr/>
        </p:nvGrpSpPr>
        <p:grpSpPr>
          <a:xfrm>
            <a:off x="2479680" y="3620880"/>
            <a:ext cx="3962880" cy="2449080"/>
            <a:chOff x="2479680" y="3620880"/>
            <a:chExt cx="3962880" cy="2449080"/>
          </a:xfrm>
        </p:grpSpPr>
        <p:sp>
          <p:nvSpPr>
            <p:cNvPr id="157" name="AutoShape 28"/>
            <p:cNvSpPr/>
            <p:nvPr/>
          </p:nvSpPr>
          <p:spPr>
            <a:xfrm flipV="1">
              <a:off x="2479680" y="3620520"/>
              <a:ext cx="3958920" cy="2449080"/>
            </a:xfrm>
            <a:prstGeom prst="rtTriangl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29"/>
            <p:cNvSpPr/>
            <p:nvPr/>
          </p:nvSpPr>
          <p:spPr>
            <a:xfrm flipH="1" flipV="1" rot="5400000">
              <a:off x="3238200" y="2865600"/>
              <a:ext cx="2449080" cy="3958920"/>
            </a:xfrm>
            <a:prstGeom prst="rtTriangl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AutoShape 31"/>
          <p:cNvSpPr/>
          <p:nvPr/>
        </p:nvSpPr>
        <p:spPr>
          <a:xfrm flipH="1" rot="13491000">
            <a:off x="4479480" y="1719000"/>
            <a:ext cx="1679760" cy="164484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179280" y="622440"/>
            <a:ext cx="8820360" cy="59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 rot="18776400">
            <a:off x="5252400" y="4903560"/>
            <a:ext cx="2152800" cy="654120"/>
          </a:xfrm>
          <a:prstGeom prst="parallelogram">
            <a:avLst>
              <a:gd name="adj" fmla="val 82080"/>
            </a:avLst>
          </a:prstGeom>
          <a:solidFill>
            <a:srgbClr val="cc66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5823000" y="3348000"/>
            <a:ext cx="1035000" cy="932040"/>
          </a:xfrm>
          <a:prstGeom prst="rect">
            <a:avLst/>
          </a:pr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 flipH="1" flipV="1">
            <a:off x="3852000" y="4261680"/>
            <a:ext cx="1987560" cy="1986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832360" y="2281320"/>
            <a:ext cx="1065240" cy="1063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 flipV="1">
            <a:off x="5850000" y="4280040"/>
            <a:ext cx="1008000" cy="1008000"/>
          </a:xfrm>
          <a:prstGeom prst="rtTriangle">
            <a:avLst/>
          </a:prstGeom>
          <a:solidFill>
            <a:srgbClr val="66ff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 flipH="1" flipV="1" rot="2718600">
            <a:off x="6194160" y="3586320"/>
            <a:ext cx="1306440" cy="1305000"/>
          </a:xfrm>
          <a:prstGeom prst="rtTriangle">
            <a:avLst/>
          </a:prstGeom>
          <a:solidFill>
            <a:srgbClr val="f39ff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flipH="1">
            <a:off x="3858480" y="2293920"/>
            <a:ext cx="1987560" cy="198612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3851280" y="2263680"/>
            <a:ext cx="3940200" cy="3940200"/>
          </a:xfrm>
          <a:prstGeom prst="diamond">
            <a:avLst/>
          </a:pr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 rot="21103200">
            <a:off x="900000" y="18298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ff33"/>
                </a:solidFill>
                <a:latin typeface="Times New Roman"/>
                <a:ea typeface="华文新魏"/>
              </a:rPr>
              <a:t>七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 rot="1017600">
            <a:off x="2050560" y="130284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巧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 rot="20065800">
            <a:off x="3569040" y="836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ccff"/>
                </a:solidFill>
                <a:latin typeface="Times New Roman"/>
                <a:ea typeface="华文新魏"/>
              </a:rPr>
              <a:t>板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 rot="745200">
            <a:off x="5008320" y="5490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大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 rot="21103200">
            <a:off x="6161040" y="12538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比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 rot="703800">
            <a:off x="6911640" y="263700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zh-CN" sz="8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拼</a:t>
            </a:r>
            <a:r>
              <a:rPr b="0" lang="zh-CN" sz="6000" spc="-1" strike="noStrike">
                <a:solidFill>
                  <a:srgbClr val="99ff33"/>
                </a:solidFill>
                <a:latin typeface="Times New Roman"/>
                <a:ea typeface="华文新魏"/>
              </a:rPr>
              <a:t>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7" descr="HUM150s"/>
          <p:cNvPicPr/>
          <p:nvPr/>
        </p:nvPicPr>
        <p:blipFill>
          <a:blip r:embed="rId1"/>
          <a:stretch/>
        </p:blipFill>
        <p:spPr>
          <a:xfrm>
            <a:off x="971640" y="2781360"/>
            <a:ext cx="1504800" cy="1419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20050614104853872"/>
          <p:cNvPicPr/>
          <p:nvPr/>
        </p:nvPicPr>
        <p:blipFill>
          <a:blip r:embed="rId2"/>
          <a:stretch/>
        </p:blipFill>
        <p:spPr>
          <a:xfrm>
            <a:off x="71280" y="3565440"/>
            <a:ext cx="3996000" cy="324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2" descr="out"/>
          <p:cNvPicPr/>
          <p:nvPr/>
        </p:nvPicPr>
        <p:blipFill>
          <a:blip r:embed="rId1"/>
          <a:stretch/>
        </p:blipFill>
        <p:spPr>
          <a:xfrm>
            <a:off x="162000" y="620640"/>
            <a:ext cx="8820000" cy="59245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/>
          <p:cNvSpPr/>
          <p:nvPr/>
        </p:nvSpPr>
        <p:spPr>
          <a:xfrm flipH="1" rot="18931200">
            <a:off x="3138840" y="4005360"/>
            <a:ext cx="1820880" cy="1824120"/>
          </a:xfrm>
          <a:prstGeom prst="rtTriangl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 flipH="1" flipV="1" rot="13530600">
            <a:off x="3137040" y="4006080"/>
            <a:ext cx="1824120" cy="1820520"/>
          </a:xfrm>
          <a:prstGeom prst="rtTriangl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flipH="1" rot="8094600">
            <a:off x="4292640" y="1787040"/>
            <a:ext cx="971280" cy="97164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 rot="18994200">
            <a:off x="3598560" y="2470320"/>
            <a:ext cx="981000" cy="984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 flipV="1" rot="8147400">
            <a:off x="2923920" y="1749960"/>
            <a:ext cx="976320" cy="976320"/>
          </a:xfrm>
          <a:prstGeom prst="rtTriangl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 flipH="1" flipV="1" rot="10944000">
            <a:off x="5300280" y="5637600"/>
            <a:ext cx="2151000" cy="598320"/>
          </a:xfrm>
          <a:prstGeom prst="parallelogram">
            <a:avLst>
              <a:gd name="adj" fmla="val 118304"/>
            </a:avLst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 flipH="1" flipV="1" rot="5400000">
            <a:off x="4066920" y="4890240"/>
            <a:ext cx="1297080" cy="1296720"/>
          </a:xfrm>
          <a:prstGeom prst="rtTriangle">
            <a:avLst/>
          </a:prstGeom>
          <a:solidFill>
            <a:srgbClr val="f39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out"/>
          <p:cNvPicPr/>
          <p:nvPr/>
        </p:nvPicPr>
        <p:blipFill>
          <a:blip r:embed="rId1"/>
          <a:stretch/>
        </p:blipFill>
        <p:spPr>
          <a:xfrm>
            <a:off x="162000" y="620640"/>
            <a:ext cx="8820000" cy="592452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0"/>
          <p:cNvGrpSpPr/>
          <p:nvPr/>
        </p:nvGrpSpPr>
        <p:grpSpPr>
          <a:xfrm>
            <a:off x="847440" y="3357000"/>
            <a:ext cx="3772080" cy="3383280"/>
            <a:chOff x="847440" y="3357000"/>
            <a:chExt cx="3772080" cy="3383280"/>
          </a:xfrm>
        </p:grpSpPr>
        <p:sp>
          <p:nvSpPr>
            <p:cNvPr id="190" name="AutoShape 11"/>
            <p:cNvSpPr/>
            <p:nvPr/>
          </p:nvSpPr>
          <p:spPr>
            <a:xfrm flipH="1" rot="13585800">
              <a:off x="1113480" y="5062680"/>
              <a:ext cx="1295280" cy="129096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2"/>
            <p:cNvSpPr/>
            <p:nvPr/>
          </p:nvSpPr>
          <p:spPr>
            <a:xfrm flipH="1" flipV="1" rot="13585200">
              <a:off x="2036520" y="4154760"/>
              <a:ext cx="1292400" cy="1288440"/>
            </a:xfrm>
            <a:prstGeom prst="rtTriangl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3"/>
            <p:cNvSpPr/>
            <p:nvPr/>
          </p:nvSpPr>
          <p:spPr>
            <a:xfrm rot="18943800">
              <a:off x="3783240" y="3500280"/>
              <a:ext cx="692640" cy="693000"/>
            </a:xfrm>
            <a:prstGeom prst="rtTriangl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 rot="19008600">
              <a:off x="3231360" y="4885920"/>
              <a:ext cx="691920" cy="693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 flipV="1" rot="2640000">
              <a:off x="2348280" y="5903640"/>
              <a:ext cx="692640" cy="693000"/>
            </a:xfrm>
            <a:prstGeom prst="rtTriangl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 rot="16218000">
              <a:off x="3156120" y="4371120"/>
              <a:ext cx="1435320" cy="398880"/>
            </a:xfrm>
            <a:prstGeom prst="parallelogram">
              <a:avLst>
                <a:gd name="adj" fmla="val 118413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 flipH="1" flipV="1" rot="10787400">
              <a:off x="2693520" y="4829400"/>
              <a:ext cx="880200" cy="879840"/>
            </a:xfrm>
            <a:prstGeom prst="rtTriangle">
              <a:avLst/>
            </a:prstGeom>
            <a:solidFill>
              <a:srgbClr val="f39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8"/>
          <p:cNvGrpSpPr/>
          <p:nvPr/>
        </p:nvGrpSpPr>
        <p:grpSpPr>
          <a:xfrm>
            <a:off x="4654800" y="1467360"/>
            <a:ext cx="3819600" cy="2991240"/>
            <a:chOff x="4654800" y="1467360"/>
            <a:chExt cx="3819600" cy="2991240"/>
          </a:xfrm>
        </p:grpSpPr>
        <p:sp>
          <p:nvSpPr>
            <p:cNvPr id="198" name="AutoShape 19"/>
            <p:cNvSpPr/>
            <p:nvPr/>
          </p:nvSpPr>
          <p:spPr>
            <a:xfrm rot="10761000">
              <a:off x="5021280" y="2154240"/>
              <a:ext cx="1252800" cy="124956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20"/>
            <p:cNvSpPr/>
            <p:nvPr/>
          </p:nvSpPr>
          <p:spPr>
            <a:xfrm flipV="1" rot="8014800">
              <a:off x="5641560" y="2392200"/>
              <a:ext cx="1253160" cy="1247040"/>
            </a:xfrm>
            <a:prstGeom prst="rtTriangl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 flipH="1" rot="21420000">
              <a:off x="4672080" y="1484280"/>
              <a:ext cx="669960" cy="671040"/>
            </a:xfrm>
            <a:prstGeom prst="rtTriangl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2"/>
            <p:cNvSpPr/>
            <p:nvPr/>
          </p:nvSpPr>
          <p:spPr>
            <a:xfrm flipH="1" rot="2591400">
              <a:off x="6765120" y="3169080"/>
              <a:ext cx="670680" cy="669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3"/>
            <p:cNvSpPr/>
            <p:nvPr/>
          </p:nvSpPr>
          <p:spPr>
            <a:xfrm flipH="1" flipV="1" rot="2853000">
              <a:off x="5032440" y="2653920"/>
              <a:ext cx="670680" cy="670320"/>
            </a:xfrm>
            <a:prstGeom prst="rtTriangl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4"/>
            <p:cNvSpPr/>
            <p:nvPr/>
          </p:nvSpPr>
          <p:spPr>
            <a:xfrm flipH="1" flipV="1" rot="21318000">
              <a:off x="7070400" y="3460320"/>
              <a:ext cx="1387440" cy="450000"/>
            </a:xfrm>
            <a:prstGeom prst="parallelogram">
              <a:avLst>
                <a:gd name="adj" fmla="val 101460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5"/>
            <p:cNvSpPr/>
            <p:nvPr/>
          </p:nvSpPr>
          <p:spPr>
            <a:xfrm flipV="1" rot="10812600">
              <a:off x="5712120" y="3604680"/>
              <a:ext cx="852120" cy="852120"/>
            </a:xfrm>
            <a:prstGeom prst="rtTriangle">
              <a:avLst/>
            </a:prstGeom>
            <a:solidFill>
              <a:srgbClr val="f39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out"/>
          <p:cNvPicPr/>
          <p:nvPr/>
        </p:nvPicPr>
        <p:blipFill>
          <a:blip r:embed="rId1"/>
          <a:stretch/>
        </p:blipFill>
        <p:spPr>
          <a:xfrm>
            <a:off x="162000" y="620640"/>
            <a:ext cx="8820000" cy="59245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9"/>
          <p:cNvGrpSpPr/>
          <p:nvPr/>
        </p:nvGrpSpPr>
        <p:grpSpPr>
          <a:xfrm>
            <a:off x="1183320" y="1490040"/>
            <a:ext cx="2943720" cy="3748680"/>
            <a:chOff x="1183320" y="1490040"/>
            <a:chExt cx="2943720" cy="3748680"/>
          </a:xfrm>
        </p:grpSpPr>
        <p:sp>
          <p:nvSpPr>
            <p:cNvPr id="208" name="AutoShape 20"/>
            <p:cNvSpPr/>
            <p:nvPr/>
          </p:nvSpPr>
          <p:spPr>
            <a:xfrm rot="2736600">
              <a:off x="2521080" y="1761480"/>
              <a:ext cx="1312560" cy="1313280"/>
            </a:xfrm>
            <a:prstGeom prst="rtTriangl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1"/>
            <p:cNvSpPr/>
            <p:nvPr/>
          </p:nvSpPr>
          <p:spPr>
            <a:xfrm flipH="1" flipV="1" rot="2707200">
              <a:off x="1599840" y="2681640"/>
              <a:ext cx="1312920" cy="131328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2"/>
            <p:cNvSpPr/>
            <p:nvPr/>
          </p:nvSpPr>
          <p:spPr>
            <a:xfrm>
              <a:off x="3423600" y="4515840"/>
              <a:ext cx="703440" cy="703080"/>
            </a:xfrm>
            <a:prstGeom prst="rtTriangl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3"/>
            <p:cNvSpPr/>
            <p:nvPr/>
          </p:nvSpPr>
          <p:spPr>
            <a:xfrm>
              <a:off x="2707920" y="4515840"/>
              <a:ext cx="703800" cy="703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4"/>
            <p:cNvSpPr/>
            <p:nvPr/>
          </p:nvSpPr>
          <p:spPr>
            <a:xfrm flipV="1" rot="18927000">
              <a:off x="2332080" y="4386960"/>
              <a:ext cx="703800" cy="702720"/>
            </a:xfrm>
            <a:prstGeom prst="rtTriangl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5"/>
            <p:cNvSpPr/>
            <p:nvPr/>
          </p:nvSpPr>
          <p:spPr>
            <a:xfrm flipV="1" rot="10848000">
              <a:off x="1186560" y="4741920"/>
              <a:ext cx="1458360" cy="486000"/>
            </a:xfrm>
            <a:prstGeom prst="parallelogram">
              <a:avLst>
                <a:gd name="adj" fmla="val 88258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26"/>
            <p:cNvSpPr/>
            <p:nvPr/>
          </p:nvSpPr>
          <p:spPr>
            <a:xfrm flipH="1" flipV="1" rot="5300400">
              <a:off x="2283840" y="3355560"/>
              <a:ext cx="892440" cy="893160"/>
            </a:xfrm>
            <a:prstGeom prst="rtTriangle">
              <a:avLst/>
            </a:prstGeom>
            <a:solidFill>
              <a:srgbClr val="f39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7"/>
          <p:cNvGrpSpPr/>
          <p:nvPr/>
        </p:nvGrpSpPr>
        <p:grpSpPr>
          <a:xfrm>
            <a:off x="5076360" y="3429000"/>
            <a:ext cx="3438360" cy="2717280"/>
            <a:chOff x="5076360" y="3429000"/>
            <a:chExt cx="3438360" cy="2717280"/>
          </a:xfrm>
        </p:grpSpPr>
        <p:sp>
          <p:nvSpPr>
            <p:cNvPr id="216" name="AutoShape 28"/>
            <p:cNvSpPr/>
            <p:nvPr/>
          </p:nvSpPr>
          <p:spPr>
            <a:xfrm flipH="1">
              <a:off x="5076000" y="3429000"/>
              <a:ext cx="1359000" cy="1358640"/>
            </a:xfrm>
            <a:prstGeom prst="rtTriangl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9"/>
            <p:cNvSpPr/>
            <p:nvPr/>
          </p:nvSpPr>
          <p:spPr>
            <a:xfrm flipH="1" flipV="1">
              <a:off x="5076000" y="4787640"/>
              <a:ext cx="1359000" cy="135864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30"/>
            <p:cNvSpPr/>
            <p:nvPr/>
          </p:nvSpPr>
          <p:spPr>
            <a:xfrm>
              <a:off x="6435720" y="3719520"/>
              <a:ext cx="729360" cy="729720"/>
            </a:xfrm>
            <a:prstGeom prst="rtTriangl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1"/>
            <p:cNvSpPr/>
            <p:nvPr/>
          </p:nvSpPr>
          <p:spPr>
            <a:xfrm>
              <a:off x="6435720" y="4449240"/>
              <a:ext cx="729360" cy="7268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2"/>
            <p:cNvSpPr/>
            <p:nvPr/>
          </p:nvSpPr>
          <p:spPr>
            <a:xfrm flipV="1">
              <a:off x="6435720" y="5151240"/>
              <a:ext cx="729360" cy="726840"/>
            </a:xfrm>
            <a:prstGeom prst="rtTriangl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3"/>
            <p:cNvSpPr/>
            <p:nvPr/>
          </p:nvSpPr>
          <p:spPr>
            <a:xfrm flipH="1" flipV="1" rot="7852200">
              <a:off x="6706080" y="4213080"/>
              <a:ext cx="1565640" cy="435960"/>
            </a:xfrm>
            <a:prstGeom prst="parallelogram">
              <a:avLst>
                <a:gd name="adj" fmla="val 118178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4"/>
            <p:cNvSpPr/>
            <p:nvPr/>
          </p:nvSpPr>
          <p:spPr>
            <a:xfrm flipH="1" flipV="1" rot="13415400">
              <a:off x="7354440" y="4593960"/>
              <a:ext cx="960840" cy="960480"/>
            </a:xfrm>
            <a:prstGeom prst="rtTriangle">
              <a:avLst/>
            </a:prstGeom>
            <a:solidFill>
              <a:srgbClr val="f39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out"/>
          <p:cNvPicPr/>
          <p:nvPr/>
        </p:nvPicPr>
        <p:blipFill>
          <a:blip r:embed="rId1"/>
          <a:stretch/>
        </p:blipFill>
        <p:spPr>
          <a:xfrm>
            <a:off x="162000" y="620640"/>
            <a:ext cx="8820000" cy="59245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19"/>
          <p:cNvGrpSpPr/>
          <p:nvPr/>
        </p:nvGrpSpPr>
        <p:grpSpPr>
          <a:xfrm>
            <a:off x="1283040" y="1931760"/>
            <a:ext cx="3733200" cy="3512880"/>
            <a:chOff x="1283040" y="1931760"/>
            <a:chExt cx="3733200" cy="3512880"/>
          </a:xfrm>
        </p:grpSpPr>
        <p:sp>
          <p:nvSpPr>
            <p:cNvPr id="226" name="AutoShape 20"/>
            <p:cNvSpPr/>
            <p:nvPr/>
          </p:nvSpPr>
          <p:spPr>
            <a:xfrm>
              <a:off x="2327400" y="3088080"/>
              <a:ext cx="1535400" cy="1534320"/>
            </a:xfrm>
            <a:prstGeom prst="rtTriangl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21"/>
            <p:cNvSpPr/>
            <p:nvPr/>
          </p:nvSpPr>
          <p:spPr>
            <a:xfrm flipV="1" rot="5400000">
              <a:off x="2327760" y="3087360"/>
              <a:ext cx="1534320" cy="153540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22"/>
            <p:cNvSpPr/>
            <p:nvPr/>
          </p:nvSpPr>
          <p:spPr>
            <a:xfrm flipH="1" rot="5400000">
              <a:off x="2711160" y="4622400"/>
              <a:ext cx="822240" cy="822240"/>
            </a:xfrm>
            <a:prstGeom prst="rtTriangl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23"/>
            <p:cNvSpPr/>
            <p:nvPr/>
          </p:nvSpPr>
          <p:spPr>
            <a:xfrm flipH="1" rot="2605800">
              <a:off x="2711160" y="2101680"/>
              <a:ext cx="822240" cy="821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24"/>
            <p:cNvSpPr/>
            <p:nvPr/>
          </p:nvSpPr>
          <p:spPr>
            <a:xfrm flipH="1" flipV="1">
              <a:off x="2711160" y="4622400"/>
              <a:ext cx="822240" cy="822240"/>
            </a:xfrm>
            <a:prstGeom prst="rtTriangl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25"/>
            <p:cNvSpPr/>
            <p:nvPr/>
          </p:nvSpPr>
          <p:spPr>
            <a:xfrm rot="18776400">
              <a:off x="3410640" y="2824560"/>
              <a:ext cx="1703160" cy="475200"/>
            </a:xfrm>
            <a:prstGeom prst="parallelogram">
              <a:avLst>
                <a:gd name="adj" fmla="val 117943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26"/>
            <p:cNvSpPr/>
            <p:nvPr/>
          </p:nvSpPr>
          <p:spPr>
            <a:xfrm flipV="1" rot="10803000">
              <a:off x="1283400" y="3087360"/>
              <a:ext cx="1044000" cy="1043280"/>
            </a:xfrm>
            <a:prstGeom prst="rtTriangle">
              <a:avLst/>
            </a:prstGeom>
            <a:solidFill>
              <a:srgbClr val="f39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7"/>
          <p:cNvGrpSpPr/>
          <p:nvPr/>
        </p:nvGrpSpPr>
        <p:grpSpPr>
          <a:xfrm>
            <a:off x="4553640" y="2979720"/>
            <a:ext cx="3992400" cy="3991320"/>
            <a:chOff x="4553640" y="2979720"/>
            <a:chExt cx="3992400" cy="3991320"/>
          </a:xfrm>
        </p:grpSpPr>
        <p:sp>
          <p:nvSpPr>
            <p:cNvPr id="234" name="AutoShape 28"/>
            <p:cNvSpPr/>
            <p:nvPr/>
          </p:nvSpPr>
          <p:spPr>
            <a:xfrm flipH="1" rot="8156400">
              <a:off x="6780600" y="4174200"/>
              <a:ext cx="1462320" cy="1462320"/>
            </a:xfrm>
            <a:prstGeom prst="rtTriangl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29"/>
            <p:cNvSpPr/>
            <p:nvPr/>
          </p:nvSpPr>
          <p:spPr>
            <a:xfrm flipH="1" flipV="1" rot="18879000">
              <a:off x="5748840" y="5205240"/>
              <a:ext cx="1462320" cy="1462320"/>
            </a:xfrm>
            <a:prstGeom prst="rtTriangl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30"/>
            <p:cNvSpPr/>
            <p:nvPr/>
          </p:nvSpPr>
          <p:spPr>
            <a:xfrm rot="13498800">
              <a:off x="7139880" y="4080960"/>
              <a:ext cx="783720" cy="783720"/>
            </a:xfrm>
            <a:prstGeom prst="rtTriangl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31"/>
            <p:cNvSpPr/>
            <p:nvPr/>
          </p:nvSpPr>
          <p:spPr>
            <a:xfrm rot="18994200">
              <a:off x="6882120" y="3141360"/>
              <a:ext cx="783000" cy="783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32"/>
            <p:cNvSpPr/>
            <p:nvPr/>
          </p:nvSpPr>
          <p:spPr>
            <a:xfrm flipV="1" rot="13486800">
              <a:off x="4716000" y="5205240"/>
              <a:ext cx="783000" cy="783360"/>
            </a:xfrm>
            <a:prstGeom prst="rtTriangl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33"/>
            <p:cNvSpPr/>
            <p:nvPr/>
          </p:nvSpPr>
          <p:spPr>
            <a:xfrm flipH="1" rot="5370600">
              <a:off x="7068240" y="4906080"/>
              <a:ext cx="1477800" cy="590040"/>
            </a:xfrm>
            <a:prstGeom prst="parallelogram">
              <a:avLst>
                <a:gd name="adj" fmla="val 84750"/>
              </a:avLst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34"/>
            <p:cNvSpPr/>
            <p:nvPr/>
          </p:nvSpPr>
          <p:spPr>
            <a:xfrm flipH="1" flipV="1" rot="16197000">
              <a:off x="5923080" y="4439880"/>
              <a:ext cx="995400" cy="995400"/>
            </a:xfrm>
            <a:prstGeom prst="rtTriangle">
              <a:avLst/>
            </a:prstGeom>
            <a:solidFill>
              <a:srgbClr val="f39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图片8"/>
          <p:cNvPicPr/>
          <p:nvPr/>
        </p:nvPicPr>
        <p:blipFill>
          <a:blip r:embed="rId1"/>
          <a:stretch/>
        </p:blipFill>
        <p:spPr>
          <a:xfrm>
            <a:off x="177840" y="620640"/>
            <a:ext cx="8790120" cy="597708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flipV="1">
            <a:off x="4427640" y="72396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flipV="1" rot="19694400">
            <a:off x="2987640" y="115488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 flipV="1" rot="18542400">
            <a:off x="2051640" y="2017800"/>
            <a:ext cx="1461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 flipV="1" rot="17506200">
            <a:off x="1474200" y="316908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 flipV="1" rot="16534800">
            <a:off x="1257840" y="432324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2"/>
          <a:stretch/>
        </p:blipFill>
        <p:spPr>
          <a:xfrm>
            <a:off x="2050920" y="130032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3"/>
          <a:stretch/>
        </p:blipFill>
        <p:spPr>
          <a:xfrm>
            <a:off x="2627280" y="2452680"/>
            <a:ext cx="4032360" cy="3352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0" name="AutoShape 10"/>
          <p:cNvSpPr/>
          <p:nvPr/>
        </p:nvSpPr>
        <p:spPr>
          <a:xfrm flipH="1" flipV="1" rot="1905600">
            <a:off x="5868360" y="115488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 flipH="1" flipV="1" rot="3057600">
            <a:off x="6802560" y="2019960"/>
            <a:ext cx="1461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flipH="1" flipV="1" rot="4093800">
            <a:off x="7378560" y="3171960"/>
            <a:ext cx="144360" cy="24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 flipH="1" flipV="1" rot="5065200">
            <a:off x="7594560" y="432324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250" autoRev="1" fill="hold"/>
                                        <p:tgtEl>
                                          <p:spTgt spid="2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'k"/>
          <p:cNvPicPr/>
          <p:nvPr/>
        </p:nvPicPr>
        <p:blipFill>
          <a:blip r:embed="rId1"/>
          <a:stretch/>
        </p:blipFill>
        <p:spPr>
          <a:xfrm>
            <a:off x="162000" y="620640"/>
            <a:ext cx="8820000" cy="59245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4173120" y="762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用合适的图形拼下面的图案，看谁拼得最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5"/>
          <p:cNvSpPr/>
          <p:nvPr/>
        </p:nvSpPr>
        <p:spPr>
          <a:xfrm>
            <a:off x="3348000" y="5398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扑"/>
          <p:cNvPicPr/>
          <p:nvPr/>
        </p:nvPicPr>
        <p:blipFill>
          <a:blip r:embed="rId1"/>
          <a:stretch/>
        </p:blipFill>
        <p:spPr>
          <a:xfrm>
            <a:off x="179280" y="620640"/>
            <a:ext cx="8791560" cy="59054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2"/>
          <p:cNvSpPr/>
          <p:nvPr/>
        </p:nvSpPr>
        <p:spPr>
          <a:xfrm rot="10800000">
            <a:off x="3059280" y="4076280"/>
            <a:ext cx="1511280" cy="438120"/>
          </a:xfrm>
          <a:prstGeom prst="triangle">
            <a:avLst>
              <a:gd name="adj" fmla="val 288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 rot="19719000">
            <a:off x="6157800" y="4190760"/>
            <a:ext cx="627120" cy="7412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7"/>
          <p:cNvSpPr/>
          <p:nvPr/>
        </p:nvSpPr>
        <p:spPr>
          <a:xfrm rot="20297400">
            <a:off x="2050920" y="4723920"/>
            <a:ext cx="1656000" cy="642960"/>
          </a:xfrm>
          <a:prstGeom prst="rtTriangl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2"/>
          <p:cNvSpPr/>
          <p:nvPr/>
        </p:nvSpPr>
        <p:spPr>
          <a:xfrm rot="1078800">
            <a:off x="4140360" y="4797360"/>
            <a:ext cx="1655640" cy="642960"/>
          </a:xfrm>
          <a:prstGeom prst="rtTriangl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3"/>
          <p:cNvSpPr/>
          <p:nvPr/>
        </p:nvSpPr>
        <p:spPr>
          <a:xfrm rot="20449800">
            <a:off x="4571640" y="4797000"/>
            <a:ext cx="1655640" cy="642960"/>
          </a:xfrm>
          <a:prstGeom prst="rtTriangl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4"/>
          <p:cNvSpPr/>
          <p:nvPr/>
        </p:nvSpPr>
        <p:spPr>
          <a:xfrm flipV="1" rot="19679400">
            <a:off x="6536880" y="4797000"/>
            <a:ext cx="627120" cy="725400"/>
          </a:xfrm>
          <a:prstGeom prst="triangle">
            <a:avLst>
              <a:gd name="adj" fmla="val 50000"/>
            </a:avLst>
          </a:prstGeom>
          <a:solidFill>
            <a:srgbClr val="79b3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5"/>
          <p:cNvSpPr/>
          <p:nvPr/>
        </p:nvSpPr>
        <p:spPr>
          <a:xfrm rot="10800000">
            <a:off x="4859280" y="4292280"/>
            <a:ext cx="1511280" cy="438120"/>
          </a:xfrm>
          <a:prstGeom prst="triangle">
            <a:avLst>
              <a:gd name="adj" fmla="val 2884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6"/>
          <p:cNvSpPr/>
          <p:nvPr/>
        </p:nvSpPr>
        <p:spPr>
          <a:xfrm rot="10800000">
            <a:off x="1403280" y="4365360"/>
            <a:ext cx="1511280" cy="438120"/>
          </a:xfrm>
          <a:prstGeom prst="triangle">
            <a:avLst>
              <a:gd name="adj" fmla="val 28847"/>
            </a:avLst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7"/>
          <p:cNvSpPr/>
          <p:nvPr/>
        </p:nvSpPr>
        <p:spPr>
          <a:xfrm rot="10800000">
            <a:off x="1258920" y="4723920"/>
            <a:ext cx="1511280" cy="438120"/>
          </a:xfrm>
          <a:prstGeom prst="triangle">
            <a:avLst>
              <a:gd name="adj" fmla="val 2884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8"/>
          <p:cNvSpPr/>
          <p:nvPr/>
        </p:nvSpPr>
        <p:spPr>
          <a:xfrm>
            <a:off x="3492360" y="981000"/>
            <a:ext cx="4824720" cy="1511280"/>
          </a:xfrm>
          <a:prstGeom prst="cloudCallout">
            <a:avLst>
              <a:gd name="adj1" fmla="val -54773"/>
              <a:gd name="adj2" fmla="val 56092"/>
            </a:avLst>
          </a:prstGeom>
          <a:solidFill>
            <a:srgbClr val="ffffcc"/>
          </a:solidFill>
          <a:ln w="93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用三角形拼出哪些四边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lh"/>
          <p:cNvPicPr/>
          <p:nvPr/>
        </p:nvPicPr>
        <p:blipFill>
          <a:blip r:embed="rId1"/>
          <a:stretch/>
        </p:blipFill>
        <p:spPr>
          <a:xfrm>
            <a:off x="162000" y="620640"/>
            <a:ext cx="8820000" cy="59245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4173120" y="762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用合适的图形拼下面的图案，看谁拼得最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fv"/>
          <p:cNvPicPr/>
          <p:nvPr/>
        </p:nvPicPr>
        <p:blipFill>
          <a:blip r:embed="rId1"/>
          <a:stretch/>
        </p:blipFill>
        <p:spPr>
          <a:xfrm>
            <a:off x="162000" y="620640"/>
            <a:ext cx="8820000" cy="59245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4173120" y="762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黑体"/>
              </a:rPr>
              <a:t>用合适的图形拼下面的图案，看谁拼得最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54e"/>
          <p:cNvPicPr/>
          <p:nvPr/>
        </p:nvPicPr>
        <p:blipFill>
          <a:blip r:embed="rId1"/>
          <a:stretch/>
        </p:blipFill>
        <p:spPr>
          <a:xfrm>
            <a:off x="162000" y="619200"/>
            <a:ext cx="8820000" cy="59054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739800" y="907920"/>
            <a:ext cx="70722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最少用（     ）个直角三角形可以拼一个              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548000" y="2800440"/>
            <a:ext cx="55918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最少用（     ）个等边三角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可以拼一个               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572120" y="4653000"/>
            <a:ext cx="55918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最少用（     ）个等边三角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可以拼一个          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276720" y="1701720"/>
            <a:ext cx="1584360" cy="863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9"/>
          <p:cNvSpPr/>
          <p:nvPr/>
        </p:nvSpPr>
        <p:spPr>
          <a:xfrm rot="10800000">
            <a:off x="3132000" y="3716280"/>
            <a:ext cx="1898640" cy="674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3132000" y="5516640"/>
            <a:ext cx="1800360" cy="720720"/>
          </a:xfrm>
          <a:prstGeom prst="parallelogram">
            <a:avLst>
              <a:gd name="adj" fmla="val 6245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2" descr="out"/>
          <p:cNvPicPr/>
          <p:nvPr/>
        </p:nvPicPr>
        <p:blipFill>
          <a:blip r:embed="rId1"/>
          <a:stretch/>
        </p:blipFill>
        <p:spPr>
          <a:xfrm>
            <a:off x="162000" y="620640"/>
            <a:ext cx="8820000" cy="592452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19"/>
          <p:cNvSpPr/>
          <p:nvPr/>
        </p:nvSpPr>
        <p:spPr>
          <a:xfrm rot="8158200">
            <a:off x="1770120" y="4790880"/>
            <a:ext cx="2411280" cy="241128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0"/>
          <p:cNvSpPr/>
          <p:nvPr/>
        </p:nvSpPr>
        <p:spPr>
          <a:xfrm flipH="1" rot="8158200">
            <a:off x="3504600" y="3112200"/>
            <a:ext cx="2412720" cy="2413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 flipH="1" rot="5456400">
            <a:off x="4715640" y="4296960"/>
            <a:ext cx="1751040" cy="17514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3"/>
          <p:cNvSpPr/>
          <p:nvPr/>
        </p:nvSpPr>
        <p:spPr>
          <a:xfrm rot="8158200">
            <a:off x="5925600" y="4690800"/>
            <a:ext cx="1152720" cy="1152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6"/>
          <p:cNvSpPr/>
          <p:nvPr/>
        </p:nvSpPr>
        <p:spPr>
          <a:xfrm flipH="1" rot="13618200">
            <a:off x="6726960" y="5519520"/>
            <a:ext cx="1152360" cy="115272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7"/>
          <p:cNvSpPr/>
          <p:nvPr/>
        </p:nvSpPr>
        <p:spPr>
          <a:xfrm flipH="1" rot="19018200">
            <a:off x="5123520" y="3860640"/>
            <a:ext cx="1152360" cy="1152720"/>
          </a:xfrm>
          <a:prstGeom prst="rtTriangle">
            <a:avLst/>
          </a:prstGeom>
          <a:solidFill>
            <a:srgbClr val="79b3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9"/>
          <p:cNvSpPr/>
          <p:nvPr/>
        </p:nvSpPr>
        <p:spPr>
          <a:xfrm rot="8158200">
            <a:off x="4623840" y="2620800"/>
            <a:ext cx="1152360" cy="2592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726" y="861"/>
                </a:moveTo>
                <a:lnTo>
                  <a:pt x="726" y="0"/>
                </a:lnTo>
                <a:lnTo>
                  <a:pt x="0" y="725"/>
                </a:lnTo>
                <a:lnTo>
                  <a:pt x="0" y="1633"/>
                </a:lnTo>
                <a:lnTo>
                  <a:pt x="726" y="86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0"/>
          <p:cNvSpPr/>
          <p:nvPr/>
        </p:nvSpPr>
        <p:spPr>
          <a:xfrm>
            <a:off x="1504800" y="1374840"/>
            <a:ext cx="63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用七巧板拼三角形，你能想出几种不同的拼法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"/>
                            </p:stCondLst>
                            <p:childTnLst>
                              <p:par>
                                <p:cTn id="31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2"/>
                            </p:stCondLst>
                            <p:childTnLst>
                              <p:par>
                                <p:cTn id="31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2"/>
                            </p:stCondLst>
                            <p:childTnLst>
                              <p:par>
                                <p:cTn id="32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4"/>
                            </p:stCondLst>
                            <p:childTnLst>
                              <p:par>
                                <p:cTn id="32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5"/>
                            </p:stCondLst>
                            <p:childTnLst>
                              <p:par>
                                <p:cTn id="32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6"/>
                            </p:stCondLst>
                            <p:childTnLst>
                              <p:par>
                                <p:cTn id="33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9A36-4628-4A93-BDDB-309D1CCD6AB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扑"/>
          <p:cNvPicPr/>
          <p:nvPr/>
        </p:nvPicPr>
        <p:blipFill>
          <a:blip r:embed="rId1"/>
          <a:stretch/>
        </p:blipFill>
        <p:spPr>
          <a:xfrm>
            <a:off x="179280" y="620640"/>
            <a:ext cx="8791560" cy="590544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7"/>
          <p:cNvSpPr/>
          <p:nvPr/>
        </p:nvSpPr>
        <p:spPr>
          <a:xfrm>
            <a:off x="-541440" y="0"/>
            <a:ext cx="10549080" cy="7389720"/>
          </a:xfrm>
          <a:prstGeom prst="cloudCallout">
            <a:avLst>
              <a:gd name="adj1" fmla="val 9699"/>
              <a:gd name="adj2" fmla="val 87421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490920" y="2133720"/>
            <a:ext cx="1873080" cy="3095640"/>
          </a:xfrm>
          <a:prstGeom prst="rtTriangle">
            <a:avLst/>
          </a:prstGeom>
          <a:solidFill>
            <a:srgbClr val="79b3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114560" y="2133720"/>
            <a:ext cx="1873080" cy="3095640"/>
          </a:xfrm>
          <a:prstGeom prst="rtTriangl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44444E-006 L 0.25989 4.44444E-006 E">
                                      <p:cBhvr>
                                        <p:cTn id="3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扑"/>
          <p:cNvPicPr/>
          <p:nvPr/>
        </p:nvPicPr>
        <p:blipFill>
          <a:blip r:embed="rId1"/>
          <a:stretch/>
        </p:blipFill>
        <p:spPr>
          <a:xfrm>
            <a:off x="179280" y="620640"/>
            <a:ext cx="8791560" cy="59054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3"/>
          <p:cNvSpPr/>
          <p:nvPr/>
        </p:nvSpPr>
        <p:spPr>
          <a:xfrm>
            <a:off x="-541440" y="0"/>
            <a:ext cx="10549080" cy="7389720"/>
          </a:xfrm>
          <a:prstGeom prst="cloudCallout">
            <a:avLst>
              <a:gd name="adj1" fmla="val 9699"/>
              <a:gd name="adj2" fmla="val 87421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3348000" y="2924280"/>
            <a:ext cx="2592360" cy="2592360"/>
          </a:xfrm>
          <a:prstGeom prst="rtTriangl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466560" y="2924280"/>
            <a:ext cx="2592720" cy="259236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763640" y="12304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Arial"/>
                <a:ea typeface="华文新魏"/>
              </a:rPr>
              <a:t>两个相同的直角三角形可以拼成长方形或正方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770040" y="7816680"/>
            <a:ext cx="64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22222E-006 L 0.3151 2.22222E-006 E">
                                      <p:cBhvr>
                                        <p:cTn id="5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扑"/>
          <p:cNvPicPr/>
          <p:nvPr/>
        </p:nvPicPr>
        <p:blipFill>
          <a:blip r:embed="rId1"/>
          <a:stretch/>
        </p:blipFill>
        <p:spPr>
          <a:xfrm>
            <a:off x="179280" y="620640"/>
            <a:ext cx="8791560" cy="59054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/>
          <p:cNvSpPr/>
          <p:nvPr/>
        </p:nvSpPr>
        <p:spPr>
          <a:xfrm>
            <a:off x="-541440" y="0"/>
            <a:ext cx="10549080" cy="7389720"/>
          </a:xfrm>
          <a:prstGeom prst="cloudCallout">
            <a:avLst>
              <a:gd name="adj1" fmla="val 9699"/>
              <a:gd name="adj2" fmla="val 87421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195640" y="123048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Arial"/>
                <a:ea typeface="华文新魏"/>
              </a:rPr>
              <a:t>两个相同的三角形可以拼成平行四边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8"/>
          <p:cNvSpPr/>
          <p:nvPr/>
        </p:nvSpPr>
        <p:spPr>
          <a:xfrm>
            <a:off x="1978200" y="2924280"/>
            <a:ext cx="3528720" cy="2460600"/>
          </a:xfrm>
          <a:custGeom>
            <a:avLst/>
            <a:gdLst/>
            <a:ahLst/>
            <a:rect l="l" t="t" r="r" b="b"/>
            <a:pathLst>
              <a:path w="1497" h="1044">
                <a:moveTo>
                  <a:pt x="454" y="0"/>
                </a:moveTo>
                <a:lnTo>
                  <a:pt x="0" y="1044"/>
                </a:lnTo>
                <a:lnTo>
                  <a:pt x="1497" y="1044"/>
                </a:lnTo>
                <a:lnTo>
                  <a:pt x="454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"/>
          <p:cNvSpPr/>
          <p:nvPr/>
        </p:nvSpPr>
        <p:spPr>
          <a:xfrm>
            <a:off x="4427640" y="1413000"/>
            <a:ext cx="3529080" cy="2460600"/>
          </a:xfrm>
          <a:custGeom>
            <a:avLst/>
            <a:gdLst/>
            <a:ahLst/>
            <a:rect l="l" t="t" r="r" b="b"/>
            <a:pathLst>
              <a:path w="1497" h="1044">
                <a:moveTo>
                  <a:pt x="454" y="0"/>
                </a:moveTo>
                <a:lnTo>
                  <a:pt x="0" y="1044"/>
                </a:lnTo>
                <a:lnTo>
                  <a:pt x="1497" y="1044"/>
                </a:lnTo>
                <a:lnTo>
                  <a:pt x="454" y="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093 L -0.15347 0.21875 E">
                                      <p:cBhvr>
                                        <p:cTn id="8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扑"/>
          <p:cNvPicPr/>
          <p:nvPr/>
        </p:nvPicPr>
        <p:blipFill>
          <a:blip r:embed="rId1"/>
          <a:stretch/>
        </p:blipFill>
        <p:spPr>
          <a:xfrm>
            <a:off x="179280" y="620640"/>
            <a:ext cx="8791560" cy="59054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3"/>
          <p:cNvSpPr/>
          <p:nvPr/>
        </p:nvSpPr>
        <p:spPr>
          <a:xfrm>
            <a:off x="-541440" y="0"/>
            <a:ext cx="10549080" cy="7389720"/>
          </a:xfrm>
          <a:prstGeom prst="cloudCallout">
            <a:avLst>
              <a:gd name="adj1" fmla="val 9699"/>
              <a:gd name="adj2" fmla="val 87421"/>
            </a:avLst>
          </a:prstGeom>
          <a:solidFill>
            <a:srgbClr val="ffffff">
              <a:alpha val="90000"/>
            </a:srgbClr>
          </a:solidFill>
          <a:ln w="93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611280" y="2205000"/>
            <a:ext cx="3529080" cy="2460600"/>
          </a:xfrm>
          <a:custGeom>
            <a:avLst/>
            <a:gdLst/>
            <a:ahLst/>
            <a:rect l="l" t="t" r="r" b="b"/>
            <a:pathLst>
              <a:path w="1497" h="1044">
                <a:moveTo>
                  <a:pt x="454" y="0"/>
                </a:moveTo>
                <a:lnTo>
                  <a:pt x="0" y="1044"/>
                </a:lnTo>
                <a:lnTo>
                  <a:pt x="1497" y="1044"/>
                </a:lnTo>
                <a:lnTo>
                  <a:pt x="454" y="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8"/>
          <p:cNvSpPr/>
          <p:nvPr/>
        </p:nvSpPr>
        <p:spPr>
          <a:xfrm>
            <a:off x="4211640" y="3213000"/>
            <a:ext cx="3529080" cy="2460600"/>
          </a:xfrm>
          <a:custGeom>
            <a:avLst/>
            <a:gdLst/>
            <a:ahLst/>
            <a:rect l="l" t="t" r="r" b="b"/>
            <a:pathLst>
              <a:path w="1497" h="1044">
                <a:moveTo>
                  <a:pt x="454" y="0"/>
                </a:moveTo>
                <a:lnTo>
                  <a:pt x="0" y="1044"/>
                </a:lnTo>
                <a:lnTo>
                  <a:pt x="1497" y="1044"/>
                </a:lnTo>
                <a:lnTo>
                  <a:pt x="454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"/>
          <p:cNvSpPr/>
          <p:nvPr/>
        </p:nvSpPr>
        <p:spPr>
          <a:xfrm>
            <a:off x="3059280" y="692280"/>
            <a:ext cx="3528720" cy="2460600"/>
          </a:xfrm>
          <a:custGeom>
            <a:avLst/>
            <a:gdLst/>
            <a:ahLst/>
            <a:rect l="l" t="t" r="r" b="b"/>
            <a:pathLst>
              <a:path w="1497" h="1044">
                <a:moveTo>
                  <a:pt x="454" y="0"/>
                </a:moveTo>
                <a:lnTo>
                  <a:pt x="0" y="1044"/>
                </a:lnTo>
                <a:lnTo>
                  <a:pt x="1497" y="1044"/>
                </a:lnTo>
                <a:lnTo>
                  <a:pt x="454" y="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"/>
          <p:cNvSpPr/>
          <p:nvPr/>
        </p:nvSpPr>
        <p:spPr>
          <a:xfrm flipH="1" flipV="1">
            <a:off x="2123280" y="980280"/>
            <a:ext cx="3529080" cy="2460600"/>
          </a:xfrm>
          <a:custGeom>
            <a:avLst/>
            <a:gdLst/>
            <a:ahLst/>
            <a:rect l="l" t="t" r="r" b="b"/>
            <a:pathLst>
              <a:path w="1497" h="1044">
                <a:moveTo>
                  <a:pt x="454" y="0"/>
                </a:moveTo>
                <a:lnTo>
                  <a:pt x="0" y="1044"/>
                </a:lnTo>
                <a:lnTo>
                  <a:pt x="1497" y="1044"/>
                </a:lnTo>
                <a:lnTo>
                  <a:pt x="454" y="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052720" y="12304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Arial"/>
                <a:ea typeface="华文新魏"/>
              </a:rPr>
              <a:t>三个相同的三角形可以拼成梯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6.2963E-006 L 0.04722 0.0736 E">
                                      <p:cBhvr>
                                        <p:cTn id="111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093 L 0.03559 -0.07523 E">
                                      <p:cBhvr>
                                        <p:cTn id="114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1"/>
                            </p:stCondLst>
                            <p:childTnLst>
                              <p:par>
                                <p:cTn id="1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2"/>
                            </p:stCondLst>
                            <p:childTnLst>
                              <p:par>
                                <p:cTn id="12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3.7037E-006 L -3.61111E-006 0.25116 E">
                                      <p:cBhvr>
                                        <p:cTn id="126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扑"/>
          <p:cNvPicPr/>
          <p:nvPr/>
        </p:nvPicPr>
        <p:blipFill>
          <a:blip r:embed="rId1"/>
          <a:stretch/>
        </p:blipFill>
        <p:spPr>
          <a:xfrm>
            <a:off x="179280" y="620640"/>
            <a:ext cx="8791560" cy="59054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/>
          <p:cNvSpPr/>
          <p:nvPr/>
        </p:nvSpPr>
        <p:spPr>
          <a:xfrm rot="10800000">
            <a:off x="3059280" y="4076280"/>
            <a:ext cx="1511280" cy="438120"/>
          </a:xfrm>
          <a:prstGeom prst="triangle">
            <a:avLst>
              <a:gd name="adj" fmla="val 28847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 rot="19719000">
            <a:off x="6157800" y="4190760"/>
            <a:ext cx="627120" cy="7412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 rot="20297400">
            <a:off x="2050920" y="4723920"/>
            <a:ext cx="1656000" cy="642960"/>
          </a:xfrm>
          <a:prstGeom prst="rtTriangl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 rot="1078800">
            <a:off x="4140360" y="4797360"/>
            <a:ext cx="1655640" cy="642960"/>
          </a:xfrm>
          <a:prstGeom prst="rtTriangl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 rot="20449800">
            <a:off x="4571640" y="4797000"/>
            <a:ext cx="1655640" cy="642960"/>
          </a:xfrm>
          <a:prstGeom prst="rtTriangl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flipV="1" rot="19679400">
            <a:off x="6536880" y="4797000"/>
            <a:ext cx="627120" cy="725400"/>
          </a:xfrm>
          <a:prstGeom prst="triangle">
            <a:avLst>
              <a:gd name="adj" fmla="val 50000"/>
            </a:avLst>
          </a:prstGeom>
          <a:solidFill>
            <a:srgbClr val="79b31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rot="10800000">
            <a:off x="4859280" y="4292280"/>
            <a:ext cx="1511280" cy="438120"/>
          </a:xfrm>
          <a:prstGeom prst="triangle">
            <a:avLst>
              <a:gd name="adj" fmla="val 28847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 rot="10800000">
            <a:off x="1403280" y="4365360"/>
            <a:ext cx="1511280" cy="438120"/>
          </a:xfrm>
          <a:prstGeom prst="triangle">
            <a:avLst>
              <a:gd name="adj" fmla="val 28847"/>
            </a:avLst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 rot="10800000">
            <a:off x="1258920" y="4723920"/>
            <a:ext cx="1511280" cy="438120"/>
          </a:xfrm>
          <a:prstGeom prst="triangle">
            <a:avLst>
              <a:gd name="adj" fmla="val 2884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3851280" y="692280"/>
            <a:ext cx="4824360" cy="2089080"/>
          </a:xfrm>
          <a:prstGeom prst="cloudCallout">
            <a:avLst>
              <a:gd name="adj1" fmla="val -61879"/>
              <a:gd name="adj2" fmla="val 38754"/>
            </a:avLst>
          </a:prstGeom>
          <a:solidFill>
            <a:srgbClr val="ffffcc"/>
          </a:solidFill>
          <a:ln w="93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意两个相同的三角形都可以拼成四边形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图片11111111"/>
          <p:cNvPicPr/>
          <p:nvPr/>
        </p:nvPicPr>
        <p:blipFill>
          <a:blip r:embed="rId1"/>
          <a:stretch/>
        </p:blipFill>
        <p:spPr>
          <a:xfrm>
            <a:off x="181080" y="620640"/>
            <a:ext cx="8781840" cy="5977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333440" y="1989000"/>
            <a:ext cx="65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99"/>
                </a:solidFill>
                <a:latin typeface="Arial"/>
                <a:ea typeface="华文彩云"/>
              </a:rPr>
              <a:t>你能用三角形拼出美丽的图案吗？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6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7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8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436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2"/>
          <p:cNvSpPr/>
          <p:nvPr/>
        </p:nvSpPr>
        <p:spPr>
          <a:xfrm flipH="1" rot="14110800">
            <a:off x="1196640" y="4205880"/>
            <a:ext cx="2493720" cy="9367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3"/>
          <p:cNvSpPr/>
          <p:nvPr/>
        </p:nvSpPr>
        <p:spPr>
          <a:xfrm flipH="1" rot="15558000">
            <a:off x="1105920" y="3467160"/>
            <a:ext cx="3286080" cy="90468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4"/>
          <p:cNvSpPr/>
          <p:nvPr/>
        </p:nvSpPr>
        <p:spPr>
          <a:xfrm flipH="1" rot="17062200">
            <a:off x="1628280" y="3073320"/>
            <a:ext cx="3573000" cy="100836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 flipH="1" rot="12365400">
            <a:off x="1834200" y="4941720"/>
            <a:ext cx="1440000" cy="7876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 rot="18233400">
            <a:off x="4451760" y="3462840"/>
            <a:ext cx="1160640" cy="1495440"/>
          </a:xfrm>
          <a:prstGeom prst="rtTriangl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5331600" y="3855240"/>
            <a:ext cx="1992960" cy="2026080"/>
            <a:chOff x="5331600" y="3855240"/>
            <a:chExt cx="1992960" cy="2026080"/>
          </a:xfrm>
        </p:grpSpPr>
        <p:sp>
          <p:nvSpPr>
            <p:cNvPr id="107" name="AutoShape 7"/>
            <p:cNvSpPr/>
            <p:nvPr/>
          </p:nvSpPr>
          <p:spPr>
            <a:xfrm rot="1992000">
              <a:off x="5638680" y="4115520"/>
              <a:ext cx="1387080" cy="1504800"/>
            </a:xfrm>
            <a:prstGeom prst="rtTriangl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8"/>
            <p:cNvSpPr/>
            <p:nvPr/>
          </p:nvSpPr>
          <p:spPr>
            <a:xfrm rot="12678600">
              <a:off x="5639040" y="4088880"/>
              <a:ext cx="1336320" cy="1558440"/>
            </a:xfrm>
            <a:prstGeom prst="rtTriangl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9"/>
          <p:cNvSpPr/>
          <p:nvPr/>
        </p:nvSpPr>
        <p:spPr>
          <a:xfrm flipH="1" rot="12782400">
            <a:off x="3281760" y="4903200"/>
            <a:ext cx="2936880" cy="190980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 flipH="1" rot="12782400">
            <a:off x="3832560" y="6079320"/>
            <a:ext cx="997200" cy="64764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/>
          <p:cNvSpPr/>
          <p:nvPr/>
        </p:nvSpPr>
        <p:spPr>
          <a:xfrm flipH="1" rot="7314600">
            <a:off x="6365520" y="2842920"/>
            <a:ext cx="1657440" cy="137844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5"/>
          <p:cNvSpPr/>
          <p:nvPr/>
        </p:nvSpPr>
        <p:spPr>
          <a:xfrm>
            <a:off x="6137280" y="1157400"/>
            <a:ext cx="915840" cy="2803320"/>
          </a:xfrm>
          <a:custGeom>
            <a:avLst/>
            <a:gdLst/>
            <a:ahLst/>
            <a:rect l="l" t="t" r="r" b="b"/>
            <a:pathLst>
              <a:path w="726" h="2222">
                <a:moveTo>
                  <a:pt x="0" y="2132"/>
                </a:moveTo>
                <a:lnTo>
                  <a:pt x="0" y="0"/>
                </a:lnTo>
                <a:lnTo>
                  <a:pt x="726" y="1043"/>
                </a:lnTo>
                <a:lnTo>
                  <a:pt x="0" y="2222"/>
                </a:ln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 flipH="1" rot="12313200">
            <a:off x="6699960" y="1292040"/>
            <a:ext cx="623880" cy="2300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3327600">
            <a:off x="6189480" y="1015560"/>
            <a:ext cx="809640" cy="5940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5:45Z</dcterms:modified>
  <cp:revision>13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