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A11-1ED5-46CB-A755-02D764AD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958-AE1B-4926-B898-718D01F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87A-0F84-4544-938C-E7E2C123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FCC-1410-420A-A6F7-522B68DE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9CAB-C324-4127-B422-F724D9A2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F5D0-282E-4D4F-99E0-11EEF1C9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011B-F907-4CFC-98BC-5431245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7117-DFFB-4AE4-AD1E-7DC15D51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685E-F306-4D56-98A6-6124F5F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921-549B-492F-9E70-77D8A93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69FE-0CB4-435B-81AF-9CDAE75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4A9-776B-4BB1-AA59-8415F3B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EEA3-6ED8-4E4C-A56E-C1BE32A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4CE-6B7F-4D8F-99C4-51500E1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F4B9-77A0-4E20-B6B4-F90CBBC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955-EF09-4554-835C-5D3A904B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AB17-48AB-4369-8F73-EA9B8A40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7DC-81A0-4CF9-A414-D3DD41A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812-BE01-4C56-9CE7-991B6A9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DCE-D7D7-4012-B621-3D7E396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DED-42BB-47ED-B52F-DA8AF00A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992-2F52-4525-9E90-ACF00382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AC8-E186-4D9C-8102-59F8C3C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0F3-8815-4477-9529-FAB41DF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4CF-2F1C-4AE8-92E9-51B0C1A9D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0DB-73C3-44C7-AC64-EA7443B9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38160" y="10699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80820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31112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2326320" y="6032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矩形 1" descr=""/>
          <p:cNvPicPr/>
          <p:nvPr/>
        </p:nvPicPr>
        <p:blipFill>
          <a:blip r:embed="rId1"/>
          <a:stretch/>
        </p:blipFill>
        <p:spPr>
          <a:xfrm>
            <a:off x="1452600" y="1066680"/>
            <a:ext cx="63928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24000" y="1916280"/>
            <a:ext cx="86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远近高低各不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向远处、近处、高处、低处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庐山景色都不相同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19120" y="1628640"/>
            <a:ext cx="8624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识庐山真面目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我”没有认清庐山的真面目全景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缘身在此山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因为我站在庐山中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175248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如你现在就面对着庐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我站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仿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80880" y="53352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歌思想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第一、二句赞美庐山景色的雄奇壮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地三、四句寓理：要想对某事物有全面的、符合实际的认识，就必须站在各管的立场上，来观察分析事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5"/>
          <p:cNvSpPr/>
          <p:nvPr/>
        </p:nvSpPr>
        <p:spPr>
          <a:xfrm>
            <a:off x="147636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6443640" y="335772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5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9"/>
          <p:cNvSpPr/>
          <p:nvPr/>
        </p:nvSpPr>
        <p:spPr>
          <a:xfrm>
            <a:off x="6443640" y="1268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1"/>
          <p:cNvSpPr/>
          <p:nvPr/>
        </p:nvSpPr>
        <p:spPr>
          <a:xfrm>
            <a:off x="3733560" y="90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68367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意深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3492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   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山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690840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幻莫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349236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9"/>
          <p:cNvSpPr/>
          <p:nvPr/>
        </p:nvSpPr>
        <p:spPr>
          <a:xfrm>
            <a:off x="3870000" y="352116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   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面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1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"/>
          <p:cNvSpPr/>
          <p:nvPr/>
        </p:nvSpPr>
        <p:spPr>
          <a:xfrm>
            <a:off x="4066200" y="213372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近高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4"/>
          <p:cNvSpPr/>
          <p:nvPr/>
        </p:nvSpPr>
        <p:spPr>
          <a:xfrm>
            <a:off x="3133800" y="393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8392680" y="19706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庐山奇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326880" y="6086520"/>
            <a:ext cx="67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533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的巧妙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作为一种修辞方法，使用字相等、结构形式相同，意义对成的一对短语后句子来表达两个相对或相近意思的语言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M_001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447920" y="2940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学习结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5B0-25C2-4E39-955F-0D2DAB7DAC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1499862006531192216666"/>
          <p:cNvPicPr/>
          <p:nvPr/>
        </p:nvPicPr>
        <p:blipFill>
          <a:blip r:embed="rId1"/>
          <a:srcRect l="0" t="0" r="0" b="82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1481832006531192025557"/>
          <p:cNvPicPr/>
          <p:nvPr/>
        </p:nvPicPr>
        <p:blipFill>
          <a:blip r:embed="rId1"/>
          <a:srcRect l="0" t="0" r="0" b="8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莫 腊 浑 疑 豚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1773360"/>
            <a:ext cx="8353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35920" y="2276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莫 腊 浑 疑 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人莫入  腊梅  浑浊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  豚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岭  侧面  缘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叠  重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理解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1413000"/>
            <a:ext cx="88390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：高大山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：高而尖的山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：认识，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缘：因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2400" y="1690560"/>
            <a:ext cx="84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79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看成岭侧成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着看，庐山是一条山岭，连绵不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着看却仿佛变成了一座山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2:26Z</dcterms:modified>
  <cp:revision>4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