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1258920" y="155736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Arial"/>
                <a:ea typeface="楷体_GB2312"/>
              </a:rPr>
              <a:t>Unit 3  At the z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61540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"/>
          <p:cNvSpPr/>
          <p:nvPr/>
        </p:nvSpPr>
        <p:spPr>
          <a:xfrm>
            <a:off x="2484360" y="43657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talk/Draw and 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giraffe, tall, short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fat, 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tall/short/f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tall/ short/ fat.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，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+ adj.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描述动物的外形特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，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自己简笔画出常见小动物，并运用学到的语言结构描述自己的作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 Let’s learn/Let’s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thin, fat, tall, 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’s fat/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thin, fat, tall, short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四个形容词。注意告知学生它们是两对反义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提供的语境中运用这四个词来描述动物外形特征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指令并做出相应的动作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4" name="文本框 1"/>
          <p:cNvSpPr/>
          <p:nvPr/>
        </p:nvSpPr>
        <p:spPr>
          <a:xfrm>
            <a:off x="1295280" y="64119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字母语音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p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语音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isten and 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听音写字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通过听例词发音，观察例词结构中共有的字母，知道字母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在单词中发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音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教师的引导下说出例词由哪些音构成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之前练习的基础上根据给出几个独立的音试着拼出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四线三格中正确书写单词，注意到字母间距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57120" cy="22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215040" y="3000240"/>
            <a:ext cx="31428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71680" y="1928880"/>
          <a:ext cx="8001000" cy="374004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1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会话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talk/Make a mon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ome her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hildren, long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ort, big, sm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 has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教师的帮助下理解对话大意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理解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Come here. It has …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语用功能，并在图片或动作等帮助下，使用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 has …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描述动物的身体部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朗读对话并能进行角色表演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通过图片和教师讲解能够发挥想象力创造出属于自己的“怪物”，并简单描述其特点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1680" y="1928880"/>
          <a:ext cx="8001000" cy="381780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38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 Let’s learn/Let’s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词汇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ort, long, small,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b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句型：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It ha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听、说、认读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ort, long, small, big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等单词。注意告知学生它们是两对反义词，引导学生发现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ort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的两重意义：“短”和“矮”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语境中运用这些单词描述动物外形特点。如果有时间可以复习第一单元的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he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，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he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，从而拓展到人的外貌描述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: He/She is tall. He/She has big ey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听懂指令并做出相应的动作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课时教学建议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71680" y="1928880"/>
          <a:ext cx="8001000" cy="4092480"/>
        </p:xfrm>
        <a:graphic>
          <a:graphicData uri="http://schemas.openxmlformats.org/drawingml/2006/table">
            <a:tbl>
              <a:tblPr/>
              <a:tblGrid>
                <a:gridCol w="785880"/>
                <a:gridCol w="928800"/>
                <a:gridCol w="2712960"/>
                <a:gridCol w="3573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课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主要教学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e1e20"/>
                          </a:solidFill>
                          <a:latin typeface="Calibri"/>
                          <a:ea typeface="华文楷体"/>
                        </a:rPr>
                        <a:t>教学要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3663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第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课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综合技能活动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ch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Let’s 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ory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1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和语境的帮助下认读句子，并且能够以文段中的句子为范本，和同伴一起尝试编造简单的谜语。（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Start to read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2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检测部分要求学生能够熟练地听、说本单元对话部分的主要句型，能听、说、认读词汇部分的所有单词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3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学会唱歌曲</a:t>
                      </a: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At the zoo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4. </a:t>
                      </a:r>
                      <a:r>
                        <a:rPr b="0" lang="zh-CN" sz="1800" spc="-1" strike="noStrike">
                          <a:solidFill>
                            <a:srgbClr val="4597a0"/>
                          </a:solidFill>
                          <a:latin typeface="Calibri"/>
                          <a:ea typeface="华文楷体"/>
                        </a:rPr>
                        <a:t>能够在图片的帮助下理解故事内容，拓展动物词汇，理解猩猩和猴子的区别，在教师的帮助下表演故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943D-D9A9-436C-92E8-979BBF369A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5:16Z</dcterms:modified>
  <cp:revision>1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