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9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BD0E-BA0A-45C8-8346-F2FB6C8A8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B2C0-B356-4B92-BB4E-B9394A768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成长教育              三年级上册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6FCD-9C34-4C8F-9FBD-03F03BB1F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FA04-F290-455B-84B9-E812C1EE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67A2-6B56-439D-9940-B69B61BA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D1E2-01D0-4523-A23E-2BA50C637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EC6C-3FE5-461D-B0CA-4F90A2A9A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05D9-1119-46BF-8B5C-35C90DBD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2FE7-57D8-41D3-9039-374CA42F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6321-88C2-4858-BFE1-B810F55D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5FA7-AAA3-40D4-9EC3-10E043F8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F94C-2434-42B9-9BDD-6512E632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04AC-C407-4E42-A97A-7E6DA7DE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9EBF-A2F8-4B4E-AEAB-DBABCA2F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E56C-5FAA-48F2-8AF5-0B0D02E6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6478-6D68-458A-90D0-3534D710E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4"/>
          <p:cNvSpPr/>
          <p:nvPr/>
        </p:nvSpPr>
        <p:spPr>
          <a:xfrm>
            <a:off x="557280" y="1754280"/>
            <a:ext cx="81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我爱家乡的山和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/>
          <p:cNvSpPr/>
          <p:nvPr/>
        </p:nvSpPr>
        <p:spPr>
          <a:xfrm>
            <a:off x="2360880" y="589104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阳关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白马塔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DSC001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428575200676115054883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板块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物产真丰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的家乡不仅有美丽的风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还盛产各种物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你想一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家乡有哪些值得我们骄傲的物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Y0024"/>
          <p:cNvPicPr/>
          <p:nvPr/>
        </p:nvPicPr>
        <p:blipFill>
          <a:blip r:embed="rId1"/>
          <a:stretch/>
        </p:blipFill>
        <p:spPr>
          <a:xfrm>
            <a:off x="-1833480" y="-1428840"/>
            <a:ext cx="12810960" cy="97156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0" y="333360"/>
            <a:ext cx="62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468360" y="620640"/>
            <a:ext cx="64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板块二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:    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物产真丰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468360" y="2349360"/>
            <a:ext cx="61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们的家乡不仅有美丽的风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还盛产各种物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请你想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家乡有哪些值得我们骄傲的物产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们的家乡物产可丰富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有各种粮食作物和经济作物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0511507350429005"/>
          <p:cNvPicPr/>
          <p:nvPr/>
        </p:nvPicPr>
        <p:blipFill>
          <a:blip r:embed="rId1"/>
          <a:stretch/>
        </p:blipFill>
        <p:spPr>
          <a:xfrm>
            <a:off x="0" y="1700280"/>
            <a:ext cx="9468000" cy="515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C06423977"/>
          <p:cNvPicPr/>
          <p:nvPr/>
        </p:nvPicPr>
        <p:blipFill>
          <a:blip r:embed="rId1"/>
          <a:stretch/>
        </p:blipFill>
        <p:spPr>
          <a:xfrm>
            <a:off x="0" y="-458640"/>
            <a:ext cx="9901080" cy="777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C641508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还有好多好吃的水果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葡萄1"/>
          <p:cNvPicPr/>
          <p:nvPr/>
        </p:nvPicPr>
        <p:blipFill>
          <a:blip r:embed="rId1"/>
          <a:stretch/>
        </p:blipFill>
        <p:spPr>
          <a:xfrm>
            <a:off x="0" y="1370160"/>
            <a:ext cx="9144000" cy="548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李广杏"/>
          <p:cNvPicPr/>
          <p:nvPr/>
        </p:nvPicPr>
        <p:blipFill>
          <a:blip r:embed="rId1"/>
          <a:stretch/>
        </p:blipFill>
        <p:spPr>
          <a:xfrm>
            <a:off x="-6324480" y="-4724280"/>
            <a:ext cx="17436960" cy="1304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成长教育     三年级上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一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爱家乡的山和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月牙泉8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1187280" y="765000"/>
            <a:ext cx="734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华文新魏"/>
              </a:rPr>
              <a:t>敦　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紫胭桃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哈密瓜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10310763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1027518833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41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还有一些其他的物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100398_1"/>
          <p:cNvPicPr/>
          <p:nvPr/>
        </p:nvPicPr>
        <p:blipFill>
          <a:blip r:embed="rId1"/>
          <a:stretch/>
        </p:blipFill>
        <p:spPr>
          <a:xfrm>
            <a:off x="0" y="1413000"/>
            <a:ext cx="5003640" cy="5445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甘草1"/>
          <p:cNvPicPr/>
          <p:nvPr/>
        </p:nvPicPr>
        <p:blipFill>
          <a:blip r:embed="rId2"/>
          <a:stretch/>
        </p:blipFill>
        <p:spPr>
          <a:xfrm>
            <a:off x="5003640" y="1413000"/>
            <a:ext cx="4140360" cy="54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们这儿还生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水晶石眼镜1"/>
          <p:cNvPicPr/>
          <p:nvPr/>
        </p:nvPicPr>
        <p:blipFill>
          <a:blip r:embed="rId1"/>
          <a:stretch/>
        </p:blipFill>
        <p:spPr>
          <a:xfrm>
            <a:off x="4284720" y="1341360"/>
            <a:ext cx="4859280" cy="5516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夜光杯1"/>
          <p:cNvPicPr/>
          <p:nvPr/>
        </p:nvPicPr>
        <p:blipFill>
          <a:blip r:embed="rId2"/>
          <a:stretch/>
        </p:blipFill>
        <p:spPr>
          <a:xfrm>
            <a:off x="0" y="1413000"/>
            <a:ext cx="4211640" cy="54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Y0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611280" y="206064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ff5050"/>
                </a:solidFill>
                <a:latin typeface="Arial"/>
              </a:rPr>
              <a:t>积极宣传家乡的物产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5050"/>
                </a:solidFill>
                <a:latin typeface="Arial"/>
              </a:rPr>
              <a:t>让它们走向全国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5050"/>
                </a:solidFill>
                <a:latin typeface="Arial"/>
              </a:rPr>
              <a:t>流向世界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5050"/>
                </a:solidFill>
                <a:latin typeface="Arial"/>
              </a:rPr>
              <a:t>是我们热爱家乡的重要举动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ff5050"/>
                </a:solidFill>
                <a:latin typeface="Arial"/>
              </a:rPr>
              <a:t>我们各自挑选一样产品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5050"/>
                </a:solidFill>
                <a:latin typeface="Arial"/>
              </a:rPr>
              <a:t>开展一次为家乡物产写解说词的比赛吧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5050"/>
                </a:solidFill>
                <a:latin typeface="Arial"/>
              </a:rPr>
              <a:t>看谁写得最好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258920" y="836640"/>
            <a:ext cx="35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小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Y0010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755640" y="76500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敦煌李光杏，是我们家乡的地方名优特产 。它色泽金黄，汁多味甜，皮薄肉厚，纤维较少，香气浓郁。李光杏含有糖、钙、磷、铁、维生素等物质，营养丰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李光杏的含糖量很高，不易保存，但用李光杏制成的杏干酸甜可口，堪称一绝，可以补偿一些吃不到新鲜的李光杏的缺憾。另外，李光杏干的果肉很厚实，很有嚼头。 李光杏熬制的杏皮茶非常好喝。 李光杏是敦煌馈赠亲朋好友的高档水果 。你一定要尝尝 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ff5050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5050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ff5050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5050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5050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5050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5050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5050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5050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5050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5050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5050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5050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A67C-ACBA-4407-891D-CB4DAC4ADC8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Y0033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2124000" y="0"/>
            <a:ext cx="770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2376360" y="511200"/>
            <a:ext cx="67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板块一    家乡美如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692360" y="1628640"/>
            <a:ext cx="684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Arial"/>
              </a:rPr>
              <a:t>说说看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2360" y="2565360"/>
            <a:ext cx="705636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我们的家乡都有哪些好地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2268360" y="3284640"/>
            <a:ext cx="561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 你最喜欢家乡的什么地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莫高窟1"/>
          <p:cNvPicPr/>
          <p:nvPr/>
        </p:nvPicPr>
        <p:blipFill>
          <a:blip r:embed="rId1"/>
          <a:stretch/>
        </p:blipFill>
        <p:spPr>
          <a:xfrm>
            <a:off x="0" y="0"/>
            <a:ext cx="9144000" cy="6648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鸣沙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雅丹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月牙泉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胡杨林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汉长城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05:51:07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6T15:52:39Z</dcterms:modified>
  <cp:revision>3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