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7B8-53C5-47B1-A259-23903BE9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93F-4723-4966-87CA-20E1353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288-C5E9-444B-92C4-BB05DAF1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5D3-8CEF-4651-9B5A-A22FEE9F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6943-6ED0-49E5-A129-BA1E26CA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33B7-11A5-45D4-A57A-DF036E75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2F10-E2EB-4BBE-9E78-5DCB1611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0169-65D7-4AF1-956A-FC059D0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3957-2B2A-46E1-A902-4AB7229B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33B3-E654-4BB6-8FCC-4DA6FE7F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2363-50C2-46CA-8469-93E038A1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864-0A96-4F1E-A436-EF1830FF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E268-E717-4564-B4F2-2E483A20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8B5D-1AEC-48BD-A964-7DE0F1E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58C3-9112-4477-A5FF-3A9DE054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4BE2-BBBD-4A86-9EE1-C467A13F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9E70-3E1C-4D45-8A31-A39B64B2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D699-33F3-4D8A-9A4C-36DBCED3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07CD-71B8-4C2C-899B-90A1232F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D0A0-A7B3-4742-9A00-9C98AD7D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8E1AC-D41B-4E50-BDC5-2F2BE8A5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775D9-381F-4A6A-BD6E-3AECB871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DE3-FC17-4C39-819A-22A2028D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3020-D9AF-4769-8558-AAF19F4E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9644-E2A7-4E32-8799-4593366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4C45-2DF4-48C0-AC4B-ABF3131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BE13-18EB-457E-933C-CC497EF2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19BC-D024-4139-912D-4107988A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475D-DE02-4F2B-83FB-2E3B7770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7953-A57A-4509-BFC3-467764DB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F583-66B8-422C-960D-A8612139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FB10-2EBB-46DC-83E8-89511FCF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EE6D-3673-4BE6-A463-B1FD5829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E78-CEBD-4B3F-B977-12D5B917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B36E-2BDC-4773-B077-D3120325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C686A-2076-4306-9D6D-8F38E58A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A7419-917D-4DC1-B3A5-B8D2D75E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7BB1-9D8E-4A7A-BF6E-72768452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3B47-1D04-40FD-8766-4395AFE4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75E86-E3CB-4339-BB7F-C2112AFB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A033-BEEB-406B-BB46-ECC2A4AB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CDD1-8695-4C19-B0A7-ED981D9F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7406-BC56-435E-B6BD-E625D0ED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31F32-2B3D-4E58-A146-75C59BE8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2CB-C654-4A19-81AB-C0A49BB6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3C401-3E39-4585-A59D-5A64ED35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92E0C-A8B0-45CF-836C-3FB9DCFC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7910A-1A64-4CE6-A18A-8932869F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455C-D772-4988-A84D-BFBCCC8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F887-5F51-4DFF-8DFD-82F7194D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B47A8-8F9C-4F4F-B856-9677ADA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4688-15CB-4209-9F2D-53D82EA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31C64-534E-436F-89CF-12934532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50167-2D54-49D4-B8BC-2E11D723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C79D8-C88D-4E20-9577-B8599F08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A85-DE6C-4B30-B5CD-3D000E1F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4782E-3A9B-4661-9C8C-2D1D85CA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0699-7AF4-438D-A8AD-C3FAE9FE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35F9-5CE8-4183-93E8-DF611077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D99A-4F64-4D85-86ED-A13367DA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C42C0-06FA-465A-BDFA-EE2B609D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102D3-285E-469F-8039-ABC6D012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B968D-C829-4577-9EFB-0C633515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D793-264B-44C9-8CA0-D93545CB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65873-C355-473F-8B99-F5E71A18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A411-D9C8-449C-81C8-3FE9F1FA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344-053E-40EB-BA41-CF67E82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E27B6-8E0D-45C5-A6B7-8B1F1897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7F659-B731-4E63-A8EB-9D701304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D8DE5-2086-455B-BE36-8E0E3E83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2DF-7B2F-46D0-ADE5-28A3F3C6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F51-6094-4C36-B40E-6023B7C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29292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29292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796F-09DE-401B-9693-4DBDFC5CA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494D-CCBE-43EC-9918-92EA4C57B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66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66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FE82-353F-4E88-9D3C-D00BCCA9B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29292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29292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49A0-88FD-4D8B-B924-EDDCA412B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70F-6CBF-4DE0-8297-8EFAE1A775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66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cc66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6371-74D2-4EDC-8E5B-4225869C6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SC20030825095142718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0" y="4848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6403320" y="304920"/>
            <a:ext cx="182628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2929"/>
                </a:solidFill>
                <a:latin typeface="Arial"/>
                <a:ea typeface="华文新魏"/>
              </a:rPr>
              <a:t>我的伯父鲁迅先生</a:t>
            </a: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矩形 6"/>
          <p:cNvSpPr/>
          <p:nvPr/>
        </p:nvSpPr>
        <p:spPr>
          <a:xfrm>
            <a:off x="181980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292929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5742-F4EA-4D6E-840B-AAC2279578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66ff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9" name="Picture 8" descr="luxun001"/>
          <p:cNvPicPr/>
          <p:nvPr/>
        </p:nvPicPr>
        <p:blipFill>
          <a:blip r:embed="rId16"/>
          <a:stretch/>
        </p:blipFill>
        <p:spPr>
          <a:xfrm>
            <a:off x="324000" y="549360"/>
            <a:ext cx="3657600" cy="54133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4282920" y="1413000"/>
            <a:ext cx="48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宋体"/>
              </a:rPr>
              <a:t>鲁迅（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1881——1936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宋体"/>
              </a:rPr>
              <a:t>）：现代文学家、思想家、革命家。本名周树人。字豫才，浙江绍兴人。中国新文化的旗手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4"/>
          <p:cNvSpPr/>
          <p:nvPr/>
        </p:nvSpPr>
        <p:spPr>
          <a:xfrm>
            <a:off x="755640" y="14130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课文中的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指的是谁？作者回忆了鲁迅先生的那几件事？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55640" y="33084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画出你认为含义深刻的句子，体会体会，读不懂时与同桌讨论。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6"/>
          <p:cNvSpPr/>
          <p:nvPr/>
        </p:nvSpPr>
        <p:spPr>
          <a:xfrm>
            <a:off x="3060720" y="76500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追悼会上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3060720" y="1790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谈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水浒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》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3060720" y="2798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谈“碰壁”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3060720" y="380700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救助车夫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3060720" y="481500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楷体_GB2312"/>
              </a:rPr>
              <a:t>女佣的回忆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scan0008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5580000" y="1844640"/>
            <a:ext cx="302436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哈哈，还是我的记性好。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35344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你想，四周围黑洞洞的，还不容易碰壁吗？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95280" y="692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宋体"/>
              </a:rPr>
              <a:t>伯父摸着胡子，笑了笑，说：</a:t>
            </a:r>
            <a:r>
              <a:rPr b="1" lang="zh-CN" sz="4000" spc="-1" strike="noStrike">
                <a:solidFill>
                  <a:srgbClr val="292929"/>
                </a:solidFill>
                <a:latin typeface="宋体"/>
                <a:ea typeface="宋体"/>
              </a:rPr>
              <a:t>“</a:t>
            </a: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宋体"/>
              </a:rPr>
              <a:t>哈哈！还是我的记性好。</a:t>
            </a:r>
            <a:r>
              <a:rPr b="1" lang="zh-CN" sz="4000" spc="-1" strike="noStrike">
                <a:solidFill>
                  <a:srgbClr val="292929"/>
                </a:solidFill>
                <a:latin typeface="宋体"/>
                <a:ea typeface="宋体"/>
              </a:rPr>
              <a:t>”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11280" y="4508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宋体"/>
              </a:rPr>
              <a:t>他的脸上不再有那种慈祥的愉快的表情了，变得那么严肃。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文本框 1"/>
          <p:cNvSpPr/>
          <p:nvPr/>
        </p:nvSpPr>
        <p:spPr>
          <a:xfrm>
            <a:off x="104760" y="6200640"/>
            <a:ext cx="71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292929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292929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292929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小资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当时的社会非常黑暗，劳动人民过着饥寒交迫暗无天日的悲惨生活，鲁迅先生写了许多文章，抨击国民党反动派的黑暗统治，揭露旧社会的罪恶，号召人民奋起抗争，引起反动派的极度恐慌，他们千方百计地查禁鲁迅的作品，不允许发表，而且对他本人进行了残酷的迫害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826920" y="836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毛泽东主席对鲁迅先生的评价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鲁迅是中国文化革命的主将，他不但是伟大的文学家，而且是伟大的思想家和伟大的革命家。鲁迅的骨头是最硬的，他是最正确、最勇敢、最坚决、最忠实、最热忱的空前的民族英雄。鲁迅的方向，就是中华民族新文化的方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SC20030825095142515"/>
          <p:cNvPicPr/>
          <p:nvPr/>
        </p:nvPicPr>
        <p:blipFill>
          <a:blip r:embed="rId1"/>
          <a:srcRect l="10747" t="15743" r="57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0" y="4848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07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42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