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lephant.wav" ContentType="audio/x-wav"/>
  <Override PartName="/ppt/media/image23.jpeg" ContentType="image/jpeg"/>
  <Override PartName="/ppt/media/image21.png" ContentType="image/png"/>
  <Override PartName="/ppt/media/image20.jpeg" ContentType="image/jpeg"/>
  <Override PartName="/ppt/media/002.wav" ContentType="audio/x-wav"/>
  <Override PartName="/ppt/media/image10.jpeg" ContentType="image/jpeg"/>
  <Override PartName="/ppt/media/image19.jpeg" ContentType="image/jpeg"/>
  <Override PartName="/ppt/media/image42.jpeg" ContentType="image/jpeg"/>
  <Override PartName="/ppt/media/sceap.wav" ContentType="audio/x-wav"/>
  <Override PartName="/ppt/media/image4.jpeg" ContentType="image/jpeg"/>
  <Override PartName="/ppt/media/image17.jpeg" ContentType="image/jpeg"/>
  <Override PartName="/ppt/media/001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.png" ContentType="image/png"/>
  <Override PartName="/ppt/media/image25.jpeg" ContentType="image/jpeg"/>
  <Override PartName="/ppt/media/goats.wav" ContentType="audio/x-wav"/>
  <Override PartName="/ppt/media/image29.png" ContentType="image/png"/>
  <Override PartName="/ppt/media/image30.jpeg" ContentType="image/jpeg"/>
  <Override PartName="/ppt/media/image31.jpeg" ContentType="image/jpeg"/>
  <Override PartName="/ppt/media/frog.wav" ContentType="audio/x-wav"/>
  <Override PartName="/ppt/media/zebra.wav" ContentType="audio/x-wav"/>
  <Override PartName="/ppt/media/horse.wav" ContentType="audio/x-wav"/>
  <Override PartName="/ppt/media/image12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003.wav" ContentType="audio/x-wav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2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8B63-FA35-4FE6-8E42-B5051A339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2A4A-8980-4B9C-9648-3CAEC1084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92A-C327-4920-9629-30A29335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9FF-D31A-455C-80D1-2922830D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277-AA95-4D66-8616-6EA32311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544-1F5D-4ABC-A5B9-286AF9B8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53F-454F-472B-9291-CC4A75AF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FAC-CA2B-404D-ACE3-3FA733B4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0BE-56D0-4DED-B323-EEBCEEAE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EAE-43D4-44E4-985C-93467D83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9BE-8D3A-4A35-9727-F67921E2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FEE-EB1F-4DA4-896C-F1232C49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BE8-8616-40D8-8A4B-E3EBED97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704-9C61-42E3-9459-967ED02F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FD8C-21B5-48AD-AA94-D063E7B4E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2.xml"/><Relationship Id="rId3" Type="http://schemas.openxmlformats.org/officeDocument/2006/relationships/audio" Target="../media/002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audio" Target="../media/003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3.xml"/><Relationship Id="rId3" Type="http://schemas.openxmlformats.org/officeDocument/2006/relationships/image" Target="../media/image21.png"/><Relationship Id="rId4" Type="http://schemas.openxmlformats.org/officeDocument/2006/relationships/slide" Target="slide14.xml"/><Relationship Id="rId5" Type="http://schemas.openxmlformats.org/officeDocument/2006/relationships/image" Target="../media/image22.jpeg"/><Relationship Id="rId6" Type="http://schemas.openxmlformats.org/officeDocument/2006/relationships/slide" Target="slide14.xml"/><Relationship Id="rId7" Type="http://schemas.openxmlformats.org/officeDocument/2006/relationships/image" Target="../media/image23.jpeg"/><Relationship Id="rId8" Type="http://schemas.openxmlformats.org/officeDocument/2006/relationships/audio" Target="../media/elephant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5.xml"/><Relationship Id="rId3" Type="http://schemas.openxmlformats.org/officeDocument/2006/relationships/audio" Target="../media/001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2.xml"/><Relationship Id="rId3" Type="http://schemas.openxmlformats.org/officeDocument/2006/relationships/audio" Target="../media/003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6.xml"/><Relationship Id="rId3" Type="http://schemas.openxmlformats.org/officeDocument/2006/relationships/image" Target="../media/image24.jpeg"/><Relationship Id="rId4" Type="http://schemas.openxmlformats.org/officeDocument/2006/relationships/slide" Target="slide17.xml"/><Relationship Id="rId5" Type="http://schemas.openxmlformats.org/officeDocument/2006/relationships/image" Target="../media/image25.jpeg"/><Relationship Id="rId6" Type="http://schemas.openxmlformats.org/officeDocument/2006/relationships/slide" Target="slide17.xml"/><Relationship Id="rId7" Type="http://schemas.openxmlformats.org/officeDocument/2006/relationships/image" Target="../media/image26.png"/><Relationship Id="rId8" Type="http://schemas.openxmlformats.org/officeDocument/2006/relationships/audio" Target="../media/frog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8.xml"/><Relationship Id="rId3" Type="http://schemas.openxmlformats.org/officeDocument/2006/relationships/audio" Target="../media/001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audio" Target="../media/003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0.xml"/><Relationship Id="rId3" Type="http://schemas.openxmlformats.org/officeDocument/2006/relationships/image" Target="../media/image27.jpeg"/><Relationship Id="rId4" Type="http://schemas.openxmlformats.org/officeDocument/2006/relationships/slide" Target="slide20.xml"/><Relationship Id="rId5" Type="http://schemas.openxmlformats.org/officeDocument/2006/relationships/image" Target="../media/image28.jpeg"/><Relationship Id="rId6" Type="http://schemas.openxmlformats.org/officeDocument/2006/relationships/slide" Target="slide19.xml"/><Relationship Id="rId7" Type="http://schemas.openxmlformats.org/officeDocument/2006/relationships/image" Target="../media/image29.png"/><Relationship Id="rId8" Type="http://schemas.openxmlformats.org/officeDocument/2006/relationships/audio" Target="../media/zebra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1.xml"/><Relationship Id="rId3" Type="http://schemas.openxmlformats.org/officeDocument/2006/relationships/audio" Target="../media/00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audio" Target="../media/003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3.xml"/><Relationship Id="rId3" Type="http://schemas.openxmlformats.org/officeDocument/2006/relationships/image" Target="../media/image21.png"/><Relationship Id="rId4" Type="http://schemas.openxmlformats.org/officeDocument/2006/relationships/slide" Target="slide23.xml"/><Relationship Id="rId5" Type="http://schemas.openxmlformats.org/officeDocument/2006/relationships/image" Target="../media/image30.jpeg"/><Relationship Id="rId6" Type="http://schemas.openxmlformats.org/officeDocument/2006/relationships/slide" Target="slide22.xml"/><Relationship Id="rId7" Type="http://schemas.openxmlformats.org/officeDocument/2006/relationships/image" Target="../media/image31.jpeg"/><Relationship Id="rId8" Type="http://schemas.openxmlformats.org/officeDocument/2006/relationships/audio" Target="../media/goats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4.xml"/><Relationship Id="rId3" Type="http://schemas.openxmlformats.org/officeDocument/2006/relationships/audio" Target="../media/001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audio" Target="../media/003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5.xml"/><Relationship Id="rId3" Type="http://schemas.openxmlformats.org/officeDocument/2006/relationships/image" Target="../media/image32.jpeg"/><Relationship Id="rId4" Type="http://schemas.openxmlformats.org/officeDocument/2006/relationships/slide" Target="slide33.xml"/><Relationship Id="rId5" Type="http://schemas.openxmlformats.org/officeDocument/2006/relationships/image" Target="../media/image33.jpeg"/><Relationship Id="rId6" Type="http://schemas.openxmlformats.org/officeDocument/2006/relationships/slide" Target="slide33.xml"/><Relationship Id="rId7" Type="http://schemas.openxmlformats.org/officeDocument/2006/relationships/image" Target="../media/image34.jpeg"/><Relationship Id="rId8" Type="http://schemas.openxmlformats.org/officeDocument/2006/relationships/audio" Target="../media/horse.wav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9.jpeg"/><Relationship Id="rId3" Type="http://schemas.openxmlformats.org/officeDocument/2006/relationships/audio" Target="../media/001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6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1.xml"/><Relationship Id="rId3" Type="http://schemas.openxmlformats.org/officeDocument/2006/relationships/image" Target="../media/image16.jpeg"/><Relationship Id="rId4" Type="http://schemas.openxmlformats.org/officeDocument/2006/relationships/slide" Target="slide11.xml"/><Relationship Id="rId5" Type="http://schemas.openxmlformats.org/officeDocument/2006/relationships/image" Target="../media/image17.jpeg"/><Relationship Id="rId6" Type="http://schemas.openxmlformats.org/officeDocument/2006/relationships/slide" Target="slide10.xml"/><Relationship Id="rId7" Type="http://schemas.openxmlformats.org/officeDocument/2006/relationships/image" Target="../media/image18.png"/><Relationship Id="rId8" Type="http://schemas.openxmlformats.org/officeDocument/2006/relationships/audio" Target="../media/sceap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2" descr=""/>
          <p:cNvPicPr/>
          <p:nvPr/>
        </p:nvPicPr>
        <p:blipFill>
          <a:blip r:embed="rId2"/>
          <a:stretch/>
        </p:blipFill>
        <p:spPr>
          <a:xfrm>
            <a:off x="1171440" y="839880"/>
            <a:ext cx="7143840" cy="101592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2178360" y="61214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3"/>
          <p:cNvSpPr/>
          <p:nvPr/>
        </p:nvSpPr>
        <p:spPr>
          <a:xfrm>
            <a:off x="755640" y="1844640"/>
            <a:ext cx="4419720" cy="2209680"/>
          </a:xfrm>
          <a:prstGeom prst="wedgeRoundRectCallout">
            <a:avLst>
              <a:gd name="adj1" fmla="val 59087"/>
              <a:gd name="adj2" fmla="val 86495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429000" y="8380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042920" y="22050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哈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！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了！你好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聪明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呀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PMingLiU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>
            <a:hlinkClick r:id="rId2" action="ppaction://hlinksldjump"/>
          </p:cNvPr>
          <p:cNvSpPr/>
          <p:nvPr/>
        </p:nvSpPr>
        <p:spPr>
          <a:xfrm>
            <a:off x="250920" y="5373720"/>
            <a:ext cx="1676160" cy="1219320"/>
          </a:xfrm>
          <a:custGeom>
            <a:avLst/>
            <a:gdLst>
              <a:gd name="textAreaLeft" fmla="*/ 78840 w 1676160"/>
              <a:gd name="textAreaRight" fmla="*/ 1597320 w 16761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9" y="10800"/>
                </a:moveTo>
                <a:lnTo>
                  <a:pt x="21852" y="3794"/>
                </a:lnTo>
                <a:lnTo>
                  <a:pt x="21852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creen_21_10241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086600" y="5257800"/>
            <a:ext cx="1752480" cy="1295280"/>
          </a:xfrm>
          <a:custGeom>
            <a:avLst/>
            <a:gdLst>
              <a:gd name="textAreaLeft" fmla="*/ 83880 w 1752480"/>
              <a:gd name="textAreaRight" fmla="*/ 1668600 w 17524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9222" h="21600">
                <a:moveTo>
                  <a:pt x="0" y="0"/>
                </a:moveTo>
                <a:lnTo>
                  <a:pt x="29222" y="0"/>
                </a:lnTo>
                <a:lnTo>
                  <a:pt x="29222" y="21600"/>
                </a:lnTo>
                <a:lnTo>
                  <a:pt x="0" y="21600"/>
                </a:lnTo>
                <a:close/>
              </a:path>
              <a:path fill="lightenLess" w="29222" h="21600">
                <a:moveTo>
                  <a:pt x="0" y="0"/>
                </a:moveTo>
                <a:lnTo>
                  <a:pt x="29222" y="0"/>
                </a:lnTo>
                <a:lnTo>
                  <a:pt x="27822" y="1400"/>
                </a:lnTo>
                <a:lnTo>
                  <a:pt x="1400" y="1400"/>
                </a:lnTo>
                <a:close/>
              </a:path>
              <a:path fill="darken" w="29222" h="21600">
                <a:moveTo>
                  <a:pt x="29222" y="0"/>
                </a:moveTo>
                <a:lnTo>
                  <a:pt x="29222" y="21600"/>
                </a:lnTo>
                <a:lnTo>
                  <a:pt x="27822" y="20200"/>
                </a:lnTo>
                <a:lnTo>
                  <a:pt x="27822" y="1400"/>
                </a:lnTo>
                <a:close/>
              </a:path>
              <a:path fill="darkenLess" w="29222" h="21600">
                <a:moveTo>
                  <a:pt x="2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2" y="20200"/>
                </a:lnTo>
                <a:close/>
              </a:path>
              <a:path fill="lighten" w="2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2" h="21600">
                <a:moveTo>
                  <a:pt x="7605" y="10800"/>
                </a:moveTo>
                <a:lnTo>
                  <a:pt x="21618" y="3794"/>
                </a:lnTo>
                <a:lnTo>
                  <a:pt x="2161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3203640" y="1773360"/>
            <a:ext cx="3673440" cy="2447640"/>
          </a:xfrm>
          <a:prstGeom prst="wedgeEllipseCallout">
            <a:avLst>
              <a:gd name="adj1" fmla="val -49004"/>
              <a:gd name="adj2" fmla="val 3956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635280" y="2349360"/>
            <a:ext cx="34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对不起，答错了！请重新回答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3"/>
          <p:cNvSpPr txBox="1"/>
          <p:nvPr/>
        </p:nvSpPr>
        <p:spPr>
          <a:xfrm>
            <a:off x="1066680" y="609480"/>
            <a:ext cx="7239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宋体"/>
              </a:rPr>
              <a:t>这是什么动物的声音呢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1" name="Picture 4" descr="elephants_smal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1844640"/>
            <a:ext cx="2427120" cy="318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瀕 臨 絕 種的中 華 白 海 豚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03640" y="2492280"/>
            <a:ext cx="3097080" cy="250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熊貓(2)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88000" y="3213000"/>
            <a:ext cx="208764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3"/>
          <p:cNvSpPr/>
          <p:nvPr/>
        </p:nvSpPr>
        <p:spPr>
          <a:xfrm>
            <a:off x="1187280" y="1268280"/>
            <a:ext cx="4419720" cy="2210040"/>
          </a:xfrm>
          <a:prstGeom prst="wedgeRoundRectCallout">
            <a:avLst>
              <a:gd name="adj1" fmla="val 49032"/>
              <a:gd name="adj2" fmla="val 87356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419640" y="83664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979640" y="1628640"/>
            <a:ext cx="3505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答对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真 棒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>
            <a:hlinkClick r:id="rId2" action="ppaction://hlinksldjump"/>
          </p:cNvPr>
          <p:cNvSpPr/>
          <p:nvPr/>
        </p:nvSpPr>
        <p:spPr>
          <a:xfrm>
            <a:off x="826920" y="4941720"/>
            <a:ext cx="1676520" cy="1219320"/>
          </a:xfrm>
          <a:custGeom>
            <a:avLst/>
            <a:gdLst>
              <a:gd name="textAreaLeft" fmla="*/ 78840 w 1676520"/>
              <a:gd name="textAreaRight" fmla="*/ 1597680 w 16765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creen_21_10241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>
            <a:hlinkClick r:id="rId2" action="ppaction://hlinksldjump"/>
          </p:cNvPr>
          <p:cNvSpPr/>
          <p:nvPr/>
        </p:nvSpPr>
        <p:spPr>
          <a:xfrm>
            <a:off x="7086600" y="5257800"/>
            <a:ext cx="1752480" cy="1295280"/>
          </a:xfrm>
          <a:custGeom>
            <a:avLst/>
            <a:gdLst>
              <a:gd name="textAreaLeft" fmla="*/ 83880 w 1752480"/>
              <a:gd name="textAreaRight" fmla="*/ 1668600 w 17524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9222" h="21600">
                <a:moveTo>
                  <a:pt x="0" y="0"/>
                </a:moveTo>
                <a:lnTo>
                  <a:pt x="29222" y="0"/>
                </a:lnTo>
                <a:lnTo>
                  <a:pt x="29222" y="21600"/>
                </a:lnTo>
                <a:lnTo>
                  <a:pt x="0" y="21600"/>
                </a:lnTo>
                <a:close/>
              </a:path>
              <a:path fill="lightenLess" w="29222" h="21600">
                <a:moveTo>
                  <a:pt x="0" y="0"/>
                </a:moveTo>
                <a:lnTo>
                  <a:pt x="29222" y="0"/>
                </a:lnTo>
                <a:lnTo>
                  <a:pt x="27822" y="1400"/>
                </a:lnTo>
                <a:lnTo>
                  <a:pt x="1400" y="1400"/>
                </a:lnTo>
                <a:close/>
              </a:path>
              <a:path fill="darken" w="29222" h="21600">
                <a:moveTo>
                  <a:pt x="29222" y="0"/>
                </a:moveTo>
                <a:lnTo>
                  <a:pt x="29222" y="21600"/>
                </a:lnTo>
                <a:lnTo>
                  <a:pt x="27822" y="20200"/>
                </a:lnTo>
                <a:lnTo>
                  <a:pt x="27822" y="1400"/>
                </a:lnTo>
                <a:close/>
              </a:path>
              <a:path fill="darkenLess" w="29222" h="21600">
                <a:moveTo>
                  <a:pt x="2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2" y="20200"/>
                </a:lnTo>
                <a:close/>
              </a:path>
              <a:path fill="lighten" w="2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2" h="21600">
                <a:moveTo>
                  <a:pt x="7605" y="10800"/>
                </a:moveTo>
                <a:lnTo>
                  <a:pt x="21618" y="3794"/>
                </a:lnTo>
                <a:lnTo>
                  <a:pt x="2161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3203640" y="1773360"/>
            <a:ext cx="3673440" cy="2447640"/>
          </a:xfrm>
          <a:prstGeom prst="wedgeEllipseCallout">
            <a:avLst>
              <a:gd name="adj1" fmla="val -49004"/>
              <a:gd name="adj2" fmla="val 3956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564000" y="2276640"/>
            <a:ext cx="33130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对不起，答错了！请重新回答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1066680" y="609480"/>
            <a:ext cx="7239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宋体"/>
              </a:rPr>
              <a:t>这是什么动物的声音呢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5" name="Picture 4" descr="qingwa1_00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651640" y="2421000"/>
            <a:ext cx="3206520" cy="213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考拉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1844640"/>
            <a:ext cx="2428920" cy="3673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monkey-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59280" y="2133720"/>
            <a:ext cx="243360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"/>
          <p:cNvSpPr/>
          <p:nvPr/>
        </p:nvSpPr>
        <p:spPr>
          <a:xfrm>
            <a:off x="900000" y="1557360"/>
            <a:ext cx="4419720" cy="2209680"/>
          </a:xfrm>
          <a:prstGeom prst="wedgeRoundRectCallout">
            <a:avLst>
              <a:gd name="adj1" fmla="val 57217"/>
              <a:gd name="adj2" fmla="val 97199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429000" y="8380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rId2" action="ppaction://hlinksldjump"/>
          </p:cNvPr>
          <p:cNvSpPr/>
          <p:nvPr/>
        </p:nvSpPr>
        <p:spPr>
          <a:xfrm>
            <a:off x="611280" y="5300640"/>
            <a:ext cx="1676160" cy="1219320"/>
          </a:xfrm>
          <a:custGeom>
            <a:avLst/>
            <a:gdLst>
              <a:gd name="textAreaLeft" fmla="*/ 78840 w 1676160"/>
              <a:gd name="textAreaRight" fmla="*/ 1597320 w 16761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9" y="10800"/>
                </a:moveTo>
                <a:lnTo>
                  <a:pt x="21852" y="3794"/>
                </a:lnTo>
                <a:lnTo>
                  <a:pt x="21852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332000" y="1844640"/>
            <a:ext cx="3504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答对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真 棒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creen_21_10241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086600" y="5257800"/>
            <a:ext cx="1752480" cy="1295280"/>
          </a:xfrm>
          <a:custGeom>
            <a:avLst/>
            <a:gdLst>
              <a:gd name="textAreaLeft" fmla="*/ 83880 w 1752480"/>
              <a:gd name="textAreaRight" fmla="*/ 1668600 w 17524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9222" h="21600">
                <a:moveTo>
                  <a:pt x="0" y="0"/>
                </a:moveTo>
                <a:lnTo>
                  <a:pt x="29222" y="0"/>
                </a:lnTo>
                <a:lnTo>
                  <a:pt x="29222" y="21600"/>
                </a:lnTo>
                <a:lnTo>
                  <a:pt x="0" y="21600"/>
                </a:lnTo>
                <a:close/>
              </a:path>
              <a:path fill="lightenLess" w="29222" h="21600">
                <a:moveTo>
                  <a:pt x="0" y="0"/>
                </a:moveTo>
                <a:lnTo>
                  <a:pt x="29222" y="0"/>
                </a:lnTo>
                <a:lnTo>
                  <a:pt x="27822" y="1400"/>
                </a:lnTo>
                <a:lnTo>
                  <a:pt x="1400" y="1400"/>
                </a:lnTo>
                <a:close/>
              </a:path>
              <a:path fill="darken" w="29222" h="21600">
                <a:moveTo>
                  <a:pt x="29222" y="0"/>
                </a:moveTo>
                <a:lnTo>
                  <a:pt x="29222" y="21600"/>
                </a:lnTo>
                <a:lnTo>
                  <a:pt x="27822" y="20200"/>
                </a:lnTo>
                <a:lnTo>
                  <a:pt x="27822" y="1400"/>
                </a:lnTo>
                <a:close/>
              </a:path>
              <a:path fill="darkenLess" w="29222" h="21600">
                <a:moveTo>
                  <a:pt x="2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2" y="20200"/>
                </a:lnTo>
                <a:close/>
              </a:path>
              <a:path fill="lighten" w="2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2" h="21600">
                <a:moveTo>
                  <a:pt x="7605" y="10800"/>
                </a:moveTo>
                <a:lnTo>
                  <a:pt x="21618" y="3794"/>
                </a:lnTo>
                <a:lnTo>
                  <a:pt x="2161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995640" y="25653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哈哈！錯了！請再選擇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3059280" y="1773360"/>
            <a:ext cx="3673440" cy="2447640"/>
          </a:xfrm>
          <a:prstGeom prst="wedgeEllipseCallout">
            <a:avLst>
              <a:gd name="adj1" fmla="val -49004"/>
              <a:gd name="adj2" fmla="val 3956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564000" y="2276640"/>
            <a:ext cx="33130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对不起，答错了！请重新回答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3"/>
          <p:cNvSpPr txBox="1"/>
          <p:nvPr/>
        </p:nvSpPr>
        <p:spPr>
          <a:xfrm>
            <a:off x="1066680" y="609480"/>
            <a:ext cx="7239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宋体"/>
              </a:rPr>
              <a:t>这是什么动物的声音呢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10" name="Picture 4" descr="母鸡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2492280"/>
            <a:ext cx="3419640" cy="2581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松鼠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56360" y="2276640"/>
            <a:ext cx="2808360" cy="424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zebra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060640"/>
            <a:ext cx="26254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1116000" y="1052640"/>
            <a:ext cx="4419720" cy="2209680"/>
          </a:xfrm>
          <a:prstGeom prst="wedgeRoundRectCallout">
            <a:avLst>
              <a:gd name="adj1" fmla="val 49138"/>
              <a:gd name="adj2" fmla="val 93462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468360" y="5157720"/>
            <a:ext cx="1676520" cy="1219320"/>
          </a:xfrm>
          <a:custGeom>
            <a:avLst/>
            <a:gdLst>
              <a:gd name="textAreaLeft" fmla="*/ 78840 w 1676520"/>
              <a:gd name="textAreaRight" fmla="*/ 1597680 w 16765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547640" y="14130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哈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！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对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了！你好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聪明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PMingLiU"/>
              </a:rPr>
              <a:t>呀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PMingLiU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企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screen_21_10241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086600" y="5257800"/>
            <a:ext cx="1752480" cy="1295280"/>
          </a:xfrm>
          <a:custGeom>
            <a:avLst/>
            <a:gdLst>
              <a:gd name="textAreaLeft" fmla="*/ 83880 w 1752480"/>
              <a:gd name="textAreaRight" fmla="*/ 1668600 w 17524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9222" h="21600">
                <a:moveTo>
                  <a:pt x="0" y="0"/>
                </a:moveTo>
                <a:lnTo>
                  <a:pt x="29222" y="0"/>
                </a:lnTo>
                <a:lnTo>
                  <a:pt x="29222" y="21600"/>
                </a:lnTo>
                <a:lnTo>
                  <a:pt x="0" y="21600"/>
                </a:lnTo>
                <a:close/>
              </a:path>
              <a:path fill="lightenLess" w="29222" h="21600">
                <a:moveTo>
                  <a:pt x="0" y="0"/>
                </a:moveTo>
                <a:lnTo>
                  <a:pt x="29222" y="0"/>
                </a:lnTo>
                <a:lnTo>
                  <a:pt x="27822" y="1400"/>
                </a:lnTo>
                <a:lnTo>
                  <a:pt x="1400" y="1400"/>
                </a:lnTo>
                <a:close/>
              </a:path>
              <a:path fill="darken" w="29222" h="21600">
                <a:moveTo>
                  <a:pt x="29222" y="0"/>
                </a:moveTo>
                <a:lnTo>
                  <a:pt x="29222" y="21600"/>
                </a:lnTo>
                <a:lnTo>
                  <a:pt x="27822" y="20200"/>
                </a:lnTo>
                <a:lnTo>
                  <a:pt x="27822" y="1400"/>
                </a:lnTo>
                <a:close/>
              </a:path>
              <a:path fill="darkenLess" w="29222" h="21600">
                <a:moveTo>
                  <a:pt x="2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2" y="20200"/>
                </a:lnTo>
                <a:close/>
              </a:path>
              <a:path fill="lighten" w="2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2" h="21600">
                <a:moveTo>
                  <a:pt x="7605" y="10800"/>
                </a:moveTo>
                <a:lnTo>
                  <a:pt x="21618" y="3794"/>
                </a:lnTo>
                <a:lnTo>
                  <a:pt x="2161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059280" y="1773360"/>
            <a:ext cx="3673440" cy="2447640"/>
          </a:xfrm>
          <a:prstGeom prst="wedgeEllipseCallout">
            <a:avLst>
              <a:gd name="adj1" fmla="val -49004"/>
              <a:gd name="adj2" fmla="val 3956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564000" y="2276640"/>
            <a:ext cx="33130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对不起，答错了！请重新回答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3"/>
          <p:cNvSpPr txBox="1"/>
          <p:nvPr/>
        </p:nvSpPr>
        <p:spPr>
          <a:xfrm>
            <a:off x="1066680" y="609480"/>
            <a:ext cx="7239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宋体"/>
              </a:rPr>
              <a:t>这是什么动物的声音呢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23" name="Picture 4" descr="elephants_smal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920" y="1905120"/>
            <a:ext cx="2311200" cy="3036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海豚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03640" y="2492280"/>
            <a:ext cx="275580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山羊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443640" y="2708280"/>
            <a:ext cx="22208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3"/>
          <p:cNvSpPr/>
          <p:nvPr/>
        </p:nvSpPr>
        <p:spPr>
          <a:xfrm>
            <a:off x="826920" y="1413000"/>
            <a:ext cx="4419720" cy="2209680"/>
          </a:xfrm>
          <a:prstGeom prst="wedgeRoundRectCallout">
            <a:avLst>
              <a:gd name="adj1" fmla="val 62319"/>
              <a:gd name="adj2" fmla="val 70472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429000" y="8380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>
            <a:hlinkClick r:id="rId2" action="ppaction://hlinksldjump"/>
          </p:cNvPr>
          <p:cNvSpPr/>
          <p:nvPr/>
        </p:nvSpPr>
        <p:spPr>
          <a:xfrm>
            <a:off x="611280" y="5373720"/>
            <a:ext cx="1676160" cy="1219320"/>
          </a:xfrm>
          <a:custGeom>
            <a:avLst/>
            <a:gdLst>
              <a:gd name="textAreaLeft" fmla="*/ 78840 w 1676160"/>
              <a:gd name="textAreaRight" fmla="*/ 1597320 w 16761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9" y="10800"/>
                </a:moveTo>
                <a:lnTo>
                  <a:pt x="21852" y="3794"/>
                </a:lnTo>
                <a:lnTo>
                  <a:pt x="21852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332000" y="1844640"/>
            <a:ext cx="3504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答对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真 棒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screen_21_10241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086600" y="5257800"/>
            <a:ext cx="1752480" cy="1295280"/>
          </a:xfrm>
          <a:custGeom>
            <a:avLst/>
            <a:gdLst>
              <a:gd name="textAreaLeft" fmla="*/ 83880 w 1752480"/>
              <a:gd name="textAreaRight" fmla="*/ 1668600 w 17524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9222" h="21600">
                <a:moveTo>
                  <a:pt x="0" y="0"/>
                </a:moveTo>
                <a:lnTo>
                  <a:pt x="29222" y="0"/>
                </a:lnTo>
                <a:lnTo>
                  <a:pt x="29222" y="21600"/>
                </a:lnTo>
                <a:lnTo>
                  <a:pt x="0" y="21600"/>
                </a:lnTo>
                <a:close/>
              </a:path>
              <a:path fill="lightenLess" w="29222" h="21600">
                <a:moveTo>
                  <a:pt x="0" y="0"/>
                </a:moveTo>
                <a:lnTo>
                  <a:pt x="29222" y="0"/>
                </a:lnTo>
                <a:lnTo>
                  <a:pt x="27822" y="1400"/>
                </a:lnTo>
                <a:lnTo>
                  <a:pt x="1400" y="1400"/>
                </a:lnTo>
                <a:close/>
              </a:path>
              <a:path fill="darken" w="29222" h="21600">
                <a:moveTo>
                  <a:pt x="29222" y="0"/>
                </a:moveTo>
                <a:lnTo>
                  <a:pt x="29222" y="21600"/>
                </a:lnTo>
                <a:lnTo>
                  <a:pt x="27822" y="20200"/>
                </a:lnTo>
                <a:lnTo>
                  <a:pt x="27822" y="1400"/>
                </a:lnTo>
                <a:close/>
              </a:path>
              <a:path fill="darkenLess" w="29222" h="21600">
                <a:moveTo>
                  <a:pt x="2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2" y="20200"/>
                </a:lnTo>
                <a:close/>
              </a:path>
              <a:path fill="lighten" w="2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2" h="21600">
                <a:moveTo>
                  <a:pt x="7605" y="10800"/>
                </a:moveTo>
                <a:lnTo>
                  <a:pt x="21618" y="3794"/>
                </a:lnTo>
                <a:lnTo>
                  <a:pt x="2161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059280" y="1773360"/>
            <a:ext cx="3673440" cy="2447640"/>
          </a:xfrm>
          <a:prstGeom prst="wedgeEllipseCallout">
            <a:avLst>
              <a:gd name="adj1" fmla="val -49004"/>
              <a:gd name="adj2" fmla="val 3956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564000" y="2276640"/>
            <a:ext cx="33130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对不起，答错了！请重新回答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3"/>
          <p:cNvSpPr txBox="1"/>
          <p:nvPr/>
        </p:nvSpPr>
        <p:spPr>
          <a:xfrm>
            <a:off x="1066680" y="609480"/>
            <a:ext cx="7239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这是什么动物的声音呢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7" name="Picture 4" descr="马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08720" y="357336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狗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27280" y="220500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wol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0920" y="1628640"/>
            <a:ext cx="2819160" cy="22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01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3"/>
          <p:cNvSpPr/>
          <p:nvPr/>
        </p:nvSpPr>
        <p:spPr>
          <a:xfrm>
            <a:off x="971640" y="1413000"/>
            <a:ext cx="4419360" cy="2209680"/>
          </a:xfrm>
          <a:prstGeom prst="wedgeRoundRectCallout">
            <a:avLst>
              <a:gd name="adj1" fmla="val 47629"/>
              <a:gd name="adj2" fmla="val 79092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429000" y="8380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332000" y="1844640"/>
            <a:ext cx="3504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答对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真 棒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/>
          <p:cNvSpPr/>
          <p:nvPr/>
        </p:nvSpPr>
        <p:spPr>
          <a:xfrm>
            <a:off x="179280" y="404640"/>
            <a:ext cx="8785440" cy="4392720"/>
          </a:xfrm>
          <a:prstGeom prst="pie">
            <a:avLst/>
          </a:prstGeom>
          <a:solidFill>
            <a:srgbClr val="ccffcc">
              <a:alpha val="78000"/>
            </a:srgbClr>
          </a:solidFill>
          <a:ln w="57240">
            <a:solidFill>
              <a:srgbClr val="ffcc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3333ff"/>
                </a:solidFill>
                <a:latin typeface="Times New Roman"/>
                <a:ea typeface="黑体"/>
              </a:rPr>
              <a:t>你会学学动物的叫声吗？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rhd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大象拔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MAG0004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4175280" y="3500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新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和我交朋友好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宋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我们一起做游戏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两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IMAG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0" y="306864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宋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新宋体"/>
              </a:rPr>
              <a:t>小鸡，我们俩说悄悄话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宋体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骑骆驼"/>
          <p:cNvPicPr/>
          <p:nvPr/>
        </p:nvPicPr>
        <p:blipFill>
          <a:blip r:embed="rId1"/>
          <a:stretch/>
        </p:blipFill>
        <p:spPr>
          <a:xfrm>
            <a:off x="6084720" y="0"/>
            <a:ext cx="3059280" cy="2637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rhd01"/>
          <p:cNvPicPr/>
          <p:nvPr/>
        </p:nvPicPr>
        <p:blipFill>
          <a:blip r:embed="rId2"/>
          <a:stretch/>
        </p:blipFill>
        <p:spPr>
          <a:xfrm>
            <a:off x="0" y="0"/>
            <a:ext cx="2916360" cy="261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大象拔河"/>
          <p:cNvPicPr/>
          <p:nvPr/>
        </p:nvPicPr>
        <p:blipFill>
          <a:blip r:embed="rId3"/>
          <a:stretch/>
        </p:blipFill>
        <p:spPr>
          <a:xfrm>
            <a:off x="2916360" y="0"/>
            <a:ext cx="3168360" cy="2637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36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你们也想和动物在一起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与狗拍照"/>
          <p:cNvPicPr/>
          <p:nvPr/>
        </p:nvPicPr>
        <p:blipFill>
          <a:blip r:embed="rId4"/>
          <a:stretch/>
        </p:blipFill>
        <p:spPr>
          <a:xfrm>
            <a:off x="3132000" y="3573360"/>
            <a:ext cx="2952720" cy="3284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IMAG0003"/>
          <p:cNvPicPr/>
          <p:nvPr/>
        </p:nvPicPr>
        <p:blipFill>
          <a:blip r:embed="rId5"/>
          <a:stretch/>
        </p:blipFill>
        <p:spPr>
          <a:xfrm>
            <a:off x="0" y="3573360"/>
            <a:ext cx="3132000" cy="3284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IMAG0004"/>
          <p:cNvPicPr/>
          <p:nvPr/>
        </p:nvPicPr>
        <p:blipFill>
          <a:blip r:embed="rId6"/>
          <a:stretch/>
        </p:blipFill>
        <p:spPr>
          <a:xfrm>
            <a:off x="6078600" y="3573360"/>
            <a:ext cx="306540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6264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夏天，小明剪掉了知了的翅膀，让它不能飞行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刚向一只受伤的小猫踢了一脚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红不停地赶着小金鱼在鱼缸里游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476360" y="4797360"/>
            <a:ext cx="7192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651640" y="4797360"/>
            <a:ext cx="93636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684360" y="404640"/>
            <a:ext cx="617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他们的做法对吗？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文本框 1"/>
          <p:cNvSpPr/>
          <p:nvPr/>
        </p:nvSpPr>
        <p:spPr>
          <a:xfrm>
            <a:off x="1327320" y="6405480"/>
            <a:ext cx="59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B4A2-0851-4C25-9C97-57981A54AA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豹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狮子2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北极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狮子2"/>
          <p:cNvPicPr/>
          <p:nvPr/>
        </p:nvPicPr>
        <p:blipFill>
          <a:blip r:embed="rId1"/>
          <a:stretch/>
        </p:blipFill>
        <p:spPr>
          <a:xfrm>
            <a:off x="0" y="0"/>
            <a:ext cx="3132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两狗"/>
          <p:cNvPicPr/>
          <p:nvPr/>
        </p:nvPicPr>
        <p:blipFill>
          <a:blip r:embed="rId2"/>
          <a:stretch/>
        </p:blipFill>
        <p:spPr>
          <a:xfrm>
            <a:off x="3132000" y="0"/>
            <a:ext cx="311472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企"/>
          <p:cNvPicPr/>
          <p:nvPr/>
        </p:nvPicPr>
        <p:blipFill>
          <a:blip r:embed="rId3"/>
          <a:stretch/>
        </p:blipFill>
        <p:spPr>
          <a:xfrm>
            <a:off x="6156360" y="3429000"/>
            <a:ext cx="298764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免"/>
          <p:cNvPicPr/>
          <p:nvPr/>
        </p:nvPicPr>
        <p:blipFill>
          <a:blip r:embed="rId4"/>
          <a:stretch/>
        </p:blipFill>
        <p:spPr>
          <a:xfrm>
            <a:off x="3132000" y="3429000"/>
            <a:ext cx="302436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牛"/>
          <p:cNvPicPr/>
          <p:nvPr/>
        </p:nvPicPr>
        <p:blipFill>
          <a:blip r:embed="rId5"/>
          <a:stretch/>
        </p:blipFill>
        <p:spPr>
          <a:xfrm>
            <a:off x="6156360" y="0"/>
            <a:ext cx="298764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dxm"/>
          <p:cNvPicPr/>
          <p:nvPr/>
        </p:nvPicPr>
        <p:blipFill>
          <a:blip r:embed="rId6"/>
          <a:stretch/>
        </p:blipFill>
        <p:spPr>
          <a:xfrm>
            <a:off x="0" y="3429000"/>
            <a:ext cx="313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3"/>
          <p:cNvSpPr txBox="1"/>
          <p:nvPr/>
        </p:nvSpPr>
        <p:spPr>
          <a:xfrm>
            <a:off x="468360" y="2205000"/>
            <a:ext cx="5543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听听这是谁的声音</a:t>
            </a:r>
            <a:endParaRPr b="1" lang="en-US" sz="4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84720" y="2133720"/>
            <a:ext cx="122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9999ff"/>
                </a:solidFill>
                <a:latin typeface="Times New Roman"/>
              </a:rPr>
              <a:t>？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3"/>
          <p:cNvSpPr txBox="1"/>
          <p:nvPr/>
        </p:nvSpPr>
        <p:spPr>
          <a:xfrm>
            <a:off x="1066680" y="609480"/>
            <a:ext cx="7239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宋体"/>
              </a:rPr>
              <a:t>这是什么动物的声音呢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7" name="Picture 4" descr="小兔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80000" y="3933720"/>
            <a:ext cx="3276720" cy="261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小鸡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3280" y="278136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onkey_small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4000" y="1700280"/>
            <a:ext cx="28810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05:23:38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52:22Z</dcterms:modified>
  <cp:revision>9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