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glass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4BC-BF91-46C9-AAC6-4CBB7509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5E4-720A-4808-8C80-659667D2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851-C5AC-4507-8FD5-BE8A7B5B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EA9-5202-43F7-AAD0-E2FB56A3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8858-B5A2-4AE3-B6AB-E5F76C12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4CC3-D325-468D-9D4B-863202DA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D482-9A03-4FF1-8F22-AF989A45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314E-7A72-49BE-A0F2-8EFCDFD0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A466-B958-4DE4-9578-CCF82961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996A-A6A7-40D7-8FDD-4073803A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F118-55D0-49D5-BF17-1C2DBCBF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89B-450E-4556-B9D9-F48CCB14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672D-5C3B-4AE1-B9C8-D10C9D5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6FE8-5E82-46E1-81F6-D37A81A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A0B2-5D2B-4FFB-8C2E-EF42BBC8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A6FD-E49A-4D25-8399-2DD3A77A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DFDF-FF58-47FE-A14D-1D8580A9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E96-680A-4646-9DB1-1DE71E20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5E0-BE79-43B2-A926-F16DBBD3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10E-BE76-48BC-B9B7-81BB1650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3E6-F590-4883-896B-9EA13A47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83E-5CAD-4AB4-94BE-7D186D91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6BE-28A4-477C-90BD-FB09A45B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51B-3062-42D7-A763-402BC010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BB35-B98B-492F-9644-021DBFA7D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D6C1-07BA-41CA-B7D0-7090DEC58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133668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979640" y="198900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们成功了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218340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qqx002"/>
          <p:cNvPicPr/>
          <p:nvPr/>
        </p:nvPicPr>
        <p:blipFill>
          <a:blip r:embed="rId1"/>
          <a:stretch/>
        </p:blipFill>
        <p:spPr>
          <a:xfrm>
            <a:off x="0" y="2924280"/>
            <a:ext cx="4356000" cy="393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U1860P461T5D512F154DT20070712215551"/>
          <p:cNvPicPr/>
          <p:nvPr/>
        </p:nvPicPr>
        <p:blipFill>
          <a:blip r:embed="rId2"/>
          <a:stretch/>
        </p:blipFill>
        <p:spPr>
          <a:xfrm>
            <a:off x="0" y="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U1860P461T5D505F154DT20070712215850"/>
          <p:cNvPicPr/>
          <p:nvPr/>
        </p:nvPicPr>
        <p:blipFill>
          <a:blip r:embed="rId3"/>
          <a:stretch/>
        </p:blipFill>
        <p:spPr>
          <a:xfrm>
            <a:off x="4381560" y="0"/>
            <a:ext cx="476244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qqx005"/>
          <p:cNvPicPr/>
          <p:nvPr/>
        </p:nvPicPr>
        <p:blipFill>
          <a:blip r:embed="rId4"/>
          <a:stretch/>
        </p:blipFill>
        <p:spPr>
          <a:xfrm>
            <a:off x="4356000" y="3429000"/>
            <a:ext cx="478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qqx003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qqx001"/>
          <p:cNvPicPr/>
          <p:nvPr/>
        </p:nvPicPr>
        <p:blipFill>
          <a:blip r:embed="rId2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ACF0-B0C8-4394-94BD-952A8E8213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J12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47636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30280" y="836640"/>
            <a:ext cx="4375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宋体"/>
              </a:rPr>
              <a:t>喜讯  传来  欢聚  挥舞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宋体"/>
              </a:rPr>
              <a:t>锣鼓  欢呼  飘扬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宋体"/>
              </a:rPr>
              <a:t>击掌  拥抱   泪水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宋体"/>
              </a:rPr>
              <a:t>奥林匹克  不约而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6668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279440" y="154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71400" y="27144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ù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n   chu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á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419720" y="380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380120" y="195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ù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   hu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08320" y="164304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lu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ó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           h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115520" y="16002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á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58000" y="31669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ī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        y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ō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ng b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à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963240" y="320040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è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347920" y="461484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858840" y="45385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yu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  <a:ea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申请01"/>
          <p:cNvPicPr/>
          <p:nvPr/>
        </p:nvPicPr>
        <p:blipFill>
          <a:blip r:embed="rId2"/>
          <a:stretch/>
        </p:blipFill>
        <p:spPr>
          <a:xfrm>
            <a:off x="0" y="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335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人们 不约而同地涌上街头，北京立即成了欢乐的海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3"/>
          <a:stretch/>
        </p:blipFill>
        <p:spPr>
          <a:xfrm>
            <a:off x="3809880" y="2666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"/>
          <p:cNvSpPr/>
          <p:nvPr/>
        </p:nvSpPr>
        <p:spPr>
          <a:xfrm>
            <a:off x="295200" y="6094440"/>
            <a:ext cx="71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申请04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6019920" y="762120"/>
            <a:ext cx="2590560" cy="1373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天安门广场聚集了几十万群众。人们挥舞着国旗，在欢庆的锣鼓声中一遍遍高声欢呼：“我们成功了！”“我们爱北京！”“祖国万岁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申请05"/>
          <p:cNvPicPr/>
          <p:nvPr/>
        </p:nvPicPr>
        <p:blipFill>
          <a:blip r:embed="rId2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900000" y="530064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大家互相击掌，互相拥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申请03"/>
          <p:cNvPicPr/>
          <p:nvPr/>
        </p:nvPicPr>
        <p:blipFill>
          <a:blip r:embed="rId2"/>
          <a:stretch/>
        </p:blipFill>
        <p:spPr>
          <a:xfrm>
            <a:off x="0" y="0"/>
            <a:ext cx="464832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申请07"/>
          <p:cNvPicPr/>
          <p:nvPr/>
        </p:nvPicPr>
        <p:blipFill>
          <a:blip r:embed="rId3"/>
          <a:stretch/>
        </p:blipFill>
        <p:spPr>
          <a:xfrm>
            <a:off x="3733920" y="3124080"/>
            <a:ext cx="541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申请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申请06"/>
          <p:cNvPicPr/>
          <p:nvPr/>
        </p:nvPicPr>
        <p:blipFill>
          <a:blip r:embed="rId2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403280" y="53737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庆祝北京申办奥运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0073262341636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271520" y="2840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151160" y="2766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888240" y="2766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71520" y="5072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103880" y="5000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6:56:24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29:39Z</dcterms:modified>
  <cp:revision>22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