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dt" idx="3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 type="ftr" idx="3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6"/>
          <p:cNvSpPr>
            <a:spLocks noGrp="1"/>
          </p:cNvSpPr>
          <p:nvPr>
            <p:ph type="sldNum" idx="3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2BCFB-E85C-45ED-BB81-4E48DE869311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6.xml"/><Relationship Id="rId24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模板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素材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背景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图表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Times New Roman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Times New Roman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教程：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Times New Roman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资料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Times New Roman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范文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Times New Roman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试卷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Times New Roman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教案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Times New Roman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论坛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Times New Roman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Times New Roman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语文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Times New Roman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数学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Times New Roman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英语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Times New Roman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美术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Times New Roman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科学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Times New Roman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物理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Times New Roman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化学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Times New Roman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生物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Times New Roman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地理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Times New Roman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历史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Times New Roman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93D39-EE79-4130-A3BC-A1FACF111749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592FF-74DD-446E-93E9-EED264931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83770-1C30-40DF-B357-13A8220EF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8CC38B-C5B5-4DE8-B2EA-F7D3982E2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B6B9BC-E3BF-4304-9F0D-59B88F8A7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4DA3EB-0392-4D88-9DED-31901D87D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C4728E-0609-4F11-85FD-6D4456C9E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960886-B019-40D4-A373-22B8FBDA2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EA8CC8-1DEC-4646-B2AA-247259647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224F3F-F41D-4D27-ABA4-5E93D5963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E61FDB-8F40-4252-90E5-D4317D362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0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1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AB19D5-3B36-4728-8A2F-4C4C71B19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5B9B95-7D86-4F5E-890C-3AE0F8CEA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E879B-BAF4-4F79-9F27-DB0FDE45B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07A628-6D91-48E7-9391-19E780C24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54E4F7-D7DA-4A42-8378-5996CC869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E10B2B-755D-4CF1-91BF-047035F97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2F862F-00ED-4A85-A173-9397352F4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73D1A0-ECCA-40DC-A808-60601FFF3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59686F-DECE-4694-A5D2-2758D6082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9F1352-D5A4-486E-B616-85C91C2D7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5532D4-0A48-4AD3-A8A6-036B424FA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B606B7-8D28-4549-9ABE-1D67BB4DD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1063D9-F9DF-4891-B3DC-AF35888E3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C796B-D183-44BC-98B6-E2C6DB145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1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2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F0021E-06A2-4239-8890-C6D6ADA4E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AE52D2-2288-4A70-ABB2-D6C28D67D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B81A88-DD04-4F73-BFEF-CC82F3E91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2A76D0-1856-44D2-9E4A-A7D7FB99D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6EC42F-C02F-4145-9882-B839533A9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616542-914D-40BD-B5B6-9E5C0B803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77DABF-03E2-41E2-B4AD-62A4797F4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12D7A7-F514-4EE2-9478-448B43DD6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25C739-1445-4594-833C-667306DF2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A794E6-87D7-4A5B-B17D-C069DB2DD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4CE0EA-4F54-4C38-829B-FE44F742C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CB9370-008D-485E-9807-5C324A4FB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2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3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632DE1-8566-4DF9-BF74-625FB260D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4EBC8D-6A37-434C-AA47-5548793C9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7A5418-729E-4800-AE98-FBC091909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A6AF21-31C4-4033-98FA-A04D039D6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90158B-865C-4611-AC64-A6D21169F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E5A69B-6347-47A9-B3E7-7CDFC1D84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D6F078-CFCA-46A7-A216-B1D80C530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529FE2-04CC-48E8-8B94-615DED6C3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1F6B98-2573-4843-A2D6-2BABF908A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4FD642-0559-4E44-95D0-CBB7D2700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00E477-4CBA-4351-A76E-BEF13E309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AFD1AA-971D-4497-86C4-40CCF7F47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403355-2EC8-4033-8450-59BDC214E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49723-A793-490F-9F42-B7C13C185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646CB-F471-4718-9338-B47FF76B3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A3290-A124-4C9B-AA01-BE9A8349D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FA58C-2B28-4342-8BCF-714BF3C51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118A1-94BE-4A3F-9A91-EFFB49A97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74EC0-F511-467F-B10B-3992BEC87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AF739-B03C-4FC1-B8AD-87293478E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64431-430E-4133-8BC3-C4BA0DF14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A43D7-3AB4-4436-9011-EFD08B78C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0BAFE-FE95-419D-86AE-ED9BC47F0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BDB1A-C531-4391-92DE-E17285462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8C2FC-9F4D-4EB1-A5E9-AC6F85E20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98048-1837-4F78-B269-092D7B00D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EFCB2-A49E-44C0-A404-BAABCAAE6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D3AE72-DB81-4CFB-8025-9C827D0F7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67C007-86A8-4F08-A939-97FBB30AD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987BD5-F3EE-47DC-B60D-73D3B9F35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43F71-19AD-4CF5-ACEC-9BCCE1CF9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950F8D-08DF-4A3B-9AD6-DD2D65216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EC71E0-8AE8-4C4A-B783-BC5CCAE60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5F13C9-8106-4B85-8270-DACB74EE6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18AA62-5176-4B74-ABB7-F040A66BE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7BB3D7-25E2-4C1A-92E7-F974C7A01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227575-F7E3-4B47-9CC5-E7AB7E2B2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A746B2-947C-4422-A480-47AF0F305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1A1ED6-1B9D-4226-9C46-5C6421FE1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85CB53-D3B8-45F9-A44B-568A87FF6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7AE0CA-1FA9-427D-AC1A-9ECCEB77D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417C9-7967-4054-9411-8ECFB739B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CF9C4D-7370-4895-873D-D94B56067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E4D71A-52A6-47FD-AE0D-A06142F3E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3A53E0-E1A1-4BF9-A6AE-EB1027CEC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7B0261-6FCD-4119-911E-1277CDB2C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007321-BD39-4E06-AB56-92A7881BB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7587AC-5FA9-4320-8D02-146B6F1D2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CE007D-8880-4038-84D9-D6A50F9CE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12C3FC-DEE3-4427-841D-66150E902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B6825D-BB00-4AA9-A669-034120897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57761E-53AE-498E-AA36-B73A3B808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2CC89-176D-4CD1-B7AA-92DFBE965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240434-18D2-4167-B7E9-9BB9899BB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E87C01-AEB5-41F3-B021-EF0A75A9F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BFF43A-664B-4DB6-BAF8-3BD1D1AF9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B4951B-782D-43C4-8576-1C60554F8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8E1C8D-3CB5-41CB-9159-FA3F43730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91943B-6FE3-4506-8F48-740797A81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DEF6CC-0FDE-48BB-9461-C26BB00FB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2526C8-97E7-4150-B3F7-23E75F422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4158EC-961E-4660-828C-E40F841B0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388853-13FE-4942-9FBA-4FFC04AAB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C3EE2-5393-471A-841D-FA9796547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449543-80DE-457C-A49F-CA880D4A7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519967-4B08-4449-BCB2-222093B61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C2F266-CF3C-407C-9FC8-71D6C5BCE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1938A9-5D73-4964-938B-B68E19DD8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879962-7D34-4C9D-A019-05E3963FD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011BEE-B433-4340-9D4E-351C9225B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6DAB62-3C25-473F-9E8B-557E1377B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620280-C62A-478C-B859-92713B5AF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27F34F-1889-4DAA-9328-0A63364A3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8E4E80-7E6A-4302-A324-7701F4F88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BF8D5-DD66-4A28-9C07-F0FD6C17C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818E70-9B7A-4D90-81DA-643094CDC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47040D-19F3-434F-B747-4BEA3FAA8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E09D30-87A5-4FE1-B888-42C2FDC36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FBCF83-4CAB-435E-8C93-A882EF989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5BB389-193E-428C-A50C-8F744D743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924C1E-0D0F-4B54-AE75-32693FB1B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474E86-DC23-48FD-8FAB-4F6C64F65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1C979B-EA24-41B4-8C06-5E028FE27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20CC86-B98A-4239-8D83-24B46167A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5583D6-F984-427B-8EE1-506CFAF12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C3931-F03D-47D4-A714-2F7A2D483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FD22AE-3354-4DF2-A87A-60C78CD9B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773483-3F45-49AB-A64A-67D04B76E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755BC2-968F-4BE8-A163-9A8F0CE0D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7EFA40-62F4-4A33-9936-8831E0730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6B10D0-FE45-4BB7-9450-E16F4BC94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1252D6-415A-4963-AC5D-931DA5952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9069FC-5AAA-4E28-ABFC-5F2A5025C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BB9896-5272-4112-A215-A3D229C3E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E26A0E-C7BB-4F3E-A2BD-3BC82F39D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843761-463C-4813-AEDB-25C09093B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未知"/>
          <p:cNvSpPr/>
          <p:nvPr/>
        </p:nvSpPr>
        <p:spPr>
          <a:xfrm rot="18427200">
            <a:off x="7776720" y="-14400"/>
            <a:ext cx="1162080" cy="208296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FC914-B736-4485-AA02-8CF37B85387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未知"/>
          <p:cNvSpPr/>
          <p:nvPr/>
        </p:nvSpPr>
        <p:spPr>
          <a:xfrm rot="18427200">
            <a:off x="7864560" y="25200"/>
            <a:ext cx="1164960" cy="209556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未知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未知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未知"/>
            <p:cNvSpPr/>
            <p:nvPr/>
          </p:nvSpPr>
          <p:spPr>
            <a:xfrm>
              <a:off x="1622520" y="5686560"/>
              <a:ext cx="112680" cy="20484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未知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未知"/>
            <p:cNvSpPr/>
            <p:nvPr/>
          </p:nvSpPr>
          <p:spPr>
            <a:xfrm>
              <a:off x="204840" y="6045120"/>
              <a:ext cx="833400" cy="59400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未知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未知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未知"/>
            <p:cNvSpPr/>
            <p:nvPr/>
          </p:nvSpPr>
          <p:spPr>
            <a:xfrm>
              <a:off x="799920" y="5726160"/>
              <a:ext cx="30672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未知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未知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880"/>
                <a:ext cx="870120" cy="1123920"/>
                <a:chOff x="792000" y="5654880"/>
                <a:chExt cx="870120" cy="1123920"/>
              </a:xfrm>
            </p:grpSpPr>
            <p:sp>
              <p:nvSpPr>
                <p:cNvPr id="20" name="未知"/>
                <p:cNvSpPr/>
                <p:nvPr/>
              </p:nvSpPr>
              <p:spPr>
                <a:xfrm>
                  <a:off x="792000" y="5694480"/>
                  <a:ext cx="249120" cy="13824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未知"/>
                <p:cNvSpPr/>
                <p:nvPr/>
              </p:nvSpPr>
              <p:spPr>
                <a:xfrm>
                  <a:off x="1009440" y="6567840"/>
                  <a:ext cx="182520" cy="21096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未知"/>
                <p:cNvSpPr/>
                <p:nvPr/>
              </p:nvSpPr>
              <p:spPr>
                <a:xfrm>
                  <a:off x="1593720" y="565488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未知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未知"/>
              <p:cNvSpPr/>
              <p:nvPr/>
            </p:nvSpPr>
            <p:spPr>
              <a:xfrm>
                <a:off x="41256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未知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未知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未知"/>
                <p:cNvSpPr/>
                <p:nvPr/>
              </p:nvSpPr>
              <p:spPr>
                <a:xfrm>
                  <a:off x="7920" y="5918400"/>
                  <a:ext cx="1336680" cy="69840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未知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未知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未知"/>
                <p:cNvSpPr/>
                <p:nvPr/>
              </p:nvSpPr>
              <p:spPr>
                <a:xfrm>
                  <a:off x="917640" y="5794560"/>
                  <a:ext cx="152280" cy="39996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未知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未知"/>
                <p:cNvSpPr/>
                <p:nvPr/>
              </p:nvSpPr>
              <p:spPr>
                <a:xfrm>
                  <a:off x="1044720" y="5616720"/>
                  <a:ext cx="747720" cy="33660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未知"/>
                <p:cNvSpPr/>
                <p:nvPr/>
              </p:nvSpPr>
              <p:spPr>
                <a:xfrm>
                  <a:off x="1138320" y="5724720"/>
                  <a:ext cx="388800" cy="13644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未知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未知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0120" y="-85680"/>
            <a:ext cx="2430000" cy="2250360"/>
            <a:chOff x="7170120" y="-85680"/>
            <a:chExt cx="2430000" cy="225036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0120" y="-85680"/>
              <a:ext cx="2430000" cy="2250360"/>
              <a:chOff x="7170120" y="-85680"/>
              <a:chExt cx="2430000" cy="2250360"/>
            </a:xfrm>
          </p:grpSpPr>
          <p:sp>
            <p:nvSpPr>
              <p:cNvPr id="40" name="未知"/>
              <p:cNvSpPr/>
              <p:nvPr/>
            </p:nvSpPr>
            <p:spPr>
              <a:xfrm rot="18427200">
                <a:off x="8619480" y="1723680"/>
                <a:ext cx="98280" cy="45684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0120" y="-85680"/>
                <a:ext cx="2430000" cy="2250360"/>
                <a:chOff x="7170120" y="-85680"/>
                <a:chExt cx="2430000" cy="2250360"/>
              </a:xfrm>
            </p:grpSpPr>
            <p:sp>
              <p:nvSpPr>
                <p:cNvPr id="42" name="未知"/>
                <p:cNvSpPr/>
                <p:nvPr/>
              </p:nvSpPr>
              <p:spPr>
                <a:xfrm rot="18427200">
                  <a:off x="7881120" y="113040"/>
                  <a:ext cx="243720" cy="19800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未知"/>
                <p:cNvSpPr/>
                <p:nvPr/>
              </p:nvSpPr>
              <p:spPr>
                <a:xfrm rot="18427200">
                  <a:off x="8012880" y="522360"/>
                  <a:ext cx="42876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未知"/>
                <p:cNvSpPr/>
                <p:nvPr/>
              </p:nvSpPr>
              <p:spPr>
                <a:xfrm rot="18427200">
                  <a:off x="7710480" y="285120"/>
                  <a:ext cx="804960" cy="142524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未知"/>
                <p:cNvSpPr/>
                <p:nvPr/>
              </p:nvSpPr>
              <p:spPr>
                <a:xfrm rot="18427200">
                  <a:off x="7781040" y="-27000"/>
                  <a:ext cx="120780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未知"/>
                <p:cNvSpPr/>
                <p:nvPr/>
              </p:nvSpPr>
              <p:spPr>
                <a:xfrm rot="18427200">
                  <a:off x="8408520" y="1422360"/>
                  <a:ext cx="269280" cy="19332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未知"/>
                <p:cNvSpPr/>
                <p:nvPr/>
              </p:nvSpPr>
              <p:spPr>
                <a:xfrm rot="18427200">
                  <a:off x="8336880" y="1277280"/>
                  <a:ext cx="288720" cy="22824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未知"/>
                <p:cNvSpPr/>
                <p:nvPr/>
              </p:nvSpPr>
              <p:spPr>
                <a:xfrm rot="18427200">
                  <a:off x="7911000" y="332640"/>
                  <a:ext cx="288360" cy="23292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未知"/>
                <p:cNvSpPr/>
                <p:nvPr/>
              </p:nvSpPr>
              <p:spPr>
                <a:xfrm rot="18427200">
                  <a:off x="7852680" y="219240"/>
                  <a:ext cx="285120" cy="21852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240" cy="15228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 type="dt" idx="25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 type="ftr" idx="26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 type="sldNum" idx="27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63C2C-F37B-4604-8F23-C3CA537ADF5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 type="dt" idx="28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 type="ftr" idx="29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 type="sldNum" idx="30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36167-22B5-4D01-85AB-E424316387C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 type="dt" idx="3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 type="ftr" idx="3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 type="sldNum" idx="3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16EE2-A6AB-4093-B318-00D2B7C4B29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0A95E-BFD7-4AAF-89F2-F21160E7FC1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dt" idx="7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ftr" idx="8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sldNum" idx="9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70AA5-FDBC-4973-8501-A7DF1D5AA52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dt" idx="10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ftr" idx="11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 type="sldNum" idx="12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D7B96-27ED-4C79-908F-B93FF843F1A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dt" idx="13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 type="ftr" idx="14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 type="sldNum" idx="15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77460-AEB2-40F4-ABE3-6D12BFE8F15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dt" idx="16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ftr" idx="17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sldNum" idx="18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87705-F7D4-4AD8-A843-2EEBC7247AB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dt" idx="19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 type="ftr" idx="20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 type="sldNum" idx="21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56038-EA6E-479D-8AD5-9C5917FD13C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dt" idx="22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ftr" idx="23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sldNum" idx="24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41F0C-CF8F-4CE1-A4ED-B3EBB59A9DA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news.sohu.com/20050211/n224285180.shtml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jl2sy.cn/zlk/yinyue/mingjia/fqysj/gf403.htm" TargetMode="Externa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01120" y="2460600"/>
            <a:ext cx="8534520" cy="110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华文中宋"/>
                <a:ea typeface="华文中宋"/>
              </a:rPr>
              <a:t>我们是怎样听到声音？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3" name="矩形 2"/>
          <p:cNvSpPr/>
          <p:nvPr/>
        </p:nvSpPr>
        <p:spPr>
          <a:xfrm>
            <a:off x="2216520" y="5877000"/>
            <a:ext cx="4725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2"/>
          <p:cNvSpPr/>
          <p:nvPr/>
        </p:nvSpPr>
        <p:spPr>
          <a:xfrm>
            <a:off x="495360" y="554760"/>
            <a:ext cx="7772400" cy="7642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Comic Sans MS"/>
                <a:ea typeface="宋体"/>
              </a:rPr>
              <a:t>一、耳朵感知声音的基本过程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5" name="Rectangle 3"/>
          <p:cNvSpPr/>
          <p:nvPr/>
        </p:nvSpPr>
        <p:spPr>
          <a:xfrm>
            <a:off x="468360" y="4737240"/>
            <a:ext cx="820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  <a:ea typeface="宋体"/>
              </a:rPr>
              <a:t>外界声音→鼓膜振动→听小骨放大及其他组织（半规管→前庭→耳蜗）→听觉神经→大脑神经中枢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46" name="Picture 4" descr=""/>
          <p:cNvPicPr/>
          <p:nvPr/>
        </p:nvPicPr>
        <p:blipFill>
          <a:blip r:embed="rId1"/>
          <a:stretch/>
        </p:blipFill>
        <p:spPr>
          <a:xfrm>
            <a:off x="1332000" y="1514520"/>
            <a:ext cx="6224400" cy="3244680"/>
          </a:xfrm>
          <a:prstGeom prst="rect">
            <a:avLst/>
          </a:prstGeom>
          <a:ln w="0">
            <a:noFill/>
          </a:ln>
        </p:spPr>
      </p:pic>
      <p:sp>
        <p:nvSpPr>
          <p:cNvPr id="547" name="Rectangle 5"/>
          <p:cNvSpPr/>
          <p:nvPr/>
        </p:nvSpPr>
        <p:spPr>
          <a:xfrm>
            <a:off x="1332000" y="5683320"/>
            <a:ext cx="597204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非先天性耳聋的类型有：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⑴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神经损坏；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⑵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传导障碍。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75"/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8" name="Picture 2" descr="Img22428517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288040" y="4335480"/>
            <a:ext cx="3855960" cy="2522520"/>
          </a:xfrm>
          <a:prstGeom prst="rect">
            <a:avLst/>
          </a:prstGeom>
          <a:ln w="0">
            <a:noFill/>
          </a:ln>
        </p:spPr>
      </p:pic>
      <p:sp>
        <p:nvSpPr>
          <p:cNvPr id="549" name=""/>
          <p:cNvSpPr txBox="1"/>
          <p:nvPr/>
        </p:nvSpPr>
        <p:spPr>
          <a:xfrm>
            <a:off x="287280" y="836640"/>
            <a:ext cx="8856720" cy="41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Comic Sans MS"/>
              </a:rPr>
              <a:t>春节期间，在白鹅潭举行盛大的烟花汇演，人们聚集在岸边欣赏，这时放烟花发出的声音，会造成鼓膜内外的气压不平衡，使鼓膜破裂，用什么措施可以减轻这种压力？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矩形 5"/>
          <p:cNvSpPr/>
          <p:nvPr/>
        </p:nvSpPr>
        <p:spPr>
          <a:xfrm>
            <a:off x="6516720" y="4448160"/>
            <a:ext cx="735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51" name="Picture 2" descr="gf403">
            <a:hlinkClick r:id="rId1"/>
          </p:cNvPr>
          <p:cNvPicPr/>
          <p:nvPr/>
        </p:nvPicPr>
        <p:blipFill>
          <a:blip r:embed="rId2"/>
          <a:srcRect l="0" t="19533" r="0" b="10935"/>
          <a:stretch/>
        </p:blipFill>
        <p:spPr>
          <a:xfrm>
            <a:off x="6176880" y="1098720"/>
            <a:ext cx="1828800" cy="1655640"/>
          </a:xfrm>
          <a:prstGeom prst="rect">
            <a:avLst/>
          </a:prstGeom>
          <a:ln w="0">
            <a:noFill/>
          </a:ln>
        </p:spPr>
      </p:pic>
      <p:sp>
        <p:nvSpPr>
          <p:cNvPr id="552" name=""/>
          <p:cNvSpPr txBox="1"/>
          <p:nvPr/>
        </p:nvSpPr>
        <p:spPr>
          <a:xfrm>
            <a:off x="250560" y="1773360"/>
            <a:ext cx="482436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Comic Sans MS"/>
              </a:rPr>
              <a:t>贝多芬是德国伟大的音乐家，他耳聋后，他是用什么方法来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4800" spc="-1" strike="noStrike">
                <a:solidFill>
                  <a:srgbClr val="000000"/>
                </a:solidFill>
                <a:latin typeface="Comic Sans MS"/>
              </a:rPr>
              <a:t>听到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4800" spc="-1" strike="noStrike">
                <a:solidFill>
                  <a:srgbClr val="000000"/>
                </a:solidFill>
                <a:latin typeface="Comic Sans MS"/>
              </a:rPr>
              <a:t>自己在钢琴上的弹奏并进行音乐创作的吗？ 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53" name="Picture 4" descr="乐圣---贝多芬"/>
          <p:cNvPicPr/>
          <p:nvPr/>
        </p:nvPicPr>
        <p:blipFill>
          <a:blip r:embed="rId3"/>
          <a:stretch/>
        </p:blipFill>
        <p:spPr>
          <a:xfrm>
            <a:off x="5435640" y="2781360"/>
            <a:ext cx="331164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"/>
          <p:cNvSpPr txBox="1"/>
          <p:nvPr/>
        </p:nvSpPr>
        <p:spPr>
          <a:xfrm>
            <a:off x="4320" y="2276640"/>
            <a:ext cx="8893080" cy="380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Comic Sans MS"/>
              </a:rPr>
              <a:t>做一做</a:t>
            </a:r>
            <a:r>
              <a:rPr b="1" lang="zh-CN" sz="4400" spc="-1" strike="noStrike">
                <a:solidFill>
                  <a:srgbClr val="ff0000"/>
                </a:solidFill>
                <a:latin typeface="Comic Sans MS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①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在耳朵附近用指甲轻敲笔杆，听声音；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②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用手指将耳朵堵住，再听声音；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③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请你用手指将自己的耳朵堵住，把笔的一端先后抵在前额、后耳的骨头、牙齿上，指甲轻敲笔杆，看看能否听到声音。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2"/>
          <p:cNvSpPr/>
          <p:nvPr/>
        </p:nvSpPr>
        <p:spPr>
          <a:xfrm>
            <a:off x="838080" y="1587960"/>
            <a:ext cx="777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宋体"/>
              </a:rPr>
              <a:t>二、骨传声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6" name="Rectangle 3"/>
          <p:cNvSpPr/>
          <p:nvPr/>
        </p:nvSpPr>
        <p:spPr>
          <a:xfrm>
            <a:off x="685800" y="257976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声音通过头骨、颌骨、牙齿等也能传到听觉神经，引起听觉，这种声音的传导方式叫骨传声。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7" name="Rectangle 4"/>
          <p:cNvSpPr/>
          <p:nvPr/>
        </p:nvSpPr>
        <p:spPr>
          <a:xfrm>
            <a:off x="762120" y="4559760"/>
            <a:ext cx="777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宋体"/>
              </a:rPr>
              <a:t>三、双耳效应和立体声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8" name="Rectangle 5"/>
          <p:cNvSpPr/>
          <p:nvPr/>
        </p:nvSpPr>
        <p:spPr>
          <a:xfrm>
            <a:off x="727200" y="532296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利用双耳效应，人们可以准确地判断声音的方位。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900000" y="620280"/>
            <a:ext cx="687096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00"/>
                </a:solidFill>
                <a:latin typeface="Comic Sans MS"/>
              </a:rPr>
              <a:t>作业</a:t>
            </a:r>
            <a:endParaRPr b="0" lang="en-US" sz="9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24000" y="2421000"/>
            <a:ext cx="84247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omic Sans MS"/>
              </a:rPr>
              <a:t>有很多原因可以引起听觉缺乏，生活中还有哪些原因？针对这些情况，我们应该如何防护听觉？提出你们的想法，写一篇小论文。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zh-CN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1" name="文本框 1"/>
          <p:cNvSpPr/>
          <p:nvPr/>
        </p:nvSpPr>
        <p:spPr>
          <a:xfrm>
            <a:off x="1397160" y="5589720"/>
            <a:ext cx="587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  <a:ea typeface="宋体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  <a:ea typeface="宋体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  <a:ea typeface="宋体"/>
              </a:rPr>
              <a:t>模板下载：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  <a:ea typeface="宋体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3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omic Sans MS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omic Sans MS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omic Sans MS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omic Sans MS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omic Sans MS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omic Sans MS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omic Sans MS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omic Sans MS"/>
              </a:rPr>
              <a:t> </a:t>
            </a:r>
            <a:r>
              <a:rPr b="0" lang="zh-CN" sz="1400" spc="-1" strike="noStrike" u="sng">
                <a:solidFill>
                  <a:srgbClr val="00b200"/>
                </a:solidFill>
                <a:uFillTx/>
                <a:latin typeface="Comic Sans MS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b200"/>
                </a:solidFill>
                <a:uFillTx/>
                <a:latin typeface="Comic Sans MS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b200"/>
                </a:solidFill>
                <a:uFillTx/>
                <a:latin typeface="Comic Sans MS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             </a:t>
            </a:r>
            <a:r>
              <a:rPr b="0" lang="zh-CN" sz="1200" spc="-1" strike="noStrike" u="sng">
                <a:solidFill>
                  <a:srgbClr val="00b200"/>
                </a:solidFill>
                <a:uFillTx/>
                <a:latin typeface="Comic Sans MS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b200"/>
                </a:solidFill>
                <a:uFillTx/>
                <a:latin typeface="Comic Sans MS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b200"/>
                </a:solidFill>
                <a:uFillTx/>
                <a:latin typeface="Comic Sans MS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b200"/>
                </a:solidFill>
                <a:uFillTx/>
                <a:latin typeface="Comic Sans MS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b200"/>
                </a:solidFill>
                <a:uFillTx/>
                <a:latin typeface="Comic Sans MS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b200"/>
                </a:solidFill>
                <a:uFillTx/>
                <a:latin typeface="Comic Sans MS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b200"/>
                </a:solidFill>
                <a:uFillTx/>
                <a:latin typeface="Comic Sans MS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Comic Sans MS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b200"/>
                </a:solidFill>
                <a:uFillTx/>
                <a:latin typeface="Comic Sans MS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b200"/>
                </a:solidFill>
                <a:uFillTx/>
                <a:latin typeface="Comic Sans MS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b200"/>
                </a:solidFill>
                <a:uFillTx/>
                <a:latin typeface="Comic Sans MS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b200"/>
                </a:solidFill>
                <a:uFillTx/>
                <a:latin typeface="Comic Sans MS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b200"/>
                </a:solidFill>
                <a:uFillTx/>
                <a:latin typeface="Comic Sans MS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/tubiao/                  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自然风景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5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132A1-965A-48FF-B0CA-5E11B82708AB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6T04:55:00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5:29:43Z</dcterms:modified>
  <cp:revision>52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</Properties>
</file>