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D5C-8B7D-4EF3-8140-50F13392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9DE-7C3F-4391-BA55-92407C6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547B2-DBA2-49AC-9878-FC93840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89DC2-DDB1-4296-9437-7540E880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11C70-B846-4521-BE52-FABE0944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9B158-86D5-42E8-8D63-B6F98ECC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CB7D9-DCDE-49F5-8019-36EFADB8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6F9C-B9D5-480C-AC59-B627FD40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B967-E984-4E2F-8833-9A65AD5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E501-8C3B-41CE-97A8-68224C8A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672A-79B1-4B44-9B53-A66BF309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1901D-7A47-4E76-88CE-D82554A6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57D-67FD-4E2A-B811-0D90D1B0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62A48-A904-4F39-9A76-A9D94F3A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42500-42E4-463D-BD1F-89599549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F9FF-E8C2-4C14-99C6-7C6CFFEC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7077C-54AB-4A6F-95EA-BA808E2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9A37E-E340-4BF3-99D7-C87AE31C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8AB04-FA12-4810-A49A-48DBF05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17C32-DFE9-4656-82AD-B176753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D6E6E-4DEC-4473-8429-1008E6D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385CA-469B-4C35-A203-F1A5752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20E63-C716-459B-A268-E65C7A7F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353-F51F-4264-BC07-FE15D573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AF4F2-0356-4562-B7D9-8A44F23F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72102-D88F-4A48-995E-A0C6927A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CF316-BE7C-4D53-9EA0-6E5ABCE2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1B4F6-8D2B-4DD1-ACB1-05344133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2787-7261-47CE-8788-7A54E04D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7A287-AF90-4B7C-8E93-9076A13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46780-DDF8-4979-8288-FE4C1D2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2D531-70C4-46DA-873B-46546FB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086F0-147F-4A79-ADF6-9759E4F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6692-0F51-461B-BF0A-326DA10E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5B4D-FAEF-466D-81C3-A822009A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47C62-A402-4460-8B99-6E4B4369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0C834-24A1-4BF2-A29E-C72E98EF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B4A85-EEC0-4748-88F0-9B4C18F0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B1FD2-AC9A-4517-B639-0BDDE7DF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0F328-BF0E-4962-8F1C-BA7C249D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6CD93-5264-4DF6-92AE-2C0D8AF8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DE8D2-C517-4FFC-8822-B45CEC33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96DBB-C3CB-46B6-B575-C3EC8915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AC874-871A-419A-B495-A9A889A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00707-CA23-41B4-9E32-CE74165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FD6-B751-4853-A158-8F8DE1B0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F78CA-06F7-416E-8CB3-A658142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26EC4-056F-4C9B-AF9B-0AB085C2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6A9F0-651C-4CE2-8CE7-2B7FBB00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91605-711B-49F3-9C1E-F62C601E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BDCEF-0A86-437C-A3ED-A37D150D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0BC0-ED46-4B7F-AFC2-C9ADF35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99D0-356A-4E69-9178-408E846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D026-122C-4F7A-ABDB-1629003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48FE-D4FD-4202-AB91-E7D1CFF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3DFB-36EA-49E2-A004-461E0739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838-4306-42F3-8371-664AE49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2229-E43D-43A8-9663-CDA1038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E7AB-73E2-4E69-AFA9-00AE08C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94A1-22BA-43DB-8BDD-FBD8B89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831-EB49-42E5-B836-A5C8FC54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F1AA-59D6-41F6-BA3A-C1BEB63C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63B3-9A52-4DCB-9785-17327711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4179-9EEB-4C5F-A8B4-402258DC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BD8D-8BBB-4CC8-A614-1B4169F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9F7A-43B8-473C-AB5E-FB7F7CFA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58A9-0036-409D-9AEE-D7985F3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2A1-C6B0-4E8E-ADD9-242CF84D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9F38-BB05-46E4-9508-DABD035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BB7B-1A69-434B-A33B-F97EC7B7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3374-6F38-4A37-AB0F-2BC6268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8650-9A04-48FE-ABBD-E2E5572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089C1-1CBB-4709-A2E3-C94FBD14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8DA9-C1FE-4755-9F16-70C8CA7B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0E1EA-F8C8-4778-A1B3-45BA2D02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57A87-80DB-42AA-825A-4017DD99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C52A-D627-4136-8606-8F3DED4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3FB3B-5F8E-41E7-A4E0-B16BAFA8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679-F1E7-4EB4-87BC-AE2C45F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93C43-C502-4734-A00B-1F5632D5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BE20-8FC9-4822-BA3F-D7C14D1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30AB-200D-45A1-A7D9-09068F85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B869-55F8-4F77-A607-49D532BA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A1FC-1B29-476B-A0B3-4014D71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2F63F-3CDD-44E8-A30A-C28EBADF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40363-0411-4427-A493-CB252F9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21BC-F5BB-4FA1-8D52-2E09E5A3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472F-CAFF-4231-8ED6-B0B25F2A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86A2A-6BE0-4403-B029-E125F921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A3B-7F83-4434-9A3B-8BC009D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D964-C59B-4727-AF2E-A15CB558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7D66-0398-4DF1-B196-75DCDF6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C73CE-13E9-4556-8B8D-307125F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D724-67F0-45E3-A158-D871F83F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2548-B7E7-4DA4-A808-256C606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1761C-B5FB-43FF-BE51-5CB4029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318C7-4191-433E-8194-0CF03072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9182C-E83B-47C5-A615-D47770D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56B3D-F1D0-4E01-81DC-F358760B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5EC3-075F-488D-B016-AF3A9CEC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C40F-8D2C-4B14-8AAD-2BF9B6C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2E16-6242-4222-B942-B8EBF9AA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7805-870F-428C-8A34-9306D4A3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CD58-85BD-45E0-B0B1-B0E9CF7A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4D1A5-8029-47E7-B429-63C9B082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966D1-D899-4B8A-B42D-F421436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6CC6-99C8-469C-9BAD-424B4EC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7212-9A8F-4130-B61A-3F2D4DB4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761B8-25C9-45A0-826A-E6E51A2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42DA-7506-48FE-A5FE-B228A63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D592-A917-4956-827A-80FB9FA1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5C2-5B7D-41DF-BAB7-B79D4A3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0287-8E25-4205-8089-F48850B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BC43E-8F0F-4592-9C99-3DEF1B7D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1741-63A6-402C-A6C0-22289B24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D1046-667E-4495-B652-E9D37A44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214F0-6E52-4A99-B011-7CCE7CC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39A1-F233-44FF-B63B-961CB0A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03403-ED74-4823-A5DE-0EBD55D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D29EC-3AB8-463A-BED7-E4F03DA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D264-4C4F-4466-B79D-CB27A04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DAAC9-D08A-4C4E-9E9E-6392F229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AB6-DDF7-4D7C-AC97-6FF0258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820B-BD97-4F4A-BBFB-AFB86FD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4C20C-E9FB-4176-8618-871E5807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7E1C-137F-4011-B00C-22437D2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2E1A-8276-47B2-9CF2-C9C76B8D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18BE-0187-4718-B0D8-03C4E908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0F7CF-C5C4-4CF2-8D86-3D9568C7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3926-EF3D-48BF-ADD3-3BE1B16F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793C-776C-411B-AF55-32B1386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4544-D5E1-488C-91AA-9EE4ED8E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DC52-C3EB-4472-B85E-6C67919C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7C0-E406-4D27-B1C9-CCDA337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17F0F-97A8-43EF-9A48-B44A0313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738D-4701-4C77-B1E8-AE2722B1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5D1A8-63EA-47A4-8E9C-AD21104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515A2-E67B-433D-B5C4-756D699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4897-40E5-402F-807F-E04F30C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70353-D08D-4EC0-99B3-93571618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B377C-41AF-422C-B353-397F353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CD06-15AD-4861-BE52-BEC61451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FEE6E-AF56-4450-A95E-2023127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A0876-CFBD-4A8B-A1E6-7E9C4D7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9185-6A89-4FDF-844C-A3DAAA96C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363-AF1F-4B24-9B43-455CC3F4A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25EF-7638-41C8-83B8-A3576B14E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678-ECD9-48B0-9257-435EDD96B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EC0-BE61-40FA-B45E-F0E4E465D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8A1-5638-4B44-B84F-7903398A0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6AD-BC2F-4B86-AEAD-CB4C676E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A716-6191-4BC5-A257-05F8D28F3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320-1943-4EEC-92D3-D49CDB79E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38DE-51DA-4AED-A466-6E978D0A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223-CC21-41A3-954E-06C53DFAF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B7DA-5FC9-4C7F-B4A6-BA3F6CAA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11  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唯一的听众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5" descr="示例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10"/>
          <p:cNvSpPr txBox="1"/>
          <p:nvPr/>
        </p:nvSpPr>
        <p:spPr>
          <a:xfrm>
            <a:off x="571680" y="1447920"/>
            <a:ext cx="8001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唯一的听众</a:t>
            </a:r>
            <a:endParaRPr b="1" lang="en-US" sz="8000" spc="1" strike="noStrike">
              <a:ln w="28440">
                <a:solidFill>
                  <a:srgbClr val="ffff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96" name="矩形 7"/>
          <p:cNvSpPr/>
          <p:nvPr/>
        </p:nvSpPr>
        <p:spPr>
          <a:xfrm>
            <a:off x="2350080" y="6248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4"/>
          <p:cNvSpPr/>
          <p:nvPr/>
        </p:nvSpPr>
        <p:spPr>
          <a:xfrm>
            <a:off x="76320" y="52578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324000" y="189000"/>
            <a:ext cx="856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他们听起来，我拉的小夜曲就像是在锯床腿。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后来，小提琴成了我无法割舍的爱好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有机会面对成百上千的观众演奏小提琴曲。每当拿起小提琴，我眼前就浮现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位耳“聋”的老人，每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清晨里 我唯一的听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20200557173153"/>
          <p:cNvPicPr/>
          <p:nvPr/>
        </p:nvPicPr>
        <p:blipFill>
          <a:blip r:embed="rId16"/>
          <a:stretch/>
        </p:blipFill>
        <p:spPr>
          <a:xfrm>
            <a:off x="0" y="4952880"/>
            <a:ext cx="18208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4"/>
          <p:cNvSpPr/>
          <p:nvPr/>
        </p:nvSpPr>
        <p:spPr>
          <a:xfrm>
            <a:off x="533520" y="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打搅了你吗？小伙子。不过，我每天早晨都在这里坐一会儿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猜想你一定拉的非常好，只可惜我的耳朵聋了。如果不介意我在场的话，请继续吧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许我会用心去感受这音乐。我能做你的听众吗？就在每天早晨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不错 。我的心已经感受到了。谢谢你，小伙子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琴声能给我带来快乐和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5" descr="20200557173153"/>
          <p:cNvPicPr/>
          <p:nvPr/>
        </p:nvPicPr>
        <p:blipFill>
          <a:blip r:embed="rId1"/>
          <a:stretch/>
        </p:blipFill>
        <p:spPr>
          <a:xfrm>
            <a:off x="0" y="4952880"/>
            <a:ext cx="1820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极瘦极瘦的老妇人静静地坐在木椅上，平静地望着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一直很平静的望着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慈祥的眼神平静地望着我，像深深的潭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457200" y="1981080"/>
            <a:ext cx="76320" cy="2819520"/>
          </a:xfrm>
          <a:custGeom>
            <a:avLst/>
            <a:gdLst>
              <a:gd name="textAreaLeft" fmla="*/ 48960 w 76320"/>
              <a:gd name="textAreaRight" fmla="*/ 76320 w 763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30492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位极瘦极瘦的老妇人静静地坐在木椅上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望着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一直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望着我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慈祥的眼神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望着我，像深深的潭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文本框 1"/>
          <p:cNvSpPr/>
          <p:nvPr/>
        </p:nvSpPr>
        <p:spPr>
          <a:xfrm>
            <a:off x="533520" y="635004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0" y="404640"/>
            <a:ext cx="9144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拉出像锯床腿一样的声音时，一位极瘦极瘦的老妇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有了几份信心，每天去练琴，她看到了，也是一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渐感奏出了真正的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，她还是用她慈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20200557173153"/>
          <p:cNvPicPr/>
          <p:nvPr/>
        </p:nvPicPr>
        <p:blipFill>
          <a:blip r:embed="rId1"/>
          <a:stretch/>
        </p:blipFill>
        <p:spPr>
          <a:xfrm>
            <a:off x="0" y="4572000"/>
            <a:ext cx="1820880" cy="1905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6781680" y="9907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羞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6781680" y="3124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兴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238880" y="49528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自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04920" y="129492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的成功，既离不开别人的鼓励、欣赏，也离不开自信、努力。只有在爱的土壤里，只有在汗水的浇灌下，人生才会开出美丽的花朵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格     言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做一个倾听者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要吝啬自己的鼓励和微笑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愿感恩和付出同时在我们身上体现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ecff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42E6-26D6-4692-9AA0-F3831707C1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41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29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