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9.png" ContentType="image/pn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B07-FE19-4A6D-BB8B-9D35E1C5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FF9-F011-4ECB-8F52-BABADBFC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13D-B776-41C6-B0C9-6EFB0AD0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457-0560-4B40-98DE-7C2666AD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F19A-9C27-48CE-8A5F-6BACC88C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37C4-7023-4447-9C23-75873711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912F-06B7-4333-B608-CF9ABBB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7F29-FBD5-45F8-9EB3-1BF66C56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9A99-5918-4AAE-BEBE-957169ED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D5F6-AAFC-4F70-A3A0-F5C6D161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F42B-070C-478D-88FA-A04BD7F5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28C-65AE-4A31-B3B9-2BF1F103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4BC3-9F22-4DCE-B4BA-51956CB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DAFB-E1E9-465E-B6AD-1101DC39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1C2C-F968-4AF9-8AAE-E3F24584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FCDA-9F3E-4464-8E66-8CD10489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2D39-D4F9-4C2A-9E61-5F2112BA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ADF-2EE5-463B-98AD-7952BA4D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B6E-3ADE-4C8B-9B87-5C3A5044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5A4-5BB8-47C3-8411-A8B29AC5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BFE-7362-4044-A710-C5080C08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07E-C3E7-47AA-B892-069506DA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4A5-68E9-470F-9994-D86C1F6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DA0-D7AB-4591-B474-5F40E5B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" name="AutoShape 3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499" y="0"/>
                  </a:lnTo>
                  <a:cubicBezTo>
                    <a:pt x="776" y="0"/>
                    <a:pt x="1000" y="223"/>
                    <a:pt x="1000" y="500"/>
                  </a:cubicBezTo>
                  <a:cubicBezTo>
                    <a:pt x="1000" y="776"/>
                    <a:pt x="776" y="999"/>
                    <a:pt x="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89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3A44-6833-4E00-8923-F593B15C151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5680"/>
            <a:chOff x="0" y="927000"/>
            <a:chExt cx="8991720" cy="449568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2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499" y="0"/>
                  </a:lnTo>
                  <a:cubicBezTo>
                    <a:pt x="776" y="0"/>
                    <a:pt x="1000" y="223"/>
                    <a:pt x="1000" y="500"/>
                  </a:cubicBezTo>
                  <a:cubicBezTo>
                    <a:pt x="1000" y="776"/>
                    <a:pt x="776" y="999"/>
                    <a:pt x="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C818-7387-490C-8B99-84C5DF73D04E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万以内的减法（一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217728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6666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0FAC-8111-4819-B426-D2FADA8069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口算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26000" y="1628640"/>
            <a:ext cx="20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82720" y="256536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82720" y="357336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82720" y="452772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883400" y="155736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915080" y="242100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915080" y="342900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915080" y="4456080"/>
            <a:ext cx="21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033000" y="1628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989800" y="256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989800" y="3573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961360" y="45277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993720" y="1503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022160" y="2421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993720" y="33577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6993720" y="4456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竖式计算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899440" y="202572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945520" y="306864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9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945520" y="414972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285840" y="5575320"/>
            <a:ext cx="686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7"/>
          <p:cNvSpPr/>
          <p:nvPr/>
        </p:nvSpPr>
        <p:spPr>
          <a:xfrm>
            <a:off x="4211640" y="357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sadf"/>
          <p:cNvPicPr/>
          <p:nvPr/>
        </p:nvPicPr>
        <p:blipFill>
          <a:blip r:embed="rId1"/>
          <a:stretch/>
        </p:blipFill>
        <p:spPr>
          <a:xfrm>
            <a:off x="1042920" y="1160640"/>
            <a:ext cx="6624720" cy="569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sdfa"/>
          <p:cNvPicPr/>
          <p:nvPr/>
        </p:nvPicPr>
        <p:blipFill>
          <a:blip r:embed="rId2"/>
          <a:stretch/>
        </p:blipFill>
        <p:spPr>
          <a:xfrm>
            <a:off x="1476360" y="2205000"/>
            <a:ext cx="1368360" cy="9478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3132000" y="117360"/>
            <a:ext cx="20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减法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7134120" y="3357720"/>
            <a:ext cx="2009880" cy="3240000"/>
            <a:chOff x="7134120" y="3357720"/>
            <a:chExt cx="2009880" cy="3240000"/>
          </a:xfrm>
        </p:grpSpPr>
        <p:pic>
          <p:nvPicPr>
            <p:cNvPr id="120" name="Picture 3" descr="小猴图-1"/>
            <p:cNvPicPr/>
            <p:nvPr/>
          </p:nvPicPr>
          <p:blipFill>
            <a:blip r:embed="rId1"/>
            <a:stretch/>
          </p:blipFill>
          <p:spPr>
            <a:xfrm>
              <a:off x="7134120" y="3934080"/>
              <a:ext cx="177480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" descr="001590"/>
            <p:cNvPicPr/>
            <p:nvPr/>
          </p:nvPicPr>
          <p:blipFill>
            <a:blip r:embed="rId2"/>
            <a:stretch/>
          </p:blipFill>
          <p:spPr>
            <a:xfrm>
              <a:off x="8458200" y="335772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5"/>
          <p:cNvGrpSpPr/>
          <p:nvPr/>
        </p:nvGrpSpPr>
        <p:grpSpPr>
          <a:xfrm>
            <a:off x="250920" y="333360"/>
            <a:ext cx="3306600" cy="2844720"/>
            <a:chOff x="250920" y="333360"/>
            <a:chExt cx="3306600" cy="2844720"/>
          </a:xfrm>
        </p:grpSpPr>
        <p:pic>
          <p:nvPicPr>
            <p:cNvPr id="123" name="Picture 6" descr="sadf"/>
            <p:cNvPicPr/>
            <p:nvPr/>
          </p:nvPicPr>
          <p:blipFill>
            <a:blip r:embed="rId3"/>
            <a:stretch/>
          </p:blipFill>
          <p:spPr>
            <a:xfrm>
              <a:off x="250920" y="333360"/>
              <a:ext cx="330660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sdfa"/>
            <p:cNvPicPr/>
            <p:nvPr/>
          </p:nvPicPr>
          <p:blipFill>
            <a:blip r:embed="rId4"/>
            <a:stretch/>
          </p:blipFill>
          <p:spPr>
            <a:xfrm>
              <a:off x="322200" y="799920"/>
              <a:ext cx="682920" cy="47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8"/>
          <p:cNvGrpSpPr/>
          <p:nvPr/>
        </p:nvGrpSpPr>
        <p:grpSpPr>
          <a:xfrm>
            <a:off x="3492360" y="981000"/>
            <a:ext cx="2449440" cy="1440000"/>
            <a:chOff x="3492360" y="981000"/>
            <a:chExt cx="2449440" cy="1440000"/>
          </a:xfrm>
        </p:grpSpPr>
        <p:pic>
          <p:nvPicPr>
            <p:cNvPr id="126" name="Picture 9" descr="qwre"/>
            <p:cNvPicPr/>
            <p:nvPr/>
          </p:nvPicPr>
          <p:blipFill>
            <a:blip r:embed="rId5"/>
            <a:stretch/>
          </p:blipFill>
          <p:spPr>
            <a:xfrm>
              <a:off x="3492360" y="981000"/>
              <a:ext cx="13096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4716360" y="170028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丽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2195640" y="3933720"/>
            <a:ext cx="2522520" cy="1937880"/>
            <a:chOff x="2195640" y="3933720"/>
            <a:chExt cx="2522520" cy="1937880"/>
          </a:xfrm>
        </p:grpSpPr>
        <p:pic>
          <p:nvPicPr>
            <p:cNvPr id="129" name="Picture 12" descr="fg"/>
            <p:cNvPicPr/>
            <p:nvPr/>
          </p:nvPicPr>
          <p:blipFill>
            <a:blip r:embed="rId6"/>
            <a:stretch/>
          </p:blipFill>
          <p:spPr>
            <a:xfrm>
              <a:off x="2195640" y="3933720"/>
              <a:ext cx="230508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3492720" y="522900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大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14" descr="asdf"/>
          <p:cNvPicPr/>
          <p:nvPr/>
        </p:nvPicPr>
        <p:blipFill>
          <a:blip r:embed="rId7"/>
          <a:stretch/>
        </p:blipFill>
        <p:spPr>
          <a:xfrm rot="11136000">
            <a:off x="3995280" y="2348640"/>
            <a:ext cx="343080" cy="352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5"/>
          <p:cNvSpPr/>
          <p:nvPr/>
        </p:nvSpPr>
        <p:spPr>
          <a:xfrm rot="12292200">
            <a:off x="3707640" y="2636640"/>
            <a:ext cx="360360" cy="1008000"/>
          </a:xfrm>
          <a:prstGeom prst="downArrow">
            <a:avLst>
              <a:gd name="adj1" fmla="val 50000"/>
              <a:gd name="adj2" fmla="val 69917"/>
            </a:avLst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4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6" descr="asdf"/>
          <p:cNvPicPr/>
          <p:nvPr/>
        </p:nvPicPr>
        <p:blipFill>
          <a:blip r:embed="rId8"/>
          <a:stretch/>
        </p:blipFill>
        <p:spPr>
          <a:xfrm rot="11184600">
            <a:off x="3419280" y="3644280"/>
            <a:ext cx="342720" cy="3524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7"/>
          <p:cNvSpPr/>
          <p:nvPr/>
        </p:nvSpPr>
        <p:spPr>
          <a:xfrm rot="7914000">
            <a:off x="4390200" y="3757320"/>
            <a:ext cx="505080" cy="1825560"/>
          </a:xfrm>
          <a:prstGeom prst="downArrow">
            <a:avLst>
              <a:gd name="adj1" fmla="val 50000"/>
              <a:gd name="adj2" fmla="val 90343"/>
            </a:avLst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90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8"/>
          <p:cNvGrpSpPr/>
          <p:nvPr/>
        </p:nvGrpSpPr>
        <p:grpSpPr>
          <a:xfrm>
            <a:off x="5435640" y="4508640"/>
            <a:ext cx="1865160" cy="2160000"/>
            <a:chOff x="5435640" y="4508640"/>
            <a:chExt cx="1865160" cy="2160000"/>
          </a:xfrm>
        </p:grpSpPr>
        <p:pic>
          <p:nvPicPr>
            <p:cNvPr id="136" name="Picture 19" descr="asdf"/>
            <p:cNvPicPr/>
            <p:nvPr/>
          </p:nvPicPr>
          <p:blipFill>
            <a:blip r:embed="rId9"/>
            <a:stretch/>
          </p:blipFill>
          <p:spPr>
            <a:xfrm>
              <a:off x="5435640" y="5229000"/>
              <a:ext cx="343080" cy="35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Group 20"/>
            <p:cNvGrpSpPr/>
            <p:nvPr/>
          </p:nvGrpSpPr>
          <p:grpSpPr>
            <a:xfrm>
              <a:off x="5796000" y="4508640"/>
              <a:ext cx="1504800" cy="2160000"/>
              <a:chOff x="5796000" y="4508640"/>
              <a:chExt cx="1504800" cy="2160000"/>
            </a:xfrm>
          </p:grpSpPr>
          <p:pic>
            <p:nvPicPr>
              <p:cNvPr id="138" name="Picture 21" descr="qwre"/>
              <p:cNvPicPr/>
              <p:nvPr/>
            </p:nvPicPr>
            <p:blipFill>
              <a:blip r:embed="rId10"/>
              <a:stretch/>
            </p:blipFill>
            <p:spPr>
              <a:xfrm>
                <a:off x="5796000" y="5013000"/>
                <a:ext cx="15048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Text Box 22"/>
              <p:cNvSpPr/>
              <p:nvPr/>
            </p:nvSpPr>
            <p:spPr>
              <a:xfrm>
                <a:off x="5940360" y="4508640"/>
                <a:ext cx="122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昆明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AutoShape 23"/>
          <p:cNvSpPr/>
          <p:nvPr/>
        </p:nvSpPr>
        <p:spPr>
          <a:xfrm>
            <a:off x="5508720" y="1916280"/>
            <a:ext cx="2950920" cy="1655640"/>
          </a:xfrm>
          <a:prstGeom prst="cloudCallout">
            <a:avLst>
              <a:gd name="adj1" fmla="val 40157"/>
              <a:gd name="adj2" fmla="val 73490"/>
            </a:avLst>
          </a:prstGeom>
          <a:solidFill>
            <a:srgbClr val="ffff00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理到丽江有多远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5508720" y="1917720"/>
            <a:ext cx="2950920" cy="1655640"/>
          </a:xfrm>
          <a:prstGeom prst="cloudCallout">
            <a:avLst>
              <a:gd name="adj1" fmla="val 40157"/>
              <a:gd name="adj2" fmla="val 73490"/>
            </a:avLst>
          </a:prstGeom>
          <a:solidFill>
            <a:srgbClr val="ffff00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已知从昆明到丽江有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17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 rot="1765800">
            <a:off x="4355280" y="4005000"/>
            <a:ext cx="13366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4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26"/>
          <p:cNvSpPr txBox="1"/>
          <p:nvPr/>
        </p:nvSpPr>
        <p:spPr>
          <a:xfrm>
            <a:off x="3132000" y="117360"/>
            <a:ext cx="20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减法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dur="indefinite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dur="indefinite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14334"/>
          <p:cNvPicPr/>
          <p:nvPr/>
        </p:nvPicPr>
        <p:blipFill>
          <a:blip r:embed="rId1"/>
          <a:stretch/>
        </p:blipFill>
        <p:spPr>
          <a:xfrm>
            <a:off x="7272360" y="647640"/>
            <a:ext cx="1871640" cy="25002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/>
          <p:cNvSpPr/>
          <p:nvPr/>
        </p:nvSpPr>
        <p:spPr>
          <a:xfrm>
            <a:off x="4429080" y="476280"/>
            <a:ext cx="3888000" cy="1079640"/>
          </a:xfrm>
          <a:prstGeom prst="cloudCallout">
            <a:avLst>
              <a:gd name="adj1" fmla="val 33787"/>
              <a:gd name="adj2" fmla="val 68384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估计一下，大理到丽江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dfa"/>
          <p:cNvPicPr/>
          <p:nvPr/>
        </p:nvPicPr>
        <p:blipFill>
          <a:blip r:embed="rId2"/>
          <a:stretch/>
        </p:blipFill>
        <p:spPr>
          <a:xfrm>
            <a:off x="4067280" y="2205000"/>
            <a:ext cx="682560" cy="47304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0" y="1268280"/>
            <a:ext cx="7093080" cy="1511280"/>
            <a:chOff x="0" y="1268280"/>
            <a:chExt cx="7093080" cy="1511280"/>
          </a:xfrm>
        </p:grpSpPr>
        <p:sp>
          <p:nvSpPr>
            <p:cNvPr id="148" name="AutoShape 6"/>
            <p:cNvSpPr/>
            <p:nvPr/>
          </p:nvSpPr>
          <p:spPr>
            <a:xfrm rot="5400000">
              <a:off x="5541120" y="1087560"/>
              <a:ext cx="216000" cy="1440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7"/>
            <p:cNvGrpSpPr/>
            <p:nvPr/>
          </p:nvGrpSpPr>
          <p:grpSpPr>
            <a:xfrm>
              <a:off x="0" y="1268280"/>
              <a:ext cx="7093080" cy="1511280"/>
              <a:chOff x="0" y="1268280"/>
              <a:chExt cx="7093080" cy="1511280"/>
            </a:xfrm>
          </p:grpSpPr>
          <p:sp>
            <p:nvSpPr>
              <p:cNvPr id="150" name="Text Box 8"/>
              <p:cNvSpPr/>
              <p:nvPr/>
            </p:nvSpPr>
            <p:spPr>
              <a:xfrm>
                <a:off x="0" y="1844640"/>
                <a:ext cx="12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昆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9"/>
              <p:cNvGrpSpPr/>
              <p:nvPr/>
            </p:nvGrpSpPr>
            <p:grpSpPr>
              <a:xfrm>
                <a:off x="468360" y="2420640"/>
                <a:ext cx="6408720" cy="358920"/>
                <a:chOff x="468360" y="2420640"/>
                <a:chExt cx="6408720" cy="358920"/>
              </a:xfrm>
            </p:grpSpPr>
            <p:sp>
              <p:nvSpPr>
                <p:cNvPr id="152" name="Line 10"/>
                <p:cNvSpPr/>
                <p:nvPr/>
              </p:nvSpPr>
              <p:spPr>
                <a:xfrm>
                  <a:off x="468360" y="2779560"/>
                  <a:ext cx="64087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1"/>
                <p:cNvSpPr/>
                <p:nvPr/>
              </p:nvSpPr>
              <p:spPr>
                <a:xfrm>
                  <a:off x="468360" y="2420640"/>
                  <a:ext cx="0" cy="35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2"/>
                <p:cNvSpPr/>
                <p:nvPr/>
              </p:nvSpPr>
              <p:spPr>
                <a:xfrm>
                  <a:off x="4932360" y="2420640"/>
                  <a:ext cx="0" cy="35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3"/>
                <p:cNvSpPr/>
                <p:nvPr/>
              </p:nvSpPr>
              <p:spPr>
                <a:xfrm>
                  <a:off x="6372360" y="2420640"/>
                  <a:ext cx="0" cy="35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14"/>
              <p:cNvSpPr/>
              <p:nvPr/>
            </p:nvSpPr>
            <p:spPr>
              <a:xfrm>
                <a:off x="4498920" y="1915920"/>
                <a:ext cx="12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大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5"/>
              <p:cNvSpPr/>
              <p:nvPr/>
            </p:nvSpPr>
            <p:spPr>
              <a:xfrm>
                <a:off x="5867280" y="1962000"/>
                <a:ext cx="122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丽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16"/>
              <p:cNvSpPr/>
              <p:nvPr/>
            </p:nvSpPr>
            <p:spPr>
              <a:xfrm>
                <a:off x="5292720" y="1268280"/>
                <a:ext cx="12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  <a:ea typeface="华文楷体"/>
                  </a:rPr>
                  <a:t>？ 千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17"/>
          <p:cNvGrpSpPr/>
          <p:nvPr/>
        </p:nvGrpSpPr>
        <p:grpSpPr>
          <a:xfrm>
            <a:off x="258480" y="3645000"/>
            <a:ext cx="1144440" cy="2302920"/>
            <a:chOff x="258480" y="3645000"/>
            <a:chExt cx="1144440" cy="2302920"/>
          </a:xfrm>
        </p:grpSpPr>
        <p:pic>
          <p:nvPicPr>
            <p:cNvPr id="160" name="Picture 18" descr="小猴图-1"/>
            <p:cNvPicPr/>
            <p:nvPr/>
          </p:nvPicPr>
          <p:blipFill>
            <a:blip r:embed="rId3"/>
            <a:stretch/>
          </p:blipFill>
          <p:spPr>
            <a:xfrm flipH="1">
              <a:off x="258480" y="4054320"/>
              <a:ext cx="1144440" cy="18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9" descr="001590"/>
            <p:cNvPicPr/>
            <p:nvPr/>
          </p:nvPicPr>
          <p:blipFill>
            <a:blip r:embed="rId4"/>
            <a:stretch/>
          </p:blipFill>
          <p:spPr>
            <a:xfrm>
              <a:off x="287280" y="3645000"/>
              <a:ext cx="576360" cy="48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20"/>
          <p:cNvSpPr/>
          <p:nvPr/>
        </p:nvSpPr>
        <p:spPr>
          <a:xfrm>
            <a:off x="2050920" y="5119560"/>
            <a:ext cx="23050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－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3 4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□□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1"/>
          <p:cNvGrpSpPr/>
          <p:nvPr/>
        </p:nvGrpSpPr>
        <p:grpSpPr>
          <a:xfrm>
            <a:off x="2914560" y="4437000"/>
            <a:ext cx="1297080" cy="1103760"/>
            <a:chOff x="2914560" y="4437000"/>
            <a:chExt cx="1297080" cy="1103760"/>
          </a:xfrm>
        </p:grpSpPr>
        <p:sp>
          <p:nvSpPr>
            <p:cNvPr id="164" name="Text Box 22"/>
            <p:cNvSpPr/>
            <p:nvPr/>
          </p:nvSpPr>
          <p:spPr>
            <a:xfrm>
              <a:off x="2914560" y="4471920"/>
              <a:ext cx="1297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5 1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3348000" y="4437000"/>
              <a:ext cx="57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0000"/>
                  </a:solidFill>
                  <a:latin typeface="Arial"/>
                </a:rPr>
                <a:t> 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1116000" y="3708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由此我们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3851280" y="364500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517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348=_____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3645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2916360" y="5657760"/>
            <a:ext cx="129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 6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8"/>
          <p:cNvGrpSpPr/>
          <p:nvPr/>
        </p:nvGrpSpPr>
        <p:grpSpPr>
          <a:xfrm>
            <a:off x="468360" y="1353960"/>
            <a:ext cx="5904000" cy="2371320"/>
            <a:chOff x="468360" y="1353960"/>
            <a:chExt cx="5904000" cy="2371320"/>
          </a:xfrm>
        </p:grpSpPr>
        <p:grpSp>
          <p:nvGrpSpPr>
            <p:cNvPr id="171" name="Group 29"/>
            <p:cNvGrpSpPr/>
            <p:nvPr/>
          </p:nvGrpSpPr>
          <p:grpSpPr>
            <a:xfrm>
              <a:off x="468360" y="2852640"/>
              <a:ext cx="5904000" cy="872640"/>
              <a:chOff x="468360" y="2852640"/>
              <a:chExt cx="5904000" cy="872640"/>
            </a:xfrm>
          </p:grpSpPr>
          <p:sp>
            <p:nvSpPr>
              <p:cNvPr id="172" name="AutoShape 30"/>
              <p:cNvSpPr/>
              <p:nvPr/>
            </p:nvSpPr>
            <p:spPr>
              <a:xfrm rot="16200000">
                <a:off x="3276720" y="44280"/>
                <a:ext cx="287280" cy="5904000"/>
              </a:xfrm>
              <a:custGeom>
                <a:avLst/>
                <a:gdLst>
                  <a:gd name="textAreaLeft" fmla="*/ 183600 w 287280"/>
                  <a:gd name="textAreaRight" fmla="*/ 287640 w 287280"/>
                  <a:gd name="textAreaTop" fmla="*/ 91800 h 5904000"/>
                  <a:gd name="textAreaBottom" fmla="*/ 5812200 h 590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37"/>
                      <a:pt x="10800" y="1074"/>
                    </a:cubicBezTo>
                    <a:lnTo>
                      <a:pt x="10800" y="9726"/>
                    </a:lnTo>
                    <a:cubicBezTo>
                      <a:pt x="10800" y="10263"/>
                      <a:pt x="5400" y="10800"/>
                      <a:pt x="0" y="10800"/>
                    </a:cubicBezTo>
                    <a:cubicBezTo>
                      <a:pt x="5400" y="10800"/>
                      <a:pt x="10800" y="11337"/>
                      <a:pt x="10800" y="11874"/>
                    </a:cubicBezTo>
                    <a:lnTo>
                      <a:pt x="10800" y="20526"/>
                    </a:lnTo>
                    <a:cubicBezTo>
                      <a:pt x="10800" y="21063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31"/>
              <p:cNvSpPr/>
              <p:nvPr/>
            </p:nvSpPr>
            <p:spPr>
              <a:xfrm>
                <a:off x="2708640" y="3082680"/>
                <a:ext cx="160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517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AutoShape 32"/>
            <p:cNvSpPr/>
            <p:nvPr/>
          </p:nvSpPr>
          <p:spPr>
            <a:xfrm rot="5400000">
              <a:off x="2518920" y="-63720"/>
              <a:ext cx="289080" cy="424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110520 h 4248360"/>
                <a:gd name="textAreaBottom" fmla="*/ 4137840 h 424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3"/>
            <p:cNvSpPr/>
            <p:nvPr/>
          </p:nvSpPr>
          <p:spPr>
            <a:xfrm>
              <a:off x="1989720" y="1353960"/>
              <a:ext cx="160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4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160720" y="33336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现在我们把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  <a:ea typeface="黑体"/>
              </a:rPr>
              <a:t>517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改成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  <a:ea typeface="黑体"/>
              </a:rPr>
              <a:t>507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，想一想，计算上有什么不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er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0920" y="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214334"/>
          <p:cNvPicPr/>
          <p:nvPr/>
        </p:nvPicPr>
        <p:blipFill>
          <a:blip r:embed="rId2"/>
          <a:stretch/>
        </p:blipFill>
        <p:spPr>
          <a:xfrm>
            <a:off x="7272360" y="4076640"/>
            <a:ext cx="1871640" cy="25002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4213080" y="2060640"/>
            <a:ext cx="4535640" cy="1869840"/>
          </a:xfrm>
          <a:prstGeom prst="wedgeRoundRectCallout">
            <a:avLst>
              <a:gd name="adj1" fmla="val 33513"/>
              <a:gd name="adj2" fmla="val 64768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要从十位上退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十位上是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4211640" y="2060640"/>
            <a:ext cx="4535640" cy="1871640"/>
          </a:xfrm>
          <a:prstGeom prst="wedgeRoundRectCallout">
            <a:avLst>
              <a:gd name="adj1" fmla="val 32953"/>
              <a:gd name="adj2" fmla="val 64078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应该再从百位上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上退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再从十位上退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给个位，这样十位上还剩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就能继续减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050920" y="3103560"/>
            <a:ext cx="23050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－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3 4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□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8"/>
          <p:cNvGrpSpPr/>
          <p:nvPr/>
        </p:nvGrpSpPr>
        <p:grpSpPr>
          <a:xfrm>
            <a:off x="2914560" y="2421000"/>
            <a:ext cx="1297080" cy="1103400"/>
            <a:chOff x="2914560" y="2421000"/>
            <a:chExt cx="1297080" cy="1103400"/>
          </a:xfrm>
        </p:grpSpPr>
        <p:sp>
          <p:nvSpPr>
            <p:cNvPr id="183" name="Text Box 9"/>
            <p:cNvSpPr/>
            <p:nvPr/>
          </p:nvSpPr>
          <p:spPr>
            <a:xfrm>
              <a:off x="2914560" y="2455560"/>
              <a:ext cx="1297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5 0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3348000" y="2421000"/>
              <a:ext cx="57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0000"/>
                  </a:solidFill>
                  <a:latin typeface="Arial"/>
                </a:rPr>
                <a:t> 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1"/>
          <p:cNvSpPr/>
          <p:nvPr/>
        </p:nvSpPr>
        <p:spPr>
          <a:xfrm>
            <a:off x="2770200" y="364500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 5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195640" y="11592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接下来我们看一道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怎样计算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  <a:ea typeface="黑体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  <a:ea typeface="黑体"/>
              </a:rPr>
              <a:t>185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dgfdhg"/>
          <p:cNvPicPr/>
          <p:nvPr/>
        </p:nvPicPr>
        <p:blipFill>
          <a:blip r:embed="rId1"/>
          <a:stretch/>
        </p:blipFill>
        <p:spPr>
          <a:xfrm>
            <a:off x="1258920" y="2492280"/>
            <a:ext cx="5113440" cy="2881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er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-34920" y="-25560"/>
            <a:ext cx="1984320" cy="2698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0" y="3068640"/>
            <a:ext cx="2016000" cy="577800"/>
          </a:xfrm>
          <a:prstGeom prst="wedgeRoundRectCallout">
            <a:avLst>
              <a:gd name="adj1" fmla="val 46930"/>
              <a:gd name="adj2" fmla="val 86814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以用竖式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835280" y="1413000"/>
            <a:ext cx="3673440" cy="1225440"/>
          </a:xfrm>
          <a:prstGeom prst="wedgeRoundRectCallout">
            <a:avLst>
              <a:gd name="adj1" fmla="val 1254"/>
              <a:gd name="adj2" fmla="val 67356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8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可以分成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=4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5=31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724360" y="1916280"/>
            <a:ext cx="2843280" cy="1225440"/>
          </a:xfrm>
          <a:prstGeom prst="wedgeRoundRectCallout">
            <a:avLst>
              <a:gd name="adj1" fmla="val -38384"/>
              <a:gd name="adj2" fmla="val 77203"/>
              <a:gd name="adj3" fmla="val 16667"/>
            </a:avLst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8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=2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=3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=31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214334"/>
          <p:cNvPicPr/>
          <p:nvPr/>
        </p:nvPicPr>
        <p:blipFill>
          <a:blip r:embed="rId3"/>
          <a:stretch/>
        </p:blipFill>
        <p:spPr>
          <a:xfrm>
            <a:off x="7920000" y="4941720"/>
            <a:ext cx="1224000" cy="16351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9"/>
          <p:cNvSpPr/>
          <p:nvPr/>
        </p:nvSpPr>
        <p:spPr>
          <a:xfrm>
            <a:off x="6300720" y="3429000"/>
            <a:ext cx="2232000" cy="1657440"/>
          </a:xfrm>
          <a:prstGeom prst="cloudCallout">
            <a:avLst>
              <a:gd name="adj1" fmla="val 39046"/>
              <a:gd name="adj2" fmla="val 89078"/>
            </a:avLst>
          </a:prstGeom>
          <a:solidFill>
            <a:srgbClr val="ffff00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你还能想出别的的方法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华文楷体"/>
              </a:rPr>
              <a:t>好了就到这里吧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剩下的时间让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一起去</a:t>
            </a: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楷体"/>
              </a:rPr>
              <a:t>看看我的收获</a:t>
            </a: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4876920" y="1981080"/>
            <a:ext cx="4266720" cy="2667240"/>
            <a:chOff x="4876920" y="1981080"/>
            <a:chExt cx="4266720" cy="2667240"/>
          </a:xfrm>
        </p:grpSpPr>
        <p:pic>
          <p:nvPicPr>
            <p:cNvPr id="197" name="Picture 5" descr="dw_001"/>
            <p:cNvPicPr/>
            <p:nvPr/>
          </p:nvPicPr>
          <p:blipFill>
            <a:blip r:embed="rId1"/>
            <a:stretch/>
          </p:blipFill>
          <p:spPr>
            <a:xfrm>
              <a:off x="6960600" y="1981080"/>
              <a:ext cx="218304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AutoShape 6"/>
            <p:cNvSpPr/>
            <p:nvPr/>
          </p:nvSpPr>
          <p:spPr>
            <a:xfrm>
              <a:off x="4876920" y="2170440"/>
              <a:ext cx="2034000" cy="1388880"/>
            </a:xfrm>
            <a:prstGeom prst="cloudCallout">
              <a:avLst>
                <a:gd name="adj1" fmla="val 75967"/>
                <a:gd name="adj2" fmla="val 3134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7" descr="GTH_018"/>
            <p:cNvPicPr/>
            <p:nvPr/>
          </p:nvPicPr>
          <p:blipFill>
            <a:blip r:embed="rId2"/>
            <a:stretch/>
          </p:blipFill>
          <p:spPr>
            <a:xfrm>
              <a:off x="6266160" y="2359800"/>
              <a:ext cx="64476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WordArt 8"/>
            <p:cNvSpPr txBox="1"/>
            <p:nvPr/>
          </p:nvSpPr>
          <p:spPr>
            <a:xfrm>
              <a:off x="5075280" y="2359800"/>
              <a:ext cx="1339560" cy="88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round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华文楷体"/>
                </a:rPr>
                <a:t>走啦！</a:t>
              </a:r>
              <a:endParaRPr b="0" lang="en-US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楷体"/>
                <a:ea typeface="华文楷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8:00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1:39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