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18.jpeg" ContentType="image/jpeg"/>
  <Override PartName="/ppt/media/image15.jpeg" ContentType="image/jpeg"/>
  <Override PartName="/ppt/media/image8.jpeg" ContentType="image/jpeg"/>
  <Override PartName="/ppt/media/image5.png" ContentType="image/png"/>
  <Override PartName="/ppt/media/image30.png" ContentType="image/png"/>
  <Override PartName="/ppt/media/image28.png" ContentType="image/png"/>
  <Override PartName="/ppt/media/image6.png" ContentType="image/png"/>
  <Override PartName="/ppt/media/image31.png" ContentType="image/png"/>
  <Override PartName="/ppt/media/image19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16.jpeg" ContentType="image/jpeg"/>
  <Override PartName="/ppt/media/image32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E4A1-EA8E-492E-A2B8-B2E30FEDBA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41EA-32F4-4A8E-925D-D0BFBB0675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802-1F74-422F-A352-77DEFD5F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21D-3AA4-4B5A-B0CB-D92335A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2EA-D932-4B56-8E38-19319CB4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3DB-4579-4BB2-B975-CF468598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185-A58B-4789-84DD-0DB70DBD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864-6BEC-4B4B-B462-7ACB7C09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AB1-350F-493C-9BEC-5542C0E4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9F2-F55E-43E0-982B-CB4498EB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189-E603-43A0-A77D-92422836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CFC-2AF2-4455-93CA-081E559A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A7C-38F6-4AD7-935F-65406635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8F6-44E8-4820-80A4-E6245DB0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8887-9705-4B06-8FA1-3319F42FE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jpeg"/><Relationship Id="rId3" Type="http://schemas.openxmlformats.org/officeDocument/2006/relationships/slide" Target="slide24.xml"/><Relationship Id="rId4" Type="http://schemas.openxmlformats.org/officeDocument/2006/relationships/image" Target="../media/image14.jpeg"/><Relationship Id="rId5" Type="http://schemas.openxmlformats.org/officeDocument/2006/relationships/slide" Target="slide25.xml"/><Relationship Id="rId6" Type="http://schemas.openxmlformats.org/officeDocument/2006/relationships/image" Target="../media/image15.jpeg"/><Relationship Id="rId7" Type="http://schemas.openxmlformats.org/officeDocument/2006/relationships/slide" Target="slide26.xml"/><Relationship Id="rId8" Type="http://schemas.openxmlformats.org/officeDocument/2006/relationships/image" Target="../media/image16.jpeg"/><Relationship Id="rId9" Type="http://schemas.openxmlformats.org/officeDocument/2006/relationships/slide" Target="slide27.xml"/><Relationship Id="rId10" Type="http://schemas.openxmlformats.org/officeDocument/2006/relationships/image" Target="../media/image17.jpeg"/><Relationship Id="rId11" Type="http://schemas.openxmlformats.org/officeDocument/2006/relationships/slide" Target="slide23.xml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9.jpeg"/><Relationship Id="rId3" Type="http://schemas.openxmlformats.org/officeDocument/2006/relationships/slide" Target="slide16.xml"/><Relationship Id="rId4" Type="http://schemas.openxmlformats.org/officeDocument/2006/relationships/image" Target="../media/image20.jpeg"/><Relationship Id="rId5" Type="http://schemas.openxmlformats.org/officeDocument/2006/relationships/slide" Target="slide15.xm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2.jpeg"/><Relationship Id="rId3" Type="http://schemas.openxmlformats.org/officeDocument/2006/relationships/slide" Target="slide13.xm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2.jpeg"/><Relationship Id="rId3" Type="http://schemas.openxmlformats.org/officeDocument/2006/relationships/slide" Target="slide13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2.jpeg"/><Relationship Id="rId3" Type="http://schemas.openxmlformats.org/officeDocument/2006/relationships/slide" Target="slide6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人教新课标  一年级品德与生活上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58920" y="2349360"/>
            <a:ext cx="6842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7030a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我自己会整理</a:t>
            </a:r>
            <a:endParaRPr b="1" lang="en-US" sz="7200" spc="1" strike="noStrike">
              <a:ln w="12600">
                <a:solidFill>
                  <a:srgbClr val="3333cc"/>
                </a:solidFill>
                <a:round/>
              </a:ln>
              <a:solidFill>
                <a:srgbClr val="7030a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93464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28600" y="152280"/>
            <a:ext cx="4038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黑体"/>
              </a:rPr>
              <a:t>活动二 我会整理书包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042920" y="119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活动：给书包减减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8197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80880" y="181080"/>
            <a:ext cx="29718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活动三 巧手来整理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8600" y="1676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戏活动：看谁找得快。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547640" y="321300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整理学具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整齐美观  方便好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380880" y="0"/>
            <a:ext cx="2971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活动三 巧手来整理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352680" y="502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点击图片浏览大图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826920" y="55166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看自己能做到什么？除了自己已经做过的，说说我们还可以做哪些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jsp1s030408005用过的东西放回原处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91440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sp1s030408006自己叠被子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352680" y="911160"/>
            <a:ext cx="2544840" cy="190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jsp1s030408007自己收拾书包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172200" y="914400"/>
            <a:ext cx="2544840" cy="190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jsp1s030408008自己整理书桌和抽屉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03280" y="2971800"/>
            <a:ext cx="2544840" cy="19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jsp1s030408009自己整理图书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352680" y="2971800"/>
            <a:ext cx="2544840" cy="190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jsp1s030408010自己整理玩具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172200" y="2971800"/>
            <a:ext cx="25448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9907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同学们，让我们一起看一看下列图片中哪张课桌又干净又整齐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摆放整齐的书桌一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16765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脏乱的书桌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66680" y="41911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未命名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1752480"/>
            <a:ext cx="2895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摆放整齐的书桌一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66680" y="1066680"/>
            <a:ext cx="716292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未命名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66680" y="8380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脏乱的书桌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95280" y="838080"/>
            <a:ext cx="6782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2730960" y="16002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事你能做到？做到了给圈涂上喜欢的颜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2133720" y="2147760"/>
            <a:ext cx="4876560" cy="4254120"/>
            <a:chOff x="2133720" y="2147760"/>
            <a:chExt cx="4876560" cy="4254120"/>
          </a:xfrm>
        </p:grpSpPr>
        <p:pic>
          <p:nvPicPr>
            <p:cNvPr id="111" name="Picture 5" descr="p55-01"/>
            <p:cNvPicPr/>
            <p:nvPr/>
          </p:nvPicPr>
          <p:blipFill>
            <a:blip r:embed="rId2"/>
            <a:stretch/>
          </p:blipFill>
          <p:spPr>
            <a:xfrm>
              <a:off x="2133720" y="2147760"/>
              <a:ext cx="487656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6"/>
            <p:cNvSpPr/>
            <p:nvPr/>
          </p:nvSpPr>
          <p:spPr>
            <a:xfrm>
              <a:off x="3557160" y="58813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自己收拾书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7"/>
            <p:cNvSpPr/>
            <p:nvPr/>
          </p:nvSpPr>
          <p:spPr>
            <a:xfrm>
              <a:off x="5638680" y="5957640"/>
              <a:ext cx="38124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4" dur="1" fill="hold"/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730960" y="16002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事你能做到？做到了给圈涂上喜欢的颜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2362320" y="2286000"/>
            <a:ext cx="4400280" cy="4178160"/>
            <a:chOff x="2362320" y="2286000"/>
            <a:chExt cx="4400280" cy="4178160"/>
          </a:xfrm>
        </p:grpSpPr>
        <p:pic>
          <p:nvPicPr>
            <p:cNvPr id="117" name="Picture 5" descr="p55-02"/>
            <p:cNvPicPr/>
            <p:nvPr/>
          </p:nvPicPr>
          <p:blipFill>
            <a:blip r:embed="rId2"/>
            <a:stretch/>
          </p:blipFill>
          <p:spPr>
            <a:xfrm>
              <a:off x="2362320" y="2286000"/>
              <a:ext cx="44002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3174480" y="59436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自己整理书桌和抽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7"/>
            <p:cNvSpPr/>
            <p:nvPr/>
          </p:nvSpPr>
          <p:spPr>
            <a:xfrm>
              <a:off x="6000840" y="601992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2752200" y="160020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事你能做到？做到了给圈涂上喜欢的颜色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460600" y="2133720"/>
            <a:ext cx="4245120" cy="4268520"/>
            <a:chOff x="2460600" y="2133720"/>
            <a:chExt cx="4245120" cy="4268520"/>
          </a:xfrm>
        </p:grpSpPr>
        <p:pic>
          <p:nvPicPr>
            <p:cNvPr id="123" name="Picture 5" descr="p55-03"/>
            <p:cNvPicPr/>
            <p:nvPr/>
          </p:nvPicPr>
          <p:blipFill>
            <a:blip r:embed="rId2"/>
            <a:srcRect l="0" t="0" r="0" b="-77"/>
            <a:stretch/>
          </p:blipFill>
          <p:spPr>
            <a:xfrm>
              <a:off x="2460600" y="2133720"/>
              <a:ext cx="424512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6"/>
            <p:cNvSpPr/>
            <p:nvPr/>
          </p:nvSpPr>
          <p:spPr>
            <a:xfrm>
              <a:off x="3579480" y="58816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自己整理玩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7"/>
            <p:cNvSpPr/>
            <p:nvPr/>
          </p:nvSpPr>
          <p:spPr>
            <a:xfrm>
              <a:off x="5661000" y="5958000"/>
              <a:ext cx="38124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4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heng01"/>
          <p:cNvPicPr/>
          <p:nvPr/>
        </p:nvPicPr>
        <p:blipFill>
          <a:blip r:embed="rId1"/>
          <a:stretch/>
        </p:blipFill>
        <p:spPr>
          <a:xfrm>
            <a:off x="533520" y="1066680"/>
            <a:ext cx="247968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0805书包_gif"/>
          <p:cNvPicPr/>
          <p:nvPr/>
        </p:nvPicPr>
        <p:blipFill>
          <a:blip r:embed="rId2"/>
          <a:stretch/>
        </p:blipFill>
        <p:spPr>
          <a:xfrm>
            <a:off x="3301920" y="1968480"/>
            <a:ext cx="2540160" cy="1689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1219320" y="3809880"/>
            <a:ext cx="5867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书包是谁整理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谁自己整理自己的书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绍一下是怎么整理自己的书包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2730960" y="16002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事你能做到？做到了给圈涂上喜欢的颜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2286000" y="2271600"/>
            <a:ext cx="4624560" cy="3978360"/>
            <a:chOff x="2286000" y="2271600"/>
            <a:chExt cx="4624560" cy="3978360"/>
          </a:xfrm>
        </p:grpSpPr>
        <p:pic>
          <p:nvPicPr>
            <p:cNvPr id="129" name="Picture 5" descr="p55-04"/>
            <p:cNvPicPr/>
            <p:nvPr/>
          </p:nvPicPr>
          <p:blipFill>
            <a:blip r:embed="rId2"/>
            <a:stretch/>
          </p:blipFill>
          <p:spPr>
            <a:xfrm>
              <a:off x="2286000" y="2271600"/>
              <a:ext cx="4624560" cy="34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6"/>
            <p:cNvSpPr/>
            <p:nvPr/>
          </p:nvSpPr>
          <p:spPr>
            <a:xfrm>
              <a:off x="3533760" y="5729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自己整理图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7"/>
            <p:cNvSpPr/>
            <p:nvPr/>
          </p:nvSpPr>
          <p:spPr>
            <a:xfrm>
              <a:off x="5615280" y="5805360"/>
              <a:ext cx="380880" cy="381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730960" y="16002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事你能做到？做到了给圈涂上喜欢的颜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2484360" y="2205000"/>
            <a:ext cx="4113360" cy="4227480"/>
            <a:chOff x="2484360" y="2205000"/>
            <a:chExt cx="4113360" cy="4227480"/>
          </a:xfrm>
        </p:grpSpPr>
        <p:pic>
          <p:nvPicPr>
            <p:cNvPr id="135" name="Picture 5" descr="p55-05"/>
            <p:cNvPicPr/>
            <p:nvPr/>
          </p:nvPicPr>
          <p:blipFill>
            <a:blip r:embed="rId2"/>
            <a:stretch/>
          </p:blipFill>
          <p:spPr>
            <a:xfrm>
              <a:off x="2484360" y="2205000"/>
              <a:ext cx="4113360" cy="36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6"/>
            <p:cNvSpPr/>
            <p:nvPr/>
          </p:nvSpPr>
          <p:spPr>
            <a:xfrm>
              <a:off x="3209400" y="591192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过的东西放回原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>
              <a:off x="6065640" y="5988240"/>
              <a:ext cx="38124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4" dur="1" fill="hold"/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730960" y="16002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事你能做到？做到了给圈涂上喜欢的颜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2124000" y="2205000"/>
            <a:ext cx="4676760" cy="4101840"/>
            <a:chOff x="2124000" y="2205000"/>
            <a:chExt cx="4676760" cy="4101840"/>
          </a:xfrm>
        </p:grpSpPr>
        <p:pic>
          <p:nvPicPr>
            <p:cNvPr id="141" name="Picture 5" descr="p55-06"/>
            <p:cNvPicPr/>
            <p:nvPr/>
          </p:nvPicPr>
          <p:blipFill>
            <a:blip r:embed="rId2"/>
            <a:stretch/>
          </p:blipFill>
          <p:spPr>
            <a:xfrm>
              <a:off x="2124000" y="2205000"/>
              <a:ext cx="4676760" cy="35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6"/>
            <p:cNvSpPr/>
            <p:nvPr/>
          </p:nvSpPr>
          <p:spPr>
            <a:xfrm>
              <a:off x="3504600" y="57862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自己叠被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7"/>
            <p:cNvSpPr/>
            <p:nvPr/>
          </p:nvSpPr>
          <p:spPr>
            <a:xfrm>
              <a:off x="5276880" y="586224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jsp1s030408005用过的东西放回原处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sp1s030408006自己叠被子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jsp1s030408007自己收拾书包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jsp1s030408008自己整理书桌和抽屉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jsp1s030408009自己整理图书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4008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"/>
          <p:cNvSpPr/>
          <p:nvPr/>
        </p:nvSpPr>
        <p:spPr>
          <a:xfrm>
            <a:off x="882720" y="704880"/>
            <a:ext cx="78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2F31-67E0-48E4-B1C8-8C178E8280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3"/>
          <p:cNvGrpSpPr/>
          <p:nvPr/>
        </p:nvGrpSpPr>
        <p:grpSpPr>
          <a:xfrm>
            <a:off x="1692360" y="1844640"/>
            <a:ext cx="5783040" cy="4419720"/>
            <a:chOff x="1692360" y="1844640"/>
            <a:chExt cx="5783040" cy="4419720"/>
          </a:xfrm>
        </p:grpSpPr>
        <p:sp>
          <p:nvSpPr>
            <p:cNvPr id="56" name="Rectangle 4"/>
            <p:cNvSpPr/>
            <p:nvPr/>
          </p:nvSpPr>
          <p:spPr>
            <a:xfrm>
              <a:off x="4067280" y="1844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跟妈妈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5" descr="p52-01"/>
            <p:cNvPicPr/>
            <p:nvPr/>
          </p:nvPicPr>
          <p:blipFill>
            <a:blip r:embed="rId2"/>
            <a:stretch/>
          </p:blipFill>
          <p:spPr>
            <a:xfrm>
              <a:off x="1692360" y="2320920"/>
              <a:ext cx="5783040" cy="394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p52-02"/>
          <p:cNvPicPr/>
          <p:nvPr/>
        </p:nvPicPr>
        <p:blipFill>
          <a:blip r:embed="rId2"/>
          <a:stretch/>
        </p:blipFill>
        <p:spPr>
          <a:xfrm>
            <a:off x="1219320" y="1981080"/>
            <a:ext cx="5222880" cy="444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p52-03"/>
          <p:cNvPicPr/>
          <p:nvPr/>
        </p:nvPicPr>
        <p:blipFill>
          <a:blip r:embed="rId3"/>
          <a:stretch/>
        </p:blipFill>
        <p:spPr>
          <a:xfrm>
            <a:off x="4952880" y="1170000"/>
            <a:ext cx="34290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609480" y="457200"/>
            <a:ext cx="3276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活动一 整理很重要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990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学们，让我们一起走进小丽的房间看一看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46400" y="42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点击图片观看视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04920" y="4724280"/>
            <a:ext cx="79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平时在家里，有没有经常整理物品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QQ截图未命名0"/>
          <p:cNvPicPr/>
          <p:nvPr/>
        </p:nvPicPr>
        <p:blipFill>
          <a:blip r:embed="rId1"/>
          <a:stretch/>
        </p:blipFill>
        <p:spPr>
          <a:xfrm>
            <a:off x="2484360" y="1700280"/>
            <a:ext cx="3540240" cy="243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7"/>
          <p:cNvSpPr/>
          <p:nvPr/>
        </p:nvSpPr>
        <p:spPr>
          <a:xfrm>
            <a:off x="356400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WordArt 2"/>
          <p:cNvSpPr txBox="1"/>
          <p:nvPr/>
        </p:nvSpPr>
        <p:spPr>
          <a:xfrm>
            <a:off x="914400" y="762120"/>
            <a:ext cx="3276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活动一 整理很重要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68" name="Picture 3" descr="QQ截图未命名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27280" y="1844640"/>
            <a:ext cx="3733920" cy="277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WordArt 7"/>
          <p:cNvSpPr txBox="1"/>
          <p:nvPr/>
        </p:nvSpPr>
        <p:spPr>
          <a:xfrm rot="5400000">
            <a:off x="6145200" y="3006720"/>
            <a:ext cx="1333440" cy="30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黑体"/>
              </a:rPr>
              <a:t>点击观看</a:t>
            </a:r>
            <a:endParaRPr b="0" i="1" lang="en-US" sz="20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16200000"/>
              </a:gradFill>
              <a:effectLst>
                <a:outerShdw dist="53966" dir="2700000" blurRad="0" rotWithShape="0">
                  <a:srgbClr val="cbcbcb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380880" y="38088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活动二 我会整理书包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11280" y="155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的书包是谁整理的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949720" y="2565360"/>
            <a:ext cx="1033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800080"/>
                </a:solidFill>
                <a:latin typeface="Times New Roman"/>
              </a:rPr>
              <a:t>点击观看动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2627280" y="2565360"/>
            <a:ext cx="3476520" cy="2362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3458520" y="52084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动画：怎么整理呢？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3"/>
          <p:cNvSpPr txBox="1"/>
          <p:nvPr/>
        </p:nvSpPr>
        <p:spPr>
          <a:xfrm>
            <a:off x="457200" y="38088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黑体"/>
              </a:rPr>
              <a:t>活动二 我会整理书包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80880" y="16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提问：整理书包的方法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340000" y="3141720"/>
            <a:ext cx="54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按一定的顺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固定的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228600" y="152280"/>
            <a:ext cx="38955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黑体"/>
              </a:rPr>
              <a:t>活动二 我会整理书包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328920" y="1243080"/>
            <a:ext cx="59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整理书包比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101600" y="2478240"/>
            <a:ext cx="1033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800080"/>
                </a:solidFill>
                <a:latin typeface="Times New Roman"/>
              </a:rPr>
              <a:t>点击观看动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1"/>
          <a:stretch/>
        </p:blipFill>
        <p:spPr>
          <a:xfrm>
            <a:off x="2556000" y="2346480"/>
            <a:ext cx="4047840" cy="2522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3402720" y="50133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动画：整理明明的书包和文具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1:50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0:08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