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E9B9-4B56-4EEA-B9AC-2B6EEE7916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0B7E-E6A1-4768-A8A1-F0191F03E5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DFB4-1844-4C1A-89D4-FCD65E8E2C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630-7084-4DF7-A742-3B662D6C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B32-DA2E-40C6-B29D-E69E80A5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D06-C1D2-484C-8E3E-3EAF72F2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2CB-D78D-4369-8EDA-1ABF0D2E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3BC-315F-4ABB-AB7E-2F8C4D8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264-1965-44E6-B2F6-2CB35A3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641-4FA8-4981-8638-33B5E089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587-3717-4280-B1EA-2C137F20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08B-5D82-4CFE-AF18-D4B82087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FA1-14C2-43BF-B85D-429D66B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F78-8851-46FE-AEE7-1C670EE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1C9-71A7-421E-AB9A-9DCD91F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ummer_green_wheat_field-wallpaper-2560x1600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a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a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C62C-DF1F-4EFC-8C1C-4859DF43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2054160" y="2781360"/>
            <a:ext cx="4632480" cy="3147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2422080" y="1487880"/>
            <a:ext cx="396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火箭那样驱动小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07684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239120" y="21891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组装小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95280" y="260280"/>
            <a:ext cx="568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挑战活动：用气球驱动小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8520" y="41338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气球驱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310400" y="57182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交流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23"/>
          <p:cNvPicPr/>
          <p:nvPr/>
        </p:nvPicPr>
        <p:blipFill>
          <a:blip r:embed="rId1"/>
          <a:stretch/>
        </p:blipFill>
        <p:spPr>
          <a:xfrm>
            <a:off x="3059280" y="1606680"/>
            <a:ext cx="594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R_TP`OD`72TB1BESWET5AE"/>
          <p:cNvPicPr/>
          <p:nvPr/>
        </p:nvPicPr>
        <p:blipFill>
          <a:blip r:embed="rId1"/>
          <a:stretch/>
        </p:blipFill>
        <p:spPr>
          <a:xfrm>
            <a:off x="3276720" y="1484280"/>
            <a:ext cx="4176720" cy="1963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526400" y="2205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组装小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95280" y="260280"/>
            <a:ext cx="568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挑战活动：用气球驱动小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4Z(0HGSX%{7F(I)(JK)YZ77"/>
          <p:cNvPicPr/>
          <p:nvPr/>
        </p:nvPicPr>
        <p:blipFill>
          <a:blip r:embed="rId2"/>
          <a:stretch/>
        </p:blipFill>
        <p:spPr>
          <a:xfrm>
            <a:off x="3276720" y="3789360"/>
            <a:ext cx="2520720" cy="1344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585800" y="414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气球驱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1BF4F@FI(ZS68L6TO64X4UR"/>
          <p:cNvPicPr/>
          <p:nvPr/>
        </p:nvPicPr>
        <p:blipFill>
          <a:blip r:embed="rId3"/>
          <a:stretch/>
        </p:blipFill>
        <p:spPr>
          <a:xfrm>
            <a:off x="6084720" y="3789360"/>
            <a:ext cx="2521080" cy="1368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1597680" y="57340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交流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IEDCAD8~7)JCV%(]CXIT@C8"/>
          <p:cNvPicPr/>
          <p:nvPr/>
        </p:nvPicPr>
        <p:blipFill>
          <a:blip r:embed="rId1"/>
          <a:stretch/>
        </p:blipFill>
        <p:spPr>
          <a:xfrm>
            <a:off x="539640" y="2060640"/>
            <a:ext cx="7921800" cy="4097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324000" y="333360"/>
            <a:ext cx="287964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赛车比赛精彩瞬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987640" y="119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赛车跑道，标出刻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Hztt_2008-06-11_10-12-52_567"/>
          <p:cNvPicPr/>
          <p:nvPr/>
        </p:nvPicPr>
        <p:blipFill>
          <a:blip r:embed="rId1"/>
          <a:stretch/>
        </p:blipFill>
        <p:spPr>
          <a:xfrm>
            <a:off x="3635280" y="2602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00903071045365453"/>
          <p:cNvPicPr/>
          <p:nvPr/>
        </p:nvPicPr>
        <p:blipFill>
          <a:blip r:embed="rId2"/>
          <a:stretch/>
        </p:blipFill>
        <p:spPr>
          <a:xfrm>
            <a:off x="179280" y="3357720"/>
            <a:ext cx="5040360" cy="3357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6156360" y="51544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一起点同时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200903071047158557"/>
          <p:cNvPicPr/>
          <p:nvPr/>
        </p:nvPicPr>
        <p:blipFill>
          <a:blip r:embed="rId1"/>
          <a:stretch/>
        </p:blipFill>
        <p:spPr>
          <a:xfrm>
            <a:off x="250920" y="189000"/>
            <a:ext cx="4967280" cy="3308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200903071046363517"/>
          <p:cNvPicPr/>
          <p:nvPr/>
        </p:nvPicPr>
        <p:blipFill>
          <a:blip r:embed="rId2"/>
          <a:stretch/>
        </p:blipFill>
        <p:spPr>
          <a:xfrm>
            <a:off x="3564000" y="3141720"/>
            <a:ext cx="5184720" cy="3454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6227640" y="98064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场外加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绝不干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755640" y="2285640"/>
            <a:ext cx="770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吹足了气的气球固定在小车上，放开气球的气嘴，气球里的气体就会喷出，从而产生一个和喷出方向相反的（            ），推动小车向前运动。这个推动小车运动的力叫（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问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箭靠什么飞行的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39640" y="1413000"/>
            <a:ext cx="7991640" cy="44654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 rot="670200">
            <a:off x="7053120" y="4690800"/>
            <a:ext cx="209088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3796920" y="515700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火箭靠喷射出的火焰产生的反冲力飞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834360" y="292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推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993280" y="335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冲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1473120" y="9237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270320" y="21315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5280" y="191628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使静止的物体运动起来，必须对物体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使物体运动的更快，必须对物体（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使运动的物体停止运动，必须对物体（              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 rot="670200">
            <a:off x="6588000" y="4292280"/>
            <a:ext cx="2090880" cy="2232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66621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用更大的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0980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165800" y="36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用阻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a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6B5-95A0-4556-A806-E5A2226EBC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3760" y="134136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一做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把气球吹胀，气球口对着手掌，慢慢放松，感觉从气球里喷出的气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再次把气球吹胀，使气球口向下或向左，然后把手松开，观察气球的运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08000" y="148428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气球在喷气时，为什么会运动起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气球喷出的气体与气球运动的方向有什么样的关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控制向一个方向运动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824120" y="592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实验一：气嘴向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755640" y="1052640"/>
            <a:ext cx="1857240" cy="4681440"/>
            <a:chOff x="755640" y="1052640"/>
            <a:chExt cx="1857240" cy="4681440"/>
          </a:xfrm>
        </p:grpSpPr>
        <p:pic>
          <p:nvPicPr>
            <p:cNvPr id="56" name="Picture 3" descr="J)DXZSYKYXTD3Y$O_4R}UC5"/>
            <p:cNvPicPr/>
            <p:nvPr/>
          </p:nvPicPr>
          <p:blipFill>
            <a:blip r:embed="rId1"/>
            <a:stretch/>
          </p:blipFill>
          <p:spPr>
            <a:xfrm>
              <a:off x="755640" y="3068640"/>
              <a:ext cx="185724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Line 7"/>
            <p:cNvSpPr/>
            <p:nvPr/>
          </p:nvSpPr>
          <p:spPr>
            <a:xfrm>
              <a:off x="1044360" y="1052640"/>
              <a:ext cx="0" cy="468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0"/>
          <p:cNvGrpSpPr/>
          <p:nvPr/>
        </p:nvGrpSpPr>
        <p:grpSpPr>
          <a:xfrm>
            <a:off x="3203640" y="3213000"/>
            <a:ext cx="5689440" cy="1857600"/>
            <a:chOff x="3203640" y="3213000"/>
            <a:chExt cx="5689440" cy="1857600"/>
          </a:xfrm>
        </p:grpSpPr>
        <p:pic>
          <p:nvPicPr>
            <p:cNvPr id="59" name="Picture 6" descr="J)DXZSYKYXTD3Y$O_4R}UC5"/>
            <p:cNvPicPr/>
            <p:nvPr/>
          </p:nvPicPr>
          <p:blipFill>
            <a:blip r:embed="rId2"/>
            <a:stretch/>
          </p:blipFill>
          <p:spPr>
            <a:xfrm rot="5400000">
              <a:off x="4937760" y="2990160"/>
              <a:ext cx="185760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8"/>
            <p:cNvSpPr/>
            <p:nvPr/>
          </p:nvSpPr>
          <p:spPr>
            <a:xfrm flipH="1">
              <a:off x="3203640" y="3487680"/>
              <a:ext cx="5689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11"/>
          <p:cNvSpPr/>
          <p:nvPr/>
        </p:nvSpPr>
        <p:spPr>
          <a:xfrm>
            <a:off x="5277240" y="5877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实验二：气嘴朝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843280" y="19130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气球里的气体喷出时，会产生一个和喷出方向相反的推力，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反冲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2411280" y="404640"/>
            <a:ext cx="4681800" cy="64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气球喷气方向和运动方向的关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4"/>
          <p:cNvGrpSpPr/>
          <p:nvPr/>
        </p:nvGrpSpPr>
        <p:grpSpPr>
          <a:xfrm>
            <a:off x="1514160" y="4313160"/>
            <a:ext cx="1539000" cy="1438200"/>
            <a:chOff x="1514160" y="4313160"/>
            <a:chExt cx="1539000" cy="1438200"/>
          </a:xfrm>
        </p:grpSpPr>
        <p:sp>
          <p:nvSpPr>
            <p:cNvPr id="65" name="AutoShape 15"/>
            <p:cNvSpPr/>
            <p:nvPr/>
          </p:nvSpPr>
          <p:spPr>
            <a:xfrm rot="5512800">
              <a:off x="1379520" y="5389200"/>
              <a:ext cx="501120" cy="21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 rot="19135200">
              <a:off x="1923120" y="4608000"/>
              <a:ext cx="109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喷气方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7"/>
          <p:cNvGrpSpPr/>
          <p:nvPr/>
        </p:nvGrpSpPr>
        <p:grpSpPr>
          <a:xfrm>
            <a:off x="4342320" y="4021920"/>
            <a:ext cx="1529640" cy="1470600"/>
            <a:chOff x="4342320" y="4021920"/>
            <a:chExt cx="1529640" cy="1470600"/>
          </a:xfrm>
        </p:grpSpPr>
        <p:sp>
          <p:nvSpPr>
            <p:cNvPr id="68" name="AutoShape 18"/>
            <p:cNvSpPr/>
            <p:nvPr/>
          </p:nvSpPr>
          <p:spPr>
            <a:xfrm rot="10615200">
              <a:off x="4347360" y="4034880"/>
              <a:ext cx="501120" cy="21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 rot="2637600">
              <a:off x="4750560" y="4664880"/>
              <a:ext cx="109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喷气方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4"/>
          <p:cNvGrpSpPr/>
          <p:nvPr/>
        </p:nvGrpSpPr>
        <p:grpSpPr>
          <a:xfrm>
            <a:off x="6981840" y="4005360"/>
            <a:ext cx="1280160" cy="905400"/>
            <a:chOff x="6981840" y="4005360"/>
            <a:chExt cx="1280160" cy="905400"/>
          </a:xfrm>
        </p:grpSpPr>
        <p:sp>
          <p:nvSpPr>
            <p:cNvPr id="71" name="AutoShape 20"/>
            <p:cNvSpPr/>
            <p:nvPr/>
          </p:nvSpPr>
          <p:spPr>
            <a:xfrm>
              <a:off x="6981840" y="4005360"/>
              <a:ext cx="686520" cy="24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3"/>
            <p:cNvSpPr/>
            <p:nvPr/>
          </p:nvSpPr>
          <p:spPr>
            <a:xfrm>
              <a:off x="7168320" y="4390200"/>
              <a:ext cx="109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运动方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9"/>
          <p:cNvGrpSpPr/>
          <p:nvPr/>
        </p:nvGrpSpPr>
        <p:grpSpPr>
          <a:xfrm>
            <a:off x="1047240" y="1147320"/>
            <a:ext cx="743400" cy="2026800"/>
            <a:chOff x="1047240" y="1147320"/>
            <a:chExt cx="743400" cy="2026800"/>
          </a:xfrm>
        </p:grpSpPr>
        <p:sp>
          <p:nvSpPr>
            <p:cNvPr id="74" name="AutoShape 26"/>
            <p:cNvSpPr/>
            <p:nvPr/>
          </p:nvSpPr>
          <p:spPr>
            <a:xfrm rot="16200000">
              <a:off x="1325160" y="2676240"/>
              <a:ext cx="687600" cy="2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8"/>
            <p:cNvSpPr/>
            <p:nvPr/>
          </p:nvSpPr>
          <p:spPr>
            <a:xfrm>
              <a:off x="1047240" y="114732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运动方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0"/>
          <p:cNvSpPr/>
          <p:nvPr/>
        </p:nvSpPr>
        <p:spPr>
          <a:xfrm>
            <a:off x="1531800" y="407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6215040" y="407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2007040214053906"/>
          <p:cNvPicPr/>
          <p:nvPr/>
        </p:nvPicPr>
        <p:blipFill>
          <a:blip r:embed="rId1"/>
          <a:stretch/>
        </p:blipFill>
        <p:spPr>
          <a:xfrm>
            <a:off x="755640" y="3284640"/>
            <a:ext cx="7416720" cy="3276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/>
          <p:cNvSpPr/>
          <p:nvPr/>
        </p:nvSpPr>
        <p:spPr>
          <a:xfrm>
            <a:off x="3348000" y="2133720"/>
            <a:ext cx="1079640" cy="360360"/>
          </a:xfrm>
          <a:prstGeom prst="rightArrow">
            <a:avLst>
              <a:gd name="adj1" fmla="val 50000"/>
              <a:gd name="adj2" fmla="val 748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 rot="10800000">
            <a:off x="1186920" y="2133360"/>
            <a:ext cx="1079640" cy="360360"/>
          </a:xfrm>
          <a:prstGeom prst="rightArrow">
            <a:avLst>
              <a:gd name="adj1" fmla="val 50000"/>
              <a:gd name="adj2" fmla="val 748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268360" y="549360"/>
            <a:ext cx="468180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画出下图中船和小车的运动方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5400000">
            <a:off x="5291640" y="2132640"/>
            <a:ext cx="1079280" cy="360360"/>
          </a:xfrm>
          <a:prstGeom prst="rightArrow">
            <a:avLst>
              <a:gd name="adj1" fmla="val 50000"/>
              <a:gd name="adj2" fmla="val 74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16200000">
            <a:off x="6876360" y="2132640"/>
            <a:ext cx="1079280" cy="360360"/>
          </a:xfrm>
          <a:prstGeom prst="rightArrow">
            <a:avLst>
              <a:gd name="adj1" fmla="val 50000"/>
              <a:gd name="adj2" fmla="val 748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48148E-006 C 0.00104 0.08727 0.00885 0.21643 -0.00261 0.29491 C -0.00313 0.2993 -0.00313 0.30347 -0.00347 0.30764 C -0.00434 0.31389 -0.01007 0.32569 -0.01059 0.32708 C -0.0125 0.33171 -0.01389 0.3368 -0.01615 0.34028 C -0.01875 0.34421 -0.02188 0.34745 -0.02413 0.35301 C -0.025 0.35532 -0.0257 0.35764 -0.02674 0.35949 C -0.03143 0.36667 -0.04479 0.36528 -0.0474 0.36574 C -0.05347 0.36782 -0.05851 0.37268 -0.06424 0.37268 E">
                                      <p:cBhvr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07 0.0294 C 0.09445 0.04143 0.10382 0.0544 0.11302 0.06667 C 0.11945 0.07523 0.12431 0.08796 0.13212 0.09421 C 0.13802 0.09907 0.14445 0.10579 0.14983 0.1118 C 0.16164 0.125 0.17275 0.14444 0.18802 0.15092 C 0.2 0.16435 0.20747 0.17778 0.22344 0.18426 C 0.22952 0.19282 0.23282 0.1956 0.24098 0.2 C 0.25087 0.21273 0.2658 0.21875 0.27778 0.22754 C 0.28924 0.23588 0.29931 0.24653 0.31164 0.25301 C 0.3198 0.26389 0.31233 0.25579 0.32778 0.26273 C 0.33577 0.2662 0.34289 0.26967 0.35122 0.27245 C 0.36355 0.28079 0.37726 0.28634 0.39098 0.29028 C 0.39688 0.29537 0.40348 0.30069 0.41007 0.30393 C 0.41598 0.3118 0.42118 0.32083 0.42778 0.32754 C 0.43125 0.3419 0.43872 0.3581 0.44983 0.36273 C 0.45174 0.36435 0.46077 0.37129 0.46302 0.3706 C 0.46407 0.37037 0.46407 0.36805 0.46459 0.36667 E">
                                      <p:cBhvr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912e803b7ae1a7df3887ce6a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447640" y="5949000"/>
            <a:ext cx="42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建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周年阅兵式上的喷气式飞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4613400" y="0"/>
            <a:ext cx="4530600" cy="35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0" y="350028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51080" y="2924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：能像火箭那样驱动小车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a00"/>
                </a:solidFill>
                <a:latin typeface="Arial"/>
              </a:rPr>
              <a:t>组装气球反冲力小车并思考</a:t>
            </a:r>
            <a:endParaRPr b="0" lang="en-US" sz="3600" spc="-1" strike="noStrike">
              <a:solidFill>
                <a:srgbClr val="003a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48428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3a00"/>
                </a:solidFill>
                <a:latin typeface="Arial"/>
              </a:rPr>
              <a:t>把气球固定在我们的小车上，不要影响轮子的转动。</a:t>
            </a:r>
            <a:endParaRPr b="0" lang="en-US" sz="4400" spc="-1" strike="noStrike">
              <a:solidFill>
                <a:srgbClr val="003a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3a00"/>
                </a:solidFill>
                <a:latin typeface="Arial"/>
              </a:rPr>
              <a:t>让小车在气球的作用下，能朝预想的方向前进。</a:t>
            </a:r>
            <a:endParaRPr b="0" lang="en-US" sz="4400" spc="-1" strike="noStrike">
              <a:solidFill>
                <a:srgbClr val="003a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3a00"/>
                </a:solidFill>
                <a:latin typeface="Arial"/>
              </a:rPr>
              <a:t>调整小车，让它跑的既直又远。</a:t>
            </a:r>
            <a:endParaRPr b="0" lang="en-US" sz="4400" spc="-1" strike="noStrike">
              <a:solidFill>
                <a:srgbClr val="003a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3a00"/>
                </a:solidFill>
                <a:latin typeface="Arial"/>
              </a:rPr>
              <a:t>气球小车行驶的距离远近与什么有关？</a:t>
            </a:r>
            <a:endParaRPr b="0" lang="en-US" sz="4400" spc="-1" strike="noStrike">
              <a:solidFill>
                <a:srgbClr val="003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5:35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44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