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725-D66E-4F16-BE95-DCA70152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578-6B10-4612-8910-B3A3C875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6AD-05BD-499E-AE4C-F8EAEB61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07E-2E78-4C9D-9837-53731CF8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A2ED-A857-40F4-AE4B-74AEE380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E1B3-F8A0-481B-BDDF-B17FAF38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E91A-FD9D-4253-83B5-63B41875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E179-6C69-40C4-AF7D-15B1A45F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BAB7-B0A4-47C9-907A-58DD9C8F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1913-E6C4-424C-A545-81160BA5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4DD8-4FC7-49F1-97FD-BFFC4BEB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98D-6B48-49AF-A017-F557857E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8187-F47E-4624-9515-2EE1FD2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4215-5081-49B4-BA2C-7E5E536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9B5C-D5B5-488D-BD7E-21001418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AF9B-7985-4D27-8951-2C66FF16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11F6-C044-4B71-9BB6-6C0071BB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2A1-263D-44BF-893C-8656740A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2CF-5AEC-49F2-8631-CE3C9E7E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AB3-068F-4584-A66A-B009CAB3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39A-91F9-42CF-92E9-DEED7D37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58D-FD97-489F-AA49-E613B95B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B87-C318-487B-A059-0699CC87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5D6-3EE8-40B9-B570-82E91846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B9D1-6EE7-4BDB-B8D0-913581F879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820A-9440-4106-B520-CC1E23D8680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030"/>
          <p:cNvSpPr txBox="1"/>
          <p:nvPr/>
        </p:nvSpPr>
        <p:spPr>
          <a:xfrm rot="5400000">
            <a:off x="4536360" y="1817280"/>
            <a:ext cx="5040360" cy="237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信 客</a:t>
            </a:r>
            <a:endParaRPr b="0" lang="en-US" sz="2400" spc="1" strike="noStrike">
              <a:ln w="9360">
                <a:solidFill>
                  <a:srgbClr val="ffcc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3" name="Text Box 1031"/>
          <p:cNvSpPr/>
          <p:nvPr/>
        </p:nvSpPr>
        <p:spPr>
          <a:xfrm>
            <a:off x="4253760" y="4221000"/>
            <a:ext cx="13993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方正康体简体"/>
                <a:ea typeface="方正康体简体"/>
              </a:rPr>
              <a:t>余秋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0" y="2779560"/>
            <a:ext cx="3897360" cy="3525840"/>
          </a:xfrm>
          <a:prstGeom prst="rect">
            <a:avLst/>
          </a:prstGeom>
          <a:ln w="0">
            <a:noFill/>
          </a:ln>
        </p:spPr>
      </p:pic>
      <p:sp>
        <p:nvSpPr>
          <p:cNvPr id="85" name="矩形 10"/>
          <p:cNvSpPr/>
          <p:nvPr/>
        </p:nvSpPr>
        <p:spPr>
          <a:xfrm>
            <a:off x="2680560" y="6102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7" name="Picture 4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1042920" y="134136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187280" y="314172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971640" y="620640"/>
            <a:ext cx="7705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信客为他人付出了很多，自己却落得遭人误解，饱受委屈，按现代某些价值观衡量，似乎很不划算。你认为他这样做傻不傻？假如让你选择，你会当信客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1" name="Picture 9" descr="B09AAE05DBE37BB77058CEF199965422"/>
          <p:cNvPicPr/>
          <p:nvPr/>
        </p:nvPicPr>
        <p:blipFill>
          <a:blip r:embed="rId2"/>
          <a:stretch/>
        </p:blipFill>
        <p:spPr>
          <a:xfrm>
            <a:off x="3851280" y="5013360"/>
            <a:ext cx="1584360" cy="1255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11280" y="17002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在我们的生活中，你有没有发现像信客一样默默奉献着而又处在社会下层的平凡人？请举一两例，并谈一谈我们应该如何对待他们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611280" y="189000"/>
            <a:ext cx="280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寻找“信客”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900000" y="62064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试一试，发挥你的最大潜能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信客死后，有很多人来吊唁，假如你就是其中一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你为信客撰写墓志铭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591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995919"/>
                </a:solidFill>
                <a:latin typeface="Arial"/>
              </a:rPr>
              <a:t>提示：墓志铭就是对死者生平事迹或品质的概述，语言力求简洁、通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62120" y="6858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1" name="Picture 4" descr="图片1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2050920" y="256536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一支蜡烛，奉献默默，一生之中，忍辱负重，光芒四射，蜡烛已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332000" y="105264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好人终有好报。愿你的灵魂在地下安息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我尊敬的人呐，你辛苦啦，歇一歇吧，我会日日为你祈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042920" y="33336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cc0066"/>
                </a:solidFill>
                <a:latin typeface="隶书"/>
                <a:ea typeface="隶书"/>
              </a:rPr>
              <a:t>走出课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联系生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体验反思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66560" y="1916280"/>
            <a:ext cx="867744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信客，作为一种职业已经消失了，而作为一辈子默默奉献的一类人，却没有绝迹，也不会绝迹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诚信永是做人之本，请结合现实生活和自己的经历，谈谈你对诚信的理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WordArt 5"/>
          <p:cNvSpPr txBox="1"/>
          <p:nvPr/>
        </p:nvSpPr>
        <p:spPr>
          <a:xfrm>
            <a:off x="1523880" y="5105520"/>
            <a:ext cx="684216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33cc"/>
                </a:solidFill>
                <a:latin typeface="宋体"/>
              </a:rPr>
              <a:t>聆听你的心声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33cc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764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诚信是我们做人的基本原则，人、群体、社会是不可以不讲诚信的，诚信是我们这个世界得以支撑到今天的基石之一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为新一代的学生，我们必须努力做到事事讲诚信，时时讲诚信。让诚信伴我们行天下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979640" y="105264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余秋雨先生的散文语言很有特色，请在笔记本摘抄出你认为精彩的语句，并简要说说它的美感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WordArt 7"/>
          <p:cNvSpPr txBox="1"/>
          <p:nvPr/>
        </p:nvSpPr>
        <p:spPr>
          <a:xfrm rot="660600">
            <a:off x="324000" y="188640"/>
            <a:ext cx="158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02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02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D5AB-B63B-4541-AA71-60395698DD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1258920" y="256536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想联络一位朋友或亲人你会采用什么方法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539640" y="549360"/>
            <a:ext cx="28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课前调查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8" name="Picture 6" descr="BD14790_"/>
          <p:cNvPicPr/>
          <p:nvPr/>
        </p:nvPicPr>
        <p:blipFill>
          <a:blip r:embed="rId1"/>
          <a:stretch/>
        </p:blipFill>
        <p:spPr>
          <a:xfrm>
            <a:off x="687708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BD14752_"/>
          <p:cNvPicPr/>
          <p:nvPr/>
        </p:nvPicPr>
        <p:blipFill>
          <a:blip r:embed="rId2"/>
          <a:stretch/>
        </p:blipFill>
        <p:spPr>
          <a:xfrm>
            <a:off x="4859280" y="692280"/>
            <a:ext cx="719280" cy="790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BD14794_"/>
          <p:cNvPicPr/>
          <p:nvPr/>
        </p:nvPicPr>
        <p:blipFill>
          <a:blip r:embed="rId3"/>
          <a:stretch/>
        </p:blipFill>
        <p:spPr>
          <a:xfrm>
            <a:off x="395280" y="227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BD14795_"/>
          <p:cNvPicPr/>
          <p:nvPr/>
        </p:nvPicPr>
        <p:blipFill>
          <a:blip r:embed="rId4"/>
          <a:stretch/>
        </p:blipFill>
        <p:spPr>
          <a:xfrm>
            <a:off x="4211640" y="486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BD14791_"/>
          <p:cNvPicPr/>
          <p:nvPr/>
        </p:nvPicPr>
        <p:blipFill>
          <a:blip r:embed="rId5"/>
          <a:stretch/>
        </p:blipFill>
        <p:spPr>
          <a:xfrm>
            <a:off x="611280" y="5661000"/>
            <a:ext cx="753840" cy="75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BD14790_"/>
          <p:cNvPicPr/>
          <p:nvPr/>
        </p:nvPicPr>
        <p:blipFill>
          <a:blip r:embed="rId6"/>
          <a:stretch/>
        </p:blipFill>
        <p:spPr>
          <a:xfrm>
            <a:off x="8028000" y="5734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D14792_"/>
          <p:cNvPicPr/>
          <p:nvPr/>
        </p:nvPicPr>
        <p:blipFill>
          <a:blip r:embed="rId7"/>
          <a:stretch/>
        </p:blipFill>
        <p:spPr>
          <a:xfrm>
            <a:off x="1116000" y="26028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图片112"/>
          <p:cNvPicPr/>
          <p:nvPr/>
        </p:nvPicPr>
        <p:blipFill>
          <a:blip r:embed="rId8"/>
          <a:stretch/>
        </p:blipFill>
        <p:spPr>
          <a:xfrm>
            <a:off x="7093080" y="260280"/>
            <a:ext cx="1163520" cy="191628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"/>
          <p:cNvSpPr/>
          <p:nvPr/>
        </p:nvSpPr>
        <p:spPr>
          <a:xfrm>
            <a:off x="1712880" y="5734080"/>
            <a:ext cx="86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2290680" y="3048120"/>
            <a:ext cx="1633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042920" y="1916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知识与技能：了解信客这种职业的特点，体会信客的为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过程与方法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整体把握内容了解信客的“信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围绕“诚信”进行口语练习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情感、态度和价值观：树立诚信为本的做人理念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916360" y="69228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教学目标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5796000" y="549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6804000" y="4869000"/>
            <a:ext cx="2016000" cy="1296720"/>
          </a:xfrm>
          <a:custGeom>
            <a:avLst/>
            <a:gdLst>
              <a:gd name="textAreaLeft" fmla="*/ 504000 w 2016000"/>
              <a:gd name="textAreaRight" fmla="*/ 1512000 w 2016000"/>
              <a:gd name="textAreaTop" fmla="*/ 0 h 1296720"/>
              <a:gd name="textAreaBottom" fmla="*/ 1134720 h 1296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余秋雨的主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作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Picture 13" descr="余作2"/>
          <p:cNvPicPr/>
          <p:nvPr/>
        </p:nvPicPr>
        <p:blipFill>
          <a:blip r:embed="rId1"/>
          <a:stretch/>
        </p:blipFill>
        <p:spPr>
          <a:xfrm>
            <a:off x="3419640" y="4437000"/>
            <a:ext cx="154440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余作3"/>
          <p:cNvPicPr/>
          <p:nvPr/>
        </p:nvPicPr>
        <p:blipFill>
          <a:blip r:embed="rId2"/>
          <a:stretch/>
        </p:blipFill>
        <p:spPr>
          <a:xfrm>
            <a:off x="250920" y="4437000"/>
            <a:ext cx="1512720" cy="2086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余作5"/>
          <p:cNvPicPr/>
          <p:nvPr/>
        </p:nvPicPr>
        <p:blipFill>
          <a:blip r:embed="rId3"/>
          <a:stretch/>
        </p:blipFill>
        <p:spPr>
          <a:xfrm>
            <a:off x="1835280" y="4437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走近作者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6" name="Picture 7" descr="余作1"/>
          <p:cNvPicPr/>
          <p:nvPr/>
        </p:nvPicPr>
        <p:blipFill>
          <a:blip r:embed="rId4"/>
          <a:stretch/>
        </p:blipFill>
        <p:spPr>
          <a:xfrm>
            <a:off x="5076720" y="4437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0" y="1600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余秋雨，生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4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，浙江余姚人，我国当代著名艺术理论家、文化史学者、散文家。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主要作品有《文化苦旅》、《山居笔记》、《千年一叹》、《行者无疆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Picture 18" descr="U3P112T22D2250F829DT20031202131228"/>
          <p:cNvPicPr/>
          <p:nvPr/>
        </p:nvPicPr>
        <p:blipFill>
          <a:blip r:embed="rId5"/>
          <a:stretch/>
        </p:blipFill>
        <p:spPr>
          <a:xfrm>
            <a:off x="5513400" y="0"/>
            <a:ext cx="36306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2776680" y="8049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会读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11280" y="1628640"/>
            <a:ext cx="6553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嫉妒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      ）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è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耗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猝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然（    ）       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jì liǎng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昏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厥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）           连声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nuò nuò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文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绉绉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   ）    颠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pèi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吊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唁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）           焦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zhuó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诘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问（    ）           时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áo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197080" y="164952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íd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140720" y="164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1981080" y="20829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50944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伎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910160" y="265752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u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589080" y="265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诺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331720" y="3090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zhōu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221800" y="31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1836720" y="35942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yà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572508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909800" y="4170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i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5582160" y="416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3" name="Picture 19" descr="gif002"/>
          <p:cNvPicPr/>
          <p:nvPr/>
        </p:nvPicPr>
        <p:blipFill>
          <a:blip r:embed="rId1"/>
          <a:stretch/>
        </p:blipFill>
        <p:spPr>
          <a:xfrm>
            <a:off x="8101080" y="18900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1012680" y="404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认识信客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356000" y="260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信客是一种私人职业，不受任何机构管理。这个地方外出谋生的人多了，少不了要带几封平安家信、带一点衣物食品的，方圆几十里又没有邮局，那就用得着信客了。信客要有一点文化，知道各大码头的情形，还要一副强健的筋骨，背得动重重的行李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信客为远行者们效力，自己却是最困苦的远行者。一身破衣旧衫，满脸风尘， 状如乞丐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95280" y="33336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走进课文——整体感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187280" y="1413000"/>
            <a:ext cx="6350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信客的工作量大吗？你对这份工作的初步印象是怎样的？能用一个字来概括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这种“苦”从哪里体现出来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3564000" y="3429000"/>
            <a:ext cx="1150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7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苦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68360" y="2060640"/>
            <a:ext cx="220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信客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苦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2771640" y="1700280"/>
            <a:ext cx="71640" cy="2592360"/>
          </a:xfrm>
          <a:custGeom>
            <a:avLst/>
            <a:gdLst>
              <a:gd name="textAreaLeft" fmla="*/ 45720 w 71640"/>
              <a:gd name="textAreaRight" fmla="*/ 72000 w 71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132000" y="1557360"/>
            <a:ext cx="477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工作劳苦：终年跋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055400" y="2276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贫苦：收入微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987640" y="2997360"/>
            <a:ext cx="8393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灵痛苦：蒙受怀疑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欺凌、憎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7"/>
          <p:cNvSpPr/>
          <p:nvPr/>
        </p:nvSpPr>
        <p:spPr>
          <a:xfrm>
            <a:off x="684360" y="40464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七嘴八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28600" y="1447920"/>
            <a:ext cx="8686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喜欢信客吗？为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诚信无私、任劳任怨、待人宽容、洁身自好、恪尽职守、善良厚道等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324000" y="321300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Picture 21" descr="woman_teacher_blackboard_md_wht"/>
          <p:cNvPicPr/>
          <p:nvPr/>
        </p:nvPicPr>
        <p:blipFill>
          <a:blip r:embed="rId1"/>
          <a:stretch/>
        </p:blipFill>
        <p:spPr>
          <a:xfrm>
            <a:off x="304920" y="5562720"/>
            <a:ext cx="1143000" cy="1063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2" descr="RT_002"/>
          <p:cNvPicPr/>
          <p:nvPr/>
        </p:nvPicPr>
        <p:blipFill>
          <a:blip r:embed="rId2"/>
          <a:stretch/>
        </p:blipFill>
        <p:spPr>
          <a:xfrm>
            <a:off x="7620120" y="53352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3"/>
          <p:cNvSpPr/>
          <p:nvPr/>
        </p:nvSpPr>
        <p:spPr>
          <a:xfrm>
            <a:off x="3691440" y="3213000"/>
            <a:ext cx="17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信客死后，为什么要和老信客葬在一 起？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395280" y="3933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因为信客理解老信客，同情他，敬重他，感激他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5:07:00Z</dcterms:created>
  <dc:creator>第一PPT模板网-WWW.1PPT.COM</dc:creator>
  <dc:description/>
  <cp:keywords>第一PPT模板网-WWW.1PPT.COM</cp:keywords>
  <dc:language>en-US</dc:language>
  <cp:lastModifiedBy>xinxing</cp:lastModifiedBy>
  <dcterms:modified xsi:type="dcterms:W3CDTF">2017-04-16T15:40:12Z</dcterms:modified>
  <cp:revision>10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2</vt:r8>
  </property>
</Properties>
</file>