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9906-CCAD-4F61-A328-322F42927074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9003-EB2F-45BA-913C-7723CA79B0DF}" type="slidenum">
              <a:rPr b="1" lang="zh-CN" sz="1200" spc="-1" strike="noStrike">
                <a:solidFill>
                  <a:srgbClr val="0000cc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06C-4B7A-49D0-8F30-189FB09D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5F6-BCB2-49B2-BFBD-DCD63719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88E-988A-4E8D-9521-687F6D1C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A01-A02E-4E90-A5A2-F58BED7E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726-2FB3-4314-A0A3-2BAB6010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029-0105-4CCD-B43B-972E3059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9F8-1CD5-4C33-84D7-D012E18C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31B-5594-45EF-A0B1-04DF9469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E97-B015-4310-A68B-36C871BF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543-0DA2-4E4C-99F8-69B0C44A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80D-3466-49A5-8FF2-2568AFF2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A7E-639D-4A6F-824D-3305BA67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1FA1-EA03-4C15-80CD-C917245952E3}" type="slidenum">
              <a:rPr b="0" lang="zh-CN" sz="1400" spc="-1" strike="noStrike">
                <a:solidFill>
                  <a:srgbClr val="0000cc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27200" y="1989000"/>
            <a:ext cx="604836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新魏"/>
              </a:rPr>
              <a:t>新年好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258920" y="981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人教新课标 一年级品德与生活上册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90620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dc34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34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805E-7E3C-4515-AB60-4ECCCF423AA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081240" y="2093760"/>
            <a:ext cx="2981520" cy="344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sheng01"/>
          <p:cNvPicPr/>
          <p:nvPr/>
        </p:nvPicPr>
        <p:blipFill>
          <a:blip r:embed="rId2"/>
          <a:stretch/>
        </p:blipFill>
        <p:spPr>
          <a:xfrm>
            <a:off x="533520" y="1066680"/>
            <a:ext cx="247968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p62-01"/>
          <p:cNvPicPr/>
          <p:nvPr/>
        </p:nvPicPr>
        <p:blipFill>
          <a:blip r:embed="rId3"/>
          <a:srcRect l="0" t="0" r="0" b="2459"/>
          <a:stretch/>
        </p:blipFill>
        <p:spPr>
          <a:xfrm>
            <a:off x="2286000" y="2301840"/>
            <a:ext cx="5143680" cy="3032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3"/>
          <p:cNvSpPr/>
          <p:nvPr/>
        </p:nvSpPr>
        <p:spPr>
          <a:xfrm>
            <a:off x="2286000" y="259092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3400"/>
                </a:solidFill>
                <a:latin typeface="楷体_GB2312"/>
              </a:rPr>
              <a:t>说一说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元旦是哪一天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今年是哪年，去年是哪年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1"/>
          <p:cNvSpPr/>
          <p:nvPr/>
        </p:nvSpPr>
        <p:spPr>
          <a:xfrm>
            <a:off x="1219320" y="1609560"/>
            <a:ext cx="6476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新年到了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57" name="Picture 36" descr="p62-03"/>
          <p:cNvPicPr/>
          <p:nvPr/>
        </p:nvPicPr>
        <p:blipFill>
          <a:blip r:embed="rId2"/>
          <a:stretch/>
        </p:blipFill>
        <p:spPr>
          <a:xfrm>
            <a:off x="3200400" y="2666880"/>
            <a:ext cx="182880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p62-04"/>
          <p:cNvPicPr/>
          <p:nvPr/>
        </p:nvPicPr>
        <p:blipFill>
          <a:blip r:embed="rId3"/>
          <a:stretch/>
        </p:blipFill>
        <p:spPr>
          <a:xfrm>
            <a:off x="1371600" y="2743200"/>
            <a:ext cx="464832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p62-06"/>
          <p:cNvPicPr/>
          <p:nvPr/>
        </p:nvPicPr>
        <p:blipFill>
          <a:blip r:embed="rId4"/>
          <a:stretch/>
        </p:blipFill>
        <p:spPr>
          <a:xfrm>
            <a:off x="1752480" y="266688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5" descr="p62-02"/>
          <p:cNvPicPr/>
          <p:nvPr/>
        </p:nvPicPr>
        <p:blipFill>
          <a:blip r:embed="rId5"/>
          <a:stretch/>
        </p:blipFill>
        <p:spPr>
          <a:xfrm>
            <a:off x="5029200" y="2057400"/>
            <a:ext cx="34290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3224160" y="342900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62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1219320" y="1609560"/>
            <a:ext cx="6476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新年到了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3948120" y="5486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中国庆千年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2914560" y="2695680"/>
            <a:ext cx="3314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219320" y="1609560"/>
            <a:ext cx="6476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我们庆新年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209680" y="26496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w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ǒ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 m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é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n k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ě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 y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ǐ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 z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ě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n y</a:t>
            </a: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à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 们　可 以　怎　样　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09680" y="3886200"/>
            <a:ext cx="49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hu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ā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n q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ì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 x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ī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n ni</a:t>
            </a: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</a:rPr>
              <a:t>n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欢　庆　 新　年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219320" y="1609560"/>
            <a:ext cx="6476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我们庆新年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72" name="Picture 6" descr="新年联欢会"/>
          <p:cNvPicPr/>
          <p:nvPr/>
        </p:nvPicPr>
        <p:blipFill>
          <a:blip r:embed="rId2"/>
          <a:stretch/>
        </p:blipFill>
        <p:spPr>
          <a:xfrm>
            <a:off x="1638360" y="2336760"/>
            <a:ext cx="58672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219320" y="1609560"/>
            <a:ext cx="6476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为迎接新年做准备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75" name="Picture 5" descr="p63-02"/>
          <p:cNvPicPr/>
          <p:nvPr/>
        </p:nvPicPr>
        <p:blipFill>
          <a:blip r:embed="rId2"/>
          <a:stretch/>
        </p:blipFill>
        <p:spPr>
          <a:xfrm>
            <a:off x="2019240" y="2514600"/>
            <a:ext cx="5143680" cy="3486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p63-05"/>
          <p:cNvPicPr/>
          <p:nvPr/>
        </p:nvPicPr>
        <p:blipFill>
          <a:blip r:embed="rId3"/>
          <a:stretch/>
        </p:blipFill>
        <p:spPr>
          <a:xfrm>
            <a:off x="1143000" y="2225520"/>
            <a:ext cx="6858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39"/>
          <p:cNvSpPr/>
          <p:nvPr/>
        </p:nvSpPr>
        <p:spPr>
          <a:xfrm>
            <a:off x="1752480" y="2438280"/>
            <a:ext cx="5486400" cy="2057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1ffe1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78" name="Picture 6" descr="sheng03"/>
          <p:cNvPicPr/>
          <p:nvPr/>
        </p:nvPicPr>
        <p:blipFill>
          <a:blip r:embed="rId1"/>
          <a:stretch/>
        </p:blipFill>
        <p:spPr>
          <a:xfrm>
            <a:off x="531720" y="1065240"/>
            <a:ext cx="2503440" cy="708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8"/>
          <p:cNvSpPr/>
          <p:nvPr/>
        </p:nvSpPr>
        <p:spPr>
          <a:xfrm>
            <a:off x="3094560" y="31701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你还知道哪些过新年的资料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1852560" y="5735520"/>
            <a:ext cx="61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cc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cc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cc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sheng03"/>
          <p:cNvPicPr/>
          <p:nvPr/>
        </p:nvPicPr>
        <p:blipFill>
          <a:blip r:embed="rId1"/>
          <a:stretch/>
        </p:blipFill>
        <p:spPr>
          <a:xfrm>
            <a:off x="531720" y="1065240"/>
            <a:ext cx="2503440" cy="708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p64-01"/>
          <p:cNvPicPr/>
          <p:nvPr/>
        </p:nvPicPr>
        <p:blipFill>
          <a:blip r:embed="rId2"/>
          <a:stretch/>
        </p:blipFill>
        <p:spPr>
          <a:xfrm>
            <a:off x="2857680" y="2476440"/>
            <a:ext cx="3429000" cy="2629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0805贺卡00"/>
          <p:cNvPicPr/>
          <p:nvPr/>
        </p:nvPicPr>
        <p:blipFill>
          <a:blip r:embed="rId3"/>
          <a:stretch/>
        </p:blipFill>
        <p:spPr>
          <a:xfrm>
            <a:off x="1508040" y="2346480"/>
            <a:ext cx="6126120" cy="3292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0805贺卡"/>
          <p:cNvPicPr/>
          <p:nvPr/>
        </p:nvPicPr>
        <p:blipFill>
          <a:blip r:embed="rId4"/>
          <a:stretch/>
        </p:blipFill>
        <p:spPr>
          <a:xfrm>
            <a:off x="1714680" y="1981080"/>
            <a:ext cx="5727600" cy="409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0805新年"/>
          <p:cNvPicPr/>
          <p:nvPr/>
        </p:nvPicPr>
        <p:blipFill>
          <a:blip r:embed="rId5"/>
          <a:stretch/>
        </p:blipFill>
        <p:spPr>
          <a:xfrm>
            <a:off x="1476360" y="2349360"/>
            <a:ext cx="61722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2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6:41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01Z</dcterms:modified>
  <cp:revision>19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