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13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12.gif" ContentType="image/gif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E6D-0E86-4469-B298-CA1C8BB3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BEA-4395-4994-82C6-ED92EF90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DFB-D8CE-4A58-A251-0D1BE496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A00-779F-41C3-9223-B10BE77F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3444-440F-4B3B-95E3-71AA970D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D124-2CAA-47EA-9351-9D0F47CD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4944-CDF0-4E71-B069-7D3B74CA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4F6E-8474-4099-9903-377B8550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678F-6FE5-4F7E-BECD-F51E9EC3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1148-9151-42D0-A267-BE7B5055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D515-755F-48F6-963B-5DB4A438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D3F-AB24-4139-ACA8-73B8BB69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1D97-ABE9-4C44-98C0-E605C40F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29E8-3F98-4EBC-B4CA-B58DF2D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5B4A-80FA-4340-AEE3-61005DC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B98A-7F19-4F47-B7AD-4EE2BB71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FBA2-E0D4-4591-9A52-E872BCA2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20D-1925-48E6-A552-52928C5B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699-0CDD-4D71-8BB9-ED2FD340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C9A-1FCA-4464-BF78-335F0AB6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BCB-07AD-4BD3-9D32-4099C68A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0CD-DE0E-4017-9A47-774D0E8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55F-275A-4BC7-9086-160D03D6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53C-876C-4C54-91F6-7761E450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43A6-DABD-4B0B-87AD-EE8D43D92F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9933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6078-DC7D-43C2-A5F5-F929CBD677B5}" type="slidenum">
              <a:rPr b="0" lang="zh-CN" sz="1400" spc="-1" strike="noStrike">
                <a:solidFill>
                  <a:srgbClr val="339933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2"/>
          <p:cNvSpPr/>
          <p:nvPr/>
        </p:nvSpPr>
        <p:spPr>
          <a:xfrm>
            <a:off x="2405160" y="790560"/>
            <a:ext cx="53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99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E2FE-4D1E-4F2B-91B0-D8DCDF2E9C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7"/>
          <p:cNvSpPr/>
          <p:nvPr/>
        </p:nvSpPr>
        <p:spPr>
          <a:xfrm>
            <a:off x="2309760" y="406728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84" name="Picture 2" descr="小学语文（散文）02-1"/>
          <p:cNvPicPr/>
          <p:nvPr/>
        </p:nvPicPr>
        <p:blipFill>
          <a:blip r:embed="rId16"/>
          <a:stretch/>
        </p:blipFill>
        <p:spPr>
          <a:xfrm>
            <a:off x="990720" y="990720"/>
            <a:ext cx="2514600" cy="685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660680" y="1752480"/>
            <a:ext cx="597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有时落在山腰，有时挂在树梢。有时像个圆盘，有时像把镰刀。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234320" y="1295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猜谜语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87" name="Picture 6" descr="100100000138"/>
          <p:cNvPicPr/>
          <p:nvPr/>
        </p:nvPicPr>
        <p:blipFill>
          <a:blip r:embed="rId17"/>
          <a:stretch/>
        </p:blipFill>
        <p:spPr>
          <a:xfrm>
            <a:off x="1219320" y="2827440"/>
            <a:ext cx="6933960" cy="34876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160200" y="616428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339933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066680" y="990720"/>
            <a:ext cx="2590920" cy="53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小小的船"/>
          <p:cNvPicPr/>
          <p:nvPr/>
        </p:nvPicPr>
        <p:blipFill>
          <a:blip r:embed="rId3"/>
          <a:stretch/>
        </p:blipFill>
        <p:spPr>
          <a:xfrm>
            <a:off x="971640" y="15238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990720" y="990720"/>
            <a:ext cx="2666880" cy="71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1295280" y="1828800"/>
            <a:ext cx="67057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1605240" y="1692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月儿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75320" y="1716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23880" y="2622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小小的船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675320" y="26528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小小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625760" y="3618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星星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675320" y="36482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523880" y="4699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天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675320" y="4729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579680" y="5597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）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02" name="Picture 15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91320" y="196380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月亮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2520" y="313380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天空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62520" y="428616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星星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-1249560" y="5437080"/>
            <a:ext cx="118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的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像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627880" y="189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船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646960" y="3062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大海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5646960" y="4213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宝石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239480" y="21985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船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5892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见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07492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坐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239480" y="3390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看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05892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弯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7492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闪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058920" y="4606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蓝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94800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只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94656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星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812240" y="2408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舟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722040" y="2443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弓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738400" y="244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土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517880" y="244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口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1812240" y="355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目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3722040" y="3592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见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3840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门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51788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日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3722040" y="4784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艹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29" name="Picture 22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14400"/>
            <a:ext cx="2667240" cy="714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159440" y="1319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嫦娥奔月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2781360" y="1828800"/>
            <a:ext cx="35877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90720"/>
            <a:ext cx="2667240" cy="7142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3292200" y="2071800"/>
            <a:ext cx="409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　　我会画：把你看到或想象到的星空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画下来。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028760" y="39099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辩论会：月亮上面真的有嫦娥吗？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36" name="Picture 6" descr="卡通脸"/>
          <p:cNvPicPr/>
          <p:nvPr/>
        </p:nvPicPr>
        <p:blipFill>
          <a:blip r:embed="rId3"/>
          <a:stretch/>
        </p:blipFill>
        <p:spPr>
          <a:xfrm>
            <a:off x="1523880" y="3809880"/>
            <a:ext cx="99072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我会画"/>
          <p:cNvPicPr/>
          <p:nvPr/>
        </p:nvPicPr>
        <p:blipFill>
          <a:blip r:embed="rId4"/>
          <a:stretch/>
        </p:blipFill>
        <p:spPr>
          <a:xfrm>
            <a:off x="1197000" y="2057400"/>
            <a:ext cx="110016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2195640" y="53006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22:38Z</dcterms:created>
  <dc:creator/>
  <dc:description/>
  <cp:keywords/>
  <dc:language>en-US</dc:language>
  <cp:lastModifiedBy>xinxing</cp:lastModifiedBy>
  <dcterms:modified xsi:type="dcterms:W3CDTF">2017-04-16T15:27:3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