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66B-07E1-46EB-972F-44179666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25B-6022-4C60-950A-BC117493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A56-A78B-4144-A9F8-BA756107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479-C1D5-4E86-8AE8-77F50621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F7E9C-42E6-44B0-B6A8-77506572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7B53C-D617-4D93-A4A0-68FEE068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FE42A-4971-44F4-A4CB-DE36E257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3277A-6888-4C98-90D9-D669EF65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620DD-228B-42E0-B4BC-69A4C0AF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00CFB-7FD5-4E13-B963-A61CACB5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5085A-B13A-4CA1-91AA-0F0514F6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F42-C288-4531-AB4E-DB65B6CE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1A3B0-7604-4664-A4F4-E812C08F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A6C03-EC6F-4C6F-B40D-60660071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563A8-2971-4A98-9CE7-51E0B6FC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2FB3C-0BE8-42F7-809D-37A1389F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8EB75-4CB3-477F-83F8-BAED4953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0D2-3E2D-49BC-884E-9E9650C6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A33-0F5D-4C9A-9CAA-318E9A9A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89E-D40D-4B17-9DCB-55A0D9AF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D46-75D0-476C-849A-81A8D7D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F84-ACCA-4F5B-9268-61A3FB15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F54-345F-4ECE-A49F-E4E689A5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FBB-9C87-42CC-BA39-74F113F8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FFB9-90DF-4F1D-9596-462C1376B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4A86-A08F-4C85-ABE8-E99C087BA5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6"/>
          <p:cNvSpPr/>
          <p:nvPr/>
        </p:nvSpPr>
        <p:spPr>
          <a:xfrm>
            <a:off x="3352680" y="441972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图片6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324000" y="836640"/>
            <a:ext cx="446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小熊住山洞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5" name="Picture 4" descr="50"/>
          <p:cNvPicPr/>
          <p:nvPr/>
        </p:nvPicPr>
        <p:blipFill>
          <a:blip r:embed="rId16"/>
          <a:stretch/>
        </p:blipFill>
        <p:spPr>
          <a:xfrm flipH="1" rot="1367400">
            <a:off x="279360" y="2560320"/>
            <a:ext cx="2448000" cy="242100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"/>
          <p:cNvSpPr/>
          <p:nvPr/>
        </p:nvSpPr>
        <p:spPr>
          <a:xfrm>
            <a:off x="758880" y="615636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5"/>
          <p:cNvSpPr txBox="1"/>
          <p:nvPr/>
        </p:nvSpPr>
        <p:spPr>
          <a:xfrm>
            <a:off x="395280" y="32868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说话练习</a:t>
            </a:r>
            <a:endParaRPr b="1" lang="en-US" sz="60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0720" y="173988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春天，如果砍掉了小树 ，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50720" y="267012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夏天，如果砍掉了小树 ，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50720" y="360216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秋天，如果砍掉了小树 ，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50720" y="453384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冬天，如果砍掉了小树 ，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说一说"/>
          <p:cNvPicPr/>
          <p:nvPr/>
        </p:nvPicPr>
        <p:blipFill>
          <a:blip r:embed="rId2"/>
          <a:stretch/>
        </p:blipFill>
        <p:spPr>
          <a:xfrm>
            <a:off x="7524720" y="5300640"/>
            <a:ext cx="13874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5"/>
          <p:cNvSpPr txBox="1"/>
          <p:nvPr/>
        </p:nvSpPr>
        <p:spPr>
          <a:xfrm>
            <a:off x="2124000" y="47628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一想：</a:t>
            </a:r>
            <a:endParaRPr b="1" lang="en-US" sz="60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2492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动物给小熊送鲜花时会说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我会猜"/>
          <p:cNvPicPr/>
          <p:nvPr/>
        </p:nvPicPr>
        <p:blipFill>
          <a:blip r:embed="rId2"/>
          <a:stretch/>
        </p:blipFill>
        <p:spPr>
          <a:xfrm>
            <a:off x="179280" y="54000"/>
            <a:ext cx="1619280" cy="1503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30492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Frame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080" y="1223640"/>
            <a:ext cx="698508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作业</a:t>
            </a:r>
            <a:r>
              <a:rPr b="0" lang="en-US" sz="50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br>
              <a:rPr sz="5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(1)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画画你心目中的大森林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在上面写上你想说的话。</a:t>
            </a:r>
            <a:br>
              <a:rPr sz="2400"/>
            </a:br>
            <a:br>
              <a:rPr sz="24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(2)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实践活动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“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保护环境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从我做起”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为校园的花草树木做点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我会猜"/>
          <p:cNvPicPr/>
          <p:nvPr/>
        </p:nvPicPr>
        <p:blipFill>
          <a:blip r:embed="rId2"/>
          <a:stretch/>
        </p:blipFill>
        <p:spPr>
          <a:xfrm>
            <a:off x="1085760" y="966960"/>
            <a:ext cx="14400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DF72-25C6-48F4-B262-7D505C2FE4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379440" y="17985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kǎn  z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à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o  mǎn   shě    ji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砍    造     满     舍    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ni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á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n   zhí  dòng  shù    l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年    直     动      束    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我会读pic_227543"/>
          <p:cNvPicPr/>
          <p:nvPr/>
        </p:nvPicPr>
        <p:blipFill>
          <a:blip r:embed="rId3"/>
          <a:stretch/>
        </p:blipFill>
        <p:spPr>
          <a:xfrm>
            <a:off x="0" y="0"/>
            <a:ext cx="1692360" cy="1387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835280" y="404640"/>
            <a:ext cx="38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755640" y="4365720"/>
            <a:ext cx="7058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小熊一家住在山洞里。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714240" y="5027760"/>
            <a:ext cx="70581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熊爸爸对小熊说：“我们去砍些树，造一间木头房子住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684360" y="44370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春天，他们走进森林。树上长满了绿叶，小熊舍不得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3"/>
          <p:cNvPicPr/>
          <p:nvPr/>
        </p:nvPicPr>
        <p:blipFill>
          <a:blip r:embed="rId2"/>
          <a:stretch/>
        </p:blipFill>
        <p:spPr>
          <a:xfrm>
            <a:off x="0" y="-100080"/>
            <a:ext cx="9144000" cy="5154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900000" y="508464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夏天，他们走进森林。树上开满了花儿，小熊舍不得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900000" y="515628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秋天，他们走进森林。树上结满了果子，小熊舍不得砍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900000" y="489888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冬天，他们走进森林。树上有许多鸟儿，小熊舍不得砍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"/>
          <p:cNvSpPr/>
          <p:nvPr/>
        </p:nvSpPr>
        <p:spPr>
          <a:xfrm>
            <a:off x="1674720" y="4365720"/>
            <a:ext cx="62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4019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324000" y="394812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一年又一年，他们没有砍树造房子，一直住在山洞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66760" y="52293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森林里的动物都很感激小熊一家，给他们送来一束束美丽的鲜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5"/>
          <p:cNvPicPr/>
          <p:nvPr/>
        </p:nvPicPr>
        <p:blipFill>
          <a:blip r:embed="rId1"/>
          <a:srcRect l="16685" t="0" r="20997" b="0"/>
          <a:stretch/>
        </p:blipFill>
        <p:spPr>
          <a:xfrm>
            <a:off x="4627440" y="3508200"/>
            <a:ext cx="4426200" cy="3278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4"/>
          <p:cNvPicPr/>
          <p:nvPr/>
        </p:nvPicPr>
        <p:blipFill>
          <a:blip r:embed="rId2"/>
          <a:srcRect l="9374" t="0" r="17060" b="0"/>
          <a:stretch/>
        </p:blipFill>
        <p:spPr>
          <a:xfrm>
            <a:off x="68400" y="3494160"/>
            <a:ext cx="4425840" cy="3278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3"/>
          <p:cNvPicPr/>
          <p:nvPr/>
        </p:nvPicPr>
        <p:blipFill>
          <a:blip r:embed="rId3"/>
          <a:srcRect l="7968" t="0" r="15898" b="0"/>
          <a:stretch/>
        </p:blipFill>
        <p:spPr>
          <a:xfrm>
            <a:off x="4629240" y="42840"/>
            <a:ext cx="4427280" cy="3278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2"/>
          <p:cNvPicPr/>
          <p:nvPr/>
        </p:nvPicPr>
        <p:blipFill>
          <a:blip r:embed="rId4"/>
          <a:srcRect l="19873" t="0" r="21185" b="0"/>
          <a:stretch/>
        </p:blipFill>
        <p:spPr>
          <a:xfrm>
            <a:off x="77760" y="71280"/>
            <a:ext cx="4425840" cy="327852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6"/>
          <p:cNvGrpSpPr/>
          <p:nvPr/>
        </p:nvGrpSpPr>
        <p:grpSpPr>
          <a:xfrm>
            <a:off x="3535200" y="2319480"/>
            <a:ext cx="2044800" cy="1728720"/>
            <a:chOff x="3535200" y="2319480"/>
            <a:chExt cx="2044800" cy="1728720"/>
          </a:xfrm>
        </p:grpSpPr>
        <p:sp>
          <p:nvSpPr>
            <p:cNvPr id="121" name="Rectangle 7"/>
            <p:cNvSpPr/>
            <p:nvPr/>
          </p:nvSpPr>
          <p:spPr>
            <a:xfrm>
              <a:off x="3535200" y="2319480"/>
              <a:ext cx="204480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8"/>
            <p:cNvGrpSpPr/>
            <p:nvPr/>
          </p:nvGrpSpPr>
          <p:grpSpPr>
            <a:xfrm>
              <a:off x="3651120" y="2369520"/>
              <a:ext cx="1870200" cy="1627920"/>
              <a:chOff x="3651120" y="2369520"/>
              <a:chExt cx="1870200" cy="1627920"/>
            </a:xfrm>
          </p:grpSpPr>
          <p:sp>
            <p:nvSpPr>
              <p:cNvPr id="123" name="WordArt 9"/>
              <p:cNvSpPr txBox="1"/>
              <p:nvPr/>
            </p:nvSpPr>
            <p:spPr>
              <a:xfrm>
                <a:off x="4703400" y="2369520"/>
                <a:ext cx="817920" cy="67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9080">
                      <a:solidFill>
                        <a:srgbClr val="99ccff"/>
                      </a:solidFill>
                      <a:round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夏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124" name="WordArt 10"/>
              <p:cNvSpPr txBox="1"/>
              <p:nvPr/>
            </p:nvSpPr>
            <p:spPr>
              <a:xfrm>
                <a:off x="3651120" y="2369520"/>
                <a:ext cx="817920" cy="67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9080">
                      <a:solidFill>
                        <a:srgbClr val="99ccff"/>
                      </a:solidFill>
                      <a:round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春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125" name="WordArt 11"/>
              <p:cNvSpPr txBox="1"/>
              <p:nvPr/>
            </p:nvSpPr>
            <p:spPr>
              <a:xfrm>
                <a:off x="3651120" y="3322440"/>
                <a:ext cx="817920" cy="67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9080">
                      <a:solidFill>
                        <a:srgbClr val="99ccff"/>
                      </a:solidFill>
                      <a:round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秋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126" name="WordArt 12"/>
              <p:cNvSpPr txBox="1"/>
              <p:nvPr/>
            </p:nvSpPr>
            <p:spPr>
              <a:xfrm>
                <a:off x="4644000" y="3261960"/>
                <a:ext cx="818280" cy="67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9080">
                      <a:solidFill>
                        <a:srgbClr val="99ccff"/>
                      </a:solidFill>
                      <a:round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冬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1:48:28Z</dcterms:created>
  <dc:creator/>
  <dc:description/>
  <cp:keywords/>
  <dc:language>en-US</dc:language>
  <cp:lastModifiedBy>xinxing</cp:lastModifiedBy>
  <dcterms:modified xsi:type="dcterms:W3CDTF">2017-04-16T15:48:4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