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2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53B-0F0E-44E5-A4CC-B6172C9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BA6-9748-4106-BF45-7D21AF4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079-A48A-4344-8343-188FFFC8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4F6-D2C5-4D2F-9C35-35A107E8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5CFC-4DE0-4CBA-ABCC-59448095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CD00-155C-4D3B-961C-E8F126F1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5F5-8629-451E-A42A-0012B465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F17E-97FC-4B48-8865-43FD3D7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69B-3505-41BB-8179-72CF9C1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930E-A0F8-4DAC-B998-29A8043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899A-5BF0-4330-9725-A73B32E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A27-EBC9-44DF-9FC6-596958D0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E5ED-80C9-44A9-8112-3935D778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985B-A030-43CC-8C4C-267D29B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5A9-B7F5-4E4F-8F14-6421813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99A-03CB-4D94-9FFC-55E02A25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65C-48FE-4CB9-B88E-30B1579A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87B-6C05-46B1-B3FA-A2DF3F81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197-17D1-4E60-BDD6-B5411B5F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F8E-ECCB-4645-8874-093D7DB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EB9-C13A-4D64-B64A-2568FC91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CA3-CCE1-4D14-9F75-815D6D3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B2E-A419-4416-BADF-CC10EC70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B68-03A8-4ABF-B1C5-4B5ECCF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BF8-DCB1-4F82-8F47-5C58A4A3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5A9-7258-42A4-9807-CA8154067F58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ycbycjb_hui.exe" TargetMode="External"/><Relationship Id="rId4" Type="http://schemas.openxmlformats.org/officeDocument/2006/relationships/image" Target="../media/image18.png"/><Relationship Id="rId5" Type="http://schemas.openxmlformats.org/officeDocument/2006/relationships/hyperlink" Target="ycbycjb_pian.exe" TargetMode="External"/><Relationship Id="rId6" Type="http://schemas.openxmlformats.org/officeDocument/2006/relationships/image" Target="../media/image19.png"/><Relationship Id="rId7" Type="http://schemas.openxmlformats.org/officeDocument/2006/relationships/hyperlink" Target="ycbycjb_pi.exe" TargetMode="External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135000" y="631332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豆角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547640" y="1628640"/>
            <a:ext cx="6172200" cy="4543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冬瓜"/>
          <p:cNvPicPr/>
          <p:nvPr/>
        </p:nvPicPr>
        <p:blipFill>
          <a:blip r:embed="rId2"/>
          <a:stretch/>
        </p:blipFill>
        <p:spPr>
          <a:xfrm>
            <a:off x="1922400" y="838080"/>
            <a:ext cx="48816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59436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521800" y="1800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7" name="Picture 4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8"/>
          <p:cNvGrpSpPr/>
          <p:nvPr/>
        </p:nvGrpSpPr>
        <p:grpSpPr>
          <a:xfrm>
            <a:off x="1105200" y="2651040"/>
            <a:ext cx="6982920" cy="2758320"/>
            <a:chOff x="1105200" y="2651040"/>
            <a:chExt cx="6982920" cy="2758320"/>
          </a:xfrm>
        </p:grpSpPr>
        <p:sp>
          <p:nvSpPr>
            <p:cNvPr id="109" name="Text Box 2"/>
            <p:cNvSpPr/>
            <p:nvPr/>
          </p:nvSpPr>
          <p:spPr>
            <a:xfrm>
              <a:off x="1475280" y="3120840"/>
              <a:ext cx="6490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次   瓜   燕   什   么   样  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得   再   可   仔   兴   现 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1393560" y="2651040"/>
              <a:ext cx="66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ì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uā      y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     shén     me     y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105200" y="4249440"/>
              <a:ext cx="681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é        z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       kě        zǐ     xìn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xi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12" name="Rectangle 10"/>
          <p:cNvSpPr/>
          <p:nvPr/>
        </p:nvSpPr>
        <p:spPr>
          <a:xfrm>
            <a:off x="3419640" y="76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1523880" y="1884240"/>
            <a:ext cx="6334200" cy="3907080"/>
            <a:chOff x="1523880" y="1884240"/>
            <a:chExt cx="6334200" cy="3907080"/>
          </a:xfrm>
        </p:grpSpPr>
        <p:pic>
          <p:nvPicPr>
            <p:cNvPr id="115" name="Picture 5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276720" y="1884240"/>
              <a:ext cx="2666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962520"/>
              <a:ext cx="285768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876920" y="3941640"/>
              <a:ext cx="2981160" cy="184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978560" y="4417920"/>
            <a:ext cx="559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找一找：冬瓜和茄子到底有什么不一样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除了小燕子的发现，你还发现了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冬瓜和茄子有什么不同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721320" y="19051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标一标：小燕子去菜园看了几次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3721320" y="274320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画一画：小燕子每次看到了什么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076640" y="35956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圈一圈：燕子妈妈是怎么夸小燕子的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小学语文(记叙文）05"/>
          <p:cNvPicPr/>
          <p:nvPr/>
        </p:nvPicPr>
        <p:blipFill>
          <a:blip r:embed="rId2"/>
          <a:stretch/>
        </p:blipFill>
        <p:spPr>
          <a:xfrm>
            <a:off x="1219320" y="1104840"/>
            <a:ext cx="2079360" cy="5716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>
            <a:off x="2133720" y="1752480"/>
            <a:ext cx="4114800" cy="2133720"/>
          </a:xfrm>
          <a:prstGeom prst="cloudCallout">
            <a:avLst>
              <a:gd name="adj1" fmla="val 53125"/>
              <a:gd name="adj2" fmla="val 72768"/>
            </a:avLst>
          </a:prstGeom>
          <a:solidFill>
            <a:srgbClr val="ffffff"/>
          </a:solidFill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来演一演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5" name="Picture 5" descr="teacher00"/>
          <p:cNvPicPr/>
          <p:nvPr/>
        </p:nvPicPr>
        <p:blipFill>
          <a:blip r:embed="rId3"/>
          <a:stretch/>
        </p:blipFill>
        <p:spPr>
          <a:xfrm>
            <a:off x="5410080" y="2986200"/>
            <a:ext cx="307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990240" y="2514600"/>
            <a:ext cx="1474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课外观察一种水果或蔬菜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它们的特点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8" name="Picture 4" descr="白菜"/>
          <p:cNvPicPr/>
          <p:nvPr/>
        </p:nvPicPr>
        <p:blipFill>
          <a:blip r:embed="rId3"/>
          <a:stretch/>
        </p:blipFill>
        <p:spPr>
          <a:xfrm>
            <a:off x="1905120" y="1812960"/>
            <a:ext cx="5638680" cy="4511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辣椒-2"/>
          <p:cNvPicPr/>
          <p:nvPr/>
        </p:nvPicPr>
        <p:blipFill>
          <a:blip r:embed="rId4"/>
          <a:stretch/>
        </p:blipFill>
        <p:spPr>
          <a:xfrm>
            <a:off x="1905120" y="1828800"/>
            <a:ext cx="5638680" cy="451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51水果"/>
          <p:cNvPicPr/>
          <p:nvPr/>
        </p:nvPicPr>
        <p:blipFill>
          <a:blip r:embed="rId5"/>
          <a:stretch/>
        </p:blipFill>
        <p:spPr>
          <a:xfrm>
            <a:off x="1676520" y="1828800"/>
            <a:ext cx="5943600" cy="4495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048水果"/>
          <p:cNvPicPr/>
          <p:nvPr/>
        </p:nvPicPr>
        <p:blipFill>
          <a:blip r:embed="rId6"/>
          <a:stretch/>
        </p:blipFill>
        <p:spPr>
          <a:xfrm>
            <a:off x="1676520" y="18288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049水果"/>
          <p:cNvPicPr/>
          <p:nvPr/>
        </p:nvPicPr>
        <p:blipFill>
          <a:blip r:embed="rId7"/>
          <a:stretch/>
        </p:blipFill>
        <p:spPr>
          <a:xfrm>
            <a:off x="1676520" y="18288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067水果"/>
          <p:cNvPicPr/>
          <p:nvPr/>
        </p:nvPicPr>
        <p:blipFill>
          <a:blip r:embed="rId8"/>
          <a:stretch/>
        </p:blipFill>
        <p:spPr>
          <a:xfrm>
            <a:off x="2133720" y="1676520"/>
            <a:ext cx="5105160" cy="464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058水果"/>
          <p:cNvPicPr/>
          <p:nvPr/>
        </p:nvPicPr>
        <p:blipFill>
          <a:blip r:embed="rId9"/>
          <a:stretch/>
        </p:blipFill>
        <p:spPr>
          <a:xfrm>
            <a:off x="2438280" y="1706400"/>
            <a:ext cx="48006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EFA-21C9-4EED-BBCB-E463589255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2027160" y="56149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4" name="Picture 2" descr="小学语文(记叙文）01"/>
          <p:cNvPicPr/>
          <p:nvPr/>
        </p:nvPicPr>
        <p:blipFill>
          <a:blip r:embed="rId16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白菜"/>
          <p:cNvPicPr/>
          <p:nvPr/>
        </p:nvPicPr>
        <p:blipFill>
          <a:blip r:embed="rId17"/>
          <a:stretch/>
        </p:blipFill>
        <p:spPr>
          <a:xfrm>
            <a:off x="1676520" y="1692360"/>
            <a:ext cx="5790960" cy="4632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22"/>
          <p:cNvGrpSpPr/>
          <p:nvPr/>
        </p:nvGrpSpPr>
        <p:grpSpPr>
          <a:xfrm>
            <a:off x="1905120" y="1219320"/>
            <a:ext cx="6583320" cy="4647960"/>
            <a:chOff x="1905120" y="1219320"/>
            <a:chExt cx="6583320" cy="4647960"/>
          </a:xfrm>
        </p:grpSpPr>
        <p:sp>
          <p:nvSpPr>
            <p:cNvPr id="87" name="AutoShape 20"/>
            <p:cNvSpPr/>
            <p:nvPr/>
          </p:nvSpPr>
          <p:spPr>
            <a:xfrm>
              <a:off x="1905120" y="1219320"/>
              <a:ext cx="4419360" cy="2438280"/>
            </a:xfrm>
            <a:prstGeom prst="cloudCallout">
              <a:avLst>
                <a:gd name="adj1" fmla="val 54921"/>
                <a:gd name="adj2" fmla="val 82226"/>
              </a:avLst>
            </a:prstGeom>
            <a:solidFill>
              <a:srgbClr val="ffffff"/>
            </a:solidFill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说说你认识哪些蔬菜，简要说说说它的样子。 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88" name="Picture 21" descr="teacher00"/>
            <p:cNvPicPr/>
            <p:nvPr/>
          </p:nvPicPr>
          <p:blipFill>
            <a:blip r:embed="rId18"/>
            <a:stretch/>
          </p:blipFill>
          <p:spPr>
            <a:xfrm>
              <a:off x="5410080" y="2986200"/>
              <a:ext cx="3078360" cy="288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丝瓜-1"/>
          <p:cNvPicPr/>
          <p:nvPr/>
        </p:nvPicPr>
        <p:blipFill>
          <a:blip r:embed="rId2"/>
          <a:stretch/>
        </p:blipFill>
        <p:spPr>
          <a:xfrm>
            <a:off x="2484360" y="692280"/>
            <a:ext cx="417528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茄子"/>
          <p:cNvPicPr/>
          <p:nvPr/>
        </p:nvPicPr>
        <p:blipFill>
          <a:blip r:embed="rId2"/>
          <a:stretch/>
        </p:blipFill>
        <p:spPr>
          <a:xfrm>
            <a:off x="2268360" y="404640"/>
            <a:ext cx="4753080" cy="616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839880"/>
            <a:ext cx="2079360" cy="56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南瓜-3"/>
          <p:cNvPicPr/>
          <p:nvPr/>
        </p:nvPicPr>
        <p:blipFill>
          <a:blip r:embed="rId3"/>
          <a:stretch/>
        </p:blipFill>
        <p:spPr>
          <a:xfrm>
            <a:off x="1835280" y="1484280"/>
            <a:ext cx="5638680" cy="48499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"/>
          <p:cNvSpPr/>
          <p:nvPr/>
        </p:nvSpPr>
        <p:spPr>
          <a:xfrm>
            <a:off x="192240" y="6334200"/>
            <a:ext cx="72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模板尽在：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萝卜"/>
          <p:cNvPicPr/>
          <p:nvPr/>
        </p:nvPicPr>
        <p:blipFill>
          <a:blip r:embed="rId3"/>
          <a:stretch/>
        </p:blipFill>
        <p:spPr>
          <a:xfrm>
            <a:off x="1219320" y="1676520"/>
            <a:ext cx="6553080" cy="452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辣椒-2"/>
          <p:cNvPicPr/>
          <p:nvPr/>
        </p:nvPicPr>
        <p:blipFill>
          <a:blip r:embed="rId3"/>
          <a:stretch/>
        </p:blipFill>
        <p:spPr>
          <a:xfrm>
            <a:off x="1619280" y="162864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卷心菜"/>
          <p:cNvPicPr/>
          <p:nvPr/>
        </p:nvPicPr>
        <p:blipFill>
          <a:blip r:embed="rId3"/>
          <a:stretch/>
        </p:blipFill>
        <p:spPr>
          <a:xfrm>
            <a:off x="1979640" y="1628640"/>
            <a:ext cx="5334120" cy="484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黄瓜"/>
          <p:cNvPicPr/>
          <p:nvPr/>
        </p:nvPicPr>
        <p:blipFill>
          <a:blip r:embed="rId2"/>
          <a:stretch/>
        </p:blipFill>
        <p:spPr>
          <a:xfrm>
            <a:off x="2340000" y="549360"/>
            <a:ext cx="436068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/>
  <dc:language>en-US</dc:language>
  <cp:lastModifiedBy>xinxing</cp:lastModifiedBy>
  <dcterms:modified xsi:type="dcterms:W3CDTF">2017-04-16T15:36:07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