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170-E9DB-4DD3-8A9E-D73948E2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B9B-1426-4100-A8E3-8B970228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E68-6F22-401F-8F67-39A1B973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27A-AAD9-47B0-8087-E09D961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F85-00B9-4156-9A30-1F8D417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44A-5CC3-4E58-8F73-DCEEFE9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73F-FA79-4367-9A6D-50EE7F2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77A-6B24-4C6D-97CF-DB24F4AB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D6F-DB76-45D1-8095-8EBB785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992-722C-495E-96AA-54F8788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E3F-2BB5-451A-8FB5-33C3066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E66-2059-4DA9-AE84-5722B600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850-89BD-4F9D-B596-621EF4F95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06560" y="2382840"/>
            <a:ext cx="685476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宋体"/>
              </a:rPr>
              <a:t>一次函数课件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996600"/>
              </a:solidFill>
              <a:effectLst>
                <a:outerShdw dist="17819" dir="2700000" blurRad="0" rotWithShape="0">
                  <a:srgbClr val="99cc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558720" y="495360"/>
            <a:ext cx="8132760" cy="5968800"/>
          </a:xfrm>
          <a:prstGeom prst="rect">
            <a:avLst/>
          </a:pr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fffff"/>
              </a:gs>
              <a:gs pos="100000">
                <a:srgbClr val="ffcc6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914400" y="9907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设总运输费用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话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=20x+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-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+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-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+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+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523880" y="2057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=4x+10040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≤x≤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23"/>
          <p:cNvPicPr/>
          <p:nvPr/>
        </p:nvPicPr>
        <p:blipFill>
          <a:blip r:embed="rId1"/>
          <a:stretch/>
        </p:blipFill>
        <p:spPr>
          <a:xfrm>
            <a:off x="5791320" y="3152880"/>
            <a:ext cx="2666880" cy="2333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914400" y="248904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解析式或图象都可看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最小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此，从Ａ城运往Ｃ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运往Ｄ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；从Ｂ城运往Ｃ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往Ｄ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．此时总运费最少，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533520" y="533520"/>
            <a:ext cx="8076960" cy="5867280"/>
          </a:xfrm>
          <a:prstGeom prst="rect">
            <a:avLst/>
          </a:prstGeom>
          <a:gradFill rotWithShape="0">
            <a:gsLst>
              <a:gs pos="0">
                <a:srgbClr val="ccffff">
                  <a:alpha val="79215"/>
                </a:srgbClr>
              </a:gs>
              <a:gs pos="50000">
                <a:srgbClr val="f9ffff"/>
              </a:gs>
              <a:gs pos="100000">
                <a:srgbClr val="ccffff">
                  <a:alpha val="79215"/>
                </a:srgbClr>
              </a:gs>
            </a:gsLst>
            <a:lin ang="5400000"/>
          </a:gradFill>
          <a:ln w="7632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609480" y="609480"/>
            <a:ext cx="1828800" cy="533520"/>
            <a:chOff x="609480" y="609480"/>
            <a:chExt cx="1828800" cy="533520"/>
          </a:xfrm>
        </p:grpSpPr>
        <p:grpSp>
          <p:nvGrpSpPr>
            <p:cNvPr id="604" name="Group 4"/>
            <p:cNvGrpSpPr/>
            <p:nvPr/>
          </p:nvGrpSpPr>
          <p:grpSpPr>
            <a:xfrm>
              <a:off x="609480" y="609480"/>
              <a:ext cx="1828800" cy="469080"/>
              <a:chOff x="609480" y="609480"/>
              <a:chExt cx="1828800" cy="469080"/>
            </a:xfrm>
          </p:grpSpPr>
          <p:sp>
            <p:nvSpPr>
              <p:cNvPr id="605" name="Rectangle 5"/>
              <p:cNvSpPr/>
              <p:nvPr/>
            </p:nvSpPr>
            <p:spPr>
              <a:xfrm>
                <a:off x="609480" y="618840"/>
                <a:ext cx="182880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</a:rPr>
                  <a:t>巩固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139480" y="609480"/>
                <a:ext cx="232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7" name="Picture 7" descr="gif003[1]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09480" y="609480"/>
              <a:ext cx="4129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Text Box 8"/>
          <p:cNvSpPr/>
          <p:nvPr/>
        </p:nvSpPr>
        <p:spPr>
          <a:xfrm>
            <a:off x="2438280" y="533520"/>
            <a:ext cx="609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映了某公司产品的销售收入与销售量之间的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映了该公司产品的销售成本与销售量之间的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图意填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95480" y="6093000"/>
            <a:ext cx="4608360" cy="360"/>
            <a:chOff x="1095480" y="6093000"/>
            <a:chExt cx="4608360" cy="360"/>
          </a:xfrm>
        </p:grpSpPr>
        <p:sp>
          <p:nvSpPr>
            <p:cNvPr id="610" name="Line 9"/>
            <p:cNvSpPr/>
            <p:nvPr/>
          </p:nvSpPr>
          <p:spPr>
            <a:xfrm>
              <a:off x="1095480" y="609300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1095480" y="6093000"/>
              <a:ext cx="46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455480" y="1700280"/>
            <a:ext cx="360" cy="4897440"/>
            <a:chOff x="1455480" y="1700280"/>
            <a:chExt cx="360" cy="4897440"/>
          </a:xfrm>
        </p:grpSpPr>
        <p:sp>
          <p:nvSpPr>
            <p:cNvPr id="613" name="Line 10"/>
            <p:cNvSpPr/>
            <p:nvPr/>
          </p:nvSpPr>
          <p:spPr>
            <a:xfrm flipV="1">
              <a:off x="1455840" y="1700280"/>
              <a:ext cx="0" cy="489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10800000">
              <a:off x="1455480" y="1700280"/>
              <a:ext cx="360" cy="489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11"/>
          <p:cNvSpPr/>
          <p:nvPr/>
        </p:nvSpPr>
        <p:spPr>
          <a:xfrm>
            <a:off x="5417640" y="604836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2"/>
          <p:cNvGrpSpPr/>
          <p:nvPr/>
        </p:nvGrpSpPr>
        <p:grpSpPr>
          <a:xfrm>
            <a:off x="1095480" y="2852640"/>
            <a:ext cx="1905120" cy="3529080"/>
            <a:chOff x="1095480" y="2852640"/>
            <a:chExt cx="1905120" cy="3529080"/>
          </a:xfrm>
        </p:grpSpPr>
        <p:grpSp>
          <p:nvGrpSpPr>
            <p:cNvPr id="617" name=""/>
            <p:cNvGrpSpPr/>
            <p:nvPr/>
          </p:nvGrpSpPr>
          <p:grpSpPr>
            <a:xfrm>
              <a:off x="1857240" y="5952960"/>
              <a:ext cx="360" cy="163800"/>
              <a:chOff x="1857240" y="5952960"/>
              <a:chExt cx="360" cy="163800"/>
            </a:xfrm>
          </p:grpSpPr>
          <p:sp>
            <p:nvSpPr>
              <p:cNvPr id="618" name="Line 13"/>
              <p:cNvSpPr/>
              <p:nvPr/>
            </p:nvSpPr>
            <p:spPr>
              <a:xfrm>
                <a:off x="1857240" y="5952960"/>
                <a:ext cx="0" cy="163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1857240" y="5952960"/>
                <a:ext cx="360" cy="1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238120" y="5952960"/>
              <a:ext cx="360" cy="163800"/>
              <a:chOff x="2238120" y="5952960"/>
              <a:chExt cx="360" cy="163800"/>
            </a:xfrm>
          </p:grpSpPr>
          <p:sp>
            <p:nvSpPr>
              <p:cNvPr id="621" name="Line 14"/>
              <p:cNvSpPr/>
              <p:nvPr/>
            </p:nvSpPr>
            <p:spPr>
              <a:xfrm>
                <a:off x="2238120" y="5952960"/>
                <a:ext cx="0" cy="163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2238120" y="5952960"/>
                <a:ext cx="360" cy="1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619000" y="5952960"/>
              <a:ext cx="360" cy="163800"/>
              <a:chOff x="2619000" y="5952960"/>
              <a:chExt cx="360" cy="163800"/>
            </a:xfrm>
          </p:grpSpPr>
          <p:sp>
            <p:nvSpPr>
              <p:cNvPr id="624" name="Line 15"/>
              <p:cNvSpPr/>
              <p:nvPr/>
            </p:nvSpPr>
            <p:spPr>
              <a:xfrm>
                <a:off x="2619000" y="5952960"/>
                <a:ext cx="0" cy="163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2619000" y="5952960"/>
                <a:ext cx="360" cy="1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000240" y="5952960"/>
              <a:ext cx="360" cy="163800"/>
              <a:chOff x="3000240" y="5952960"/>
              <a:chExt cx="360" cy="163800"/>
            </a:xfrm>
          </p:grpSpPr>
          <p:sp>
            <p:nvSpPr>
              <p:cNvPr id="627" name="Line 16"/>
              <p:cNvSpPr/>
              <p:nvPr/>
            </p:nvSpPr>
            <p:spPr>
              <a:xfrm>
                <a:off x="3000240" y="5952960"/>
                <a:ext cx="0" cy="163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3000240" y="5952960"/>
                <a:ext cx="360" cy="1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095480" y="5968080"/>
              <a:ext cx="360" cy="164160"/>
              <a:chOff x="1095480" y="5968080"/>
              <a:chExt cx="360" cy="164160"/>
            </a:xfrm>
          </p:grpSpPr>
          <p:sp>
            <p:nvSpPr>
              <p:cNvPr id="630" name="Line 17"/>
              <p:cNvSpPr/>
              <p:nvPr/>
            </p:nvSpPr>
            <p:spPr>
              <a:xfrm>
                <a:off x="1095480" y="5968080"/>
                <a:ext cx="0" cy="164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1095480" y="5968080"/>
                <a:ext cx="360" cy="16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1475640" y="5804280"/>
              <a:ext cx="152640" cy="360"/>
              <a:chOff x="1475640" y="5804280"/>
              <a:chExt cx="152640" cy="360"/>
            </a:xfrm>
          </p:grpSpPr>
          <p:sp>
            <p:nvSpPr>
              <p:cNvPr id="633" name="Line 18"/>
              <p:cNvSpPr/>
              <p:nvPr/>
            </p:nvSpPr>
            <p:spPr>
              <a:xfrm flipH="1">
                <a:off x="1475640" y="58042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1476000" y="58042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475640" y="6381360"/>
              <a:ext cx="152640" cy="360"/>
              <a:chOff x="1475640" y="6381360"/>
              <a:chExt cx="152640" cy="360"/>
            </a:xfrm>
          </p:grpSpPr>
          <p:sp>
            <p:nvSpPr>
              <p:cNvPr id="636" name="Line 19"/>
              <p:cNvSpPr/>
              <p:nvPr/>
            </p:nvSpPr>
            <p:spPr>
              <a:xfrm flipH="1">
                <a:off x="1475640" y="63813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1476000" y="63813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475640" y="5476320"/>
              <a:ext cx="152640" cy="360"/>
              <a:chOff x="1475640" y="5476320"/>
              <a:chExt cx="152640" cy="360"/>
            </a:xfrm>
          </p:grpSpPr>
          <p:sp>
            <p:nvSpPr>
              <p:cNvPr id="639" name="Line 20"/>
              <p:cNvSpPr/>
              <p:nvPr/>
            </p:nvSpPr>
            <p:spPr>
              <a:xfrm flipH="1">
                <a:off x="1475640" y="54763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1476000" y="54763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475640" y="5148360"/>
              <a:ext cx="152640" cy="360"/>
              <a:chOff x="1475640" y="5148360"/>
              <a:chExt cx="152640" cy="360"/>
            </a:xfrm>
          </p:grpSpPr>
          <p:sp>
            <p:nvSpPr>
              <p:cNvPr id="642" name="Line 21"/>
              <p:cNvSpPr/>
              <p:nvPr/>
            </p:nvSpPr>
            <p:spPr>
              <a:xfrm flipH="1">
                <a:off x="1475640" y="51483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1476000" y="51483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1475640" y="4820400"/>
              <a:ext cx="152640" cy="360"/>
              <a:chOff x="1475640" y="4820400"/>
              <a:chExt cx="152640" cy="360"/>
            </a:xfrm>
          </p:grpSpPr>
          <p:sp>
            <p:nvSpPr>
              <p:cNvPr id="645" name="Line 22"/>
              <p:cNvSpPr/>
              <p:nvPr/>
            </p:nvSpPr>
            <p:spPr>
              <a:xfrm flipH="1">
                <a:off x="1475640" y="48204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1476000" y="48204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475640" y="4492080"/>
              <a:ext cx="152640" cy="360"/>
              <a:chOff x="1475640" y="4492080"/>
              <a:chExt cx="152640" cy="360"/>
            </a:xfrm>
          </p:grpSpPr>
          <p:sp>
            <p:nvSpPr>
              <p:cNvPr id="648" name="Line 23"/>
              <p:cNvSpPr/>
              <p:nvPr/>
            </p:nvSpPr>
            <p:spPr>
              <a:xfrm flipH="1">
                <a:off x="1475640" y="44920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1476000" y="44920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475640" y="4164480"/>
              <a:ext cx="152640" cy="360"/>
              <a:chOff x="1475640" y="4164480"/>
              <a:chExt cx="152640" cy="360"/>
            </a:xfrm>
          </p:grpSpPr>
          <p:sp>
            <p:nvSpPr>
              <p:cNvPr id="651" name="Line 24"/>
              <p:cNvSpPr/>
              <p:nvPr/>
            </p:nvSpPr>
            <p:spPr>
              <a:xfrm flipH="1">
                <a:off x="1475640" y="41644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>
                <a:off x="1476000" y="41644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475640" y="3836520"/>
              <a:ext cx="152640" cy="360"/>
              <a:chOff x="1475640" y="3836520"/>
              <a:chExt cx="152640" cy="360"/>
            </a:xfrm>
          </p:grpSpPr>
          <p:sp>
            <p:nvSpPr>
              <p:cNvPr id="654" name="Line 25"/>
              <p:cNvSpPr/>
              <p:nvPr/>
            </p:nvSpPr>
            <p:spPr>
              <a:xfrm flipH="1">
                <a:off x="1475640" y="38365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 txBox="1"/>
              <p:nvPr/>
            </p:nvSpPr>
            <p:spPr>
              <a:xfrm>
                <a:off x="1476000" y="38365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475640" y="3508200"/>
              <a:ext cx="152640" cy="360"/>
              <a:chOff x="1475640" y="3508200"/>
              <a:chExt cx="152640" cy="360"/>
            </a:xfrm>
          </p:grpSpPr>
          <p:sp>
            <p:nvSpPr>
              <p:cNvPr id="657" name="Line 26"/>
              <p:cNvSpPr/>
              <p:nvPr/>
            </p:nvSpPr>
            <p:spPr>
              <a:xfrm flipH="1">
                <a:off x="1475640" y="35082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 txBox="1"/>
              <p:nvPr/>
            </p:nvSpPr>
            <p:spPr>
              <a:xfrm>
                <a:off x="1476000" y="3508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475640" y="3180600"/>
              <a:ext cx="152640" cy="360"/>
              <a:chOff x="1475640" y="3180600"/>
              <a:chExt cx="152640" cy="360"/>
            </a:xfrm>
          </p:grpSpPr>
          <p:sp>
            <p:nvSpPr>
              <p:cNvPr id="660" name="Line 27"/>
              <p:cNvSpPr/>
              <p:nvPr/>
            </p:nvSpPr>
            <p:spPr>
              <a:xfrm flipH="1">
                <a:off x="1475640" y="31806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1476000" y="31806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475640" y="2852640"/>
              <a:ext cx="152640" cy="360"/>
              <a:chOff x="1475640" y="2852640"/>
              <a:chExt cx="152640" cy="360"/>
            </a:xfrm>
          </p:grpSpPr>
          <p:sp>
            <p:nvSpPr>
              <p:cNvPr id="663" name="Line 28"/>
              <p:cNvSpPr/>
              <p:nvPr/>
            </p:nvSpPr>
            <p:spPr>
              <a:xfrm flipH="1">
                <a:off x="1475640" y="28526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1476000" y="2852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3398760" y="5950080"/>
            <a:ext cx="360" cy="142920"/>
            <a:chOff x="3398760" y="5950080"/>
            <a:chExt cx="360" cy="142920"/>
          </a:xfrm>
        </p:grpSpPr>
        <p:sp>
          <p:nvSpPr>
            <p:cNvPr id="666" name="Line 29"/>
            <p:cNvSpPr/>
            <p:nvPr/>
          </p:nvSpPr>
          <p:spPr>
            <a:xfrm>
              <a:off x="3398760" y="595008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3398760" y="595008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832200" y="5950080"/>
            <a:ext cx="360" cy="142920"/>
            <a:chOff x="3832200" y="5950080"/>
            <a:chExt cx="360" cy="142920"/>
          </a:xfrm>
        </p:grpSpPr>
        <p:sp>
          <p:nvSpPr>
            <p:cNvPr id="669" name="Line 30"/>
            <p:cNvSpPr/>
            <p:nvPr/>
          </p:nvSpPr>
          <p:spPr>
            <a:xfrm>
              <a:off x="3832200" y="595008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832200" y="595008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264200" y="5950080"/>
            <a:ext cx="360" cy="142920"/>
            <a:chOff x="4264200" y="5950080"/>
            <a:chExt cx="360" cy="142920"/>
          </a:xfrm>
        </p:grpSpPr>
        <p:sp>
          <p:nvSpPr>
            <p:cNvPr id="672" name="Line 31"/>
            <p:cNvSpPr/>
            <p:nvPr/>
          </p:nvSpPr>
          <p:spPr>
            <a:xfrm>
              <a:off x="4264200" y="595008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4264200" y="595008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95840" y="5950080"/>
            <a:ext cx="360" cy="142920"/>
            <a:chOff x="4695840" y="5950080"/>
            <a:chExt cx="360" cy="142920"/>
          </a:xfrm>
        </p:grpSpPr>
        <p:sp>
          <p:nvSpPr>
            <p:cNvPr id="675" name="Line 32"/>
            <p:cNvSpPr/>
            <p:nvPr/>
          </p:nvSpPr>
          <p:spPr>
            <a:xfrm>
              <a:off x="4695840" y="595008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4695840" y="595008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Text Box 33"/>
          <p:cNvSpPr/>
          <p:nvPr/>
        </p:nvSpPr>
        <p:spPr>
          <a:xfrm>
            <a:off x="1316160" y="6021360"/>
            <a:ext cx="40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 1  2 3  4 5  6  7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4"/>
          <p:cNvSpPr/>
          <p:nvPr/>
        </p:nvSpPr>
        <p:spPr>
          <a:xfrm>
            <a:off x="735120" y="198900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5"/>
          <p:cNvSpPr/>
          <p:nvPr/>
        </p:nvSpPr>
        <p:spPr>
          <a:xfrm>
            <a:off x="555480" y="537372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6"/>
          <p:cNvSpPr/>
          <p:nvPr/>
        </p:nvSpPr>
        <p:spPr>
          <a:xfrm>
            <a:off x="735120" y="533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7"/>
          <p:cNvSpPr/>
          <p:nvPr/>
        </p:nvSpPr>
        <p:spPr>
          <a:xfrm>
            <a:off x="735120" y="465300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8"/>
          <p:cNvSpPr/>
          <p:nvPr/>
        </p:nvSpPr>
        <p:spPr>
          <a:xfrm>
            <a:off x="685800" y="3998880"/>
            <a:ext cx="8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9"/>
          <p:cNvSpPr/>
          <p:nvPr/>
        </p:nvSpPr>
        <p:spPr>
          <a:xfrm>
            <a:off x="685800" y="3357720"/>
            <a:ext cx="9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0"/>
          <p:cNvSpPr/>
          <p:nvPr/>
        </p:nvSpPr>
        <p:spPr>
          <a:xfrm>
            <a:off x="648360" y="2616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455840" y="2565360"/>
            <a:ext cx="142920" cy="360"/>
            <a:chOff x="1455840" y="2565360"/>
            <a:chExt cx="142920" cy="360"/>
          </a:xfrm>
        </p:grpSpPr>
        <p:sp>
          <p:nvSpPr>
            <p:cNvPr id="686" name="Line 41"/>
            <p:cNvSpPr/>
            <p:nvPr/>
          </p:nvSpPr>
          <p:spPr>
            <a:xfrm>
              <a:off x="1455840" y="2565360"/>
              <a:ext cx="142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1455840" y="256536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455840" y="2205000"/>
            <a:ext cx="142920" cy="360"/>
            <a:chOff x="1455840" y="2205000"/>
            <a:chExt cx="142920" cy="360"/>
          </a:xfrm>
        </p:grpSpPr>
        <p:sp>
          <p:nvSpPr>
            <p:cNvPr id="689" name="Line 42"/>
            <p:cNvSpPr/>
            <p:nvPr/>
          </p:nvSpPr>
          <p:spPr>
            <a:xfrm>
              <a:off x="1455840" y="2205000"/>
              <a:ext cx="142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1455840" y="220500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455480" y="1773000"/>
            <a:ext cx="2592720" cy="4319640"/>
            <a:chOff x="1455480" y="1773000"/>
            <a:chExt cx="2592720" cy="4319640"/>
          </a:xfrm>
        </p:grpSpPr>
        <p:sp>
          <p:nvSpPr>
            <p:cNvPr id="692" name="Line 43"/>
            <p:cNvSpPr/>
            <p:nvPr/>
          </p:nvSpPr>
          <p:spPr>
            <a:xfrm flipV="1">
              <a:off x="1455840" y="1773000"/>
              <a:ext cx="2592360" cy="431964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 rot="10800000">
              <a:off x="1455480" y="1773000"/>
              <a:ext cx="2592360" cy="431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455840" y="1844280"/>
            <a:ext cx="3527280" cy="3024360"/>
            <a:chOff x="1455840" y="1844280"/>
            <a:chExt cx="3527280" cy="3024360"/>
          </a:xfrm>
        </p:grpSpPr>
        <p:sp>
          <p:nvSpPr>
            <p:cNvPr id="695" name="Line 44"/>
            <p:cNvSpPr/>
            <p:nvPr/>
          </p:nvSpPr>
          <p:spPr>
            <a:xfrm flipV="1">
              <a:off x="1455840" y="1844280"/>
              <a:ext cx="3527280" cy="302436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 rot="10800000">
              <a:off x="1455840" y="1844280"/>
              <a:ext cx="352728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809880" y="1752120"/>
            <a:ext cx="22320" cy="4413240"/>
            <a:chOff x="3809880" y="1752120"/>
            <a:chExt cx="22320" cy="4413240"/>
          </a:xfrm>
        </p:grpSpPr>
        <p:sp>
          <p:nvSpPr>
            <p:cNvPr id="698" name="Line 45"/>
            <p:cNvSpPr/>
            <p:nvPr/>
          </p:nvSpPr>
          <p:spPr>
            <a:xfrm flipH="1" flipV="1">
              <a:off x="3809880" y="1752120"/>
              <a:ext cx="22320" cy="4413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 rot="10800000">
              <a:off x="3809880" y="1752120"/>
              <a:ext cx="22320" cy="441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455840" y="2205000"/>
            <a:ext cx="2879640" cy="360"/>
            <a:chOff x="1455840" y="2205000"/>
            <a:chExt cx="2879640" cy="360"/>
          </a:xfrm>
        </p:grpSpPr>
        <p:sp>
          <p:nvSpPr>
            <p:cNvPr id="701" name="Line 46"/>
            <p:cNvSpPr/>
            <p:nvPr/>
          </p:nvSpPr>
          <p:spPr>
            <a:xfrm>
              <a:off x="1455840" y="2205000"/>
              <a:ext cx="2879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1455840" y="220500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47"/>
          <p:cNvSpPr/>
          <p:nvPr/>
        </p:nvSpPr>
        <p:spPr>
          <a:xfrm>
            <a:off x="4724280" y="24382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销售量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收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成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销售量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收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成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247480" y="3933720"/>
            <a:ext cx="360" cy="2159280"/>
            <a:chOff x="2247480" y="3933720"/>
            <a:chExt cx="360" cy="2159280"/>
          </a:xfrm>
        </p:grpSpPr>
        <p:sp>
          <p:nvSpPr>
            <p:cNvPr id="705" name="Line 48"/>
            <p:cNvSpPr/>
            <p:nvPr/>
          </p:nvSpPr>
          <p:spPr>
            <a:xfrm flipV="1">
              <a:off x="2247840" y="3933720"/>
              <a:ext cx="0" cy="2159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 rot="10800000">
              <a:off x="2247480" y="3933720"/>
              <a:ext cx="360" cy="21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455840" y="4795920"/>
            <a:ext cx="1150920" cy="1440"/>
            <a:chOff x="1455840" y="4795920"/>
            <a:chExt cx="1150920" cy="1440"/>
          </a:xfrm>
        </p:grpSpPr>
        <p:sp>
          <p:nvSpPr>
            <p:cNvPr id="708" name="Line 49"/>
            <p:cNvSpPr/>
            <p:nvPr/>
          </p:nvSpPr>
          <p:spPr>
            <a:xfrm>
              <a:off x="1455840" y="4795920"/>
              <a:ext cx="115092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1455840" y="4795920"/>
              <a:ext cx="1150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455840" y="4149720"/>
            <a:ext cx="1008000" cy="360"/>
            <a:chOff x="1455840" y="4149720"/>
            <a:chExt cx="1008000" cy="360"/>
          </a:xfrm>
        </p:grpSpPr>
        <p:sp>
          <p:nvSpPr>
            <p:cNvPr id="711" name="Line 50"/>
            <p:cNvSpPr/>
            <p:nvPr/>
          </p:nvSpPr>
          <p:spPr>
            <a:xfrm>
              <a:off x="1455840" y="414972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1455840" y="414972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51"/>
          <p:cNvSpPr/>
          <p:nvPr/>
        </p:nvSpPr>
        <p:spPr>
          <a:xfrm>
            <a:off x="3975120" y="1600200"/>
            <a:ext cx="7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2"/>
          <p:cNvSpPr/>
          <p:nvPr/>
        </p:nvSpPr>
        <p:spPr>
          <a:xfrm>
            <a:off x="4911840" y="16765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3"/>
          <p:cNvSpPr/>
          <p:nvPr/>
        </p:nvSpPr>
        <p:spPr>
          <a:xfrm>
            <a:off x="73512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55840" y="2852280"/>
            <a:ext cx="2520720" cy="360"/>
            <a:chOff x="1455840" y="2852280"/>
            <a:chExt cx="2520720" cy="360"/>
          </a:xfrm>
        </p:grpSpPr>
        <p:sp>
          <p:nvSpPr>
            <p:cNvPr id="717" name="Line 54"/>
            <p:cNvSpPr/>
            <p:nvPr/>
          </p:nvSpPr>
          <p:spPr>
            <a:xfrm>
              <a:off x="1455840" y="2852640"/>
              <a:ext cx="2520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 rot="10800000">
              <a:off x="1455840" y="2852280"/>
              <a:ext cx="25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55"/>
          <p:cNvSpPr/>
          <p:nvPr/>
        </p:nvSpPr>
        <p:spPr>
          <a:xfrm>
            <a:off x="6240600" y="3111480"/>
            <a:ext cx="8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6"/>
          <p:cNvSpPr/>
          <p:nvPr/>
        </p:nvSpPr>
        <p:spPr>
          <a:xfrm>
            <a:off x="6154560" y="36576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7"/>
          <p:cNvSpPr/>
          <p:nvPr/>
        </p:nvSpPr>
        <p:spPr>
          <a:xfrm>
            <a:off x="6172200" y="5334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8"/>
          <p:cNvSpPr/>
          <p:nvPr/>
        </p:nvSpPr>
        <p:spPr>
          <a:xfrm>
            <a:off x="6456240" y="47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199"/>
          <p:cNvSpPr/>
          <p:nvPr/>
        </p:nvSpPr>
        <p:spPr>
          <a:xfrm>
            <a:off x="2371680" y="10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/>
          <p:cNvSpPr/>
          <p:nvPr/>
        </p:nvSpPr>
        <p:spPr>
          <a:xfrm>
            <a:off x="457200" y="609480"/>
            <a:ext cx="8201160" cy="5791320"/>
          </a:xfrm>
          <a:prstGeom prst="flowChartAlternateProcess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939960" y="6056280"/>
            <a:ext cx="4608360" cy="360"/>
            <a:chOff x="939960" y="6056280"/>
            <a:chExt cx="4608360" cy="360"/>
          </a:xfrm>
        </p:grpSpPr>
        <p:sp>
          <p:nvSpPr>
            <p:cNvPr id="727" name="Line 3"/>
            <p:cNvSpPr/>
            <p:nvPr/>
          </p:nvSpPr>
          <p:spPr>
            <a:xfrm>
              <a:off x="939960" y="605628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939960" y="6056280"/>
              <a:ext cx="46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295280" y="1905120"/>
            <a:ext cx="5040" cy="4495680"/>
            <a:chOff x="1295280" y="1905120"/>
            <a:chExt cx="5040" cy="4495680"/>
          </a:xfrm>
        </p:grpSpPr>
        <p:sp>
          <p:nvSpPr>
            <p:cNvPr id="730" name="Line 4"/>
            <p:cNvSpPr/>
            <p:nvPr/>
          </p:nvSpPr>
          <p:spPr>
            <a:xfrm flipV="1">
              <a:off x="1295280" y="1905120"/>
              <a:ext cx="5040" cy="449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 rot="10800000">
              <a:off x="1295280" y="1905120"/>
              <a:ext cx="504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Text Box 5"/>
          <p:cNvSpPr/>
          <p:nvPr/>
        </p:nvSpPr>
        <p:spPr>
          <a:xfrm>
            <a:off x="5261760" y="60120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939960" y="2887560"/>
            <a:ext cx="1905120" cy="3457800"/>
            <a:chOff x="939960" y="2887560"/>
            <a:chExt cx="1905120" cy="3457800"/>
          </a:xfrm>
        </p:grpSpPr>
        <p:grpSp>
          <p:nvGrpSpPr>
            <p:cNvPr id="734" name=""/>
            <p:cNvGrpSpPr/>
            <p:nvPr/>
          </p:nvGrpSpPr>
          <p:grpSpPr>
            <a:xfrm>
              <a:off x="1701720" y="5925240"/>
              <a:ext cx="360" cy="160200"/>
              <a:chOff x="1701720" y="5925240"/>
              <a:chExt cx="360" cy="160200"/>
            </a:xfrm>
          </p:grpSpPr>
          <p:sp>
            <p:nvSpPr>
              <p:cNvPr id="735" name="Line 7"/>
              <p:cNvSpPr/>
              <p:nvPr/>
            </p:nvSpPr>
            <p:spPr>
              <a:xfrm>
                <a:off x="1701720" y="5925240"/>
                <a:ext cx="0" cy="160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 txBox="1"/>
              <p:nvPr/>
            </p:nvSpPr>
            <p:spPr>
              <a:xfrm>
                <a:off x="1701720" y="5925240"/>
                <a:ext cx="3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2082600" y="5925240"/>
              <a:ext cx="360" cy="160200"/>
              <a:chOff x="2082600" y="5925240"/>
              <a:chExt cx="360" cy="160200"/>
            </a:xfrm>
          </p:grpSpPr>
          <p:sp>
            <p:nvSpPr>
              <p:cNvPr id="738" name="Line 8"/>
              <p:cNvSpPr/>
              <p:nvPr/>
            </p:nvSpPr>
            <p:spPr>
              <a:xfrm>
                <a:off x="2082600" y="5925240"/>
                <a:ext cx="0" cy="160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2082600" y="5925240"/>
                <a:ext cx="3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463480" y="5925240"/>
              <a:ext cx="360" cy="160200"/>
              <a:chOff x="2463480" y="5925240"/>
              <a:chExt cx="360" cy="160200"/>
            </a:xfrm>
          </p:grpSpPr>
          <p:sp>
            <p:nvSpPr>
              <p:cNvPr id="741" name="Line 9"/>
              <p:cNvSpPr/>
              <p:nvPr/>
            </p:nvSpPr>
            <p:spPr>
              <a:xfrm>
                <a:off x="2463480" y="5925240"/>
                <a:ext cx="0" cy="160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463480" y="5925240"/>
                <a:ext cx="3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2844720" y="5925240"/>
              <a:ext cx="360" cy="160200"/>
              <a:chOff x="2844720" y="5925240"/>
              <a:chExt cx="360" cy="160200"/>
            </a:xfrm>
          </p:grpSpPr>
          <p:sp>
            <p:nvSpPr>
              <p:cNvPr id="744" name="Line 10"/>
              <p:cNvSpPr/>
              <p:nvPr/>
            </p:nvSpPr>
            <p:spPr>
              <a:xfrm>
                <a:off x="2844720" y="5925240"/>
                <a:ext cx="0" cy="160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2844720" y="5925240"/>
                <a:ext cx="36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939960" y="5940000"/>
              <a:ext cx="360" cy="160920"/>
              <a:chOff x="939960" y="5940000"/>
              <a:chExt cx="360" cy="160920"/>
            </a:xfrm>
          </p:grpSpPr>
          <p:sp>
            <p:nvSpPr>
              <p:cNvPr id="747" name="Line 11"/>
              <p:cNvSpPr/>
              <p:nvPr/>
            </p:nvSpPr>
            <p:spPr>
              <a:xfrm>
                <a:off x="939960" y="5940000"/>
                <a:ext cx="0" cy="160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>
                <a:off x="939960" y="5940000"/>
                <a:ext cx="360" cy="16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1320120" y="5779440"/>
              <a:ext cx="152640" cy="360"/>
              <a:chOff x="1320120" y="5779440"/>
              <a:chExt cx="152640" cy="360"/>
            </a:xfrm>
          </p:grpSpPr>
          <p:sp>
            <p:nvSpPr>
              <p:cNvPr id="750" name="Line 12"/>
              <p:cNvSpPr/>
              <p:nvPr/>
            </p:nvSpPr>
            <p:spPr>
              <a:xfrm flipH="1">
                <a:off x="1320120" y="57794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1320480" y="57794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1320120" y="6345000"/>
              <a:ext cx="152640" cy="360"/>
              <a:chOff x="1320120" y="6345000"/>
              <a:chExt cx="152640" cy="360"/>
            </a:xfrm>
          </p:grpSpPr>
          <p:sp>
            <p:nvSpPr>
              <p:cNvPr id="753" name="Line 13"/>
              <p:cNvSpPr/>
              <p:nvPr/>
            </p:nvSpPr>
            <p:spPr>
              <a:xfrm flipH="1">
                <a:off x="1320120" y="63450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1320480" y="6345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1320120" y="5457960"/>
              <a:ext cx="152640" cy="360"/>
              <a:chOff x="1320120" y="5457960"/>
              <a:chExt cx="152640" cy="360"/>
            </a:xfrm>
          </p:grpSpPr>
          <p:sp>
            <p:nvSpPr>
              <p:cNvPr id="756" name="Line 14"/>
              <p:cNvSpPr/>
              <p:nvPr/>
            </p:nvSpPr>
            <p:spPr>
              <a:xfrm flipH="1">
                <a:off x="1320120" y="54579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1320480" y="54579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1320120" y="5137200"/>
              <a:ext cx="152640" cy="360"/>
              <a:chOff x="1320120" y="5137200"/>
              <a:chExt cx="152640" cy="360"/>
            </a:xfrm>
          </p:grpSpPr>
          <p:sp>
            <p:nvSpPr>
              <p:cNvPr id="759" name="Line 15"/>
              <p:cNvSpPr/>
              <p:nvPr/>
            </p:nvSpPr>
            <p:spPr>
              <a:xfrm flipH="1">
                <a:off x="1320120" y="51372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1320480" y="5137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320120" y="4815360"/>
              <a:ext cx="152640" cy="360"/>
              <a:chOff x="1320120" y="4815360"/>
              <a:chExt cx="152640" cy="360"/>
            </a:xfrm>
          </p:grpSpPr>
          <p:sp>
            <p:nvSpPr>
              <p:cNvPr id="762" name="Line 16"/>
              <p:cNvSpPr/>
              <p:nvPr/>
            </p:nvSpPr>
            <p:spPr>
              <a:xfrm flipH="1">
                <a:off x="1320120" y="48153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 txBox="1"/>
              <p:nvPr/>
            </p:nvSpPr>
            <p:spPr>
              <a:xfrm>
                <a:off x="1320480" y="48153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1320120" y="4493880"/>
              <a:ext cx="152640" cy="360"/>
              <a:chOff x="1320120" y="4493880"/>
              <a:chExt cx="152640" cy="360"/>
            </a:xfrm>
          </p:grpSpPr>
          <p:sp>
            <p:nvSpPr>
              <p:cNvPr id="765" name="Line 17"/>
              <p:cNvSpPr/>
              <p:nvPr/>
            </p:nvSpPr>
            <p:spPr>
              <a:xfrm flipH="1">
                <a:off x="1320120" y="44938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 txBox="1"/>
              <p:nvPr/>
            </p:nvSpPr>
            <p:spPr>
              <a:xfrm>
                <a:off x="1320480" y="44938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1320120" y="4173120"/>
              <a:ext cx="152640" cy="360"/>
              <a:chOff x="1320120" y="4173120"/>
              <a:chExt cx="152640" cy="360"/>
            </a:xfrm>
          </p:grpSpPr>
          <p:sp>
            <p:nvSpPr>
              <p:cNvPr id="768" name="Line 18"/>
              <p:cNvSpPr/>
              <p:nvPr/>
            </p:nvSpPr>
            <p:spPr>
              <a:xfrm flipH="1">
                <a:off x="1320120" y="41731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 txBox="1"/>
              <p:nvPr/>
            </p:nvSpPr>
            <p:spPr>
              <a:xfrm>
                <a:off x="1320480" y="41731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1320120" y="3851280"/>
              <a:ext cx="152640" cy="360"/>
              <a:chOff x="1320120" y="3851280"/>
              <a:chExt cx="152640" cy="360"/>
            </a:xfrm>
          </p:grpSpPr>
          <p:sp>
            <p:nvSpPr>
              <p:cNvPr id="771" name="Line 19"/>
              <p:cNvSpPr/>
              <p:nvPr/>
            </p:nvSpPr>
            <p:spPr>
              <a:xfrm flipH="1">
                <a:off x="1320120" y="38512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 txBox="1"/>
              <p:nvPr/>
            </p:nvSpPr>
            <p:spPr>
              <a:xfrm>
                <a:off x="1320480" y="38512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1320120" y="3529800"/>
              <a:ext cx="152640" cy="360"/>
              <a:chOff x="1320120" y="3529800"/>
              <a:chExt cx="152640" cy="360"/>
            </a:xfrm>
          </p:grpSpPr>
          <p:sp>
            <p:nvSpPr>
              <p:cNvPr id="774" name="Line 20"/>
              <p:cNvSpPr/>
              <p:nvPr/>
            </p:nvSpPr>
            <p:spPr>
              <a:xfrm flipH="1">
                <a:off x="1320120" y="35298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1320480" y="35298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1320120" y="3209040"/>
              <a:ext cx="152640" cy="360"/>
              <a:chOff x="1320120" y="3209040"/>
              <a:chExt cx="152640" cy="360"/>
            </a:xfrm>
          </p:grpSpPr>
          <p:sp>
            <p:nvSpPr>
              <p:cNvPr id="777" name="Line 21"/>
              <p:cNvSpPr/>
              <p:nvPr/>
            </p:nvSpPr>
            <p:spPr>
              <a:xfrm flipH="1">
                <a:off x="1320120" y="32090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 txBox="1"/>
              <p:nvPr/>
            </p:nvSpPr>
            <p:spPr>
              <a:xfrm>
                <a:off x="1320480" y="3209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1320120" y="2887560"/>
              <a:ext cx="152640" cy="360"/>
              <a:chOff x="1320120" y="2887560"/>
              <a:chExt cx="152640" cy="360"/>
            </a:xfrm>
          </p:grpSpPr>
          <p:sp>
            <p:nvSpPr>
              <p:cNvPr id="780" name="Line 22"/>
              <p:cNvSpPr/>
              <p:nvPr/>
            </p:nvSpPr>
            <p:spPr>
              <a:xfrm flipH="1">
                <a:off x="1320120" y="28875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1320480" y="28875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2" name=""/>
          <p:cNvGrpSpPr/>
          <p:nvPr/>
        </p:nvGrpSpPr>
        <p:grpSpPr>
          <a:xfrm>
            <a:off x="3243240" y="5913360"/>
            <a:ext cx="360" cy="142920"/>
            <a:chOff x="3243240" y="5913360"/>
            <a:chExt cx="360" cy="142920"/>
          </a:xfrm>
        </p:grpSpPr>
        <p:sp>
          <p:nvSpPr>
            <p:cNvPr id="783" name="Line 23"/>
            <p:cNvSpPr/>
            <p:nvPr/>
          </p:nvSpPr>
          <p:spPr>
            <a:xfrm>
              <a:off x="3243240" y="591336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3243240" y="59133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676680" y="5913360"/>
            <a:ext cx="360" cy="142920"/>
            <a:chOff x="3676680" y="5913360"/>
            <a:chExt cx="360" cy="142920"/>
          </a:xfrm>
        </p:grpSpPr>
        <p:sp>
          <p:nvSpPr>
            <p:cNvPr id="786" name="Line 24"/>
            <p:cNvSpPr/>
            <p:nvPr/>
          </p:nvSpPr>
          <p:spPr>
            <a:xfrm>
              <a:off x="3676680" y="591336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3676680" y="59133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108320" y="5913360"/>
            <a:ext cx="360" cy="142920"/>
            <a:chOff x="4108320" y="5913360"/>
            <a:chExt cx="360" cy="142920"/>
          </a:xfrm>
        </p:grpSpPr>
        <p:sp>
          <p:nvSpPr>
            <p:cNvPr id="789" name="Line 25"/>
            <p:cNvSpPr/>
            <p:nvPr/>
          </p:nvSpPr>
          <p:spPr>
            <a:xfrm>
              <a:off x="4108320" y="591336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4108320" y="59133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540320" y="5913360"/>
            <a:ext cx="360" cy="142920"/>
            <a:chOff x="4540320" y="5913360"/>
            <a:chExt cx="360" cy="142920"/>
          </a:xfrm>
        </p:grpSpPr>
        <p:sp>
          <p:nvSpPr>
            <p:cNvPr id="792" name="Line 26"/>
            <p:cNvSpPr/>
            <p:nvPr/>
          </p:nvSpPr>
          <p:spPr>
            <a:xfrm>
              <a:off x="4540320" y="5913360"/>
              <a:ext cx="0" cy="142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4540320" y="59133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 Box 27"/>
          <p:cNvSpPr/>
          <p:nvPr/>
        </p:nvSpPr>
        <p:spPr>
          <a:xfrm>
            <a:off x="1154160" y="5985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  1  2  3  4  5  6   7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579600" y="1952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99960" y="5337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579600" y="5300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579600" y="4616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650880" y="4040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79600" y="339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603360" y="2730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300320" y="2529000"/>
            <a:ext cx="142560" cy="360"/>
            <a:chOff x="1300320" y="2529000"/>
            <a:chExt cx="142560" cy="360"/>
          </a:xfrm>
        </p:grpSpPr>
        <p:sp>
          <p:nvSpPr>
            <p:cNvPr id="803" name="Line 35"/>
            <p:cNvSpPr/>
            <p:nvPr/>
          </p:nvSpPr>
          <p:spPr>
            <a:xfrm>
              <a:off x="1300320" y="2529000"/>
              <a:ext cx="1425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1300320" y="2529000"/>
              <a:ext cx="14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300320" y="2168640"/>
            <a:ext cx="142560" cy="360"/>
            <a:chOff x="1300320" y="2168640"/>
            <a:chExt cx="142560" cy="360"/>
          </a:xfrm>
        </p:grpSpPr>
        <p:sp>
          <p:nvSpPr>
            <p:cNvPr id="806" name="Line 36"/>
            <p:cNvSpPr/>
            <p:nvPr/>
          </p:nvSpPr>
          <p:spPr>
            <a:xfrm>
              <a:off x="1300320" y="2168640"/>
              <a:ext cx="1425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1300320" y="2168640"/>
              <a:ext cx="14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811240" y="2384280"/>
            <a:ext cx="360" cy="3672000"/>
            <a:chOff x="2811240" y="2384280"/>
            <a:chExt cx="360" cy="3672000"/>
          </a:xfrm>
        </p:grpSpPr>
        <p:sp>
          <p:nvSpPr>
            <p:cNvPr id="809" name="Line 37"/>
            <p:cNvSpPr/>
            <p:nvPr/>
          </p:nvSpPr>
          <p:spPr>
            <a:xfrm flipV="1">
              <a:off x="2811600" y="2384280"/>
              <a:ext cx="0" cy="36720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 rot="10800000">
              <a:off x="2811240" y="2384280"/>
              <a:ext cx="360" cy="36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1300320" y="3537000"/>
            <a:ext cx="2158920" cy="360"/>
            <a:chOff x="1300320" y="3537000"/>
            <a:chExt cx="2158920" cy="360"/>
          </a:xfrm>
        </p:grpSpPr>
        <p:sp>
          <p:nvSpPr>
            <p:cNvPr id="812" name="Line 38"/>
            <p:cNvSpPr/>
            <p:nvPr/>
          </p:nvSpPr>
          <p:spPr>
            <a:xfrm>
              <a:off x="1300320" y="3537000"/>
              <a:ext cx="21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1300320" y="3537000"/>
              <a:ext cx="21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299960" y="2361960"/>
            <a:ext cx="2205360" cy="3693960"/>
            <a:chOff x="1299960" y="2361960"/>
            <a:chExt cx="2205360" cy="3693960"/>
          </a:xfrm>
        </p:grpSpPr>
        <p:sp>
          <p:nvSpPr>
            <p:cNvPr id="815" name="Line 39"/>
            <p:cNvSpPr/>
            <p:nvPr/>
          </p:nvSpPr>
          <p:spPr>
            <a:xfrm flipV="1">
              <a:off x="1300320" y="2361960"/>
              <a:ext cx="2205000" cy="369396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 rot="10800000">
              <a:off x="1299960" y="2361960"/>
              <a:ext cx="2205000" cy="369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299960" y="2133720"/>
            <a:ext cx="3043440" cy="2698560"/>
            <a:chOff x="1299960" y="2133720"/>
            <a:chExt cx="3043440" cy="2698560"/>
          </a:xfrm>
        </p:grpSpPr>
        <p:sp>
          <p:nvSpPr>
            <p:cNvPr id="818" name="Line 40"/>
            <p:cNvSpPr/>
            <p:nvPr/>
          </p:nvSpPr>
          <p:spPr>
            <a:xfrm flipV="1">
              <a:off x="1300320" y="2133720"/>
              <a:ext cx="3043080" cy="269856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 rot="10800000">
              <a:off x="1299960" y="2133360"/>
              <a:ext cx="3043080" cy="26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41"/>
          <p:cNvSpPr/>
          <p:nvPr/>
        </p:nvSpPr>
        <p:spPr>
          <a:xfrm>
            <a:off x="704880" y="609480"/>
            <a:ext cx="77342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销售量等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收入等于销售成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销售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该公司赢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入大于成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销售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该公司亏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入小于成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2955960" y="1736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67240" y="195264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3070080" y="3897360"/>
            <a:ext cx="53881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应的函数表达式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应的函数表达式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3322800" y="609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2455920" y="1066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7"/>
          <p:cNvSpPr/>
          <p:nvPr/>
        </p:nvSpPr>
        <p:spPr>
          <a:xfrm>
            <a:off x="1998720" y="15238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8"/>
          <p:cNvSpPr/>
          <p:nvPr/>
        </p:nvSpPr>
        <p:spPr>
          <a:xfrm>
            <a:off x="6324480" y="38242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100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6089760" y="4343400"/>
            <a:ext cx="22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500x+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AutoShape 2"/>
          <p:cNvSpPr/>
          <p:nvPr/>
        </p:nvSpPr>
        <p:spPr>
          <a:xfrm>
            <a:off x="504720" y="851040"/>
            <a:ext cx="8105760" cy="444492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914400" y="27226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能通过函数图象获取信息，发展形象思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能利用函数图象解决简单的实际问题，发展数学的应用能力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WordArt 4"/>
          <p:cNvSpPr txBox="1"/>
          <p:nvPr/>
        </p:nvSpPr>
        <p:spPr>
          <a:xfrm>
            <a:off x="971640" y="1413000"/>
            <a:ext cx="712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隶书"/>
              </a:rPr>
              <a:t>通过这节课的学习你能做到吗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996600"/>
              </a:solidFill>
              <a:effectLst>
                <a:outerShdw dist="17819" dir="2700000" blurRad="0" rotWithShape="0">
                  <a:srgbClr val="99cc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图片3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  <p:sp>
        <p:nvSpPr>
          <p:cNvPr id="834" name="WordArt 3"/>
          <p:cNvSpPr txBox="1"/>
          <p:nvPr/>
        </p:nvSpPr>
        <p:spPr>
          <a:xfrm>
            <a:off x="1403280" y="1844640"/>
            <a:ext cx="64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99cc00"/>
                  </a:outerShdw>
                </a:effectLst>
                <a:latin typeface="隶书"/>
              </a:rPr>
              <a:t>谈谈你的收获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996600"/>
              </a:solidFill>
              <a:effectLst>
                <a:outerShdw dist="17819" dir="2700000" blurRad="0" rotWithShape="0">
                  <a:srgbClr val="99cc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03B6-3A79-4580-BBBD-C049F62A9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52600" y="1523880"/>
            <a:ext cx="8038800" cy="473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cap="rnd" w="1908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9480" y="762120"/>
            <a:ext cx="2514240" cy="609480"/>
            <a:chOff x="609480" y="762120"/>
            <a:chExt cx="2514240" cy="609480"/>
          </a:xfrm>
        </p:grpSpPr>
        <p:grpSp>
          <p:nvGrpSpPr>
            <p:cNvPr id="46" name="Group 4"/>
            <p:cNvGrpSpPr/>
            <p:nvPr/>
          </p:nvGrpSpPr>
          <p:grpSpPr>
            <a:xfrm>
              <a:off x="609480" y="762120"/>
              <a:ext cx="2514240" cy="529920"/>
              <a:chOff x="609480" y="762120"/>
              <a:chExt cx="2514240" cy="52992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609480" y="771480"/>
                <a:ext cx="251424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导入新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2712960" y="762120"/>
                <a:ext cx="319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Picture 7" descr="gif003[1]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09480" y="838440"/>
              <a:ext cx="63648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8"/>
          <p:cNvSpPr/>
          <p:nvPr/>
        </p:nvSpPr>
        <p:spPr>
          <a:xfrm>
            <a:off x="609480" y="1631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前面学习了有关一次函数的一些知识及如何确定解析式，如何利用一次函数知识解决相关实践问题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09480" y="2819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芳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／分的速度起跑后，先匀加速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钟，每分提高速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／分，又匀速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钟．试写出这段时间里她跑步速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米／分）随跑步时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分）变化的函数关系式，并画出图象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 flipV="1">
            <a:off x="533520" y="837000"/>
            <a:ext cx="8035920" cy="5410440"/>
          </a:xfrm>
          <a:prstGeom prst="rect">
            <a:avLst/>
          </a:prstGeom>
          <a:gradFill rotWithShape="0">
            <a:gsLst>
              <a:gs pos="0">
                <a:srgbClr val="ccff66">
                  <a:alpha val="44313"/>
                </a:srgbClr>
              </a:gs>
              <a:gs pos="50000">
                <a:srgbClr val="ffffff"/>
              </a:gs>
              <a:gs pos="100000">
                <a:srgbClr val="ccff66">
                  <a:alpha val="44313"/>
                </a:srgbClr>
              </a:gs>
            </a:gsLst>
            <a:lin ang="5400000"/>
          </a:gradFill>
          <a:ln cap="rnd" w="381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838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规律分成两段：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与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．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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函数关系式时要分成两部分．画图象时也要分成两段来画，且要注意各自变量的取值范围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2133720" y="2666880"/>
            <a:ext cx="4038120" cy="1067040"/>
            <a:chOff x="2133720" y="2666880"/>
            <a:chExt cx="4038120" cy="1067040"/>
          </a:xfrm>
        </p:grpSpPr>
        <p:pic>
          <p:nvPicPr>
            <p:cNvPr id="56" name="Picture 5" descr=""/>
            <p:cNvPicPr/>
            <p:nvPr/>
          </p:nvPicPr>
          <p:blipFill>
            <a:blip r:embed="rId1"/>
            <a:stretch/>
          </p:blipFill>
          <p:spPr>
            <a:xfrm>
              <a:off x="3206160" y="2666880"/>
              <a:ext cx="2965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"/>
            <p:cNvSpPr/>
            <p:nvPr/>
          </p:nvSpPr>
          <p:spPr>
            <a:xfrm>
              <a:off x="2133720" y="2955960"/>
              <a:ext cx="12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y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7" descr="22-2"/>
          <p:cNvPicPr/>
          <p:nvPr/>
        </p:nvPicPr>
        <p:blipFill>
          <a:blip r:embed="rId2"/>
          <a:srcRect l="0" t="4043" r="0" b="0"/>
          <a:stretch/>
        </p:blipFill>
        <p:spPr>
          <a:xfrm>
            <a:off x="2400480" y="3911760"/>
            <a:ext cx="4343400" cy="2412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70520" y="333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33520" y="609480"/>
            <a:ext cx="8076960" cy="5791320"/>
          </a:xfrm>
          <a:prstGeom prst="rect">
            <a:avLst/>
          </a:prstGeom>
          <a:gradFill rotWithShape="0">
            <a:gsLst>
              <a:gs pos="0">
                <a:srgbClr val="ff33cc">
                  <a:alpha val="32156"/>
                </a:srgbClr>
              </a:gs>
              <a:gs pos="50000">
                <a:srgbClr val="ffffff"/>
              </a:gs>
              <a:gs pos="100000">
                <a:srgbClr val="ff33cc">
                  <a:alpha val="3215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841480" y="598320"/>
            <a:ext cx="5769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边防局接到情报，近海处有一可疑船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向公海方向行驶，边防局迅速派出快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追赶，如图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表示两船只相对于海岸的距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海里）与追赶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t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之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2066760" y="2739960"/>
            <a:ext cx="1905480" cy="3279960"/>
            <a:chOff x="2066760" y="2739960"/>
            <a:chExt cx="1905480" cy="3279960"/>
          </a:xfrm>
        </p:grpSpPr>
        <p:grpSp>
          <p:nvGrpSpPr>
            <p:cNvPr id="64" name=""/>
            <p:cNvGrpSpPr/>
            <p:nvPr/>
          </p:nvGrpSpPr>
          <p:grpSpPr>
            <a:xfrm>
              <a:off x="2828880" y="5621400"/>
              <a:ext cx="360" cy="152280"/>
              <a:chOff x="2828880" y="5621400"/>
              <a:chExt cx="360" cy="152280"/>
            </a:xfrm>
          </p:grpSpPr>
          <p:sp>
            <p:nvSpPr>
              <p:cNvPr id="65" name="Line 5"/>
              <p:cNvSpPr/>
              <p:nvPr/>
            </p:nvSpPr>
            <p:spPr>
              <a:xfrm>
                <a:off x="2828880" y="5621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2828880" y="56214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209760" y="5621400"/>
              <a:ext cx="360" cy="152280"/>
              <a:chOff x="3209760" y="5621400"/>
              <a:chExt cx="360" cy="152280"/>
            </a:xfrm>
          </p:grpSpPr>
          <p:sp>
            <p:nvSpPr>
              <p:cNvPr id="68" name="Line 6"/>
              <p:cNvSpPr/>
              <p:nvPr/>
            </p:nvSpPr>
            <p:spPr>
              <a:xfrm>
                <a:off x="3209760" y="5621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3209760" y="56214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590640" y="5621400"/>
              <a:ext cx="360" cy="152280"/>
              <a:chOff x="3590640" y="5621400"/>
              <a:chExt cx="360" cy="152280"/>
            </a:xfrm>
          </p:grpSpPr>
          <p:sp>
            <p:nvSpPr>
              <p:cNvPr id="71" name="Line 7"/>
              <p:cNvSpPr/>
              <p:nvPr/>
            </p:nvSpPr>
            <p:spPr>
              <a:xfrm>
                <a:off x="3590640" y="5621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3590640" y="56214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971880" y="5621400"/>
              <a:ext cx="360" cy="152280"/>
              <a:chOff x="3971880" y="5621400"/>
              <a:chExt cx="360" cy="152280"/>
            </a:xfrm>
          </p:grpSpPr>
          <p:sp>
            <p:nvSpPr>
              <p:cNvPr id="74" name="Line 8"/>
              <p:cNvSpPr/>
              <p:nvPr/>
            </p:nvSpPr>
            <p:spPr>
              <a:xfrm>
                <a:off x="3971880" y="5621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971880" y="56214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66760" y="5635440"/>
              <a:ext cx="360" cy="152640"/>
              <a:chOff x="2066760" y="5635440"/>
              <a:chExt cx="360" cy="152640"/>
            </a:xfrm>
          </p:grpSpPr>
          <p:sp>
            <p:nvSpPr>
              <p:cNvPr id="77" name="Line 9"/>
              <p:cNvSpPr/>
              <p:nvPr/>
            </p:nvSpPr>
            <p:spPr>
              <a:xfrm>
                <a:off x="2066760" y="5635440"/>
                <a:ext cx="0" cy="152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2066760" y="563544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2447640" y="5483160"/>
              <a:ext cx="152640" cy="360"/>
              <a:chOff x="2447640" y="5483160"/>
              <a:chExt cx="152640" cy="360"/>
            </a:xfrm>
          </p:grpSpPr>
          <p:sp>
            <p:nvSpPr>
              <p:cNvPr id="80" name="Line 10"/>
              <p:cNvSpPr/>
              <p:nvPr/>
            </p:nvSpPr>
            <p:spPr>
              <a:xfrm flipH="1">
                <a:off x="2447640" y="548316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2447640" y="548316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47640" y="6019560"/>
              <a:ext cx="152640" cy="360"/>
              <a:chOff x="2447640" y="6019560"/>
              <a:chExt cx="152640" cy="360"/>
            </a:xfrm>
          </p:grpSpPr>
          <p:sp>
            <p:nvSpPr>
              <p:cNvPr id="83" name="Line 11"/>
              <p:cNvSpPr/>
              <p:nvPr/>
            </p:nvSpPr>
            <p:spPr>
              <a:xfrm flipH="1">
                <a:off x="2447640" y="601956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2447640" y="601956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447640" y="5178240"/>
              <a:ext cx="152640" cy="360"/>
              <a:chOff x="2447640" y="5178240"/>
              <a:chExt cx="152640" cy="360"/>
            </a:xfrm>
          </p:grpSpPr>
          <p:sp>
            <p:nvSpPr>
              <p:cNvPr id="86" name="Line 12"/>
              <p:cNvSpPr/>
              <p:nvPr/>
            </p:nvSpPr>
            <p:spPr>
              <a:xfrm flipH="1">
                <a:off x="2447640" y="517824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2447640" y="51782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47640" y="4873680"/>
              <a:ext cx="152640" cy="360"/>
              <a:chOff x="2447640" y="4873680"/>
              <a:chExt cx="152640" cy="360"/>
            </a:xfrm>
          </p:grpSpPr>
          <p:sp>
            <p:nvSpPr>
              <p:cNvPr id="89" name="Line 13"/>
              <p:cNvSpPr/>
              <p:nvPr/>
            </p:nvSpPr>
            <p:spPr>
              <a:xfrm flipH="1">
                <a:off x="2447640" y="487368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447640" y="487368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447640" y="4568760"/>
              <a:ext cx="152640" cy="360"/>
              <a:chOff x="2447640" y="4568760"/>
              <a:chExt cx="152640" cy="360"/>
            </a:xfrm>
          </p:grpSpPr>
          <p:sp>
            <p:nvSpPr>
              <p:cNvPr id="92" name="Line 14"/>
              <p:cNvSpPr/>
              <p:nvPr/>
            </p:nvSpPr>
            <p:spPr>
              <a:xfrm flipH="1">
                <a:off x="2447640" y="456876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2447640" y="456876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447640" y="4263840"/>
              <a:ext cx="152640" cy="360"/>
              <a:chOff x="2447640" y="4263840"/>
              <a:chExt cx="152640" cy="360"/>
            </a:xfrm>
          </p:grpSpPr>
          <p:sp>
            <p:nvSpPr>
              <p:cNvPr id="95" name="Line 15"/>
              <p:cNvSpPr/>
              <p:nvPr/>
            </p:nvSpPr>
            <p:spPr>
              <a:xfrm flipH="1">
                <a:off x="2447640" y="426384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2447640" y="42638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447640" y="3959280"/>
              <a:ext cx="152640" cy="360"/>
              <a:chOff x="2447640" y="3959280"/>
              <a:chExt cx="152640" cy="360"/>
            </a:xfrm>
          </p:grpSpPr>
          <p:sp>
            <p:nvSpPr>
              <p:cNvPr id="98" name="Line 16"/>
              <p:cNvSpPr/>
              <p:nvPr/>
            </p:nvSpPr>
            <p:spPr>
              <a:xfrm flipH="1">
                <a:off x="2447640" y="395928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2447640" y="395928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447640" y="3654360"/>
              <a:ext cx="152640" cy="360"/>
              <a:chOff x="2447640" y="3654360"/>
              <a:chExt cx="152640" cy="360"/>
            </a:xfrm>
          </p:grpSpPr>
          <p:sp>
            <p:nvSpPr>
              <p:cNvPr id="101" name="Line 17"/>
              <p:cNvSpPr/>
              <p:nvPr/>
            </p:nvSpPr>
            <p:spPr>
              <a:xfrm flipH="1">
                <a:off x="2447640" y="365436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2447640" y="365436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447640" y="3349440"/>
              <a:ext cx="152640" cy="360"/>
              <a:chOff x="2447640" y="3349440"/>
              <a:chExt cx="152640" cy="360"/>
            </a:xfrm>
          </p:grpSpPr>
          <p:sp>
            <p:nvSpPr>
              <p:cNvPr id="104" name="Line 18"/>
              <p:cNvSpPr/>
              <p:nvPr/>
            </p:nvSpPr>
            <p:spPr>
              <a:xfrm flipH="1">
                <a:off x="2447640" y="334944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2447640" y="33494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447640" y="3044880"/>
              <a:ext cx="152640" cy="360"/>
              <a:chOff x="2447640" y="3044880"/>
              <a:chExt cx="152640" cy="360"/>
            </a:xfrm>
          </p:grpSpPr>
          <p:sp>
            <p:nvSpPr>
              <p:cNvPr id="107" name="Line 19"/>
              <p:cNvSpPr/>
              <p:nvPr/>
            </p:nvSpPr>
            <p:spPr>
              <a:xfrm flipH="1">
                <a:off x="2447640" y="304488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447640" y="304488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47640" y="2739960"/>
              <a:ext cx="152640" cy="360"/>
              <a:chOff x="2447640" y="2739960"/>
              <a:chExt cx="152640" cy="360"/>
            </a:xfrm>
          </p:grpSpPr>
          <p:sp>
            <p:nvSpPr>
              <p:cNvPr id="110" name="Line 20"/>
              <p:cNvSpPr/>
              <p:nvPr/>
            </p:nvSpPr>
            <p:spPr>
              <a:xfrm flipH="1">
                <a:off x="2447640" y="2739960"/>
                <a:ext cx="152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2447640" y="273996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403280" y="5776920"/>
            <a:ext cx="6697800" cy="6480"/>
            <a:chOff x="1403280" y="5776920"/>
            <a:chExt cx="6697800" cy="6480"/>
          </a:xfrm>
        </p:grpSpPr>
        <p:sp>
          <p:nvSpPr>
            <p:cNvPr id="113" name="Line 21"/>
            <p:cNvSpPr/>
            <p:nvPr/>
          </p:nvSpPr>
          <p:spPr>
            <a:xfrm>
              <a:off x="1403280" y="5776920"/>
              <a:ext cx="6697800" cy="648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403280" y="5776920"/>
              <a:ext cx="66978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443320" y="1828800"/>
            <a:ext cx="2880" cy="4557600"/>
            <a:chOff x="2443320" y="1828800"/>
            <a:chExt cx="2880" cy="4557600"/>
          </a:xfrm>
        </p:grpSpPr>
        <p:sp>
          <p:nvSpPr>
            <p:cNvPr id="116" name="Line 22"/>
            <p:cNvSpPr/>
            <p:nvPr/>
          </p:nvSpPr>
          <p:spPr>
            <a:xfrm flipH="1" flipV="1">
              <a:off x="2443320" y="1828800"/>
              <a:ext cx="2880" cy="455760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10800000">
              <a:off x="2443320" y="1828800"/>
              <a:ext cx="2880" cy="45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3"/>
          <p:cNvSpPr/>
          <p:nvPr/>
        </p:nvSpPr>
        <p:spPr>
          <a:xfrm>
            <a:off x="2117520" y="49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6200" y="6248520"/>
            <a:ext cx="152640" cy="360"/>
            <a:chOff x="2446200" y="6248520"/>
            <a:chExt cx="152640" cy="360"/>
          </a:xfrm>
        </p:grpSpPr>
        <p:sp>
          <p:nvSpPr>
            <p:cNvPr id="120" name="Line 24"/>
            <p:cNvSpPr/>
            <p:nvPr/>
          </p:nvSpPr>
          <p:spPr>
            <a:xfrm flipH="1">
              <a:off x="2446200" y="6248520"/>
              <a:ext cx="15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446200" y="62485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25"/>
          <p:cNvSpPr/>
          <p:nvPr/>
        </p:nvSpPr>
        <p:spPr>
          <a:xfrm>
            <a:off x="2117520" y="522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17520" y="4295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17520" y="4586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2117520" y="3672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2117520" y="39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2117520" y="307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2117520" y="3395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955160" y="2452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2117520" y="275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3051000" y="5710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3794040" y="5710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4546440" y="57578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2122200" y="564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56000" y="5638680"/>
            <a:ext cx="360" cy="144720"/>
            <a:chOff x="4356000" y="5638680"/>
            <a:chExt cx="360" cy="144720"/>
          </a:xfrm>
        </p:grpSpPr>
        <p:sp>
          <p:nvSpPr>
            <p:cNvPr id="136" name="Line 38"/>
            <p:cNvSpPr/>
            <p:nvPr/>
          </p:nvSpPr>
          <p:spPr>
            <a:xfrm>
              <a:off x="435600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5600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6360" y="5638680"/>
            <a:ext cx="360" cy="144720"/>
            <a:chOff x="4716360" y="5638680"/>
            <a:chExt cx="360" cy="144720"/>
          </a:xfrm>
        </p:grpSpPr>
        <p:sp>
          <p:nvSpPr>
            <p:cNvPr id="139" name="Line 39"/>
            <p:cNvSpPr/>
            <p:nvPr/>
          </p:nvSpPr>
          <p:spPr>
            <a:xfrm>
              <a:off x="471636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71636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076720" y="5638680"/>
            <a:ext cx="360" cy="144720"/>
            <a:chOff x="5076720" y="5638680"/>
            <a:chExt cx="360" cy="144720"/>
          </a:xfrm>
        </p:grpSpPr>
        <p:sp>
          <p:nvSpPr>
            <p:cNvPr id="142" name="Line 40"/>
            <p:cNvSpPr/>
            <p:nvPr/>
          </p:nvSpPr>
          <p:spPr>
            <a:xfrm>
              <a:off x="507672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07672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435640" y="5638680"/>
            <a:ext cx="360" cy="144720"/>
            <a:chOff x="5435640" y="5638680"/>
            <a:chExt cx="360" cy="144720"/>
          </a:xfrm>
        </p:grpSpPr>
        <p:sp>
          <p:nvSpPr>
            <p:cNvPr id="145" name="Line 41"/>
            <p:cNvSpPr/>
            <p:nvPr/>
          </p:nvSpPr>
          <p:spPr>
            <a:xfrm>
              <a:off x="543564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43564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867280" y="5638680"/>
            <a:ext cx="360" cy="144720"/>
            <a:chOff x="5867280" y="5638680"/>
            <a:chExt cx="360" cy="144720"/>
          </a:xfrm>
        </p:grpSpPr>
        <p:sp>
          <p:nvSpPr>
            <p:cNvPr id="148" name="Line 42"/>
            <p:cNvSpPr/>
            <p:nvPr/>
          </p:nvSpPr>
          <p:spPr>
            <a:xfrm>
              <a:off x="586728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86728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27640" y="5638680"/>
            <a:ext cx="360" cy="144720"/>
            <a:chOff x="6227640" y="5638680"/>
            <a:chExt cx="360" cy="144720"/>
          </a:xfrm>
        </p:grpSpPr>
        <p:sp>
          <p:nvSpPr>
            <p:cNvPr id="151" name="Line 43"/>
            <p:cNvSpPr/>
            <p:nvPr/>
          </p:nvSpPr>
          <p:spPr>
            <a:xfrm>
              <a:off x="622764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22764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659640" y="5638680"/>
            <a:ext cx="360" cy="144720"/>
            <a:chOff x="6659640" y="5638680"/>
            <a:chExt cx="360" cy="144720"/>
          </a:xfrm>
        </p:grpSpPr>
        <p:sp>
          <p:nvSpPr>
            <p:cNvPr id="154" name="Line 44"/>
            <p:cNvSpPr/>
            <p:nvPr/>
          </p:nvSpPr>
          <p:spPr>
            <a:xfrm>
              <a:off x="665964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65964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093080" y="5638680"/>
            <a:ext cx="360" cy="144720"/>
            <a:chOff x="7093080" y="5638680"/>
            <a:chExt cx="360" cy="144720"/>
          </a:xfrm>
        </p:grpSpPr>
        <p:sp>
          <p:nvSpPr>
            <p:cNvPr id="157" name="Line 45"/>
            <p:cNvSpPr/>
            <p:nvPr/>
          </p:nvSpPr>
          <p:spPr>
            <a:xfrm>
              <a:off x="7093080" y="563868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093080" y="56386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6"/>
          <p:cNvSpPr/>
          <p:nvPr/>
        </p:nvSpPr>
        <p:spPr>
          <a:xfrm>
            <a:off x="5265720" y="571032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012000" y="5710320"/>
            <a:ext cx="5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38280" y="3573360"/>
            <a:ext cx="4321440" cy="720720"/>
            <a:chOff x="2438280" y="3573360"/>
            <a:chExt cx="4321440" cy="720720"/>
          </a:xfrm>
        </p:grpSpPr>
        <p:sp>
          <p:nvSpPr>
            <p:cNvPr id="162" name="Line 48"/>
            <p:cNvSpPr/>
            <p:nvPr/>
          </p:nvSpPr>
          <p:spPr>
            <a:xfrm flipV="1">
              <a:off x="2438280" y="3573360"/>
              <a:ext cx="4321440" cy="72072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2438280" y="3573360"/>
              <a:ext cx="43214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4053960"/>
            <a:ext cx="4321440" cy="1729080"/>
            <a:chOff x="2411280" y="4053960"/>
            <a:chExt cx="4321440" cy="1729080"/>
          </a:xfrm>
        </p:grpSpPr>
        <p:sp>
          <p:nvSpPr>
            <p:cNvPr id="165" name="Line 49"/>
            <p:cNvSpPr/>
            <p:nvPr/>
          </p:nvSpPr>
          <p:spPr>
            <a:xfrm flipV="1">
              <a:off x="2411280" y="4053960"/>
              <a:ext cx="4321440" cy="172908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2411280" y="4053960"/>
              <a:ext cx="432144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50"/>
          <p:cNvSpPr/>
          <p:nvPr/>
        </p:nvSpPr>
        <p:spPr>
          <a:xfrm>
            <a:off x="6732720" y="39099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1"/>
          <p:cNvSpPr/>
          <p:nvPr/>
        </p:nvSpPr>
        <p:spPr>
          <a:xfrm>
            <a:off x="6300720" y="283068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7502760" y="58881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t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3"/>
          <p:cNvSpPr/>
          <p:nvPr/>
        </p:nvSpPr>
        <p:spPr>
          <a:xfrm>
            <a:off x="1220040" y="21430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4"/>
          <p:cNvGrpSpPr/>
          <p:nvPr/>
        </p:nvGrpSpPr>
        <p:grpSpPr>
          <a:xfrm>
            <a:off x="609480" y="762120"/>
            <a:ext cx="2209680" cy="596880"/>
            <a:chOff x="609480" y="762120"/>
            <a:chExt cx="2209680" cy="596880"/>
          </a:xfrm>
        </p:grpSpPr>
        <p:grpSp>
          <p:nvGrpSpPr>
            <p:cNvPr id="172" name="Group 55"/>
            <p:cNvGrpSpPr/>
            <p:nvPr/>
          </p:nvGrpSpPr>
          <p:grpSpPr>
            <a:xfrm>
              <a:off x="609480" y="762120"/>
              <a:ext cx="2209680" cy="529920"/>
              <a:chOff x="609480" y="762120"/>
              <a:chExt cx="2209680" cy="529920"/>
            </a:xfrm>
          </p:grpSpPr>
          <p:sp>
            <p:nvSpPr>
              <p:cNvPr id="173" name="Rectangle 56"/>
              <p:cNvSpPr/>
              <p:nvPr/>
            </p:nvSpPr>
            <p:spPr>
              <a:xfrm>
                <a:off x="609480" y="771480"/>
                <a:ext cx="220968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  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典例解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7"/>
              <p:cNvSpPr/>
              <p:nvPr/>
            </p:nvSpPr>
            <p:spPr>
              <a:xfrm>
                <a:off x="2458080" y="762120"/>
                <a:ext cx="2790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58" descr="gif003[1]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09480" y="825480"/>
              <a:ext cx="4986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533520" y="533520"/>
            <a:ext cx="8074080" cy="594360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652840" y="2824200"/>
            <a:ext cx="1905120" cy="3279960"/>
            <a:chOff x="2652840" y="2824200"/>
            <a:chExt cx="1905120" cy="3279960"/>
          </a:xfrm>
        </p:grpSpPr>
        <p:grpSp>
          <p:nvGrpSpPr>
            <p:cNvPr id="179" name=""/>
            <p:cNvGrpSpPr/>
            <p:nvPr/>
          </p:nvGrpSpPr>
          <p:grpSpPr>
            <a:xfrm>
              <a:off x="3414600" y="5705640"/>
              <a:ext cx="360" cy="152280"/>
              <a:chOff x="3414600" y="5705640"/>
              <a:chExt cx="360" cy="15228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3414600" y="570564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3414600" y="5705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95480" y="5705640"/>
              <a:ext cx="360" cy="152280"/>
              <a:chOff x="3795480" y="5705640"/>
              <a:chExt cx="360" cy="152280"/>
            </a:xfrm>
          </p:grpSpPr>
          <p:sp>
            <p:nvSpPr>
              <p:cNvPr id="183" name="Line 5"/>
              <p:cNvSpPr/>
              <p:nvPr/>
            </p:nvSpPr>
            <p:spPr>
              <a:xfrm>
                <a:off x="3795480" y="570564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795480" y="5705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176360" y="5705640"/>
              <a:ext cx="360" cy="152280"/>
              <a:chOff x="4176360" y="5705640"/>
              <a:chExt cx="360" cy="152280"/>
            </a:xfrm>
          </p:grpSpPr>
          <p:sp>
            <p:nvSpPr>
              <p:cNvPr id="186" name="Line 6"/>
              <p:cNvSpPr/>
              <p:nvPr/>
            </p:nvSpPr>
            <p:spPr>
              <a:xfrm>
                <a:off x="4176360" y="570564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4176360" y="5705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57600" y="5705640"/>
              <a:ext cx="360" cy="152280"/>
              <a:chOff x="4557600" y="5705640"/>
              <a:chExt cx="360" cy="152280"/>
            </a:xfrm>
          </p:grpSpPr>
          <p:sp>
            <p:nvSpPr>
              <p:cNvPr id="189" name="Line 7"/>
              <p:cNvSpPr/>
              <p:nvPr/>
            </p:nvSpPr>
            <p:spPr>
              <a:xfrm>
                <a:off x="4557600" y="570564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4557600" y="5705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652840" y="5719680"/>
              <a:ext cx="360" cy="152640"/>
              <a:chOff x="2652840" y="5719680"/>
              <a:chExt cx="360" cy="152640"/>
            </a:xfrm>
          </p:grpSpPr>
          <p:sp>
            <p:nvSpPr>
              <p:cNvPr id="192" name="Line 8"/>
              <p:cNvSpPr/>
              <p:nvPr/>
            </p:nvSpPr>
            <p:spPr>
              <a:xfrm>
                <a:off x="2652840" y="5719680"/>
                <a:ext cx="0" cy="152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2652840" y="57196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033000" y="5567400"/>
              <a:ext cx="152640" cy="360"/>
              <a:chOff x="3033000" y="5567400"/>
              <a:chExt cx="152640" cy="360"/>
            </a:xfrm>
          </p:grpSpPr>
          <p:sp>
            <p:nvSpPr>
              <p:cNvPr id="195" name="Line 9"/>
              <p:cNvSpPr/>
              <p:nvPr/>
            </p:nvSpPr>
            <p:spPr>
              <a:xfrm flipH="1">
                <a:off x="3033000" y="55674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033360" y="55674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033000" y="6103800"/>
              <a:ext cx="152640" cy="360"/>
              <a:chOff x="3033000" y="6103800"/>
              <a:chExt cx="152640" cy="360"/>
            </a:xfrm>
          </p:grpSpPr>
          <p:sp>
            <p:nvSpPr>
              <p:cNvPr id="198" name="Line 10"/>
              <p:cNvSpPr/>
              <p:nvPr/>
            </p:nvSpPr>
            <p:spPr>
              <a:xfrm flipH="1">
                <a:off x="3033000" y="61038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3033360" y="61038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033000" y="5262480"/>
              <a:ext cx="152640" cy="360"/>
              <a:chOff x="3033000" y="5262480"/>
              <a:chExt cx="152640" cy="360"/>
            </a:xfrm>
          </p:grpSpPr>
          <p:sp>
            <p:nvSpPr>
              <p:cNvPr id="201" name="Line 11"/>
              <p:cNvSpPr/>
              <p:nvPr/>
            </p:nvSpPr>
            <p:spPr>
              <a:xfrm flipH="1">
                <a:off x="3033000" y="52624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3033360" y="52624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3033000" y="4957920"/>
              <a:ext cx="152640" cy="360"/>
              <a:chOff x="3033000" y="4957920"/>
              <a:chExt cx="152640" cy="360"/>
            </a:xfrm>
          </p:grpSpPr>
          <p:sp>
            <p:nvSpPr>
              <p:cNvPr id="204" name="Line 12"/>
              <p:cNvSpPr/>
              <p:nvPr/>
            </p:nvSpPr>
            <p:spPr>
              <a:xfrm flipH="1">
                <a:off x="3033000" y="49579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3033360" y="4957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033000" y="4653000"/>
              <a:ext cx="152640" cy="360"/>
              <a:chOff x="3033000" y="4653000"/>
              <a:chExt cx="152640" cy="360"/>
            </a:xfrm>
          </p:grpSpPr>
          <p:sp>
            <p:nvSpPr>
              <p:cNvPr id="207" name="Line 13"/>
              <p:cNvSpPr/>
              <p:nvPr/>
            </p:nvSpPr>
            <p:spPr>
              <a:xfrm flipH="1">
                <a:off x="3033000" y="46530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033360" y="4653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33000" y="4348080"/>
              <a:ext cx="152640" cy="360"/>
              <a:chOff x="3033000" y="4348080"/>
              <a:chExt cx="152640" cy="360"/>
            </a:xfrm>
          </p:grpSpPr>
          <p:sp>
            <p:nvSpPr>
              <p:cNvPr id="210" name="Line 14"/>
              <p:cNvSpPr/>
              <p:nvPr/>
            </p:nvSpPr>
            <p:spPr>
              <a:xfrm flipH="1">
                <a:off x="3033000" y="43480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3033360" y="43480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033000" y="4043520"/>
              <a:ext cx="152640" cy="360"/>
              <a:chOff x="3033000" y="4043520"/>
              <a:chExt cx="152640" cy="360"/>
            </a:xfrm>
          </p:grpSpPr>
          <p:sp>
            <p:nvSpPr>
              <p:cNvPr id="213" name="Line 15"/>
              <p:cNvSpPr/>
              <p:nvPr/>
            </p:nvSpPr>
            <p:spPr>
              <a:xfrm flipH="1">
                <a:off x="3033000" y="40435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033360" y="40435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033000" y="3738600"/>
              <a:ext cx="152640" cy="360"/>
              <a:chOff x="3033000" y="3738600"/>
              <a:chExt cx="152640" cy="360"/>
            </a:xfrm>
          </p:grpSpPr>
          <p:sp>
            <p:nvSpPr>
              <p:cNvPr id="216" name="Line 16"/>
              <p:cNvSpPr/>
              <p:nvPr/>
            </p:nvSpPr>
            <p:spPr>
              <a:xfrm flipH="1">
                <a:off x="3033000" y="37386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3033360" y="37386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033000" y="3433680"/>
              <a:ext cx="152640" cy="360"/>
              <a:chOff x="3033000" y="3433680"/>
              <a:chExt cx="152640" cy="360"/>
            </a:xfrm>
          </p:grpSpPr>
          <p:sp>
            <p:nvSpPr>
              <p:cNvPr id="219" name="Line 17"/>
              <p:cNvSpPr/>
              <p:nvPr/>
            </p:nvSpPr>
            <p:spPr>
              <a:xfrm flipH="1">
                <a:off x="3033000" y="34336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033360" y="34336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3033000" y="3129120"/>
              <a:ext cx="152640" cy="360"/>
              <a:chOff x="3033000" y="3129120"/>
              <a:chExt cx="152640" cy="360"/>
            </a:xfrm>
          </p:grpSpPr>
          <p:sp>
            <p:nvSpPr>
              <p:cNvPr id="222" name="Line 18"/>
              <p:cNvSpPr/>
              <p:nvPr/>
            </p:nvSpPr>
            <p:spPr>
              <a:xfrm flipH="1">
                <a:off x="3033000" y="31291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033360" y="31291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033000" y="2824200"/>
              <a:ext cx="152640" cy="360"/>
              <a:chOff x="3033000" y="2824200"/>
              <a:chExt cx="152640" cy="360"/>
            </a:xfrm>
          </p:grpSpPr>
          <p:sp>
            <p:nvSpPr>
              <p:cNvPr id="225" name="Line 19"/>
              <p:cNvSpPr/>
              <p:nvPr/>
            </p:nvSpPr>
            <p:spPr>
              <a:xfrm flipH="1">
                <a:off x="3033000" y="28242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3033360" y="2824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1828800" y="5861160"/>
            <a:ext cx="6697800" cy="6120"/>
            <a:chOff x="1828800" y="5861160"/>
            <a:chExt cx="6697800" cy="6120"/>
          </a:xfrm>
        </p:grpSpPr>
        <p:sp>
          <p:nvSpPr>
            <p:cNvPr id="228" name="Line 20"/>
            <p:cNvSpPr/>
            <p:nvPr/>
          </p:nvSpPr>
          <p:spPr>
            <a:xfrm>
              <a:off x="1828800" y="5861160"/>
              <a:ext cx="6697800" cy="612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828800" y="5861160"/>
              <a:ext cx="66978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028680" y="2057400"/>
            <a:ext cx="3240" cy="4557600"/>
            <a:chOff x="3028680" y="2057400"/>
            <a:chExt cx="3240" cy="4557600"/>
          </a:xfrm>
        </p:grpSpPr>
        <p:sp>
          <p:nvSpPr>
            <p:cNvPr id="231" name="Line 21"/>
            <p:cNvSpPr/>
            <p:nvPr/>
          </p:nvSpPr>
          <p:spPr>
            <a:xfrm flipH="1" flipV="1">
              <a:off x="3028680" y="2057400"/>
              <a:ext cx="3240" cy="455760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3028680" y="2057400"/>
              <a:ext cx="3240" cy="45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2"/>
          <p:cNvSpPr/>
          <p:nvPr/>
        </p:nvSpPr>
        <p:spPr>
          <a:xfrm>
            <a:off x="2703240" y="498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31920" y="6332400"/>
            <a:ext cx="152640" cy="360"/>
            <a:chOff x="3031920" y="6332400"/>
            <a:chExt cx="152640" cy="360"/>
          </a:xfrm>
        </p:grpSpPr>
        <p:sp>
          <p:nvSpPr>
            <p:cNvPr id="235" name="Line 23"/>
            <p:cNvSpPr/>
            <p:nvPr/>
          </p:nvSpPr>
          <p:spPr>
            <a:xfrm flipH="1">
              <a:off x="3031920" y="633240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032280" y="63324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4"/>
          <p:cNvSpPr/>
          <p:nvPr/>
        </p:nvSpPr>
        <p:spPr>
          <a:xfrm>
            <a:off x="2703240" y="5308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2703240" y="437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2703240" y="467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7"/>
          <p:cNvSpPr/>
          <p:nvPr/>
        </p:nvSpPr>
        <p:spPr>
          <a:xfrm>
            <a:off x="2703240" y="3755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8"/>
          <p:cNvSpPr/>
          <p:nvPr/>
        </p:nvSpPr>
        <p:spPr>
          <a:xfrm>
            <a:off x="2703240" y="4075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2703240" y="3160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0"/>
          <p:cNvSpPr/>
          <p:nvPr/>
        </p:nvSpPr>
        <p:spPr>
          <a:xfrm>
            <a:off x="2703240" y="347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2540880" y="2536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2703240" y="284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3"/>
          <p:cNvSpPr/>
          <p:nvPr/>
        </p:nvSpPr>
        <p:spPr>
          <a:xfrm>
            <a:off x="7585560" y="597204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t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1805760" y="222732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5"/>
          <p:cNvSpPr/>
          <p:nvPr/>
        </p:nvSpPr>
        <p:spPr>
          <a:xfrm>
            <a:off x="3636720" y="579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4379760" y="579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5132520" y="5842080"/>
            <a:ext cx="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2707920" y="572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941720" y="5722920"/>
            <a:ext cx="360" cy="144360"/>
            <a:chOff x="4941720" y="5722920"/>
            <a:chExt cx="360" cy="144360"/>
          </a:xfrm>
        </p:grpSpPr>
        <p:sp>
          <p:nvSpPr>
            <p:cNvPr id="253" name="Line 39"/>
            <p:cNvSpPr/>
            <p:nvPr/>
          </p:nvSpPr>
          <p:spPr>
            <a:xfrm>
              <a:off x="494172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94172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02080" y="5722920"/>
            <a:ext cx="360" cy="144360"/>
            <a:chOff x="5302080" y="5722920"/>
            <a:chExt cx="360" cy="144360"/>
          </a:xfrm>
        </p:grpSpPr>
        <p:sp>
          <p:nvSpPr>
            <p:cNvPr id="256" name="Line 40"/>
            <p:cNvSpPr/>
            <p:nvPr/>
          </p:nvSpPr>
          <p:spPr>
            <a:xfrm>
              <a:off x="530208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30208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662440" y="5722920"/>
            <a:ext cx="360" cy="144360"/>
            <a:chOff x="5662440" y="5722920"/>
            <a:chExt cx="360" cy="144360"/>
          </a:xfrm>
        </p:grpSpPr>
        <p:sp>
          <p:nvSpPr>
            <p:cNvPr id="259" name="Line 41"/>
            <p:cNvSpPr/>
            <p:nvPr/>
          </p:nvSpPr>
          <p:spPr>
            <a:xfrm>
              <a:off x="566244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566244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21360" y="5722920"/>
            <a:ext cx="360" cy="144360"/>
            <a:chOff x="6021360" y="5722920"/>
            <a:chExt cx="360" cy="144360"/>
          </a:xfrm>
        </p:grpSpPr>
        <p:sp>
          <p:nvSpPr>
            <p:cNvPr id="262" name="Line 42"/>
            <p:cNvSpPr/>
            <p:nvPr/>
          </p:nvSpPr>
          <p:spPr>
            <a:xfrm>
              <a:off x="602136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02136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53360" y="5722920"/>
            <a:ext cx="360" cy="144360"/>
            <a:chOff x="6453360" y="5722920"/>
            <a:chExt cx="360" cy="144360"/>
          </a:xfrm>
        </p:grpSpPr>
        <p:sp>
          <p:nvSpPr>
            <p:cNvPr id="265" name="Line 43"/>
            <p:cNvSpPr/>
            <p:nvPr/>
          </p:nvSpPr>
          <p:spPr>
            <a:xfrm>
              <a:off x="645336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645336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813720" y="5722920"/>
            <a:ext cx="360" cy="144360"/>
            <a:chOff x="6813720" y="5722920"/>
            <a:chExt cx="360" cy="144360"/>
          </a:xfrm>
        </p:grpSpPr>
        <p:sp>
          <p:nvSpPr>
            <p:cNvPr id="268" name="Line 44"/>
            <p:cNvSpPr/>
            <p:nvPr/>
          </p:nvSpPr>
          <p:spPr>
            <a:xfrm>
              <a:off x="681372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81372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245360" y="5722920"/>
            <a:ext cx="360" cy="144360"/>
            <a:chOff x="7245360" y="5722920"/>
            <a:chExt cx="360" cy="144360"/>
          </a:xfrm>
        </p:grpSpPr>
        <p:sp>
          <p:nvSpPr>
            <p:cNvPr id="271" name="Line 45"/>
            <p:cNvSpPr/>
            <p:nvPr/>
          </p:nvSpPr>
          <p:spPr>
            <a:xfrm>
              <a:off x="724536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724536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78800" y="5722920"/>
            <a:ext cx="360" cy="144360"/>
            <a:chOff x="7678800" y="5722920"/>
            <a:chExt cx="360" cy="144360"/>
          </a:xfrm>
        </p:grpSpPr>
        <p:sp>
          <p:nvSpPr>
            <p:cNvPr id="274" name="Line 46"/>
            <p:cNvSpPr/>
            <p:nvPr/>
          </p:nvSpPr>
          <p:spPr>
            <a:xfrm>
              <a:off x="7678800" y="572292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678800" y="572292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5851440" y="579420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8"/>
          <p:cNvSpPr/>
          <p:nvPr/>
        </p:nvSpPr>
        <p:spPr>
          <a:xfrm>
            <a:off x="6597720" y="57942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13360" y="2266560"/>
            <a:ext cx="360" cy="3600360"/>
            <a:chOff x="6813360" y="2266560"/>
            <a:chExt cx="360" cy="3600360"/>
          </a:xfrm>
        </p:grpSpPr>
        <p:sp>
          <p:nvSpPr>
            <p:cNvPr id="279" name="Line 49"/>
            <p:cNvSpPr/>
            <p:nvPr/>
          </p:nvSpPr>
          <p:spPr>
            <a:xfrm flipV="1">
              <a:off x="6813720" y="2266560"/>
              <a:ext cx="0" cy="3600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6813360" y="2266560"/>
              <a:ext cx="36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97360" y="4354560"/>
            <a:ext cx="4105080" cy="360"/>
            <a:chOff x="2997360" y="4354560"/>
            <a:chExt cx="4105080" cy="360"/>
          </a:xfrm>
        </p:grpSpPr>
        <p:sp>
          <p:nvSpPr>
            <p:cNvPr id="282" name="Line 50"/>
            <p:cNvSpPr/>
            <p:nvPr/>
          </p:nvSpPr>
          <p:spPr>
            <a:xfrm>
              <a:off x="2997360" y="4354560"/>
              <a:ext cx="4105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997360" y="4354560"/>
              <a:ext cx="41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68640" y="3706920"/>
            <a:ext cx="4105440" cy="360"/>
            <a:chOff x="3068640" y="3706920"/>
            <a:chExt cx="4105440" cy="360"/>
          </a:xfrm>
        </p:grpSpPr>
        <p:sp>
          <p:nvSpPr>
            <p:cNvPr id="285" name="Line 51"/>
            <p:cNvSpPr/>
            <p:nvPr/>
          </p:nvSpPr>
          <p:spPr>
            <a:xfrm>
              <a:off x="3068640" y="3706920"/>
              <a:ext cx="4105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068640" y="3706920"/>
              <a:ext cx="410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97000" y="3633840"/>
            <a:ext cx="4321440" cy="720720"/>
            <a:chOff x="2997000" y="3633840"/>
            <a:chExt cx="4321440" cy="720720"/>
          </a:xfrm>
        </p:grpSpPr>
        <p:sp>
          <p:nvSpPr>
            <p:cNvPr id="288" name="Line 52"/>
            <p:cNvSpPr/>
            <p:nvPr/>
          </p:nvSpPr>
          <p:spPr>
            <a:xfrm flipV="1">
              <a:off x="2997360" y="3633840"/>
              <a:ext cx="4321080" cy="72072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2997000" y="3633840"/>
              <a:ext cx="43210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997000" y="4138560"/>
            <a:ext cx="4321440" cy="1728720"/>
            <a:chOff x="2997000" y="4138560"/>
            <a:chExt cx="4321440" cy="1728720"/>
          </a:xfrm>
        </p:grpSpPr>
        <p:sp>
          <p:nvSpPr>
            <p:cNvPr id="291" name="Line 53"/>
            <p:cNvSpPr/>
            <p:nvPr/>
          </p:nvSpPr>
          <p:spPr>
            <a:xfrm flipV="1">
              <a:off x="2997360" y="4138560"/>
              <a:ext cx="4321080" cy="172872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 rot="10800000">
              <a:off x="2997000" y="4138560"/>
              <a:ext cx="432108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54"/>
          <p:cNvSpPr/>
          <p:nvPr/>
        </p:nvSpPr>
        <p:spPr>
          <a:xfrm>
            <a:off x="7318440" y="39942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8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5"/>
          <p:cNvSpPr/>
          <p:nvPr/>
        </p:nvSpPr>
        <p:spPr>
          <a:xfrm>
            <a:off x="6886440" y="291456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8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6"/>
          <p:cNvSpPr/>
          <p:nvPr/>
        </p:nvSpPr>
        <p:spPr>
          <a:xfrm>
            <a:off x="6094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条线表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海岸的距离与追赶时间之间的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7"/>
          <p:cNvSpPr/>
          <p:nvPr/>
        </p:nvSpPr>
        <p:spPr>
          <a:xfrm>
            <a:off x="609480" y="3017880"/>
            <a:ext cx="1905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A,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个速度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8"/>
          <p:cNvSpPr/>
          <p:nvPr/>
        </p:nvSpPr>
        <p:spPr>
          <a:xfrm>
            <a:off x="774720" y="939960"/>
            <a:ext cx="726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t=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s=0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所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到海岸的距离与追赶时间之间的关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9"/>
          <p:cNvSpPr/>
          <p:nvPr/>
        </p:nvSpPr>
        <p:spPr>
          <a:xfrm>
            <a:off x="4941720" y="4930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0"/>
          <p:cNvSpPr/>
          <p:nvPr/>
        </p:nvSpPr>
        <p:spPr>
          <a:xfrm>
            <a:off x="4581360" y="3922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1"/>
          <p:cNvSpPr/>
          <p:nvPr/>
        </p:nvSpPr>
        <p:spPr>
          <a:xfrm>
            <a:off x="685800" y="4191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95360" y="533520"/>
            <a:ext cx="8153280" cy="5905440"/>
          </a:xfrm>
          <a:prstGeom prst="rect">
            <a:avLst/>
          </a:prstGeom>
          <a:gradFill rotWithShape="0">
            <a:gsLst>
              <a:gs pos="0">
                <a:srgbClr val="ccffff">
                  <a:alpha val="79215"/>
                </a:srgbClr>
              </a:gs>
              <a:gs pos="50000">
                <a:srgbClr val="f9ffff"/>
              </a:gs>
              <a:gs pos="100000">
                <a:srgbClr val="ccffff">
                  <a:alpha val="79215"/>
                </a:srgbClr>
              </a:gs>
            </a:gsLst>
            <a:lin ang="5400000"/>
          </a:gradFill>
          <a:ln w="7632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1114560" y="2013120"/>
            <a:ext cx="1905120" cy="3854160"/>
            <a:chOff x="1114560" y="2013120"/>
            <a:chExt cx="1905120" cy="3854160"/>
          </a:xfrm>
        </p:grpSpPr>
        <p:grpSp>
          <p:nvGrpSpPr>
            <p:cNvPr id="304" name=""/>
            <p:cNvGrpSpPr/>
            <p:nvPr/>
          </p:nvGrpSpPr>
          <p:grpSpPr>
            <a:xfrm>
              <a:off x="1876320" y="5399280"/>
              <a:ext cx="360" cy="178920"/>
              <a:chOff x="1876320" y="5399280"/>
              <a:chExt cx="360" cy="178920"/>
            </a:xfrm>
          </p:grpSpPr>
          <p:sp>
            <p:nvSpPr>
              <p:cNvPr id="305" name="Line 4"/>
              <p:cNvSpPr/>
              <p:nvPr/>
            </p:nvSpPr>
            <p:spPr>
              <a:xfrm>
                <a:off x="1876320" y="539928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1876320" y="539928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257200" y="5399280"/>
              <a:ext cx="360" cy="178920"/>
              <a:chOff x="2257200" y="5399280"/>
              <a:chExt cx="360" cy="178920"/>
            </a:xfrm>
          </p:grpSpPr>
          <p:sp>
            <p:nvSpPr>
              <p:cNvPr id="308" name="Line 5"/>
              <p:cNvSpPr/>
              <p:nvPr/>
            </p:nvSpPr>
            <p:spPr>
              <a:xfrm>
                <a:off x="2257200" y="539928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2257200" y="539928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638080" y="5399280"/>
              <a:ext cx="360" cy="178920"/>
              <a:chOff x="2638080" y="5399280"/>
              <a:chExt cx="360" cy="178920"/>
            </a:xfrm>
          </p:grpSpPr>
          <p:sp>
            <p:nvSpPr>
              <p:cNvPr id="311" name="Line 6"/>
              <p:cNvSpPr/>
              <p:nvPr/>
            </p:nvSpPr>
            <p:spPr>
              <a:xfrm>
                <a:off x="2638080" y="539928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2638080" y="539928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019320" y="5399280"/>
              <a:ext cx="360" cy="178920"/>
              <a:chOff x="3019320" y="5399280"/>
              <a:chExt cx="360" cy="178920"/>
            </a:xfrm>
          </p:grpSpPr>
          <p:sp>
            <p:nvSpPr>
              <p:cNvPr id="314" name="Line 7"/>
              <p:cNvSpPr/>
              <p:nvPr/>
            </p:nvSpPr>
            <p:spPr>
              <a:xfrm>
                <a:off x="3019320" y="539928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3019320" y="539928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114560" y="5415480"/>
              <a:ext cx="360" cy="179280"/>
              <a:chOff x="1114560" y="5415480"/>
              <a:chExt cx="360" cy="179280"/>
            </a:xfrm>
          </p:grpSpPr>
          <p:sp>
            <p:nvSpPr>
              <p:cNvPr id="317" name="Line 8"/>
              <p:cNvSpPr/>
              <p:nvPr/>
            </p:nvSpPr>
            <p:spPr>
              <a:xfrm>
                <a:off x="1114560" y="5415480"/>
                <a:ext cx="0" cy="17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1114560" y="5415480"/>
                <a:ext cx="36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494720" y="5236560"/>
              <a:ext cx="152640" cy="360"/>
              <a:chOff x="1494720" y="5236560"/>
              <a:chExt cx="152640" cy="360"/>
            </a:xfrm>
          </p:grpSpPr>
          <p:sp>
            <p:nvSpPr>
              <p:cNvPr id="320" name="Line 9"/>
              <p:cNvSpPr/>
              <p:nvPr/>
            </p:nvSpPr>
            <p:spPr>
              <a:xfrm flipH="1">
                <a:off x="1494720" y="52365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1495080" y="52365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494720" y="5866920"/>
              <a:ext cx="152640" cy="360"/>
              <a:chOff x="1494720" y="5866920"/>
              <a:chExt cx="152640" cy="360"/>
            </a:xfrm>
          </p:grpSpPr>
          <p:sp>
            <p:nvSpPr>
              <p:cNvPr id="323" name="Line 10"/>
              <p:cNvSpPr/>
              <p:nvPr/>
            </p:nvSpPr>
            <p:spPr>
              <a:xfrm flipH="1">
                <a:off x="1494720" y="58669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1495080" y="5866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494720" y="4878360"/>
              <a:ext cx="152640" cy="360"/>
              <a:chOff x="1494720" y="4878360"/>
              <a:chExt cx="152640" cy="360"/>
            </a:xfrm>
          </p:grpSpPr>
          <p:sp>
            <p:nvSpPr>
              <p:cNvPr id="326" name="Line 11"/>
              <p:cNvSpPr/>
              <p:nvPr/>
            </p:nvSpPr>
            <p:spPr>
              <a:xfrm flipH="1">
                <a:off x="1494720" y="48783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495080" y="48783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494720" y="4520520"/>
              <a:ext cx="152640" cy="360"/>
              <a:chOff x="1494720" y="4520520"/>
              <a:chExt cx="152640" cy="360"/>
            </a:xfrm>
          </p:grpSpPr>
          <p:sp>
            <p:nvSpPr>
              <p:cNvPr id="329" name="Line 12"/>
              <p:cNvSpPr/>
              <p:nvPr/>
            </p:nvSpPr>
            <p:spPr>
              <a:xfrm flipH="1">
                <a:off x="1494720" y="45205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1495080" y="45205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494720" y="4161960"/>
              <a:ext cx="152640" cy="360"/>
              <a:chOff x="1494720" y="4161960"/>
              <a:chExt cx="152640" cy="360"/>
            </a:xfrm>
          </p:grpSpPr>
          <p:sp>
            <p:nvSpPr>
              <p:cNvPr id="332" name="Line 13"/>
              <p:cNvSpPr/>
              <p:nvPr/>
            </p:nvSpPr>
            <p:spPr>
              <a:xfrm flipH="1">
                <a:off x="1494720" y="41619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1495080" y="41619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494720" y="3803760"/>
              <a:ext cx="152640" cy="360"/>
              <a:chOff x="1494720" y="3803760"/>
              <a:chExt cx="152640" cy="360"/>
            </a:xfrm>
          </p:grpSpPr>
          <p:sp>
            <p:nvSpPr>
              <p:cNvPr id="335" name="Line 14"/>
              <p:cNvSpPr/>
              <p:nvPr/>
            </p:nvSpPr>
            <p:spPr>
              <a:xfrm flipH="1">
                <a:off x="1494720" y="38037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1495080" y="38037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1494720" y="3445920"/>
              <a:ext cx="152640" cy="360"/>
              <a:chOff x="1494720" y="3445920"/>
              <a:chExt cx="152640" cy="360"/>
            </a:xfrm>
          </p:grpSpPr>
          <p:sp>
            <p:nvSpPr>
              <p:cNvPr id="338" name="Line 15"/>
              <p:cNvSpPr/>
              <p:nvPr/>
            </p:nvSpPr>
            <p:spPr>
              <a:xfrm flipH="1">
                <a:off x="1494720" y="34459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1495080" y="3445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494720" y="3087360"/>
              <a:ext cx="152640" cy="360"/>
              <a:chOff x="1494720" y="3087360"/>
              <a:chExt cx="152640" cy="360"/>
            </a:xfrm>
          </p:grpSpPr>
          <p:sp>
            <p:nvSpPr>
              <p:cNvPr id="341" name="Line 16"/>
              <p:cNvSpPr/>
              <p:nvPr/>
            </p:nvSpPr>
            <p:spPr>
              <a:xfrm flipH="1">
                <a:off x="1494720" y="30873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1495080" y="30873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94720" y="2729160"/>
              <a:ext cx="152640" cy="360"/>
              <a:chOff x="1494720" y="2729160"/>
              <a:chExt cx="152640" cy="360"/>
            </a:xfrm>
          </p:grpSpPr>
          <p:sp>
            <p:nvSpPr>
              <p:cNvPr id="344" name="Line 17"/>
              <p:cNvSpPr/>
              <p:nvPr/>
            </p:nvSpPr>
            <p:spPr>
              <a:xfrm flipH="1">
                <a:off x="1494720" y="272916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1495080" y="27291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494720" y="2371320"/>
              <a:ext cx="152640" cy="360"/>
              <a:chOff x="1494720" y="2371320"/>
              <a:chExt cx="152640" cy="360"/>
            </a:xfrm>
          </p:grpSpPr>
          <p:sp>
            <p:nvSpPr>
              <p:cNvPr id="347" name="Line 18"/>
              <p:cNvSpPr/>
              <p:nvPr/>
            </p:nvSpPr>
            <p:spPr>
              <a:xfrm flipH="1">
                <a:off x="1494720" y="23713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1495080" y="23713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494720" y="2013120"/>
              <a:ext cx="152640" cy="360"/>
              <a:chOff x="1494720" y="2013120"/>
              <a:chExt cx="152640" cy="360"/>
            </a:xfrm>
          </p:grpSpPr>
          <p:sp>
            <p:nvSpPr>
              <p:cNvPr id="350" name="Line 19"/>
              <p:cNvSpPr/>
              <p:nvPr/>
            </p:nvSpPr>
            <p:spPr>
              <a:xfrm flipH="1">
                <a:off x="1494720" y="201312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1495080" y="20131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466560" y="5607000"/>
            <a:ext cx="8353440" cy="6480"/>
            <a:chOff x="466560" y="5607000"/>
            <a:chExt cx="8353440" cy="6480"/>
          </a:xfrm>
        </p:grpSpPr>
        <p:sp>
          <p:nvSpPr>
            <p:cNvPr id="353" name="Line 20"/>
            <p:cNvSpPr/>
            <p:nvPr/>
          </p:nvSpPr>
          <p:spPr>
            <a:xfrm>
              <a:off x="466560" y="5607000"/>
              <a:ext cx="8353440" cy="648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466560" y="5607000"/>
              <a:ext cx="83534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474560" y="1363320"/>
            <a:ext cx="34920" cy="5157720"/>
            <a:chOff x="1474560" y="1363320"/>
            <a:chExt cx="34920" cy="5157720"/>
          </a:xfrm>
        </p:grpSpPr>
        <p:sp>
          <p:nvSpPr>
            <p:cNvPr id="356" name="Line 21"/>
            <p:cNvSpPr/>
            <p:nvPr/>
          </p:nvSpPr>
          <p:spPr>
            <a:xfrm flipH="1" flipV="1">
              <a:off x="1474560" y="1363320"/>
              <a:ext cx="34920" cy="515772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10800000">
              <a:off x="1474560" y="1363320"/>
              <a:ext cx="34920" cy="515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22"/>
          <p:cNvSpPr/>
          <p:nvPr/>
        </p:nvSpPr>
        <p:spPr>
          <a:xfrm>
            <a:off x="1106280" y="464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1106280" y="38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1106280" y="3174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1106280" y="2454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1024920" y="1735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8152200" y="57895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t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484920" y="125244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2114280" y="5540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2857320" y="5540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3708360" y="554040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1185480" y="547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356000" y="5468760"/>
            <a:ext cx="360" cy="144720"/>
            <a:chOff x="4356000" y="5468760"/>
            <a:chExt cx="360" cy="144720"/>
          </a:xfrm>
        </p:grpSpPr>
        <p:sp>
          <p:nvSpPr>
            <p:cNvPr id="370" name="Line 33"/>
            <p:cNvSpPr/>
            <p:nvPr/>
          </p:nvSpPr>
          <p:spPr>
            <a:xfrm>
              <a:off x="435600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35600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716360" y="5468760"/>
            <a:ext cx="360" cy="144720"/>
            <a:chOff x="4716360" y="5468760"/>
            <a:chExt cx="360" cy="144720"/>
          </a:xfrm>
        </p:grpSpPr>
        <p:sp>
          <p:nvSpPr>
            <p:cNvPr id="373" name="Line 34"/>
            <p:cNvSpPr/>
            <p:nvPr/>
          </p:nvSpPr>
          <p:spPr>
            <a:xfrm>
              <a:off x="471636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471636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076720" y="5468760"/>
            <a:ext cx="360" cy="144720"/>
            <a:chOff x="5076720" y="5468760"/>
            <a:chExt cx="360" cy="144720"/>
          </a:xfrm>
        </p:grpSpPr>
        <p:sp>
          <p:nvSpPr>
            <p:cNvPr id="376" name="Line 35"/>
            <p:cNvSpPr/>
            <p:nvPr/>
          </p:nvSpPr>
          <p:spPr>
            <a:xfrm>
              <a:off x="507672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507672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435640" y="5468760"/>
            <a:ext cx="360" cy="144720"/>
            <a:chOff x="5435640" y="5468760"/>
            <a:chExt cx="360" cy="144720"/>
          </a:xfrm>
        </p:grpSpPr>
        <p:sp>
          <p:nvSpPr>
            <p:cNvPr id="379" name="Line 36"/>
            <p:cNvSpPr/>
            <p:nvPr/>
          </p:nvSpPr>
          <p:spPr>
            <a:xfrm>
              <a:off x="543564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543564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67280" y="5468760"/>
            <a:ext cx="360" cy="144720"/>
            <a:chOff x="5867280" y="5468760"/>
            <a:chExt cx="360" cy="144720"/>
          </a:xfrm>
        </p:grpSpPr>
        <p:sp>
          <p:nvSpPr>
            <p:cNvPr id="382" name="Line 37"/>
            <p:cNvSpPr/>
            <p:nvPr/>
          </p:nvSpPr>
          <p:spPr>
            <a:xfrm>
              <a:off x="586728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86728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227640" y="5468760"/>
            <a:ext cx="360" cy="144720"/>
            <a:chOff x="6227640" y="5468760"/>
            <a:chExt cx="360" cy="144720"/>
          </a:xfrm>
        </p:grpSpPr>
        <p:sp>
          <p:nvSpPr>
            <p:cNvPr id="385" name="Line 38"/>
            <p:cNvSpPr/>
            <p:nvPr/>
          </p:nvSpPr>
          <p:spPr>
            <a:xfrm>
              <a:off x="622764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622764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659640" y="5468760"/>
            <a:ext cx="360" cy="144720"/>
            <a:chOff x="6659640" y="5468760"/>
            <a:chExt cx="360" cy="144720"/>
          </a:xfrm>
        </p:grpSpPr>
        <p:sp>
          <p:nvSpPr>
            <p:cNvPr id="388" name="Line 39"/>
            <p:cNvSpPr/>
            <p:nvPr/>
          </p:nvSpPr>
          <p:spPr>
            <a:xfrm>
              <a:off x="665964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65964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7093080" y="5468760"/>
            <a:ext cx="360" cy="144720"/>
            <a:chOff x="7093080" y="5468760"/>
            <a:chExt cx="360" cy="144720"/>
          </a:xfrm>
        </p:grpSpPr>
        <p:sp>
          <p:nvSpPr>
            <p:cNvPr id="391" name="Line 40"/>
            <p:cNvSpPr/>
            <p:nvPr/>
          </p:nvSpPr>
          <p:spPr>
            <a:xfrm>
              <a:off x="709308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709308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41"/>
          <p:cNvSpPr/>
          <p:nvPr/>
        </p:nvSpPr>
        <p:spPr>
          <a:xfrm>
            <a:off x="4572000" y="56134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5194440" y="5587920"/>
            <a:ext cx="5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35280" y="2012760"/>
            <a:ext cx="360" cy="3600360"/>
            <a:chOff x="5435280" y="2012760"/>
            <a:chExt cx="360" cy="3600360"/>
          </a:xfrm>
        </p:grpSpPr>
        <p:sp>
          <p:nvSpPr>
            <p:cNvPr id="396" name="Line 43"/>
            <p:cNvSpPr/>
            <p:nvPr/>
          </p:nvSpPr>
          <p:spPr>
            <a:xfrm flipV="1">
              <a:off x="5435640" y="2012760"/>
              <a:ext cx="0" cy="3600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 rot="10800000">
              <a:off x="5435280" y="2012760"/>
              <a:ext cx="36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474920" y="3813120"/>
            <a:ext cx="4105080" cy="360"/>
            <a:chOff x="1474920" y="3813120"/>
            <a:chExt cx="4105080" cy="360"/>
          </a:xfrm>
        </p:grpSpPr>
        <p:sp>
          <p:nvSpPr>
            <p:cNvPr id="399" name="Line 44"/>
            <p:cNvSpPr/>
            <p:nvPr/>
          </p:nvSpPr>
          <p:spPr>
            <a:xfrm>
              <a:off x="1474920" y="3813120"/>
              <a:ext cx="4105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1474920" y="3813120"/>
              <a:ext cx="41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547640" y="3092400"/>
            <a:ext cx="4105440" cy="360"/>
            <a:chOff x="1547640" y="3092400"/>
            <a:chExt cx="4105440" cy="360"/>
          </a:xfrm>
        </p:grpSpPr>
        <p:sp>
          <p:nvSpPr>
            <p:cNvPr id="402" name="Line 45"/>
            <p:cNvSpPr/>
            <p:nvPr/>
          </p:nvSpPr>
          <p:spPr>
            <a:xfrm>
              <a:off x="1547640" y="3092400"/>
              <a:ext cx="4105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1547640" y="3092400"/>
              <a:ext cx="410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476000" y="3021120"/>
            <a:ext cx="4320000" cy="792000"/>
            <a:chOff x="1476000" y="3021120"/>
            <a:chExt cx="4320000" cy="792000"/>
          </a:xfrm>
        </p:grpSpPr>
        <p:sp>
          <p:nvSpPr>
            <p:cNvPr id="405" name="Line 46"/>
            <p:cNvSpPr/>
            <p:nvPr/>
          </p:nvSpPr>
          <p:spPr>
            <a:xfrm flipV="1">
              <a:off x="1476360" y="3021120"/>
              <a:ext cx="4319640" cy="7920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 rot="10800000">
              <a:off x="1476000" y="3021120"/>
              <a:ext cx="43196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45840" y="3596760"/>
            <a:ext cx="4321440" cy="2016360"/>
            <a:chOff x="1545840" y="3596760"/>
            <a:chExt cx="4321440" cy="2016360"/>
          </a:xfrm>
        </p:grpSpPr>
        <p:sp>
          <p:nvSpPr>
            <p:cNvPr id="408" name="Line 47"/>
            <p:cNvSpPr/>
            <p:nvPr/>
          </p:nvSpPr>
          <p:spPr>
            <a:xfrm flipV="1">
              <a:off x="1546200" y="3596760"/>
              <a:ext cx="4321080" cy="201636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 rot="10800000">
              <a:off x="1545840" y="3596760"/>
              <a:ext cx="432108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48"/>
          <p:cNvSpPr/>
          <p:nvPr/>
        </p:nvSpPr>
        <p:spPr>
          <a:xfrm>
            <a:off x="5508720" y="381312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9"/>
          <p:cNvSpPr/>
          <p:nvPr/>
        </p:nvSpPr>
        <p:spPr>
          <a:xfrm>
            <a:off x="5651640" y="24447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0"/>
          <p:cNvSpPr/>
          <p:nvPr/>
        </p:nvSpPr>
        <p:spPr>
          <a:xfrm>
            <a:off x="1905120" y="68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否追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1"/>
          <p:cNvSpPr/>
          <p:nvPr/>
        </p:nvSpPr>
        <p:spPr>
          <a:xfrm>
            <a:off x="1905120" y="1295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一直追下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否追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796000" y="2444760"/>
            <a:ext cx="2952720" cy="574560"/>
            <a:chOff x="5796000" y="2444760"/>
            <a:chExt cx="2952720" cy="574560"/>
          </a:xfrm>
        </p:grpSpPr>
        <p:sp>
          <p:nvSpPr>
            <p:cNvPr id="415" name="Line 52"/>
            <p:cNvSpPr/>
            <p:nvPr/>
          </p:nvSpPr>
          <p:spPr>
            <a:xfrm flipV="1">
              <a:off x="5796000" y="2444760"/>
              <a:ext cx="2952720" cy="5745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 rot="10800000">
              <a:off x="5796000" y="2444760"/>
              <a:ext cx="295272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67280" y="2300400"/>
            <a:ext cx="2881440" cy="1295280"/>
            <a:chOff x="5867280" y="2300400"/>
            <a:chExt cx="2881440" cy="1295280"/>
          </a:xfrm>
        </p:grpSpPr>
        <p:sp>
          <p:nvSpPr>
            <p:cNvPr id="418" name="Line 53"/>
            <p:cNvSpPr/>
            <p:nvPr/>
          </p:nvSpPr>
          <p:spPr>
            <a:xfrm flipV="1">
              <a:off x="5867280" y="2300400"/>
              <a:ext cx="2881440" cy="1295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 rot="10800000">
              <a:off x="5867280" y="2300400"/>
              <a:ext cx="28814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524720" y="5468760"/>
            <a:ext cx="360" cy="144720"/>
            <a:chOff x="7524720" y="5468760"/>
            <a:chExt cx="360" cy="144720"/>
          </a:xfrm>
        </p:grpSpPr>
        <p:sp>
          <p:nvSpPr>
            <p:cNvPr id="421" name="Line 54"/>
            <p:cNvSpPr/>
            <p:nvPr/>
          </p:nvSpPr>
          <p:spPr>
            <a:xfrm>
              <a:off x="752472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752472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924360" y="5468760"/>
            <a:ext cx="360" cy="144720"/>
            <a:chOff x="3924360" y="5468760"/>
            <a:chExt cx="360" cy="144720"/>
          </a:xfrm>
        </p:grpSpPr>
        <p:sp>
          <p:nvSpPr>
            <p:cNvPr id="424" name="Line 55"/>
            <p:cNvSpPr/>
            <p:nvPr/>
          </p:nvSpPr>
          <p:spPr>
            <a:xfrm>
              <a:off x="392436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92436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419640" y="5468760"/>
            <a:ext cx="360" cy="144720"/>
            <a:chOff x="3419640" y="5468760"/>
            <a:chExt cx="360" cy="144720"/>
          </a:xfrm>
        </p:grpSpPr>
        <p:sp>
          <p:nvSpPr>
            <p:cNvPr id="427" name="Line 56"/>
            <p:cNvSpPr/>
            <p:nvPr/>
          </p:nvSpPr>
          <p:spPr>
            <a:xfrm>
              <a:off x="341964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41964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57"/>
          <p:cNvSpPr/>
          <p:nvPr/>
        </p:nvSpPr>
        <p:spPr>
          <a:xfrm>
            <a:off x="6012000" y="56847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6804000" y="5684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956720" y="5468760"/>
            <a:ext cx="360" cy="144720"/>
            <a:chOff x="7956720" y="5468760"/>
            <a:chExt cx="360" cy="144720"/>
          </a:xfrm>
        </p:grpSpPr>
        <p:sp>
          <p:nvSpPr>
            <p:cNvPr id="432" name="Line 59"/>
            <p:cNvSpPr/>
            <p:nvPr/>
          </p:nvSpPr>
          <p:spPr>
            <a:xfrm>
              <a:off x="7956720" y="5468760"/>
              <a:ext cx="0" cy="1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7956720" y="546876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60"/>
          <p:cNvSpPr/>
          <p:nvPr/>
        </p:nvSpPr>
        <p:spPr>
          <a:xfrm>
            <a:off x="7667640" y="5684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524360" y="2371320"/>
            <a:ext cx="360" cy="3241800"/>
            <a:chOff x="7524360" y="2371320"/>
            <a:chExt cx="360" cy="3241800"/>
          </a:xfrm>
        </p:grpSpPr>
        <p:sp>
          <p:nvSpPr>
            <p:cNvPr id="436" name="Line 61"/>
            <p:cNvSpPr/>
            <p:nvPr/>
          </p:nvSpPr>
          <p:spPr>
            <a:xfrm flipV="1">
              <a:off x="7524720" y="2371320"/>
              <a:ext cx="0" cy="3241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 rot="10800000">
              <a:off x="7524360" y="2371320"/>
              <a:ext cx="360" cy="324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62"/>
          <p:cNvSpPr/>
          <p:nvPr/>
        </p:nvSpPr>
        <p:spPr>
          <a:xfrm>
            <a:off x="7524720" y="2805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3"/>
          <p:cNvSpPr/>
          <p:nvPr/>
        </p:nvSpPr>
        <p:spPr>
          <a:xfrm>
            <a:off x="7020000" y="2228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4"/>
          <p:cNvSpPr/>
          <p:nvPr/>
        </p:nvSpPr>
        <p:spPr>
          <a:xfrm>
            <a:off x="3924360" y="32367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5"/>
          <p:cNvSpPr/>
          <p:nvPr/>
        </p:nvSpPr>
        <p:spPr>
          <a:xfrm>
            <a:off x="4140360" y="43876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6"/>
          <p:cNvSpPr/>
          <p:nvPr/>
        </p:nvSpPr>
        <p:spPr>
          <a:xfrm>
            <a:off x="548640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7"/>
          <p:cNvSpPr/>
          <p:nvPr/>
        </p:nvSpPr>
        <p:spPr>
          <a:xfrm>
            <a:off x="708660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8199"/>
          <p:cNvSpPr/>
          <p:nvPr/>
        </p:nvSpPr>
        <p:spPr>
          <a:xfrm>
            <a:off x="2050920" y="128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4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482760" y="507960"/>
            <a:ext cx="8140680" cy="5943600"/>
          </a:xfrm>
          <a:prstGeom prst="rect">
            <a:avLst/>
          </a:prstGeom>
          <a:gradFill rotWithShape="0">
            <a:gsLst>
              <a:gs pos="0">
                <a:srgbClr val="ccffcc">
                  <a:alpha val="79215"/>
                </a:srgbClr>
              </a:gs>
              <a:gs pos="50000">
                <a:srgbClr val="ffffff"/>
              </a:gs>
              <a:gs pos="100000">
                <a:srgbClr val="ccffcc">
                  <a:alpha val="79215"/>
                </a:srgbClr>
              </a:gs>
            </a:gsLst>
            <a:lin ang="5400000"/>
          </a:gradFill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3"/>
          <p:cNvGrpSpPr/>
          <p:nvPr/>
        </p:nvGrpSpPr>
        <p:grpSpPr>
          <a:xfrm>
            <a:off x="1114560" y="2343240"/>
            <a:ext cx="1905120" cy="3854520"/>
            <a:chOff x="1114560" y="2343240"/>
            <a:chExt cx="1905120" cy="3854520"/>
          </a:xfrm>
        </p:grpSpPr>
        <p:grpSp>
          <p:nvGrpSpPr>
            <p:cNvPr id="448" name=""/>
            <p:cNvGrpSpPr/>
            <p:nvPr/>
          </p:nvGrpSpPr>
          <p:grpSpPr>
            <a:xfrm>
              <a:off x="1876320" y="5729400"/>
              <a:ext cx="360" cy="178920"/>
              <a:chOff x="1876320" y="5729400"/>
              <a:chExt cx="360" cy="178920"/>
            </a:xfrm>
          </p:grpSpPr>
          <p:sp>
            <p:nvSpPr>
              <p:cNvPr id="449" name="Line 4"/>
              <p:cNvSpPr/>
              <p:nvPr/>
            </p:nvSpPr>
            <p:spPr>
              <a:xfrm>
                <a:off x="1876320" y="572940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1876320" y="572940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257200" y="5729400"/>
              <a:ext cx="360" cy="178920"/>
              <a:chOff x="2257200" y="5729400"/>
              <a:chExt cx="360" cy="178920"/>
            </a:xfrm>
          </p:grpSpPr>
          <p:sp>
            <p:nvSpPr>
              <p:cNvPr id="452" name="Line 5"/>
              <p:cNvSpPr/>
              <p:nvPr/>
            </p:nvSpPr>
            <p:spPr>
              <a:xfrm>
                <a:off x="2257200" y="572940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2257200" y="572940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638080" y="5729400"/>
              <a:ext cx="360" cy="178920"/>
              <a:chOff x="2638080" y="5729400"/>
              <a:chExt cx="360" cy="178920"/>
            </a:xfrm>
          </p:grpSpPr>
          <p:sp>
            <p:nvSpPr>
              <p:cNvPr id="455" name="Line 6"/>
              <p:cNvSpPr/>
              <p:nvPr/>
            </p:nvSpPr>
            <p:spPr>
              <a:xfrm>
                <a:off x="2638080" y="572940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2638080" y="572940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019320" y="5729400"/>
              <a:ext cx="360" cy="178920"/>
              <a:chOff x="3019320" y="5729400"/>
              <a:chExt cx="360" cy="178920"/>
            </a:xfrm>
          </p:grpSpPr>
          <p:sp>
            <p:nvSpPr>
              <p:cNvPr id="458" name="Line 7"/>
              <p:cNvSpPr/>
              <p:nvPr/>
            </p:nvSpPr>
            <p:spPr>
              <a:xfrm>
                <a:off x="3019320" y="5729400"/>
                <a:ext cx="0" cy="178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3019320" y="5729400"/>
                <a:ext cx="36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4560" y="5745960"/>
              <a:ext cx="360" cy="179280"/>
              <a:chOff x="1114560" y="5745960"/>
              <a:chExt cx="360" cy="179280"/>
            </a:xfrm>
          </p:grpSpPr>
          <p:sp>
            <p:nvSpPr>
              <p:cNvPr id="461" name="Line 8"/>
              <p:cNvSpPr/>
              <p:nvPr/>
            </p:nvSpPr>
            <p:spPr>
              <a:xfrm>
                <a:off x="1114560" y="5745960"/>
                <a:ext cx="0" cy="17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1114560" y="5745960"/>
                <a:ext cx="36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494720" y="5567040"/>
              <a:ext cx="152640" cy="360"/>
              <a:chOff x="1494720" y="5567040"/>
              <a:chExt cx="152640" cy="360"/>
            </a:xfrm>
          </p:grpSpPr>
          <p:sp>
            <p:nvSpPr>
              <p:cNvPr id="464" name="Line 9"/>
              <p:cNvSpPr/>
              <p:nvPr/>
            </p:nvSpPr>
            <p:spPr>
              <a:xfrm flipH="1">
                <a:off x="1494720" y="55670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1495080" y="5567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494720" y="6197400"/>
              <a:ext cx="152640" cy="360"/>
              <a:chOff x="1494720" y="6197400"/>
              <a:chExt cx="152640" cy="360"/>
            </a:xfrm>
          </p:grpSpPr>
          <p:sp>
            <p:nvSpPr>
              <p:cNvPr id="467" name="Line 10"/>
              <p:cNvSpPr/>
              <p:nvPr/>
            </p:nvSpPr>
            <p:spPr>
              <a:xfrm flipH="1">
                <a:off x="1494720" y="619740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1495080" y="61974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494720" y="5208840"/>
              <a:ext cx="152640" cy="360"/>
              <a:chOff x="1494720" y="5208840"/>
              <a:chExt cx="152640" cy="360"/>
            </a:xfrm>
          </p:grpSpPr>
          <p:sp>
            <p:nvSpPr>
              <p:cNvPr id="470" name="Line 11"/>
              <p:cNvSpPr/>
              <p:nvPr/>
            </p:nvSpPr>
            <p:spPr>
              <a:xfrm flipH="1">
                <a:off x="1494720" y="52088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1495080" y="52088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1494720" y="4850640"/>
              <a:ext cx="152640" cy="360"/>
              <a:chOff x="1494720" y="4850640"/>
              <a:chExt cx="152640" cy="360"/>
            </a:xfrm>
          </p:grpSpPr>
          <p:sp>
            <p:nvSpPr>
              <p:cNvPr id="473" name="Line 12"/>
              <p:cNvSpPr/>
              <p:nvPr/>
            </p:nvSpPr>
            <p:spPr>
              <a:xfrm flipH="1">
                <a:off x="1494720" y="48506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1495080" y="4850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494720" y="4492440"/>
              <a:ext cx="152640" cy="360"/>
              <a:chOff x="1494720" y="4492440"/>
              <a:chExt cx="152640" cy="360"/>
            </a:xfrm>
          </p:grpSpPr>
          <p:sp>
            <p:nvSpPr>
              <p:cNvPr id="476" name="Line 13"/>
              <p:cNvSpPr/>
              <p:nvPr/>
            </p:nvSpPr>
            <p:spPr>
              <a:xfrm flipH="1">
                <a:off x="1494720" y="44924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1495080" y="44924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494720" y="4133880"/>
              <a:ext cx="152640" cy="360"/>
              <a:chOff x="1494720" y="4133880"/>
              <a:chExt cx="152640" cy="360"/>
            </a:xfrm>
          </p:grpSpPr>
          <p:sp>
            <p:nvSpPr>
              <p:cNvPr id="479" name="Line 14"/>
              <p:cNvSpPr/>
              <p:nvPr/>
            </p:nvSpPr>
            <p:spPr>
              <a:xfrm flipH="1">
                <a:off x="1494720" y="41338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1495080" y="41338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1494720" y="3776040"/>
              <a:ext cx="152640" cy="360"/>
              <a:chOff x="1494720" y="3776040"/>
              <a:chExt cx="152640" cy="360"/>
            </a:xfrm>
          </p:grpSpPr>
          <p:sp>
            <p:nvSpPr>
              <p:cNvPr id="482" name="Line 15"/>
              <p:cNvSpPr/>
              <p:nvPr/>
            </p:nvSpPr>
            <p:spPr>
              <a:xfrm flipH="1">
                <a:off x="1494720" y="37760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1495080" y="3776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494720" y="3417840"/>
              <a:ext cx="152640" cy="360"/>
              <a:chOff x="1494720" y="3417840"/>
              <a:chExt cx="152640" cy="360"/>
            </a:xfrm>
          </p:grpSpPr>
          <p:sp>
            <p:nvSpPr>
              <p:cNvPr id="485" name="Line 16"/>
              <p:cNvSpPr/>
              <p:nvPr/>
            </p:nvSpPr>
            <p:spPr>
              <a:xfrm flipH="1">
                <a:off x="1494720" y="34178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1495080" y="34178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494720" y="3059280"/>
              <a:ext cx="152640" cy="360"/>
              <a:chOff x="1494720" y="3059280"/>
              <a:chExt cx="152640" cy="360"/>
            </a:xfrm>
          </p:grpSpPr>
          <p:sp>
            <p:nvSpPr>
              <p:cNvPr id="488" name="Line 17"/>
              <p:cNvSpPr/>
              <p:nvPr/>
            </p:nvSpPr>
            <p:spPr>
              <a:xfrm flipH="1">
                <a:off x="1494720" y="305928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1495080" y="30592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494720" y="2701440"/>
              <a:ext cx="152640" cy="360"/>
              <a:chOff x="1494720" y="2701440"/>
              <a:chExt cx="152640" cy="360"/>
            </a:xfrm>
          </p:grpSpPr>
          <p:sp>
            <p:nvSpPr>
              <p:cNvPr id="491" name="Line 18"/>
              <p:cNvSpPr/>
              <p:nvPr/>
            </p:nvSpPr>
            <p:spPr>
              <a:xfrm flipH="1">
                <a:off x="1494720" y="27014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1495080" y="27014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494720" y="2343240"/>
              <a:ext cx="152640" cy="360"/>
              <a:chOff x="1494720" y="2343240"/>
              <a:chExt cx="152640" cy="360"/>
            </a:xfrm>
          </p:grpSpPr>
          <p:sp>
            <p:nvSpPr>
              <p:cNvPr id="494" name="Line 19"/>
              <p:cNvSpPr/>
              <p:nvPr/>
            </p:nvSpPr>
            <p:spPr>
              <a:xfrm flipH="1">
                <a:off x="1494720" y="2343240"/>
                <a:ext cx="152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1495080" y="23432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685800" y="5943600"/>
            <a:ext cx="7896240" cy="360"/>
            <a:chOff x="685800" y="5943600"/>
            <a:chExt cx="7896240" cy="360"/>
          </a:xfrm>
        </p:grpSpPr>
        <p:sp>
          <p:nvSpPr>
            <p:cNvPr id="497" name="Line 20"/>
            <p:cNvSpPr/>
            <p:nvPr/>
          </p:nvSpPr>
          <p:spPr>
            <a:xfrm>
              <a:off x="685800" y="5943600"/>
              <a:ext cx="7896240" cy="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685800" y="5943600"/>
              <a:ext cx="7896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474920" y="1769760"/>
            <a:ext cx="48960" cy="4630680"/>
            <a:chOff x="1474920" y="1769760"/>
            <a:chExt cx="48960" cy="4630680"/>
          </a:xfrm>
        </p:grpSpPr>
        <p:sp>
          <p:nvSpPr>
            <p:cNvPr id="500" name="Line 21"/>
            <p:cNvSpPr/>
            <p:nvPr/>
          </p:nvSpPr>
          <p:spPr>
            <a:xfrm flipH="1" flipV="1">
              <a:off x="1474920" y="1769760"/>
              <a:ext cx="48960" cy="463068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 rot="10800000">
              <a:off x="1474920" y="1769760"/>
              <a:ext cx="48960" cy="463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22"/>
          <p:cNvSpPr/>
          <p:nvPr/>
        </p:nvSpPr>
        <p:spPr>
          <a:xfrm>
            <a:off x="1106280" y="497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1106280" y="4152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11062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5"/>
          <p:cNvSpPr/>
          <p:nvPr/>
        </p:nvSpPr>
        <p:spPr>
          <a:xfrm>
            <a:off x="1106280" y="278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1024920" y="2065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7"/>
          <p:cNvSpPr/>
          <p:nvPr/>
        </p:nvSpPr>
        <p:spPr>
          <a:xfrm>
            <a:off x="8033760" y="5996160"/>
            <a:ext cx="6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t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45720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海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9"/>
          <p:cNvSpPr/>
          <p:nvPr/>
        </p:nvSpPr>
        <p:spPr>
          <a:xfrm>
            <a:off x="2114280" y="587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0"/>
          <p:cNvSpPr/>
          <p:nvPr/>
        </p:nvSpPr>
        <p:spPr>
          <a:xfrm>
            <a:off x="2857320" y="587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3708360" y="587052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1185480" y="580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356000" y="5799240"/>
            <a:ext cx="360" cy="144360"/>
            <a:chOff x="4356000" y="5799240"/>
            <a:chExt cx="360" cy="144360"/>
          </a:xfrm>
        </p:grpSpPr>
        <p:sp>
          <p:nvSpPr>
            <p:cNvPr id="514" name="Line 33"/>
            <p:cNvSpPr/>
            <p:nvPr/>
          </p:nvSpPr>
          <p:spPr>
            <a:xfrm>
              <a:off x="435600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435600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16360" y="5799240"/>
            <a:ext cx="360" cy="144360"/>
            <a:chOff x="4716360" y="5799240"/>
            <a:chExt cx="360" cy="144360"/>
          </a:xfrm>
        </p:grpSpPr>
        <p:sp>
          <p:nvSpPr>
            <p:cNvPr id="517" name="Line 34"/>
            <p:cNvSpPr/>
            <p:nvPr/>
          </p:nvSpPr>
          <p:spPr>
            <a:xfrm>
              <a:off x="471636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471636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076720" y="5799240"/>
            <a:ext cx="360" cy="144360"/>
            <a:chOff x="5076720" y="5799240"/>
            <a:chExt cx="360" cy="144360"/>
          </a:xfrm>
        </p:grpSpPr>
        <p:sp>
          <p:nvSpPr>
            <p:cNvPr id="520" name="Line 35"/>
            <p:cNvSpPr/>
            <p:nvPr/>
          </p:nvSpPr>
          <p:spPr>
            <a:xfrm>
              <a:off x="507672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07672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35640" y="5799240"/>
            <a:ext cx="360" cy="144360"/>
            <a:chOff x="5435640" y="5799240"/>
            <a:chExt cx="360" cy="144360"/>
          </a:xfrm>
        </p:grpSpPr>
        <p:sp>
          <p:nvSpPr>
            <p:cNvPr id="523" name="Line 36"/>
            <p:cNvSpPr/>
            <p:nvPr/>
          </p:nvSpPr>
          <p:spPr>
            <a:xfrm>
              <a:off x="543564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43564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867280" y="5799240"/>
            <a:ext cx="360" cy="144360"/>
            <a:chOff x="5867280" y="5799240"/>
            <a:chExt cx="360" cy="144360"/>
          </a:xfrm>
        </p:grpSpPr>
        <p:sp>
          <p:nvSpPr>
            <p:cNvPr id="526" name="Line 37"/>
            <p:cNvSpPr/>
            <p:nvPr/>
          </p:nvSpPr>
          <p:spPr>
            <a:xfrm>
              <a:off x="586728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586728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227640" y="5799240"/>
            <a:ext cx="360" cy="144360"/>
            <a:chOff x="6227640" y="5799240"/>
            <a:chExt cx="360" cy="144360"/>
          </a:xfrm>
        </p:grpSpPr>
        <p:sp>
          <p:nvSpPr>
            <p:cNvPr id="529" name="Line 38"/>
            <p:cNvSpPr/>
            <p:nvPr/>
          </p:nvSpPr>
          <p:spPr>
            <a:xfrm>
              <a:off x="622764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622764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659640" y="5799240"/>
            <a:ext cx="360" cy="144360"/>
            <a:chOff x="6659640" y="5799240"/>
            <a:chExt cx="360" cy="144360"/>
          </a:xfrm>
        </p:grpSpPr>
        <p:sp>
          <p:nvSpPr>
            <p:cNvPr id="532" name="Line 39"/>
            <p:cNvSpPr/>
            <p:nvPr/>
          </p:nvSpPr>
          <p:spPr>
            <a:xfrm>
              <a:off x="665964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65964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093080" y="5799240"/>
            <a:ext cx="360" cy="144360"/>
            <a:chOff x="7093080" y="5799240"/>
            <a:chExt cx="360" cy="144360"/>
          </a:xfrm>
        </p:grpSpPr>
        <p:sp>
          <p:nvSpPr>
            <p:cNvPr id="535" name="Line 40"/>
            <p:cNvSpPr/>
            <p:nvPr/>
          </p:nvSpPr>
          <p:spPr>
            <a:xfrm>
              <a:off x="709308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709308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41"/>
          <p:cNvSpPr/>
          <p:nvPr/>
        </p:nvSpPr>
        <p:spPr>
          <a:xfrm>
            <a:off x="4572000" y="594360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2"/>
          <p:cNvSpPr/>
          <p:nvPr/>
        </p:nvSpPr>
        <p:spPr>
          <a:xfrm>
            <a:off x="5194440" y="5918040"/>
            <a:ext cx="5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435280" y="2342880"/>
            <a:ext cx="360" cy="3600360"/>
            <a:chOff x="5435280" y="2342880"/>
            <a:chExt cx="360" cy="3600360"/>
          </a:xfrm>
        </p:grpSpPr>
        <p:sp>
          <p:nvSpPr>
            <p:cNvPr id="540" name="Line 43"/>
            <p:cNvSpPr/>
            <p:nvPr/>
          </p:nvSpPr>
          <p:spPr>
            <a:xfrm flipV="1">
              <a:off x="5435640" y="2342880"/>
              <a:ext cx="0" cy="3600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 rot="10800000">
              <a:off x="5435280" y="2342880"/>
              <a:ext cx="36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474920" y="4143240"/>
            <a:ext cx="4105080" cy="360"/>
            <a:chOff x="1474920" y="4143240"/>
            <a:chExt cx="4105080" cy="360"/>
          </a:xfrm>
        </p:grpSpPr>
        <p:sp>
          <p:nvSpPr>
            <p:cNvPr id="543" name="Line 44"/>
            <p:cNvSpPr/>
            <p:nvPr/>
          </p:nvSpPr>
          <p:spPr>
            <a:xfrm>
              <a:off x="1474920" y="4143240"/>
              <a:ext cx="4105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1474920" y="4143240"/>
              <a:ext cx="41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547640" y="3422520"/>
            <a:ext cx="4105440" cy="360"/>
            <a:chOff x="1547640" y="3422520"/>
            <a:chExt cx="4105440" cy="360"/>
          </a:xfrm>
        </p:grpSpPr>
        <p:sp>
          <p:nvSpPr>
            <p:cNvPr id="546" name="Line 45"/>
            <p:cNvSpPr/>
            <p:nvPr/>
          </p:nvSpPr>
          <p:spPr>
            <a:xfrm>
              <a:off x="1547640" y="3422520"/>
              <a:ext cx="4105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1547640" y="3422520"/>
              <a:ext cx="410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476000" y="3351240"/>
            <a:ext cx="4320000" cy="792000"/>
            <a:chOff x="1476000" y="3351240"/>
            <a:chExt cx="4320000" cy="792000"/>
          </a:xfrm>
        </p:grpSpPr>
        <p:sp>
          <p:nvSpPr>
            <p:cNvPr id="549" name="Line 46"/>
            <p:cNvSpPr/>
            <p:nvPr/>
          </p:nvSpPr>
          <p:spPr>
            <a:xfrm flipV="1">
              <a:off x="1476360" y="3351240"/>
              <a:ext cx="4319640" cy="7920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 rot="10800000">
              <a:off x="1476000" y="3351240"/>
              <a:ext cx="43196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45840" y="3927600"/>
            <a:ext cx="4321440" cy="2016000"/>
            <a:chOff x="1545840" y="3927600"/>
            <a:chExt cx="4321440" cy="2016000"/>
          </a:xfrm>
        </p:grpSpPr>
        <p:sp>
          <p:nvSpPr>
            <p:cNvPr id="552" name="Line 47"/>
            <p:cNvSpPr/>
            <p:nvPr/>
          </p:nvSpPr>
          <p:spPr>
            <a:xfrm flipV="1">
              <a:off x="1546200" y="3927600"/>
              <a:ext cx="4321080" cy="20160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 rot="10800000">
              <a:off x="1545840" y="3927600"/>
              <a:ext cx="432108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48"/>
          <p:cNvSpPr/>
          <p:nvPr/>
        </p:nvSpPr>
        <p:spPr>
          <a:xfrm>
            <a:off x="5508720" y="41432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5651640" y="277488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685800" y="565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逃到离海岸的距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里的公海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无法对其进行检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照此速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否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逃入公海前将其拦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796000" y="2819160"/>
            <a:ext cx="2814480" cy="530280"/>
            <a:chOff x="5796000" y="2819160"/>
            <a:chExt cx="2814480" cy="530280"/>
          </a:xfrm>
        </p:grpSpPr>
        <p:sp>
          <p:nvSpPr>
            <p:cNvPr id="558" name="Line 51"/>
            <p:cNvSpPr/>
            <p:nvPr/>
          </p:nvSpPr>
          <p:spPr>
            <a:xfrm flipV="1">
              <a:off x="5796000" y="2819160"/>
              <a:ext cx="2814480" cy="530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 rot="10800000">
              <a:off x="5796000" y="2819160"/>
              <a:ext cx="281448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866920" y="2742840"/>
            <a:ext cx="2667600" cy="1182600"/>
            <a:chOff x="5866920" y="2742840"/>
            <a:chExt cx="2667600" cy="1182600"/>
          </a:xfrm>
        </p:grpSpPr>
        <p:sp>
          <p:nvSpPr>
            <p:cNvPr id="561" name="Line 52"/>
            <p:cNvSpPr/>
            <p:nvPr/>
          </p:nvSpPr>
          <p:spPr>
            <a:xfrm flipV="1">
              <a:off x="5867280" y="2742840"/>
              <a:ext cx="2667240" cy="11826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 rot="10800000">
              <a:off x="5866920" y="2742840"/>
              <a:ext cx="2667240" cy="11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524720" y="5799240"/>
            <a:ext cx="360" cy="144360"/>
            <a:chOff x="7524720" y="5799240"/>
            <a:chExt cx="360" cy="144360"/>
          </a:xfrm>
        </p:grpSpPr>
        <p:sp>
          <p:nvSpPr>
            <p:cNvPr id="564" name="Line 53"/>
            <p:cNvSpPr/>
            <p:nvPr/>
          </p:nvSpPr>
          <p:spPr>
            <a:xfrm>
              <a:off x="752472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752472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924360" y="5799240"/>
            <a:ext cx="360" cy="144360"/>
            <a:chOff x="3924360" y="5799240"/>
            <a:chExt cx="360" cy="144360"/>
          </a:xfrm>
        </p:grpSpPr>
        <p:sp>
          <p:nvSpPr>
            <p:cNvPr id="567" name="Line 54"/>
            <p:cNvSpPr/>
            <p:nvPr/>
          </p:nvSpPr>
          <p:spPr>
            <a:xfrm>
              <a:off x="392436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92436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19640" y="5799240"/>
            <a:ext cx="360" cy="144360"/>
            <a:chOff x="3419640" y="5799240"/>
            <a:chExt cx="360" cy="144360"/>
          </a:xfrm>
        </p:grpSpPr>
        <p:sp>
          <p:nvSpPr>
            <p:cNvPr id="570" name="Line 55"/>
            <p:cNvSpPr/>
            <p:nvPr/>
          </p:nvSpPr>
          <p:spPr>
            <a:xfrm>
              <a:off x="341964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341964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56"/>
          <p:cNvSpPr/>
          <p:nvPr/>
        </p:nvSpPr>
        <p:spPr>
          <a:xfrm>
            <a:off x="6012000" y="60148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7"/>
          <p:cNvSpPr/>
          <p:nvPr/>
        </p:nvSpPr>
        <p:spPr>
          <a:xfrm>
            <a:off x="7885080" y="2343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8"/>
          <p:cNvSpPr/>
          <p:nvPr/>
        </p:nvSpPr>
        <p:spPr>
          <a:xfrm>
            <a:off x="6804000" y="6014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956720" y="5799240"/>
            <a:ext cx="360" cy="144360"/>
            <a:chOff x="7956720" y="5799240"/>
            <a:chExt cx="360" cy="144360"/>
          </a:xfrm>
        </p:grpSpPr>
        <p:sp>
          <p:nvSpPr>
            <p:cNvPr id="576" name="Line 59"/>
            <p:cNvSpPr/>
            <p:nvPr/>
          </p:nvSpPr>
          <p:spPr>
            <a:xfrm>
              <a:off x="7956720" y="579924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7956720" y="579924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7667640" y="6014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1"/>
          <p:cNvSpPr/>
          <p:nvPr/>
        </p:nvSpPr>
        <p:spPr>
          <a:xfrm>
            <a:off x="4140360" y="4646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2"/>
          <p:cNvSpPr/>
          <p:nvPr/>
        </p:nvSpPr>
        <p:spPr>
          <a:xfrm>
            <a:off x="3924360" y="3567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3"/>
          <p:cNvSpPr/>
          <p:nvPr/>
        </p:nvSpPr>
        <p:spPr>
          <a:xfrm>
            <a:off x="78487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371600"/>
            <a:ext cx="8076960" cy="4952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cap="rnd" w="1908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609480" y="647640"/>
            <a:ext cx="2514240" cy="596880"/>
            <a:chOff x="609480" y="647640"/>
            <a:chExt cx="2514240" cy="596880"/>
          </a:xfrm>
        </p:grpSpPr>
        <p:grpSp>
          <p:nvGrpSpPr>
            <p:cNvPr id="585" name="Group 4"/>
            <p:cNvGrpSpPr/>
            <p:nvPr/>
          </p:nvGrpSpPr>
          <p:grpSpPr>
            <a:xfrm>
              <a:off x="609480" y="647640"/>
              <a:ext cx="2514240" cy="529920"/>
              <a:chOff x="609480" y="647640"/>
              <a:chExt cx="2514240" cy="529920"/>
            </a:xfrm>
          </p:grpSpPr>
          <p:sp>
            <p:nvSpPr>
              <p:cNvPr id="586" name="Rectangle 5"/>
              <p:cNvSpPr/>
              <p:nvPr/>
            </p:nvSpPr>
            <p:spPr>
              <a:xfrm>
                <a:off x="609480" y="657000"/>
                <a:ext cx="251424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合作探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6"/>
              <p:cNvSpPr/>
              <p:nvPr/>
            </p:nvSpPr>
            <p:spPr>
              <a:xfrm>
                <a:off x="2712960" y="647640"/>
                <a:ext cx="319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Picture 7" descr="gif003[1]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09480" y="711000"/>
              <a:ext cx="56844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Text Box 8"/>
          <p:cNvSpPr/>
          <p:nvPr/>
        </p:nvSpPr>
        <p:spPr>
          <a:xfrm>
            <a:off x="533520" y="12193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Ａ城有肥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Ｂ城有肥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现要把这些肥料全部运往Ｃ、Ｄ两乡．从Ａ城往Ｃ、Ｄ两乡运肥料费用分别为每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；从Ｂ城往Ｃ、Ｄ两乡运肥料费用分别为每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．现Ｃ乡需要肥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Ｄ乡需要肥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．怎样调运总运费最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685800" y="3962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通过分析思考，可以发现：Ａ──Ｃ，Ａ──Ｄ，Ｂ──Ｃ，Ｂ──Ｄ运肥料共涉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变量．它们都是影响总运费的变量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然而它们之间又有一定的必然联系，只要确定其中一个量，其余三个量也就随之确定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"/>
          <p:cNvSpPr/>
          <p:nvPr/>
        </p:nvSpPr>
        <p:spPr>
          <a:xfrm>
            <a:off x="533520" y="762120"/>
            <a:ext cx="8048520" cy="54864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952560" y="11430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设Ａ──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，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Ａ城有肥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：Ａ─Ｄ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─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Ｃ乡需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：Ｂ─Ｃ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40─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Ｄ乡需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：Ｂ─Ｄ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0─200+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吨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231920" y="3454560"/>
            <a:ext cx="388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那么，各运输费用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Ａ──Ｃ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Ａ──Ｄ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00-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Ｂ──Ｃ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40-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Ｂ──Ｄ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0+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6:04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