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58DE-FAC4-46F8-BF07-1BBF37F259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ziliao/" TargetMode="External"/><Relationship Id="rId10" Type="http://schemas.openxmlformats.org/officeDocument/2006/relationships/hyperlink" Target="http://www.1ppt.com/fanwen/" TargetMode="External"/><Relationship Id="rId11" Type="http://schemas.openxmlformats.org/officeDocument/2006/relationships/hyperlink" Target="http://www.1ppt.com/shiti/" TargetMode="External"/><Relationship Id="rId12" Type="http://schemas.openxmlformats.org/officeDocument/2006/relationships/hyperlink" Target="http://www.1ppt.com/jiaoan/" TargetMode="External"/><Relationship Id="rId13" Type="http://schemas.openxmlformats.org/officeDocument/2006/relationships/hyperlink" Target="http://www.1ppt.cn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kejian/yuwen/" TargetMode="External"/><Relationship Id="rId16" Type="http://schemas.openxmlformats.org/officeDocument/2006/relationships/hyperlink" Target="http://www.1ppt.com/kejian/shuxue/" TargetMode="External"/><Relationship Id="rId17" Type="http://schemas.openxmlformats.org/officeDocument/2006/relationships/hyperlink" Target="http://www.1ppt.com/kejian/yingyu/" TargetMode="External"/><Relationship Id="rId18" Type="http://schemas.openxmlformats.org/officeDocument/2006/relationships/hyperlink" Target="http://www.1ppt.com/kejian/meishu/" TargetMode="External"/><Relationship Id="rId19" Type="http://schemas.openxmlformats.org/officeDocument/2006/relationships/hyperlink" Target="http://www.1ppt.com/kejian/kexue/" TargetMode="External"/><Relationship Id="rId20" Type="http://schemas.openxmlformats.org/officeDocument/2006/relationships/hyperlink" Target="http://www.1ppt.com/kejian/wuli/" TargetMode="External"/><Relationship Id="rId21" Type="http://schemas.openxmlformats.org/officeDocument/2006/relationships/hyperlink" Target="http://www.1ppt.com/kejian/huaxue/" TargetMode="External"/><Relationship Id="rId22" Type="http://schemas.openxmlformats.org/officeDocument/2006/relationships/hyperlink" Target="http://www.1ppt.com/kejian/shengwu/" TargetMode="External"/><Relationship Id="rId23" Type="http://schemas.openxmlformats.org/officeDocument/2006/relationships/hyperlink" Target="http://www.1ppt.com/kejian/dili/" TargetMode="External"/><Relationship Id="rId24" Type="http://schemas.openxmlformats.org/officeDocument/2006/relationships/hyperlink" Target="http://www.1ppt.com/kejian/lishi/" TargetMode="External"/><Relationship Id="rId25" Type="http://schemas.openxmlformats.org/officeDocument/2006/relationships/slide" Target="../slides/slide5.xml"/><Relationship Id="rId26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F96-2B5E-4498-B1BD-50096F9E7F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48B-92B0-44AD-84FF-4914E70D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9B6-8639-4E22-9E1D-BA9E359F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1FC-1565-487B-8733-6E226571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A6C-FAE1-453D-8007-0E78E7C0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979-1F9F-4306-8D88-15D30C90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19E-299B-4609-A905-A1EC636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64C-0E68-46E7-A084-3EF2CBC8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3A9-F1FF-404B-9301-2EFC7A5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9D6-EC59-4ADE-8866-113B9BB5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3E8-3460-4772-B442-68F2758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385-3922-4012-AD06-3E5ACA6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BB7-3516-44A9-8990-0012615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4E55-CB3C-47F9-9357-EFD0AFDB6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1026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4319640" cy="2219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7"/>
          <p:cNvSpPr/>
          <p:nvPr/>
        </p:nvSpPr>
        <p:spPr>
          <a:xfrm>
            <a:off x="1547640" y="1773360"/>
            <a:ext cx="57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动与摩擦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29"/>
          <p:cNvSpPr/>
          <p:nvPr/>
        </p:nvSpPr>
        <p:spPr>
          <a:xfrm>
            <a:off x="0" y="3281400"/>
            <a:ext cx="91440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3"/>
          <p:cNvSpPr/>
          <p:nvPr/>
        </p:nvSpPr>
        <p:spPr>
          <a:xfrm>
            <a:off x="949320" y="693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义 务 教 育 科 学 五 年 级 上 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20932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0020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摩擦力大小与物体重量关系实验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19320"/>
          <a:ext cx="7924680" cy="2690640"/>
        </p:xfrm>
        <a:graphic>
          <a:graphicData uri="http://schemas.openxmlformats.org/drawingml/2006/table">
            <a:tbl>
              <a:tblPr/>
              <a:tblGrid>
                <a:gridCol w="2641680"/>
                <a:gridCol w="2997000"/>
                <a:gridCol w="22860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改变的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要改变的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物体重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摩擦力的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          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          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          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3"/>
          <p:cNvSpPr/>
          <p:nvPr/>
        </p:nvSpPr>
        <p:spPr>
          <a:xfrm>
            <a:off x="990720" y="441972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的发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体重，运动时摩擦力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物体轻，运动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摩擦力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533520" y="2286000"/>
            <a:ext cx="2819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摩擦的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触面光滑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42670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2362320" y="54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3348000" y="227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盒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个钩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3348000" y="285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盒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个钩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3348000" y="342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盒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个钩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1773360"/>
            <a:ext cx="88930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由于摩擦，物体会受到一个阻碍运动的力，这种力叫做            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摩擦力的大小与物体的                      和            有关。两个物体的接触面越光滑，摩擦力就          ；两个物体接触面越          ，摩擦力就          。物体越重，摩擦力就             ；物体越轻，摩擦力就           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203640" y="692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与摩擦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42920" y="278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摩擦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042920" y="32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500720" y="4005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7308720" y="4005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804000" y="4797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627280" y="551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5435640" y="551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1476360" y="630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372360" y="630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4500720" y="350028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表面光滑程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7236000" y="355752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物体轻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6732720" y="429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越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556000" y="501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粗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435640" y="5013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越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476360" y="580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越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6443640" y="580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越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1844640"/>
            <a:ext cx="8893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桌上拉动木块可以用（       ）测量出摩擦力的大小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测力计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水平尺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天平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（       ）上水平拉动同一辆小车，用的力最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玻璃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木板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毛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摩擦力的方向与物体运动的方向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相同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相反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都有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关于摩擦力，下列说法不正确的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体运动速度越快，摩擦力越大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滑动摩擦力的方向与物体运动的方向相反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体越重，滑动摩擦力越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644720" y="1989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640" y="3068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376680" y="4076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589440" y="5157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03640" y="692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与摩擦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1844640"/>
            <a:ext cx="8893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小车载重量越大，受到的摩擦力越（      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大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小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与载重量无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做摩擦力大小与物体重量关系实验时要改变的条件是（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拉动物体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物体的轻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表面的光滑程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479960" y="3860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04360" y="1989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203640" y="692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与摩擦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477720" y="600408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4920" y="1773360"/>
            <a:ext cx="89298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体不动就不会受到摩擦力的作用。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摩擦力的大小是可以测量的。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载满货物的大卡车很不容易停下来，所以可以说明物体越重，摩擦力越小。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汽车急刹车时，车轮和地面之间的是滑动摩擦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因为摩擦力的存在，我们在拖动物体时很费力，所以摩擦力的存在只有坏处，没有好处。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体要运动，就要先克服摩擦力（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84920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03640" y="692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与摩擦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27376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0992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002480" y="566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280840" y="629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85720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6E89-1308-4912-A464-710401FCD6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502D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501D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5"/>
          <p:cNvSpPr/>
          <p:nvPr/>
        </p:nvSpPr>
        <p:spPr>
          <a:xfrm>
            <a:off x="3836880" y="98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1503D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600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个物体在另一个物体表面运动时，两个物体的接触面会发生摩擦，运动物体要受到一种阻碍运动的力，这种力叫做摩擦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"/>
          <p:cNvSpPr/>
          <p:nvPr/>
        </p:nvSpPr>
        <p:spPr>
          <a:xfrm>
            <a:off x="6443640" y="28526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4"/>
          <p:cNvSpPr/>
          <p:nvPr/>
        </p:nvSpPr>
        <p:spPr>
          <a:xfrm>
            <a:off x="6948360" y="28526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7380360" y="28526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340000" y="407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7"/>
          <p:cNvSpPr/>
          <p:nvPr/>
        </p:nvSpPr>
        <p:spPr>
          <a:xfrm>
            <a:off x="2843280" y="40766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8"/>
          <p:cNvSpPr/>
          <p:nvPr/>
        </p:nvSpPr>
        <p:spPr>
          <a:xfrm>
            <a:off x="3348000" y="40766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9"/>
          <p:cNvSpPr/>
          <p:nvPr/>
        </p:nvSpPr>
        <p:spPr>
          <a:xfrm>
            <a:off x="3851280" y="4076640"/>
            <a:ext cx="15228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20574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用弹簧测力计沿着水平方向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物体，刚好能使这个物体运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来的力就相当于是它受到的摩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1523880" y="609480"/>
            <a:ext cx="51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摩擦力的大小如何测量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219320" y="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摩擦力大小与接触面状况的关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1219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143000" y="1219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表面光滑，摩擦力小，物体表面粗糙，摩擦力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改变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743200" y="2819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光滑的桌面和粗糙的桌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3733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改变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666880" y="3733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的重量，拉行的速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0" y="4952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143000" y="49528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间接触面光滑，摩擦力小；物体间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面粗糙，摩擦力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219320" y="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摩擦力大小与物体重量的关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1219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143000" y="1219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越轻，摩擦力越小，物体越重，摩擦力越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2743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改变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74320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一个重，另一个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-76320" y="3886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改变的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590920" y="3886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间光滑程度，拉行的速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0" y="5105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143000" y="5105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物体重，运动时的摩擦力小；物体轻，运动时的摩擦力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60020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摩擦力与接触面光滑程度关系实验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1295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144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1219320"/>
          <a:ext cx="7848720" cy="2690640"/>
        </p:xfrm>
        <a:graphic>
          <a:graphicData uri="http://schemas.openxmlformats.org/drawingml/2006/table">
            <a:tbl>
              <a:tblPr/>
              <a:tblGrid>
                <a:gridCol w="2565360"/>
                <a:gridCol w="2997360"/>
                <a:gridCol w="22860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改变的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要改变的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接触面光滑程度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摩擦力的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          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          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          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48"/>
          <p:cNvSpPr/>
          <p:nvPr/>
        </p:nvSpPr>
        <p:spPr>
          <a:xfrm>
            <a:off x="684360" y="43657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的发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体间接触面光滑，摩擦力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物体间接触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粗糙，摩擦力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838080" y="23623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838080" y="2286000"/>
            <a:ext cx="1981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摩擦的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体的重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472428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2819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3708360" y="2276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光滑的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7"/>
          <p:cNvSpPr/>
          <p:nvPr/>
        </p:nvSpPr>
        <p:spPr>
          <a:xfrm>
            <a:off x="3635280" y="2852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粗糙的毛巾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5867280" y="4005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05:19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15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