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14E-21E5-4D0C-9D22-8D824CF0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82F-013B-4BDE-807C-BB20197F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E31-F477-409E-8574-BDE52DC9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C4D-32AF-4FC9-AF75-7F3B4DAC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52B-2450-4523-992F-559EB156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682-F31C-41A2-B144-C8E1E432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17D-0B35-41B8-B396-BA18B1DC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00C-3CD6-46CB-AE7A-3C51DDD6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3C7-D469-4543-8BB0-19C1D95C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BC4-403D-4218-BDDC-D5E20330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D23-2391-40DB-80E3-4CB3B68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EDF-36C1-4724-8BF2-D25ECA5A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2C3B-48A6-4A40-9241-EFBFE2EF6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04400" y="1773360"/>
            <a:ext cx="530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隶书"/>
              </a:rPr>
              <a:t>亿以内数的写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131560" y="2444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七册第一单元第四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25504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71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6"/>
          <p:cNvSpPr/>
          <p:nvPr/>
        </p:nvSpPr>
        <p:spPr>
          <a:xfrm>
            <a:off x="1958040" y="273528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零三万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零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1546920" y="4467240"/>
            <a:ext cx="47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万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十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5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733760" y="0"/>
            <a:ext cx="286308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写出下列各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百零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千六百零一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千零九万零三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千零二十万三千零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478880" y="1268280"/>
            <a:ext cx="2667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4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90090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02030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"/>
          <p:cNvSpPr/>
          <p:nvPr/>
        </p:nvSpPr>
        <p:spPr>
          <a:xfrm>
            <a:off x="506520" y="62229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0920" y="0"/>
            <a:ext cx="8680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小法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四万零八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900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万，中间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万，右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位数一定比六位数大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最大的五位数比最小的五位数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999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数字所占的数位不同，它表示的大小也不同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88000" y="549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7252560" y="11304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945720" y="3068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148520" y="35002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2889720" y="4869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556160" y="60958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亿是（    ）个一千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一个数的最高位是十万位，这个数是（ ）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4028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）组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20686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个数中，（       ）位和（       ）位上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千万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万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百组成的数是（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557080" y="62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6980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896800" y="244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5448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940200" y="306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251840" y="29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897960" y="429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135288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971280" y="602136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0050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285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最大的五位数和最小的六位数的和是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4608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一个（   ）位数，最左边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）位上，表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，另一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 ）位上，它们的值相差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三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四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组成的最大七位数是（                   ），读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七位数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191240" y="62064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66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55640" y="1844640"/>
            <a:ext cx="76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06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60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190880" y="342900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99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573800" y="400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80540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84576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3010320" y="530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14880" y="5950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7999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3590-5EA3-4264-8EC0-E1BB60ED62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1048680" y="1546200"/>
            <a:ext cx="6834600" cy="1866240"/>
            <a:chOff x="1048680" y="1546200"/>
            <a:chExt cx="6834600" cy="1866240"/>
          </a:xfrm>
        </p:grpSpPr>
        <p:sp>
          <p:nvSpPr>
            <p:cNvPr id="45" name="Text Box 3"/>
            <p:cNvSpPr/>
            <p:nvPr/>
          </p:nvSpPr>
          <p:spPr>
            <a:xfrm>
              <a:off x="7215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4"/>
            <p:cNvSpPr/>
            <p:nvPr/>
          </p:nvSpPr>
          <p:spPr>
            <a:xfrm>
              <a:off x="6496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584892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5199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7"/>
            <p:cNvSpPr/>
            <p:nvPr/>
          </p:nvSpPr>
          <p:spPr>
            <a:xfrm>
              <a:off x="4575600" y="1641240"/>
              <a:ext cx="667800" cy="172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万 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"/>
            <p:cNvSpPr/>
            <p:nvPr/>
          </p:nvSpPr>
          <p:spPr>
            <a:xfrm>
              <a:off x="3904200" y="154620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325656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60712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1983240" y="170892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1048680" y="2060640"/>
              <a:ext cx="9946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5219640" y="836640"/>
            <a:ext cx="1716120" cy="4753080"/>
            <a:chOff x="5219640" y="836640"/>
            <a:chExt cx="1716120" cy="4753080"/>
          </a:xfrm>
        </p:grpSpPr>
        <p:sp>
          <p:nvSpPr>
            <p:cNvPr id="56" name="Line 14"/>
            <p:cNvSpPr/>
            <p:nvPr/>
          </p:nvSpPr>
          <p:spPr>
            <a:xfrm>
              <a:off x="5219640" y="836640"/>
              <a:ext cx="0" cy="475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5"/>
            <p:cNvSpPr/>
            <p:nvPr/>
          </p:nvSpPr>
          <p:spPr>
            <a:xfrm>
              <a:off x="5849640" y="90792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个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6"/>
          <p:cNvGrpSpPr/>
          <p:nvPr/>
        </p:nvGrpSpPr>
        <p:grpSpPr>
          <a:xfrm>
            <a:off x="2556000" y="765000"/>
            <a:ext cx="1573200" cy="4824720"/>
            <a:chOff x="2556000" y="765000"/>
            <a:chExt cx="1573200" cy="4824720"/>
          </a:xfrm>
        </p:grpSpPr>
        <p:sp>
          <p:nvSpPr>
            <p:cNvPr id="59" name="Line 17"/>
            <p:cNvSpPr/>
            <p:nvPr/>
          </p:nvSpPr>
          <p:spPr>
            <a:xfrm>
              <a:off x="2556000" y="765000"/>
              <a:ext cx="0" cy="482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8"/>
            <p:cNvSpPr/>
            <p:nvPr/>
          </p:nvSpPr>
          <p:spPr>
            <a:xfrm>
              <a:off x="3043080" y="83664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万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1029240" y="83664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亿    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1"/>
          <p:cNvGrpSpPr/>
          <p:nvPr/>
        </p:nvGrpSpPr>
        <p:grpSpPr>
          <a:xfrm>
            <a:off x="468360" y="907920"/>
            <a:ext cx="8496360" cy="649440"/>
            <a:chOff x="468360" y="907920"/>
            <a:chExt cx="8496360" cy="649440"/>
          </a:xfrm>
        </p:grpSpPr>
        <p:sp>
          <p:nvSpPr>
            <p:cNvPr id="64" name="Line 22"/>
            <p:cNvSpPr/>
            <p:nvPr/>
          </p:nvSpPr>
          <p:spPr>
            <a:xfrm>
              <a:off x="468360" y="155736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3"/>
            <p:cNvSpPr/>
            <p:nvPr/>
          </p:nvSpPr>
          <p:spPr>
            <a:xfrm>
              <a:off x="8229960" y="907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数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4"/>
          <p:cNvGrpSpPr/>
          <p:nvPr/>
        </p:nvGrpSpPr>
        <p:grpSpPr>
          <a:xfrm>
            <a:off x="0" y="1557360"/>
            <a:ext cx="9144000" cy="1191240"/>
            <a:chOff x="0" y="1557360"/>
            <a:chExt cx="9144000" cy="1191240"/>
          </a:xfrm>
        </p:grpSpPr>
        <p:sp>
          <p:nvSpPr>
            <p:cNvPr id="67" name="Line 25"/>
            <p:cNvSpPr/>
            <p:nvPr/>
          </p:nvSpPr>
          <p:spPr>
            <a:xfrm>
              <a:off x="0" y="2708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8229960" y="15573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计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单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7"/>
          <p:cNvSpPr/>
          <p:nvPr/>
        </p:nvSpPr>
        <p:spPr>
          <a:xfrm>
            <a:off x="183240" y="165888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数  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49656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19948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57560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万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8032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百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63088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1921320" y="1545120"/>
            <a:ext cx="5900400" cy="1758600"/>
            <a:chOff x="1921320" y="1545120"/>
            <a:chExt cx="5900400" cy="1758600"/>
          </a:xfrm>
        </p:grpSpPr>
        <p:sp>
          <p:nvSpPr>
            <p:cNvPr id="76" name="Text Box 3"/>
            <p:cNvSpPr/>
            <p:nvPr/>
          </p:nvSpPr>
          <p:spPr>
            <a:xfrm>
              <a:off x="715392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578700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3866040" y="1545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1921320" y="1704960"/>
              <a:ext cx="66780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395280" y="43657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把上面的数位顺序表补充完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3"/>
          <p:cNvSpPr/>
          <p:nvPr/>
        </p:nvSpPr>
        <p:spPr>
          <a:xfrm>
            <a:off x="4862520" y="4954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01000" y="333360"/>
            <a:ext cx="2273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千八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百七十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695240" y="1557360"/>
            <a:ext cx="1308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8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4859280" y="260280"/>
            <a:ext cx="4284720" cy="1873440"/>
          </a:xfrm>
          <a:prstGeom prst="wedgeRoundRectCallout">
            <a:avLst>
              <a:gd name="adj1" fmla="val 61337"/>
              <a:gd name="adj2" fmla="val -74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个数位上是几就写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一位上一个也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0" y="4221000"/>
            <a:ext cx="4140360" cy="1729080"/>
          </a:xfrm>
          <a:prstGeom prst="cloudCallout">
            <a:avLst>
              <a:gd name="adj1" fmla="val -63226"/>
              <a:gd name="adj2" fmla="val 92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含有两级的数怎么写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4284720" y="4149720"/>
            <a:ext cx="4356000" cy="1584360"/>
          </a:xfrm>
          <a:prstGeom prst="wedgeEllipseCallout">
            <a:avLst>
              <a:gd name="adj1" fmla="val 72083"/>
              <a:gd name="adj2" fmla="val 101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写万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写个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327120" y="83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847600" y="148428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895120" y="2708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560320" y="3284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0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93" name="Text Box 2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5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21"/>
          <p:cNvSpPr/>
          <p:nvPr/>
        </p:nvSpPr>
        <p:spPr>
          <a:xfrm>
            <a:off x="3616920" y="273528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五百六十三万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5  6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1815840" y="4467240"/>
            <a:ext cx="428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12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4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291384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16"/>
          <p:cNvSpPr/>
          <p:nvPr/>
        </p:nvSpPr>
        <p:spPr>
          <a:xfrm>
            <a:off x="1848600" y="2735280"/>
            <a:ext cx="48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千七百二十万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六千七百三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208600" y="3213000"/>
            <a:ext cx="55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7  2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6  7  3  0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282400" y="4437000"/>
            <a:ext cx="535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四百万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五千六百二十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  6  2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31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7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6"/>
          <p:cNvSpPr/>
          <p:nvPr/>
        </p:nvSpPr>
        <p:spPr>
          <a:xfrm>
            <a:off x="3186720" y="273528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四百二十一万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853360" y="3213000"/>
            <a:ext cx="441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2  1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1803600" y="3890880"/>
            <a:ext cx="415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853720" y="486900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0" y="0"/>
            <a:ext cx="7236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二百八十五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百三十八万四千二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千一百二十九万六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三千万二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五千零三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199600" y="1279440"/>
            <a:ext cx="243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5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38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4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29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03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52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6"/>
          <p:cNvSpPr/>
          <p:nvPr/>
        </p:nvSpPr>
        <p:spPr>
          <a:xfrm>
            <a:off x="684360" y="2708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五千零三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755640" y="44672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五千零三万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280600" y="508464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3:38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2:54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