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13E5-2436-4C30-93D2-F6DAD1C08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5A53-8572-498A-B6DE-4884E392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6C08-0FA4-4245-84B3-136D1BAAA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CA80-37F1-4DE1-AB8D-E8471B9E8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3922-A64D-4F9C-B224-8E1D9B9C9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C18-27A0-4AF7-9166-2F0EA6F39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85FF-3D7F-4FA8-860D-2344D99A6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7913-143F-4F30-83ED-B9DFDEEB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6098-2540-4CF1-BA45-5828CEF6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3323-0E59-467D-8177-036EF3A43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2FBA-26D9-4E64-996A-65D303C8F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F5EE-6B62-465F-ADD6-46D24DA57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6433-D191-4592-9E80-4F5BFE062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2A93-81EC-4AAF-B029-78F8EF49F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2F3-DE97-402C-95C8-B110930B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259-60C4-4669-BFE0-72F75994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7C9-65B8-4C47-BAEF-9A0A1E1F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85C-DA2B-42E6-BA7B-2BD6CD39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0F6-A935-4349-8A1A-DD8059FB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EED-CD06-41C0-B711-07607178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4F0-BFBA-4198-82C8-57132FA9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34E-FDC3-4C1A-B1E5-FBA923ED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B57-6C62-4B65-A0CF-76385FE8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B54-70AD-4034-96E2-41B07B4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5EE-F9FD-4CE2-925E-4E57FCD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A57-FECE-4AFD-A472-F7269B14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0BDC-B235-47BA-8725-C2652331C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838080" y="83808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亿以上数的认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100255545450545154515415154"/>
          <p:cNvPicPr/>
          <p:nvPr/>
        </p:nvPicPr>
        <p:blipFill>
          <a:blip r:embed="rId2"/>
          <a:stretch/>
        </p:blipFill>
        <p:spPr>
          <a:xfrm>
            <a:off x="3657600" y="3581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269640" y="61358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球到太阳的平均距离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9600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国平均每月生产和丢弃的一次性筷子大约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700500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我国出口总额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25600000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截止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一月，我国青少年上网人数约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20003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7086600" y="14479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019920" y="14479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3657600" y="297180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590920" y="289548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7543800" y="35053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477120" y="358128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3429000" y="495288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362320" y="495288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523880" y="19209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从高位起，一级一级地往下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62120" y="2954160"/>
            <a:ext cx="8076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读亿级或万级的数时，要按照个级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的读法来读，再在后面加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字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字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62120" y="461484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每级末尾的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都不读．其它数位有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　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或连续有几个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都只读一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81080" y="1082520"/>
            <a:ext cx="5715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429000" y="853920"/>
            <a:ext cx="274320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多位数的读法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出下列各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3  0000   0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 7800  0000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70  06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 0100  000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03  0040  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   0080  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>
            <a:off x="4114800" y="2895480"/>
            <a:ext cx="4800600" cy="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5562720" y="1523880"/>
            <a:ext cx="0" cy="30481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7315200" y="1523880"/>
            <a:ext cx="0" cy="30481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96540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千亿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32108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百亿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67676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十亿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503244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亿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64192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千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99760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百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635328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十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670860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731844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千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767412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百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802944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十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8385120" y="1600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5105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6386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6095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64771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685800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7391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777240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81532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8534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1523880" y="34894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十亿八千万写作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51055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56386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60958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64771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1"/>
          <p:cNvSpPr/>
          <p:nvPr/>
        </p:nvSpPr>
        <p:spPr>
          <a:xfrm>
            <a:off x="68580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73915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77724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8153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85345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48006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44956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5105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6386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0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1"/>
          <p:cNvSpPr/>
          <p:nvPr/>
        </p:nvSpPr>
        <p:spPr>
          <a:xfrm>
            <a:off x="64771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2"/>
          <p:cNvSpPr/>
          <p:nvPr/>
        </p:nvSpPr>
        <p:spPr>
          <a:xfrm>
            <a:off x="68580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3"/>
          <p:cNvSpPr/>
          <p:nvPr/>
        </p:nvSpPr>
        <p:spPr>
          <a:xfrm>
            <a:off x="7391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77724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8153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6"/>
          <p:cNvSpPr/>
          <p:nvPr/>
        </p:nvSpPr>
        <p:spPr>
          <a:xfrm>
            <a:off x="8534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7"/>
          <p:cNvSpPr/>
          <p:nvPr/>
        </p:nvSpPr>
        <p:spPr>
          <a:xfrm>
            <a:off x="48006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8"/>
          <p:cNvSpPr/>
          <p:nvPr/>
        </p:nvSpPr>
        <p:spPr>
          <a:xfrm>
            <a:off x="4114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9"/>
          <p:cNvSpPr/>
          <p:nvPr/>
        </p:nvSpPr>
        <p:spPr>
          <a:xfrm>
            <a:off x="8380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七千零三亿零二十万写作：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0"/>
          <p:cNvSpPr/>
          <p:nvPr/>
        </p:nvSpPr>
        <p:spPr>
          <a:xfrm>
            <a:off x="2514600" y="30481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亿写作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1"/>
          <p:cNvSpPr/>
          <p:nvPr/>
        </p:nvSpPr>
        <p:spPr>
          <a:xfrm>
            <a:off x="2895480" y="5181480"/>
            <a:ext cx="457200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思考：多位数的写法法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685800" y="838080"/>
            <a:ext cx="281952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试写出下面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0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5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4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4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6000"/>
                            </p:stCondLst>
                            <p:childTnLst>
                              <p:par>
                                <p:cTn id="7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523880" y="2101680"/>
            <a:ext cx="60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从高位起，一级一级地往下写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309240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哪个数位上一个单位也没有，就在那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位上写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2209680" y="1082520"/>
            <a:ext cx="5715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505320" y="853920"/>
            <a:ext cx="274320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多位数的写法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"/>
          <p:cNvSpPr/>
          <p:nvPr/>
        </p:nvSpPr>
        <p:spPr>
          <a:xfrm>
            <a:off x="447840" y="5889600"/>
            <a:ext cx="49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094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出下面各数。（先自己写，再小组间互相说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百零六亿零五百八十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作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6 0580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百八十亿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作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0 0000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二亿七千六百万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作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7600 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十亿零六十万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作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 0060 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千零四十亿零五百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作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40 0500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判断对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10 0000 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：六百一十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6 0509 000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百三十六亿零五百零九万零零零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4000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：一千零四亿零二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441972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01028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63868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6160-7D3B-490C-8C2F-A4BEA6213A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出下列各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4   6890              2030 4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0   0004            4004  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0 4000            90 0000 000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828800" y="12193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6781680" y="1295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133720" y="21337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867280" y="29718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7238880" y="29718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6934320" y="21337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981080" y="29718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3"/>
          <p:cNvSpPr/>
          <p:nvPr/>
        </p:nvSpPr>
        <p:spPr>
          <a:xfrm>
            <a:off x="4622760" y="601992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八千六百三十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八十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十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零四百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百六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零五      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千零八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零七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334120" y="12952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 86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34120" y="1981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  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7376400" y="-581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  0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105520" y="2590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   0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952880" y="32767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0 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352680" y="3962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 0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004080" y="22320"/>
            <a:ext cx="19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562720" y="47242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080 00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295280" y="1066680"/>
            <a:ext cx="6934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写出下面横线上的数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我国共生产彩色电视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千二百六十二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台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  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北京图书馆馆舍面积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十七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方米，占世界第二位；藏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千四百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册，占世界第五位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来华旅游总人数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七千二百八十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由下面各数组成的数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四百万、八十万、五万和三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六千万、九万和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009  0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八千万和四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76720" y="19810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85  3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505320" y="47242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8000    00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比较数的大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250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3600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14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314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90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890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203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7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176560" y="2286000"/>
            <a:ext cx="5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28840" y="3048120"/>
            <a:ext cx="5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286000" y="4419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362320" y="3733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19320" y="990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华文隶书"/>
              </a:rPr>
              <a:t>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十进制计数法"/>
          <p:cNvPicPr/>
          <p:nvPr/>
        </p:nvPicPr>
        <p:blipFill>
          <a:blip r:embed="rId2"/>
          <a:stretch/>
        </p:blipFill>
        <p:spPr>
          <a:xfrm>
            <a:off x="1600200" y="1066680"/>
            <a:ext cx="6248520" cy="1371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97180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隶书"/>
              </a:rPr>
              <a:t>数位、数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066680" y="236232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观察数位顺序表，个级与万级有什么相同点？不同点？根据它们的特点，顺序填上亿级的数位和计数单位。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每相邻的两个计数单位之间的进率是多少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学生反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结：每相邻的两个计数单位之间的进率都是十，这种计数方法叫十进制计数法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一做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一个五位数，它的最高位是什么位？一个九位数，一个十二位数呢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说出下面每个数中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在的数位和表示的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320030000    3530870304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回答下面各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个级、万级、亿级各有哪些数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从个位起，第几位是万位？第几位是亿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和亿位相邻的两个数位是什么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85800" y="838080"/>
            <a:ext cx="281952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试读出下面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1447920" y="3124080"/>
            <a:ext cx="4800600" cy="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2895480" y="1752480"/>
            <a:ext cx="0" cy="30481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4648320" y="1752480"/>
            <a:ext cx="0" cy="30481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29852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千亿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65420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百亿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00988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十亿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36520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亿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97504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千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33072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百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68604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十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404172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万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65120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千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500688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百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36256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十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5718240" y="18288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4382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2971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34290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38098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41911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47242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54864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58672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6324480" y="3200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读作：五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24382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29718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34290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3809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41911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47242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51055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4864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58672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7"/>
          <p:cNvSpPr/>
          <p:nvPr/>
        </p:nvSpPr>
        <p:spPr>
          <a:xfrm>
            <a:off x="21337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18288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9"/>
          <p:cNvSpPr/>
          <p:nvPr/>
        </p:nvSpPr>
        <p:spPr>
          <a:xfrm>
            <a:off x="24382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29718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3809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41911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47242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51055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54864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58672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8"/>
          <p:cNvSpPr/>
          <p:nvPr/>
        </p:nvSpPr>
        <p:spPr>
          <a:xfrm>
            <a:off x="21337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9"/>
          <p:cNvSpPr/>
          <p:nvPr/>
        </p:nvSpPr>
        <p:spPr>
          <a:xfrm>
            <a:off x="14479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63244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读作：十亿六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63244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读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: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四千零三亿零五百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9:52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9:28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