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F123-95EB-4C1A-92EA-7C9829E39C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9F5C-4EAB-4274-BD69-F08D7CA437C2}" type="slidenum"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谔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414-B628-4969-A398-F915A541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2EF-3AB2-4820-A210-DA11C043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CA8-3FEF-4C49-B241-6261DE57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35A-D2D3-4E28-B62C-B4F8BF4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21F2-54A7-458C-94E4-7EAC0AB3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8D0-BDA5-4FC3-9632-0392FF31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A9D0-7AF6-4327-9798-16CE53B6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8AA5-5750-4B6D-AEB4-2616CB5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996F-C433-4549-BD81-0CE5F111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6E31-E564-40C7-BA5D-4B4772F0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036-6D8D-41A3-BC22-4FD33D1E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55-9612-4201-B638-04CCF61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E8C-1E41-4357-97C6-68AD4629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C601-89A0-4141-9175-38256227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6503-62E6-4357-B630-58E2BC9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3DEB-2F26-4CA9-A47D-1303062C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070-7C2F-4ADB-BC81-A550FD8B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684-674A-45C0-A6B0-B1077DA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66C-B0A2-42EC-ADAF-565F5B5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DE7-460E-4FD7-8801-2F76A25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DB2-E9F0-4ABA-B8FE-3F3B2F5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753-9490-4F61-BBBC-2849F90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E88-4BFD-46AD-929A-C6F7686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153-740B-4B8A-B690-85406E75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DE53-5E59-4087-A119-C93C3C164C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5B27-795A-4D9A-A4D9-D0B69CF1D46B}" type="slidenum"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3.gi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hyperlink" Target="file:///tmp/home/.config/libreoffice/4/user/gallery/chimes.wav" TargetMode="Externa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华文彩云"/>
                <a:ea typeface="华文彩云"/>
              </a:rPr>
              <a:t>轴  对  称</a:t>
            </a:r>
            <a:endParaRPr b="0" lang="en-US" sz="115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0" name="Picture 26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91" name="矩形 6"/>
          <p:cNvSpPr/>
          <p:nvPr/>
        </p:nvSpPr>
        <p:spPr>
          <a:xfrm>
            <a:off x="393840" y="6367320"/>
            <a:ext cx="35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幻灯片之家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概括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6000" y="3789000"/>
            <a:ext cx="424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这条直线叫做它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称轴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187280" y="4869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想一想：生活中有哪些轴对称图形？试举出几例！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6659640" y="981000"/>
            <a:ext cx="2160360" cy="22320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7" name="Picture 6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>
            <a:off x="7740720" y="0"/>
            <a:ext cx="0" cy="4221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042920" y="1773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如果一个图形沿着某条直线折叠，直线两旁的部分能够互相重合，那么这个图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轴对称图形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236000" y="69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227640" y="31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78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676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5"/>
          <p:cNvSpPr/>
          <p:nvPr/>
        </p:nvSpPr>
        <p:spPr>
          <a:xfrm>
            <a:off x="1116000" y="3141720"/>
            <a:ext cx="4751280" cy="0"/>
          </a:xfrm>
          <a:prstGeom prst="line">
            <a:avLst/>
          </a:prstGeom>
          <a:ln w="936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826920" y="4437000"/>
            <a:ext cx="1441440" cy="1225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219640" y="4653000"/>
            <a:ext cx="3168720" cy="1008000"/>
          </a:xfrm>
          <a:prstGeom prst="parallelogram">
            <a:avLst>
              <a:gd name="adj" fmla="val 78589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627280" y="4437000"/>
            <a:ext cx="20876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8" name="Picture 19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21"/>
          <p:cNvSpPr/>
          <p:nvPr/>
        </p:nvSpPr>
        <p:spPr>
          <a:xfrm rot="16842600">
            <a:off x="6406200" y="2022840"/>
            <a:ext cx="1800360" cy="10080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40" name="AutoShape 22"/>
          <p:cNvCxnSpPr/>
          <p:nvPr/>
        </p:nvCxnSpPr>
        <p:spPr>
          <a:xfrm>
            <a:off x="1187280" y="1988640"/>
            <a:ext cx="2736000" cy="1080"/>
          </a:xfrm>
          <a:prstGeom prst="straightConnector1">
            <a:avLst/>
          </a:prstGeom>
          <a:ln w="9360">
            <a:solidFill>
              <a:srgbClr val="080808"/>
            </a:solidFill>
            <a:round/>
          </a:ln>
        </p:spPr>
      </p:cxnSp>
      <p:sp>
        <p:nvSpPr>
          <p:cNvPr id="141" name="Line 25"/>
          <p:cNvSpPr/>
          <p:nvPr/>
        </p:nvSpPr>
        <p:spPr>
          <a:xfrm>
            <a:off x="1547640" y="414972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 flipH="1">
            <a:off x="473400" y="4742640"/>
            <a:ext cx="1933200" cy="1116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833760" y="4815720"/>
            <a:ext cx="1933200" cy="1116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3635280" y="407664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 flipH="1">
            <a:off x="2340000" y="5084640"/>
            <a:ext cx="28065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2484360" y="1268280"/>
            <a:ext cx="0" cy="1440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755640" y="40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例</a:t>
            </a:r>
            <a:r>
              <a:rPr b="0" lang="zh-CN" sz="2800" spc="-1" strike="noStrike">
                <a:solidFill>
                  <a:srgbClr val="0039ac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下列图形中那些是轴对称图形，那些是，那些不是？如果是请说出它有几条对称轴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1332000" y="1844640"/>
            <a:ext cx="1225440" cy="122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PubCross"/>
          <p:cNvSpPr/>
          <p:nvPr/>
        </p:nvSpPr>
        <p:spPr>
          <a:xfrm>
            <a:off x="3276720" y="1413000"/>
            <a:ext cx="18288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ubPieSlice"/>
          <p:cNvSpPr/>
          <p:nvPr/>
        </p:nvSpPr>
        <p:spPr>
          <a:xfrm>
            <a:off x="3492360" y="4076640"/>
            <a:ext cx="18288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sink1"/>
          <p:cNvSpPr/>
          <p:nvPr/>
        </p:nvSpPr>
        <p:spPr>
          <a:xfrm>
            <a:off x="6012000" y="1557360"/>
            <a:ext cx="1584360" cy="165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95" y="21600"/>
                </a:moveTo>
                <a:lnTo>
                  <a:pt x="21600" y="21600"/>
                </a:lnTo>
                <a:lnTo>
                  <a:pt x="21600" y="10800"/>
                </a:lnTo>
                <a:lnTo>
                  <a:pt x="21600" y="0"/>
                </a:lnTo>
                <a:lnTo>
                  <a:pt x="10709" y="0"/>
                </a:lnTo>
                <a:lnTo>
                  <a:pt x="0" y="0"/>
                </a:lnTo>
                <a:lnTo>
                  <a:pt x="0" y="10545"/>
                </a:lnTo>
                <a:lnTo>
                  <a:pt x="0" y="21600"/>
                </a:lnTo>
                <a:lnTo>
                  <a:pt x="10595" y="21600"/>
                </a:lnTo>
                <a:close/>
              </a:path>
              <a:path w="21600" h="21600">
                <a:moveTo>
                  <a:pt x="9478" y="6945"/>
                </a:moveTo>
                <a:lnTo>
                  <a:pt x="8157" y="7200"/>
                </a:lnTo>
                <a:lnTo>
                  <a:pt x="6835" y="7625"/>
                </a:lnTo>
                <a:lnTo>
                  <a:pt x="5787" y="8249"/>
                </a:lnTo>
                <a:lnTo>
                  <a:pt x="4762" y="9014"/>
                </a:lnTo>
                <a:lnTo>
                  <a:pt x="4375" y="9524"/>
                </a:lnTo>
                <a:lnTo>
                  <a:pt x="3987" y="10006"/>
                </a:lnTo>
                <a:lnTo>
                  <a:pt x="3646" y="10431"/>
                </a:lnTo>
                <a:lnTo>
                  <a:pt x="3349" y="10913"/>
                </a:lnTo>
                <a:lnTo>
                  <a:pt x="3144" y="11537"/>
                </a:lnTo>
                <a:lnTo>
                  <a:pt x="2962" y="12076"/>
                </a:lnTo>
                <a:lnTo>
                  <a:pt x="2848" y="12557"/>
                </a:lnTo>
                <a:lnTo>
                  <a:pt x="2848" y="13124"/>
                </a:lnTo>
                <a:lnTo>
                  <a:pt x="2962" y="13861"/>
                </a:lnTo>
                <a:lnTo>
                  <a:pt x="3053" y="14400"/>
                </a:lnTo>
                <a:lnTo>
                  <a:pt x="3258" y="14995"/>
                </a:lnTo>
                <a:lnTo>
                  <a:pt x="3532" y="15619"/>
                </a:lnTo>
                <a:lnTo>
                  <a:pt x="3828" y="16157"/>
                </a:lnTo>
                <a:lnTo>
                  <a:pt x="4170" y="16781"/>
                </a:lnTo>
                <a:lnTo>
                  <a:pt x="4671" y="17263"/>
                </a:lnTo>
                <a:lnTo>
                  <a:pt x="5104" y="17688"/>
                </a:lnTo>
                <a:lnTo>
                  <a:pt x="5696" y="18057"/>
                </a:lnTo>
                <a:lnTo>
                  <a:pt x="6334" y="18425"/>
                </a:lnTo>
                <a:lnTo>
                  <a:pt x="6927" y="18794"/>
                </a:lnTo>
                <a:lnTo>
                  <a:pt x="7656" y="18964"/>
                </a:lnTo>
                <a:lnTo>
                  <a:pt x="8339" y="19219"/>
                </a:lnTo>
                <a:lnTo>
                  <a:pt x="9091" y="19332"/>
                </a:lnTo>
                <a:lnTo>
                  <a:pt x="9866" y="19474"/>
                </a:lnTo>
                <a:lnTo>
                  <a:pt x="10709" y="19474"/>
                </a:lnTo>
                <a:lnTo>
                  <a:pt x="11438" y="19474"/>
                </a:lnTo>
                <a:lnTo>
                  <a:pt x="12213" y="19332"/>
                </a:lnTo>
                <a:lnTo>
                  <a:pt x="12965" y="19219"/>
                </a:lnTo>
                <a:lnTo>
                  <a:pt x="13739" y="18964"/>
                </a:lnTo>
                <a:lnTo>
                  <a:pt x="14377" y="18794"/>
                </a:lnTo>
                <a:lnTo>
                  <a:pt x="15061" y="18425"/>
                </a:lnTo>
                <a:lnTo>
                  <a:pt x="15608" y="18057"/>
                </a:lnTo>
                <a:lnTo>
                  <a:pt x="16200" y="17688"/>
                </a:lnTo>
                <a:lnTo>
                  <a:pt x="16724" y="17263"/>
                </a:lnTo>
                <a:lnTo>
                  <a:pt x="17134" y="16781"/>
                </a:lnTo>
                <a:lnTo>
                  <a:pt x="17613" y="16157"/>
                </a:lnTo>
                <a:lnTo>
                  <a:pt x="17863" y="15619"/>
                </a:lnTo>
                <a:lnTo>
                  <a:pt x="18159" y="14995"/>
                </a:lnTo>
                <a:lnTo>
                  <a:pt x="18342" y="14400"/>
                </a:lnTo>
                <a:lnTo>
                  <a:pt x="18456" y="13861"/>
                </a:lnTo>
                <a:lnTo>
                  <a:pt x="18547" y="13124"/>
                </a:lnTo>
                <a:lnTo>
                  <a:pt x="18456" y="12557"/>
                </a:lnTo>
                <a:lnTo>
                  <a:pt x="18342" y="12076"/>
                </a:lnTo>
                <a:lnTo>
                  <a:pt x="18251" y="11537"/>
                </a:lnTo>
                <a:lnTo>
                  <a:pt x="17954" y="10913"/>
                </a:lnTo>
                <a:lnTo>
                  <a:pt x="17704" y="10431"/>
                </a:lnTo>
                <a:lnTo>
                  <a:pt x="17430" y="10006"/>
                </a:lnTo>
                <a:lnTo>
                  <a:pt x="17020" y="9524"/>
                </a:lnTo>
                <a:lnTo>
                  <a:pt x="16633" y="9014"/>
                </a:lnTo>
                <a:lnTo>
                  <a:pt x="15699" y="8362"/>
                </a:lnTo>
                <a:lnTo>
                  <a:pt x="14582" y="7625"/>
                </a:lnTo>
                <a:lnTo>
                  <a:pt x="13352" y="7200"/>
                </a:lnTo>
                <a:lnTo>
                  <a:pt x="12030" y="6945"/>
                </a:lnTo>
                <a:moveTo>
                  <a:pt x="10800" y="12557"/>
                </a:moveTo>
                <a:lnTo>
                  <a:pt x="11096" y="12444"/>
                </a:lnTo>
                <a:lnTo>
                  <a:pt x="11301" y="12444"/>
                </a:lnTo>
                <a:lnTo>
                  <a:pt x="11438" y="12331"/>
                </a:lnTo>
                <a:lnTo>
                  <a:pt x="11643" y="12076"/>
                </a:lnTo>
                <a:lnTo>
                  <a:pt x="11825" y="11820"/>
                </a:lnTo>
                <a:lnTo>
                  <a:pt x="11939" y="11594"/>
                </a:lnTo>
                <a:lnTo>
                  <a:pt x="11939" y="11282"/>
                </a:lnTo>
                <a:lnTo>
                  <a:pt x="12030" y="11055"/>
                </a:lnTo>
                <a:lnTo>
                  <a:pt x="12030" y="3912"/>
                </a:lnTo>
                <a:lnTo>
                  <a:pt x="11939" y="3543"/>
                </a:lnTo>
                <a:lnTo>
                  <a:pt x="11939" y="3288"/>
                </a:lnTo>
                <a:lnTo>
                  <a:pt x="11825" y="3061"/>
                </a:lnTo>
                <a:lnTo>
                  <a:pt x="11643" y="2806"/>
                </a:lnTo>
                <a:lnTo>
                  <a:pt x="11438" y="2636"/>
                </a:lnTo>
                <a:lnTo>
                  <a:pt x="11301" y="2494"/>
                </a:lnTo>
                <a:lnTo>
                  <a:pt x="11096" y="2381"/>
                </a:lnTo>
                <a:lnTo>
                  <a:pt x="10800" y="2381"/>
                </a:lnTo>
                <a:lnTo>
                  <a:pt x="10595" y="2381"/>
                </a:lnTo>
                <a:lnTo>
                  <a:pt x="10299" y="2494"/>
                </a:lnTo>
                <a:lnTo>
                  <a:pt x="10162" y="2636"/>
                </a:lnTo>
                <a:lnTo>
                  <a:pt x="9957" y="2806"/>
                </a:lnTo>
                <a:lnTo>
                  <a:pt x="9775" y="3061"/>
                </a:lnTo>
                <a:lnTo>
                  <a:pt x="9661" y="3288"/>
                </a:lnTo>
                <a:lnTo>
                  <a:pt x="9661" y="3543"/>
                </a:lnTo>
                <a:lnTo>
                  <a:pt x="9570" y="3912"/>
                </a:lnTo>
                <a:lnTo>
                  <a:pt x="9570" y="11055"/>
                </a:lnTo>
                <a:lnTo>
                  <a:pt x="9661" y="11282"/>
                </a:lnTo>
                <a:lnTo>
                  <a:pt x="9661" y="11594"/>
                </a:lnTo>
                <a:lnTo>
                  <a:pt x="9775" y="11820"/>
                </a:lnTo>
                <a:lnTo>
                  <a:pt x="9957" y="12076"/>
                </a:lnTo>
                <a:lnTo>
                  <a:pt x="10162" y="12331"/>
                </a:lnTo>
                <a:lnTo>
                  <a:pt x="10299" y="12444"/>
                </a:lnTo>
                <a:lnTo>
                  <a:pt x="10595" y="12444"/>
                </a:lnTo>
                <a:lnTo>
                  <a:pt x="10800" y="12557"/>
                </a:lnTo>
                <a:moveTo>
                  <a:pt x="6289" y="6463"/>
                </a:moveTo>
                <a:lnTo>
                  <a:pt x="6539" y="6350"/>
                </a:lnTo>
                <a:lnTo>
                  <a:pt x="6722" y="6350"/>
                </a:lnTo>
                <a:lnTo>
                  <a:pt x="7018" y="6094"/>
                </a:lnTo>
                <a:lnTo>
                  <a:pt x="7223" y="5981"/>
                </a:lnTo>
                <a:lnTo>
                  <a:pt x="7405" y="5669"/>
                </a:lnTo>
                <a:lnTo>
                  <a:pt x="7519" y="5414"/>
                </a:lnTo>
                <a:lnTo>
                  <a:pt x="7610" y="5074"/>
                </a:lnTo>
                <a:lnTo>
                  <a:pt x="7610" y="4706"/>
                </a:lnTo>
                <a:lnTo>
                  <a:pt x="7610" y="4337"/>
                </a:lnTo>
                <a:lnTo>
                  <a:pt x="7519" y="4139"/>
                </a:lnTo>
                <a:lnTo>
                  <a:pt x="7405" y="3770"/>
                </a:lnTo>
                <a:lnTo>
                  <a:pt x="7223" y="3543"/>
                </a:lnTo>
                <a:lnTo>
                  <a:pt x="7018" y="3288"/>
                </a:lnTo>
                <a:lnTo>
                  <a:pt x="6722" y="3175"/>
                </a:lnTo>
                <a:lnTo>
                  <a:pt x="6539" y="3061"/>
                </a:lnTo>
                <a:lnTo>
                  <a:pt x="6289" y="3061"/>
                </a:lnTo>
                <a:lnTo>
                  <a:pt x="5992" y="3061"/>
                </a:lnTo>
                <a:lnTo>
                  <a:pt x="5696" y="3175"/>
                </a:lnTo>
                <a:lnTo>
                  <a:pt x="5514" y="3288"/>
                </a:lnTo>
                <a:lnTo>
                  <a:pt x="5309" y="3543"/>
                </a:lnTo>
                <a:lnTo>
                  <a:pt x="5104" y="3770"/>
                </a:lnTo>
                <a:lnTo>
                  <a:pt x="4967" y="4139"/>
                </a:lnTo>
                <a:lnTo>
                  <a:pt x="4967" y="4337"/>
                </a:lnTo>
                <a:lnTo>
                  <a:pt x="4876" y="4706"/>
                </a:lnTo>
                <a:lnTo>
                  <a:pt x="4967" y="5074"/>
                </a:lnTo>
                <a:lnTo>
                  <a:pt x="4967" y="5414"/>
                </a:lnTo>
                <a:lnTo>
                  <a:pt x="5104" y="5669"/>
                </a:lnTo>
                <a:lnTo>
                  <a:pt x="5309" y="5981"/>
                </a:lnTo>
                <a:lnTo>
                  <a:pt x="5514" y="6094"/>
                </a:lnTo>
                <a:lnTo>
                  <a:pt x="5696" y="6350"/>
                </a:lnTo>
                <a:lnTo>
                  <a:pt x="5992" y="6350"/>
                </a:lnTo>
                <a:lnTo>
                  <a:pt x="6289" y="6463"/>
                </a:lnTo>
                <a:moveTo>
                  <a:pt x="15311" y="6463"/>
                </a:moveTo>
                <a:lnTo>
                  <a:pt x="15061" y="6350"/>
                </a:lnTo>
                <a:lnTo>
                  <a:pt x="14878" y="6350"/>
                </a:lnTo>
                <a:lnTo>
                  <a:pt x="14582" y="6094"/>
                </a:lnTo>
                <a:lnTo>
                  <a:pt x="14377" y="5981"/>
                </a:lnTo>
                <a:lnTo>
                  <a:pt x="14195" y="5669"/>
                </a:lnTo>
                <a:lnTo>
                  <a:pt x="14081" y="5414"/>
                </a:lnTo>
                <a:lnTo>
                  <a:pt x="13990" y="5074"/>
                </a:lnTo>
                <a:lnTo>
                  <a:pt x="13990" y="4706"/>
                </a:lnTo>
                <a:lnTo>
                  <a:pt x="13990" y="4337"/>
                </a:lnTo>
                <a:lnTo>
                  <a:pt x="14081" y="4139"/>
                </a:lnTo>
                <a:lnTo>
                  <a:pt x="14195" y="3770"/>
                </a:lnTo>
                <a:lnTo>
                  <a:pt x="14377" y="3543"/>
                </a:lnTo>
                <a:lnTo>
                  <a:pt x="14582" y="3288"/>
                </a:lnTo>
                <a:lnTo>
                  <a:pt x="14878" y="3175"/>
                </a:lnTo>
                <a:lnTo>
                  <a:pt x="15061" y="3061"/>
                </a:lnTo>
                <a:lnTo>
                  <a:pt x="15311" y="3061"/>
                </a:lnTo>
                <a:lnTo>
                  <a:pt x="15608" y="3061"/>
                </a:lnTo>
                <a:lnTo>
                  <a:pt x="15904" y="3175"/>
                </a:lnTo>
                <a:lnTo>
                  <a:pt x="16086" y="3288"/>
                </a:lnTo>
                <a:lnTo>
                  <a:pt x="16382" y="3543"/>
                </a:lnTo>
                <a:lnTo>
                  <a:pt x="16496" y="3770"/>
                </a:lnTo>
                <a:lnTo>
                  <a:pt x="16633" y="4139"/>
                </a:lnTo>
                <a:lnTo>
                  <a:pt x="16633" y="4337"/>
                </a:lnTo>
                <a:lnTo>
                  <a:pt x="16724" y="4706"/>
                </a:lnTo>
                <a:lnTo>
                  <a:pt x="16633" y="5074"/>
                </a:lnTo>
                <a:lnTo>
                  <a:pt x="16633" y="5414"/>
                </a:lnTo>
                <a:lnTo>
                  <a:pt x="16496" y="5669"/>
                </a:lnTo>
                <a:lnTo>
                  <a:pt x="16382" y="5981"/>
                </a:lnTo>
                <a:lnTo>
                  <a:pt x="16086" y="6094"/>
                </a:lnTo>
                <a:lnTo>
                  <a:pt x="15904" y="6350"/>
                </a:lnTo>
                <a:lnTo>
                  <a:pt x="15608" y="6350"/>
                </a:lnTo>
                <a:lnTo>
                  <a:pt x="15311" y="6463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2" name="Picture 17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Oval 18"/>
          <p:cNvSpPr/>
          <p:nvPr/>
        </p:nvSpPr>
        <p:spPr>
          <a:xfrm>
            <a:off x="6012000" y="3933720"/>
            <a:ext cx="1942920" cy="187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54" name="Group 19"/>
          <p:cNvGrpSpPr/>
          <p:nvPr/>
        </p:nvGrpSpPr>
        <p:grpSpPr>
          <a:xfrm>
            <a:off x="900000" y="4149720"/>
            <a:ext cx="2087640" cy="1534680"/>
            <a:chOff x="900000" y="4149720"/>
            <a:chExt cx="2087640" cy="1534680"/>
          </a:xfrm>
        </p:grpSpPr>
        <p:sp>
          <p:nvSpPr>
            <p:cNvPr id="155" name="AutoShape 20"/>
            <p:cNvSpPr/>
            <p:nvPr/>
          </p:nvSpPr>
          <p:spPr>
            <a:xfrm>
              <a:off x="1402560" y="4462920"/>
              <a:ext cx="1075680" cy="940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Oval 21"/>
            <p:cNvSpPr/>
            <p:nvPr/>
          </p:nvSpPr>
          <p:spPr>
            <a:xfrm>
              <a:off x="900000" y="5371200"/>
              <a:ext cx="618120" cy="313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Oval 22"/>
            <p:cNvSpPr/>
            <p:nvPr/>
          </p:nvSpPr>
          <p:spPr>
            <a:xfrm>
              <a:off x="1634400" y="4149720"/>
              <a:ext cx="618120" cy="31320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Oval 23"/>
            <p:cNvSpPr/>
            <p:nvPr/>
          </p:nvSpPr>
          <p:spPr>
            <a:xfrm>
              <a:off x="2369520" y="5371200"/>
              <a:ext cx="618120" cy="31320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9" name="Line 26"/>
          <p:cNvSpPr/>
          <p:nvPr/>
        </p:nvSpPr>
        <p:spPr>
          <a:xfrm>
            <a:off x="1908000" y="1413000"/>
            <a:ext cx="0" cy="197964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 flipH="1">
            <a:off x="1042560" y="2421000"/>
            <a:ext cx="197820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 flipH="1">
            <a:off x="1135080" y="1719360"/>
            <a:ext cx="1527120" cy="152712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1216440" y="1729080"/>
            <a:ext cx="1526760" cy="15267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4211640" y="1268280"/>
            <a:ext cx="0" cy="21592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 flipH="1">
            <a:off x="3132000" y="2349360"/>
            <a:ext cx="215928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3492000" y="1647360"/>
            <a:ext cx="1401120" cy="140112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>
            <a:off x="3511800" y="1631160"/>
            <a:ext cx="1400040" cy="140004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Line 34"/>
          <p:cNvSpPr/>
          <p:nvPr/>
        </p:nvSpPr>
        <p:spPr>
          <a:xfrm>
            <a:off x="6804000" y="126828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Line 36"/>
          <p:cNvSpPr/>
          <p:nvPr/>
        </p:nvSpPr>
        <p:spPr>
          <a:xfrm flipH="1">
            <a:off x="3458880" y="4368600"/>
            <a:ext cx="1578240" cy="157824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755640" y="40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例</a:t>
            </a:r>
            <a:r>
              <a:rPr b="0" lang="zh-CN" sz="2800" spc="-1" strike="noStrike">
                <a:solidFill>
                  <a:srgbClr val="0039ac"/>
                </a:solidFill>
                <a:latin typeface="Arial"/>
                <a:ea typeface="宋体"/>
              </a:rPr>
              <a:t>：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下列图形中那些是轴对称图形，那些是，那些不是？如果是请说出它有几条对称轴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1116000" y="148428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80808"/>
                </a:solidFill>
                <a:latin typeface="Arial"/>
                <a:ea typeface="黑体"/>
              </a:rPr>
              <a:t>甲王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539640" y="2637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，在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26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个大些英文字母中，是轴对称图形的字母有哪些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，在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0~9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折</a:t>
            </a: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9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个阿拉伯数字中，是轴对称图形的数字有哪些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763640" y="5516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  <a:ea typeface="黑体"/>
              </a:rPr>
              <a:t>0 1 2 3 4 5 6 7 8 9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4" name="Picture 11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539640" y="981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ac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9ac"/>
                </a:solidFill>
                <a:latin typeface="Arial"/>
                <a:ea typeface="宋体"/>
              </a:rPr>
              <a:t>，你能写出几个是轴对称图形的汉字吗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755640" y="3068640"/>
            <a:ext cx="6697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80808"/>
                </a:solidFill>
                <a:latin typeface="Arial"/>
                <a:ea typeface="宋体"/>
              </a:rPr>
              <a:t>ABCDEFGHIJKLMNOPQRSTUV WXYZ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395280" y="40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新宋体"/>
              </a:rPr>
              <a:t>想一想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1680" y="665280"/>
            <a:ext cx="8540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ac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39ac"/>
                </a:solidFill>
                <a:latin typeface="Arial"/>
              </a:rPr>
              <a:t>你能以“            、          、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3200" spc="-1" strike="noStrike">
                <a:solidFill>
                  <a:srgbClr val="0039ac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0039ac"/>
                </a:solidFill>
                <a:latin typeface="宋体"/>
              </a:rPr>
              <a:t>（两个三角形、两个圆、一组平行线）为条件，画出一个有意义的轴对称图形吗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195640" y="765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3851280" y="76500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4427640" y="76500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2771640" y="76500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3" name="Picture 9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20"/>
          <p:cNvGrpSpPr/>
          <p:nvPr/>
        </p:nvGrpSpPr>
        <p:grpSpPr>
          <a:xfrm>
            <a:off x="900000" y="3212640"/>
            <a:ext cx="2016360" cy="1943640"/>
            <a:chOff x="900000" y="3212640"/>
            <a:chExt cx="2016360" cy="1943640"/>
          </a:xfrm>
        </p:grpSpPr>
        <p:sp>
          <p:nvSpPr>
            <p:cNvPr id="185" name="Oval 10"/>
            <p:cNvSpPr/>
            <p:nvPr/>
          </p:nvSpPr>
          <p:spPr>
            <a:xfrm>
              <a:off x="1042920" y="4508640"/>
              <a:ext cx="648000" cy="647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6" name="Oval 11"/>
            <p:cNvSpPr/>
            <p:nvPr/>
          </p:nvSpPr>
          <p:spPr>
            <a:xfrm>
              <a:off x="2124000" y="4508640"/>
              <a:ext cx="648000" cy="647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AutoShape 14"/>
            <p:cNvSpPr/>
            <p:nvPr/>
          </p:nvSpPr>
          <p:spPr>
            <a:xfrm>
              <a:off x="900000" y="4005360"/>
              <a:ext cx="93672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AutoShape 16"/>
            <p:cNvSpPr/>
            <p:nvPr/>
          </p:nvSpPr>
          <p:spPr>
            <a:xfrm>
              <a:off x="1979640" y="4005360"/>
              <a:ext cx="936720" cy="503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V="1">
              <a:off x="1403280" y="3212640"/>
              <a:ext cx="0" cy="792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 flipV="1">
              <a:off x="2411640" y="3212640"/>
              <a:ext cx="0" cy="792360"/>
            </a:xfrm>
            <a:prstGeom prst="line">
              <a:avLst/>
            </a:prstGeom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1" name="AutoShape 23"/>
          <p:cNvSpPr/>
          <p:nvPr/>
        </p:nvSpPr>
        <p:spPr>
          <a:xfrm>
            <a:off x="2700360" y="2997360"/>
            <a:ext cx="2448000" cy="576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两盏电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Object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6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8" descr=""/>
          <p:cNvPicPr/>
          <p:nvPr/>
        </p:nvPicPr>
        <p:blipFill>
          <a:blip r:embed="rId3"/>
          <a:stretch/>
        </p:blipFill>
        <p:spPr>
          <a:xfrm>
            <a:off x="6732720" y="184464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14" descr=""/>
          <p:cNvPicPr/>
          <p:nvPr/>
        </p:nvPicPr>
        <p:blipFill>
          <a:blip r:embed="rId4"/>
          <a:stretch/>
        </p:blipFill>
        <p:spPr>
          <a:xfrm>
            <a:off x="2771640" y="1700280"/>
            <a:ext cx="1295640" cy="216036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5" descr=""/>
          <p:cNvPicPr/>
          <p:nvPr/>
        </p:nvPicPr>
        <p:blipFill>
          <a:blip r:embed="rId5"/>
          <a:stretch/>
        </p:blipFill>
        <p:spPr>
          <a:xfrm>
            <a:off x="395280" y="4221000"/>
            <a:ext cx="1978200" cy="208944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17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1865520" cy="2158920"/>
          </a:xfrm>
          <a:prstGeom prst="rect">
            <a:avLst/>
          </a:prstGeom>
          <a:ln w="0">
            <a:noFill/>
          </a:ln>
        </p:spPr>
      </p:pic>
      <p:sp>
        <p:nvSpPr>
          <p:cNvPr id="198" name="Line 19"/>
          <p:cNvSpPr/>
          <p:nvPr/>
        </p:nvSpPr>
        <p:spPr>
          <a:xfrm>
            <a:off x="2556000" y="6524640"/>
            <a:ext cx="194472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99" name="Picture 20" descr="z025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22"/>
          <p:cNvSpPr/>
          <p:nvPr/>
        </p:nvSpPr>
        <p:spPr>
          <a:xfrm>
            <a:off x="68436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ac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39ac"/>
                </a:solidFill>
                <a:latin typeface="Arial"/>
                <a:ea typeface="宋体"/>
              </a:rPr>
              <a:t>，认真观察下列图形，根据它们的规律在横线上填上适当的图形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1" name="Object 23" descr=""/>
          <p:cNvPicPr/>
          <p:nvPr/>
        </p:nvPicPr>
        <p:blipFill>
          <a:blip r:embed="rId9"/>
          <a:stretch/>
        </p:blipFill>
        <p:spPr>
          <a:xfrm>
            <a:off x="2700360" y="4149720"/>
            <a:ext cx="1800360" cy="215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18716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1680" y="1599840"/>
            <a:ext cx="50623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，已知一正六边形对折之后所成的图形的周长为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厘米，则此六边形的周长为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4" name="Picture 10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5"/>
          <p:cNvGrpSpPr/>
          <p:nvPr/>
        </p:nvGrpSpPr>
        <p:grpSpPr>
          <a:xfrm>
            <a:off x="6193080" y="1416600"/>
            <a:ext cx="2407320" cy="2512440"/>
            <a:chOff x="6193080" y="1416600"/>
            <a:chExt cx="2407320" cy="2512440"/>
          </a:xfrm>
        </p:grpSpPr>
        <p:sp>
          <p:nvSpPr>
            <p:cNvPr id="206" name="AutoShape 4"/>
            <p:cNvSpPr/>
            <p:nvPr/>
          </p:nvSpPr>
          <p:spPr>
            <a:xfrm rot="7203000">
              <a:off x="6424200" y="1844640"/>
              <a:ext cx="1944720" cy="1656000"/>
            </a:xfrm>
            <a:prstGeom prst="hexagon">
              <a:avLst>
                <a:gd name="adj" fmla="val 29359"/>
                <a:gd name="vf" fmla="val 115470"/>
              </a:avLst>
            </a:prstGeom>
            <a:solidFill>
              <a:srgbClr val="ffff99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 flipH="1">
              <a:off x="6393600" y="2700360"/>
              <a:ext cx="1901160" cy="79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208" name="Object 14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76480" cy="1219320"/>
          </a:xfrm>
          <a:prstGeom prst="rect">
            <a:avLst/>
          </a:prstGeom>
          <a:ln w="0">
            <a:noFill/>
          </a:ln>
        </p:spPr>
      </p:pic>
      <p:sp>
        <p:nvSpPr>
          <p:cNvPr id="209" name="Line 16"/>
          <p:cNvSpPr/>
          <p:nvPr/>
        </p:nvSpPr>
        <p:spPr>
          <a:xfrm flipH="1">
            <a:off x="6893280" y="1830960"/>
            <a:ext cx="974160" cy="168336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Line 17"/>
          <p:cNvSpPr/>
          <p:nvPr/>
        </p:nvSpPr>
        <p:spPr>
          <a:xfrm>
            <a:off x="6949800" y="1842840"/>
            <a:ext cx="932040" cy="165780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7EC6-D02A-499A-9D90-4C327736E6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图形欣赏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3" name="Picture 4" descr="CHROMS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844640"/>
            <a:ext cx="6193080" cy="360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z025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图形欣赏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6" name="Picture 3" descr="Fernopac"/>
          <p:cNvPicPr/>
          <p:nvPr/>
        </p:nvPicPr>
        <p:blipFill>
          <a:blip r:embed="rId1"/>
          <a:stretch/>
        </p:blipFill>
        <p:spPr>
          <a:xfrm>
            <a:off x="2916360" y="1700280"/>
            <a:ext cx="3527280" cy="410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z025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图形欣赏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9" name="Picture 3" descr="poolto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557360"/>
            <a:ext cx="5472360" cy="41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z025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412920" y="6259680"/>
            <a:ext cx="55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图形欣赏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03" name="Picture 3" descr="ill_tut_land_arcade_texture3"/>
          <p:cNvPicPr/>
          <p:nvPr/>
        </p:nvPicPr>
        <p:blipFill>
          <a:blip r:embed="rId1"/>
          <a:stretch/>
        </p:blipFill>
        <p:spPr>
          <a:xfrm>
            <a:off x="3124080" y="1600200"/>
            <a:ext cx="2894040" cy="449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z025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2484360" y="1844640"/>
            <a:ext cx="3529080" cy="38894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6" name="Picture 4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图形欣赏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3564000" y="2349360"/>
            <a:ext cx="1942920" cy="1871640"/>
          </a:xfrm>
          <a:prstGeom prst="smileyFace">
            <a:avLst>
              <a:gd name="adj" fmla="val 4653"/>
            </a:avLst>
          </a:prstGeom>
          <a:solidFill>
            <a:srgbClr val="9999ff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9" name="Picture 4" descr="z0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  <a:ea typeface="宋体"/>
              </a:rPr>
              <a:t>图形欣赏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CHROMSUN"/>
          <p:cNvPicPr/>
          <p:nvPr/>
        </p:nvPicPr>
        <p:blipFill>
          <a:blip r:embed="rId1"/>
          <a:stretch/>
        </p:blipFill>
        <p:spPr>
          <a:xfrm>
            <a:off x="5724360" y="1557360"/>
            <a:ext cx="289908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Fernopac"/>
          <p:cNvPicPr/>
          <p:nvPr/>
        </p:nvPicPr>
        <p:blipFill>
          <a:blip r:embed="rId2"/>
          <a:stretch/>
        </p:blipFill>
        <p:spPr>
          <a:xfrm>
            <a:off x="6588000" y="4221000"/>
            <a:ext cx="1103400" cy="2173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pooltop"/>
          <p:cNvPicPr/>
          <p:nvPr/>
        </p:nvPicPr>
        <p:blipFill>
          <a:blip r:embed="rId3"/>
          <a:stretch/>
        </p:blipFill>
        <p:spPr>
          <a:xfrm>
            <a:off x="2771640" y="4292640"/>
            <a:ext cx="2897280" cy="2173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ill_tut_land_arcade_texture3"/>
          <p:cNvPicPr/>
          <p:nvPr/>
        </p:nvPicPr>
        <p:blipFill>
          <a:blip r:embed="rId4"/>
          <a:stretch/>
        </p:blipFill>
        <p:spPr>
          <a:xfrm>
            <a:off x="3059280" y="1700280"/>
            <a:ext cx="1758960" cy="20890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7"/>
          <p:cNvSpPr/>
          <p:nvPr/>
        </p:nvSpPr>
        <p:spPr>
          <a:xfrm>
            <a:off x="826920" y="2133720"/>
            <a:ext cx="1441440" cy="15843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84360" y="4653000"/>
            <a:ext cx="1726920" cy="1584360"/>
          </a:xfrm>
          <a:prstGeom prst="smileyFace">
            <a:avLst>
              <a:gd name="adj" fmla="val 4653"/>
            </a:avLst>
          </a:prstGeom>
          <a:solidFill>
            <a:srgbClr val="9999ff"/>
          </a:solidFill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24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看完这六幅图后，你有何感受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352160" y="90792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，你觉得它们有什么共同点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9" name="Picture 21" descr="z025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动手操作，折纸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476360" y="2276640"/>
            <a:ext cx="2160720" cy="22320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2" name="Picture 5" descr="z025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67600" y="5857920"/>
            <a:ext cx="10764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2:13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53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