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13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png" ContentType="image/png"/>
  <Override PartName="/ppt/media/image26.gif" ContentType="image/gif"/>
  <Override PartName="/ppt/media/image5.jpeg" ContentType="image/jpeg"/>
  <Override PartName="/ppt/media/image4.jpeg" ContentType="image/jpeg"/>
  <Override PartName="/ppt/media/image3.png" ContentType="image/png"/>
  <Override PartName="/ppt/media/image17.jpeg" ContentType="image/jpeg"/>
  <Override PartName="/ppt/media/image27.jpeg" ContentType="image/jpeg"/>
  <Override PartName="/ppt/media/image24.gif" ContentType="image/gif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356A-D669-4EE7-8CC8-9E079838F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2477-6842-4374-A976-E0DB0054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A6FB-C79C-46FD-823A-C6F620936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89C5-76EC-4F43-9AE8-BC80B8860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2C793-8CA5-4682-ADBC-392237B9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CCD0-FBCE-4E50-B7B1-2F6F2CDB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4B474-F9F2-4F6A-96CD-FCB5DC3F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88DB-45C4-4006-9BEC-FAD1DFCF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8B1F5-30C3-437C-9266-36CB655BB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A956-2318-4264-81CC-2306C377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3E46-EB66-4FAE-B0EF-451ECF8B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9E4-3F5C-4D94-9E75-CD75AD32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5B1A-9A83-4930-A38B-D33BC539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943E-2687-40FA-AD92-C4AA4891F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A0190-1693-4E45-B9F9-43C9A982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F7FB1-C1D2-4FB8-91CE-F7BD62397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D55A8-01DB-458A-AAF0-19AB55C2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94C-377C-4553-9B62-3D56368F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E831-540E-4182-BA3F-6C24B8FE9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2B0D-BDDF-4700-B1D3-CFE3C9586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889D-054E-4EE6-9E9C-98EDAEC7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4C1D-4779-4B7B-8025-C5990DFD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8871-E762-4415-8635-CEC76348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C782-1326-49AA-A349-BF2CB242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1AF5-CE45-4505-B1DA-DA149083E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D692-C257-4D74-BF47-A86C36690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jpeg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380880" y="617220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3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WordArt 5"/>
          <p:cNvSpPr txBox="1"/>
          <p:nvPr/>
        </p:nvSpPr>
        <p:spPr>
          <a:xfrm>
            <a:off x="2133720" y="2362320"/>
            <a:ext cx="54007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中华少年</a:t>
            </a:r>
            <a:endParaRPr b="1" lang="en-US" sz="7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85" name="WordArt 6" descr=""/>
          <p:cNvPicPr/>
          <p:nvPr/>
        </p:nvPicPr>
        <p:blipFill>
          <a:blip r:embed="rId17"/>
          <a:stretch/>
        </p:blipFill>
        <p:spPr>
          <a:xfrm>
            <a:off x="163440" y="326880"/>
            <a:ext cx="5567400" cy="1401840"/>
          </a:xfrm>
          <a:prstGeom prst="rect">
            <a:avLst/>
          </a:prstGeom>
          <a:ln w="0">
            <a:noFill/>
          </a:ln>
        </p:spPr>
      </p:pic>
      <p:sp>
        <p:nvSpPr>
          <p:cNvPr id="86" name="矩形 9"/>
          <p:cNvSpPr/>
          <p:nvPr/>
        </p:nvSpPr>
        <p:spPr>
          <a:xfrm>
            <a:off x="2201040" y="6178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160" y="4419360"/>
            <a:ext cx="64767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春天的故事”响彻大江南北，中华啊！展开了崭新的画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219320" y="571500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这句诗写到了什么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048120" y="2362320"/>
            <a:ext cx="5867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啊！是七月的星火，南湖的航船，让东方雄狮从噩梦中奋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62120" y="35053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Arial"/>
              </a:rPr>
              <a:t>本句涉及到的是哪一次重要的历史事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WordArt 8"/>
          <p:cNvSpPr txBox="1"/>
          <p:nvPr/>
        </p:nvSpPr>
        <p:spPr>
          <a:xfrm>
            <a:off x="3809880" y="12952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8000"/>
                  </a:solidFill>
                  <a:round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你知道吗？</a:t>
            </a:r>
            <a:endParaRPr b="1" lang="en-US" sz="1800" spc="1" strike="noStrike">
              <a:ln w="12600">
                <a:solidFill>
                  <a:srgbClr val="008000"/>
                </a:solidFill>
                <a:round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40" name="Picture 10" descr="md_78019919310780491-fm"/>
          <p:cNvPicPr/>
          <p:nvPr/>
        </p:nvPicPr>
        <p:blipFill>
          <a:blip r:embed="rId1"/>
          <a:stretch/>
        </p:blipFill>
        <p:spPr>
          <a:xfrm>
            <a:off x="6858000" y="4191120"/>
            <a:ext cx="19051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13"/>
          <p:cNvGrpSpPr/>
          <p:nvPr/>
        </p:nvGrpSpPr>
        <p:grpSpPr>
          <a:xfrm>
            <a:off x="457200" y="1219320"/>
            <a:ext cx="2286000" cy="1981080"/>
            <a:chOff x="457200" y="1219320"/>
            <a:chExt cx="2286000" cy="1981080"/>
          </a:xfrm>
        </p:grpSpPr>
        <p:pic>
          <p:nvPicPr>
            <p:cNvPr id="142" name="Picture 11" descr="W020060627364365839229"/>
            <p:cNvPicPr/>
            <p:nvPr/>
          </p:nvPicPr>
          <p:blipFill>
            <a:blip r:embed="rId2"/>
            <a:stretch/>
          </p:blipFill>
          <p:spPr>
            <a:xfrm>
              <a:off x="457200" y="1219320"/>
              <a:ext cx="2286000" cy="198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WordArt 12"/>
            <p:cNvSpPr txBox="1"/>
            <p:nvPr/>
          </p:nvSpPr>
          <p:spPr>
            <a:xfrm>
              <a:off x="803520" y="2613240"/>
              <a:ext cx="1697040" cy="439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ff3300"/>
                    </a:solidFill>
                    <a:round/>
                  </a:ln>
                  <a:solidFill>
                    <a:srgbClr val="ff0000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黑体"/>
                </a:rPr>
                <a:t>中共一大</a:t>
              </a:r>
              <a:endParaRPr b="1" lang="en-US" sz="1800" spc="1" strike="noStrike">
                <a:ln w="12600">
                  <a:solidFill>
                    <a:srgbClr val="ff3300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00400" y="5486040"/>
            <a:ext cx="4038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中华少年的誓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371600" y="3047760"/>
            <a:ext cx="5943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cc"/>
                </a:solidFill>
                <a:latin typeface="华文仿宋"/>
                <a:ea typeface="华文仿宋"/>
              </a:rPr>
              <a:t>          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这是中华少年的铿锵誓言，表达了中华少年建设中华的坚强决心。这组排比句和前面四个“不”字句形成鲜明对比，再加上押“</a:t>
            </a:r>
            <a:r>
              <a:rPr b="1" lang="en-US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an”</a:t>
            </a:r>
            <a:r>
              <a:rPr b="1" lang="zh-CN" sz="2400" spc="-1" strike="noStrike">
                <a:solidFill>
                  <a:srgbClr val="ff33cc"/>
                </a:solidFill>
                <a:latin typeface="华文仿宋"/>
                <a:ea typeface="华文仿宋"/>
              </a:rPr>
              <a:t>字韵，读起来琅琅上口，一气呵成，中华少年的爱国之心、自豪之情尽情流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6324480" y="1219320"/>
            <a:ext cx="2362320" cy="703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6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7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3423"/>
          <p:cNvPicPr/>
          <p:nvPr/>
        </p:nvPicPr>
        <p:blipFill>
          <a:blip r:embed="rId1"/>
          <a:stretch/>
        </p:blipFill>
        <p:spPr>
          <a:xfrm rot="5400000">
            <a:off x="7124040" y="33145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001aa"/>
          <p:cNvPicPr/>
          <p:nvPr/>
        </p:nvPicPr>
        <p:blipFill>
          <a:blip r:embed="rId2"/>
          <a:stretch/>
        </p:blipFill>
        <p:spPr>
          <a:xfrm>
            <a:off x="7848720" y="5410080"/>
            <a:ext cx="838080" cy="990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1219320" y="14479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做旗舰去长风破浪，要做火箭去推动飞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要像利剑把贫穷斩断，要用爱心把世界相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1020600" y="392040"/>
            <a:ext cx="51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19320"/>
            <a:ext cx="15238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8</a:t>
            </a:r>
            <a:r>
              <a:rPr b="0" lang="zh-CN" sz="4000" spc="-1" strike="noStrike">
                <a:solidFill>
                  <a:srgbClr val="ff6600"/>
                </a:solidFill>
                <a:latin typeface="华文细黑"/>
                <a:ea typeface="华文细黑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99840" y="2438280"/>
            <a:ext cx="56386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整首诗表达了什么样的思想感情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仿宋"/>
              </a:rPr>
              <a:t>诗人以新时代中华少年的视角热情赞美了祖国，抒发了作为中华少年的由衷的自豪感，同时也表达了中华少年建设中华的坚强决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276720" y="137160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总结全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001a"/>
          <p:cNvPicPr/>
          <p:nvPr/>
        </p:nvPicPr>
        <p:blipFill>
          <a:blip r:embed="rId1"/>
          <a:stretch/>
        </p:blipFill>
        <p:spPr>
          <a:xfrm>
            <a:off x="7620120" y="5029200"/>
            <a:ext cx="121896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0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4" descr="pic_270700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9748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9"/>
          <p:cNvSpPr/>
          <p:nvPr/>
        </p:nvSpPr>
        <p:spPr>
          <a:xfrm flipH="1">
            <a:off x="609480" y="4419720"/>
            <a:ext cx="3353040" cy="205740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14400" y="4723920"/>
            <a:ext cx="27432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甲：藏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乙：高山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丙：蒙古族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华文仿宋"/>
              </a:rPr>
              <a:t>丁：汉族的少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WordArt 14"/>
          <p:cNvSpPr txBox="1"/>
          <p:nvPr/>
        </p:nvSpPr>
        <p:spPr>
          <a:xfrm>
            <a:off x="5181480" y="114300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中宋"/>
              </a:rPr>
              <a:t>表演朗诵</a:t>
            </a:r>
            <a:endParaRPr b="1" lang="en-US" sz="1800" spc="1" strike="noStrike">
              <a:ln w="12600">
                <a:solidFill>
                  <a:srgbClr val="ffff00"/>
                </a:solidFill>
                <a:round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中宋"/>
              <a:ea typeface="华文中宋"/>
            </a:endParaRPr>
          </a:p>
        </p:txBody>
      </p:sp>
    </p:spTree>
  </p:cSld>
  <p:transition spd="slow">
    <p:cover dir="r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04A3-E86C-4721-B6B3-0D925E610C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38480" y="213336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中宋"/>
              </a:rPr>
              <a:t>课前准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971800" y="3657600"/>
            <a:ext cx="5943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楷体_GB2312"/>
              </a:rPr>
              <a:t>预习课文，找一找，你可以从诗中找出哪些有所了解的景物、人物和事件？搜集相关的资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11"/>
          <p:cNvGrpSpPr/>
          <p:nvPr/>
        </p:nvGrpSpPr>
        <p:grpSpPr>
          <a:xfrm>
            <a:off x="380880" y="1219320"/>
            <a:ext cx="2895840" cy="5105160"/>
            <a:chOff x="380880" y="1219320"/>
            <a:chExt cx="2895840" cy="5105160"/>
          </a:xfrm>
        </p:grpSpPr>
        <p:pic>
          <p:nvPicPr>
            <p:cNvPr id="90" name="Picture 9" descr="810292"/>
            <p:cNvPicPr/>
            <p:nvPr/>
          </p:nvPicPr>
          <p:blipFill>
            <a:blip r:embed="rId1"/>
            <a:stretch/>
          </p:blipFill>
          <p:spPr>
            <a:xfrm>
              <a:off x="609480" y="4572000"/>
              <a:ext cx="243864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8" descr="fenqiao"/>
            <p:cNvPicPr/>
            <p:nvPr/>
          </p:nvPicPr>
          <p:blipFill>
            <a:blip r:embed="rId2"/>
            <a:stretch/>
          </p:blipFill>
          <p:spPr>
            <a:xfrm>
              <a:off x="1066680" y="1219320"/>
              <a:ext cx="2210040" cy="182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7" descr="无标题115"/>
            <p:cNvPicPr/>
            <p:nvPr/>
          </p:nvPicPr>
          <p:blipFill>
            <a:blip r:embed="rId3"/>
            <a:stretch/>
          </p:blipFill>
          <p:spPr>
            <a:xfrm>
              <a:off x="380880" y="2666880"/>
              <a:ext cx="2133720" cy="1905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6" descr="200653016619615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372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带有生字、新词的句子请多读几遍。</a:t>
            </a:r>
            <a:br>
              <a:rPr sz="3600"/>
            </a:br>
            <a:r>
              <a:rPr b="1" lang="en-US" sz="3600" spc="-1" strike="noStrike">
                <a:solidFill>
                  <a:srgbClr val="3333ff"/>
                </a:solidFill>
                <a:latin typeface="Arial"/>
                <a:ea typeface="华文仿宋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华文仿宋"/>
              </a:rPr>
              <a:t>、划出你觉得最难读好的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666880" y="2057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2514600" y="16002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自由朗读课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9" descr="b49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752480"/>
            <a:ext cx="26668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莽莽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立地顶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蹒跚学步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强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阳关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华文中宋"/>
              </a:rPr>
              <a:t>艳阳天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048120" y="1752480"/>
            <a:ext cx="510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形容原野辽阔，无边无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048120" y="2438280"/>
            <a:ext cx="533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也作“顶天立地”，形容形象高大，气概雄伟豪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8120" y="3505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学走路时摇摆不稳的样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8120" y="41148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强壮勇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8120" y="46483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比喻有光明前途的道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048120" y="52578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指明媚的春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Gif0405_071"/>
          <p:cNvPicPr/>
          <p:nvPr/>
        </p:nvPicPr>
        <p:blipFill>
          <a:blip r:embed="rId2"/>
          <a:stretch/>
        </p:blipFill>
        <p:spPr>
          <a:xfrm>
            <a:off x="7086600" y="5410080"/>
            <a:ext cx="1790640" cy="104796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2"/>
          <p:cNvSpPr txBox="1"/>
          <p:nvPr/>
        </p:nvSpPr>
        <p:spPr>
          <a:xfrm>
            <a:off x="990720" y="1143000"/>
            <a:ext cx="914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4579"/>
          <p:cNvPicPr/>
          <p:nvPr/>
        </p:nvPicPr>
        <p:blipFill>
          <a:blip r:embed="rId1"/>
          <a:stretch/>
        </p:blipFill>
        <p:spPr>
          <a:xfrm>
            <a:off x="304920" y="1066680"/>
            <a:ext cx="8534160" cy="54104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76920" y="419076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分角色朗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66320" y="1752480"/>
            <a:ext cx="7086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全班同学分成四个大组，分别承担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甲、乙、丙、丁</a:t>
            </a:r>
            <a:r>
              <a:rPr b="1" lang="zh-CN" sz="3600" spc="-1" strike="noStrike">
                <a:solidFill>
                  <a:srgbClr val="ff0000"/>
                </a:solidFill>
                <a:latin typeface="华文仿宋"/>
                <a:ea typeface="华文仿宋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四个角色，一齐分角色朗读课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66520" y="1600200"/>
            <a:ext cx="4419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中宋"/>
              </a:rPr>
              <a:t>划分结构层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990720" y="3048120"/>
            <a:ext cx="76960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一）总起全诗：我们都是中华少年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二）写祖国锦绣河山哺育了中华少年，悠久的文化滋润了中华少年，特有的民族传统风俗滋养了中华少年。（第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4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三）回顾中华母亲的艰难历程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5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（四）写中华少年的誓言。（第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6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7</a:t>
            </a:r>
            <a:r>
              <a:rPr b="1" lang="zh-CN" sz="2400" spc="-1" strike="noStrike">
                <a:solidFill>
                  <a:srgbClr val="ff00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华文中宋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（五）总结全诗。（第</a:t>
            </a:r>
            <a:r>
              <a:rPr b="1" lang="en-US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8</a:t>
            </a:r>
            <a:r>
              <a:rPr b="1" lang="zh-CN" sz="2400" spc="-1" strike="noStrike">
                <a:solidFill>
                  <a:srgbClr val="3333ff"/>
                </a:solidFill>
                <a:latin typeface="华文中宋"/>
                <a:ea typeface="华文中宋"/>
              </a:rPr>
              <a:t>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Small_2005415165251"/>
          <p:cNvPicPr/>
          <p:nvPr/>
        </p:nvPicPr>
        <p:blipFill>
          <a:blip r:embed="rId1"/>
          <a:stretch/>
        </p:blipFill>
        <p:spPr>
          <a:xfrm>
            <a:off x="457200" y="1219320"/>
            <a:ext cx="1752480" cy="155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905120" cy="838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80880" y="2285640"/>
            <a:ext cx="83059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这一节诗中出现了哪些事物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高原──雪莲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宝岛──乳燕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草原──雏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黄土坡──山丹丹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）透过这些词语，你分别可以联想到什么？把四组词语联系起来想一想，你又可以想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华少年的化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200400" y="12952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中宋"/>
              </a:rPr>
              <a:t>我们都是中华少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10"/>
          <p:cNvGrpSpPr/>
          <p:nvPr/>
        </p:nvGrpSpPr>
        <p:grpSpPr>
          <a:xfrm>
            <a:off x="762120" y="5334120"/>
            <a:ext cx="7543800" cy="1009440"/>
            <a:chOff x="762120" y="5334120"/>
            <a:chExt cx="7543800" cy="1009440"/>
          </a:xfrm>
        </p:grpSpPr>
        <p:pic>
          <p:nvPicPr>
            <p:cNvPr id="117" name="Picture 9" descr="893950"/>
            <p:cNvPicPr/>
            <p:nvPr/>
          </p:nvPicPr>
          <p:blipFill>
            <a:blip r:embed="rId1"/>
            <a:stretch/>
          </p:blipFill>
          <p:spPr>
            <a:xfrm>
              <a:off x="6553080" y="5334120"/>
              <a:ext cx="175284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5" descr="032"/>
            <p:cNvPicPr/>
            <p:nvPr/>
          </p:nvPicPr>
          <p:blipFill>
            <a:blip r:embed="rId2"/>
            <a:stretch/>
          </p:blipFill>
          <p:spPr>
            <a:xfrm>
              <a:off x="4572000" y="5334120"/>
              <a:ext cx="1828800" cy="99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Picture 6" descr="34790"/>
            <p:cNvPicPr/>
            <p:nvPr/>
          </p:nvPicPr>
          <p:blipFill>
            <a:blip r:embed="rId3"/>
            <a:stretch/>
          </p:blipFill>
          <p:spPr>
            <a:xfrm>
              <a:off x="2666880" y="5334120"/>
              <a:ext cx="175284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8" descr="无标题111"/>
            <p:cNvPicPr/>
            <p:nvPr/>
          </p:nvPicPr>
          <p:blipFill>
            <a:blip r:embed="rId4"/>
            <a:stretch/>
          </p:blipFill>
          <p:spPr>
            <a:xfrm>
              <a:off x="762120" y="5334120"/>
              <a:ext cx="1752480" cy="990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zoom dir="in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5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520" y="5562720"/>
            <a:ext cx="350532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、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838080" y="4114440"/>
            <a:ext cx="74678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楷体_GB2312"/>
              </a:rPr>
              <a:t>在这三节诗中，出现了哪些你熟悉的人和事物呢？请给大家简要介绍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914400" y="3200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中宋"/>
              </a:rPr>
              <a:t>锦绣河山、悠久历史、民族传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9"/>
          <p:cNvGrpSpPr/>
          <p:nvPr/>
        </p:nvGrpSpPr>
        <p:grpSpPr>
          <a:xfrm>
            <a:off x="457200" y="1219320"/>
            <a:ext cx="8153280" cy="1676160"/>
            <a:chOff x="457200" y="1219320"/>
            <a:chExt cx="8153280" cy="1676160"/>
          </a:xfrm>
        </p:grpSpPr>
        <p:pic>
          <p:nvPicPr>
            <p:cNvPr id="125" name="Picture 5" descr="kehuicms31093158"/>
            <p:cNvPicPr/>
            <p:nvPr/>
          </p:nvPicPr>
          <p:blipFill>
            <a:blip r:embed="rId1"/>
            <a:stretch/>
          </p:blipFill>
          <p:spPr>
            <a:xfrm>
              <a:off x="45720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6" descr="7200065056"/>
            <p:cNvPicPr/>
            <p:nvPr/>
          </p:nvPicPr>
          <p:blipFill>
            <a:blip r:embed="rId2"/>
            <a:stretch/>
          </p:blipFill>
          <p:spPr>
            <a:xfrm>
              <a:off x="2438280" y="1219320"/>
              <a:ext cx="182880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7" descr="06128x128b051124086"/>
            <p:cNvPicPr/>
            <p:nvPr/>
          </p:nvPicPr>
          <p:blipFill>
            <a:blip r:embed="rId3"/>
            <a:stretch/>
          </p:blipFill>
          <p:spPr>
            <a:xfrm>
              <a:off x="4419720" y="1219320"/>
              <a:ext cx="198108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8" descr="ab1"/>
            <p:cNvPicPr/>
            <p:nvPr/>
          </p:nvPicPr>
          <p:blipFill>
            <a:blip r:embed="rId4"/>
            <a:stretch/>
          </p:blipFill>
          <p:spPr>
            <a:xfrm>
              <a:off x="6553080" y="1219320"/>
              <a:ext cx="2057400" cy="1676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1752480" cy="76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第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</a:rPr>
              <a:t>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514600" y="190512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民族艰难历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971800" y="487692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细读这两句，展开想象，把你“看到”的场景写下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990720" y="2895480"/>
            <a:ext cx="563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黄河的纤夫拉不直问号般的身躯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仿宋"/>
              </a:rPr>
              <a:t>长城的古砖挡不住洋炮的弹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Img226284761"/>
          <p:cNvPicPr/>
          <p:nvPr/>
        </p:nvPicPr>
        <p:blipFill>
          <a:blip r:embed="rId1"/>
          <a:stretch/>
        </p:blipFill>
        <p:spPr>
          <a:xfrm>
            <a:off x="457200" y="4572000"/>
            <a:ext cx="2133720" cy="1714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73305"/>
          <p:cNvPicPr/>
          <p:nvPr/>
        </p:nvPicPr>
        <p:blipFill>
          <a:blip r:embed="rId2"/>
          <a:stretch/>
        </p:blipFill>
        <p:spPr>
          <a:xfrm>
            <a:off x="6705720" y="1219320"/>
            <a:ext cx="198108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6T13:12:1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2:51Z</dcterms:modified>
  <cp:revision>2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