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F84A-E287-415A-86F9-BE493AB30652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905B-061D-46BB-9934-8C5DBA2E18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10F-2248-4455-9DE1-6677907E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B94-D8DC-4B34-A150-A88FE386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4CF39-A154-45B4-9DB2-1D6B9018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5BC63-1D0B-40F7-9956-C31E0894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71893-C62D-47AA-B616-C8E98585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29E5A-AEE0-4149-BE1D-46714291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DFEC3-6267-4D74-B714-C86D83B1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C8C00-FF6D-422B-88D1-775A62F7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95D2F-C297-401D-A175-6A938624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13EE0-771F-4808-9246-EDC674ED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A686A-FE3F-4F12-9175-30BCF61E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5A268-F5C4-490A-8D4C-0359F597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B3A-C3D7-450F-9C9F-A13B09EA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D8408-855C-4B3F-A749-1E50F38F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820CB-4688-46C1-B05E-8EE77F3D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77564-7F74-4178-A797-835B41E9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BE73D-3AE1-49FF-815C-6B6A3AF4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43586-B0C2-4B90-A49E-ED239401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F7DDE-6630-494A-8A02-2081BC7C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5DEA2-9446-4998-A744-518EB7CC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C0F3A-ED17-4473-875D-AF3C9EBE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EA09C-80B1-4C49-B9E2-6D720926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31FDF-B3E5-43C3-BE59-CD2B0861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5674-23DE-40B9-AC18-D20B6A29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90CA3-D607-462C-BD36-55DD4897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0F7A1-B715-446F-BF39-11C472D4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0B70A-8FEC-4931-82AC-0AB59CED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EA2DF-6CA1-43B7-8F83-4D7F3A6C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F1B3A-6D9A-4115-90AC-D19C217E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D34B3-BCEC-427D-A1F9-FB6C4B5A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BC8ED-2101-4EC3-BAF7-6D75991F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24668-C688-4F58-81D0-42A503DE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2E14B-9F34-417A-B042-50BCCF31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86A24-4449-48BD-9313-D9DBCE03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2ACB-4E63-47AC-9CC1-CFC92B8D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EAD70-92CD-465E-9691-DEA12C1F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733C3-160A-4876-B792-18998DF3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C4C94-6F0F-42D3-877A-D6D5808A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4DA39-E27E-4ADB-8D0D-D8B3E00B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50AE39-3F36-4620-AE93-E5EF0352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5BFE3-3144-4E32-8903-479CBDBC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843BA-F10A-4654-ACF0-57A7BB95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B2C10-EB95-48F8-9BA2-1C9B42DE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8B47D-33CB-4F2A-A2E3-D3B24268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99F0F-C80F-45EE-B4C0-812548E0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4C88-4DCC-455C-9EBA-69DD5D8D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9E7F9-09AE-406A-B66C-57056A87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47642-305C-4941-B49A-90DB4A47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39CC8-4984-492C-A2B6-D93D637E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CFF4E-4634-4EAB-A98A-06DADE26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C6D9D-1CB7-46BE-959A-73815AC4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9A1E19-2DE1-4535-A72E-449600B0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3BC33-368B-46D5-B996-387DEE64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8B1B2-303C-49C6-B20D-A88B732E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A7042-46FA-41CB-A37E-D1B19A40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09DA9-0903-4328-874D-CB215052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C5FA-3970-45AF-A7AA-8C4F789C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04238-A18B-482F-825F-0CB4D8C6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C922D-227B-476E-B5E9-7B1110FE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8573B-1960-4491-AD56-49EA06A1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E69AB-98CF-43C3-8053-D1BDBDE3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202C0-51BF-4A7A-859E-D7F11009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3B3CB-0D72-4175-8439-8CF627A1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2EFAC-C87A-44E0-B1E2-2FB750C7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0ED73-F847-4F74-BFC7-6A0EFDD8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40BB0-287C-407A-8BA5-FA54A841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7C0FE-1C13-41D2-87D5-34F6CA37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6B25-7686-412A-8965-BF033D2F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9B329C-C802-4095-B0B4-5D05DDD9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39F1D-06A8-4789-BE28-CEEF182D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4C7EDD-6BDE-4F0C-AF17-133AA775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86A925-AACB-4A4A-B189-E84FAF9E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C7A53-98BC-43F0-A8BE-F16662D8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13E54-F1A4-4EE5-86C5-845B53B7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B9C8C-4572-46DC-A7F7-95218356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F940C-CA08-4CAC-BC59-20DBFE46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1DFD9-CF4B-47A6-A5DA-EA5C943D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4482D0-EF94-4581-A368-FC67C464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DEC7-3615-4D2A-8AF2-1ECEDDFA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82AA3-291D-43F2-81EF-E7DD0D3D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BF38FA-DEB8-479D-95C6-094A901C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3224D-D20A-4B5B-B1F9-D53F73FC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172D5B-D09F-408C-B45C-B207614E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E680FA-FD6A-4699-B270-D008991C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F44D0-E39F-420F-ABA4-B96E056C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A21B8-A084-4A30-AA58-9B219C35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EB0B0C-F6EA-486A-885F-4C9497FB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7E1BD1-A033-402A-B3CC-0D798081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87FBF3-6FAE-4988-B05F-3EBD3A40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6DA4-E001-41FA-83C4-6FD1B534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C9B35-8FBB-4EE0-BAFE-DE96951A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33CCA0-F8DF-498F-BEB6-7B930FB3E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62F3F4-6963-4AF8-879F-3549AAD9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BDDFB8-3CAA-4010-B54F-DE811B59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A2419E-CFFA-4183-9554-0229FD19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8E8436-24A9-45C9-91B4-D9755E7C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2958AA-E26F-4E92-9005-1215B356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EFEF9D-2559-4D62-8021-256628B7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5AE28F-5038-4ECC-A904-35C0C29A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4AD210-8A0F-4349-A042-53E640B1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5D9D-5752-4A9C-8608-A23AAFDA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598DF-F778-4F87-B1AB-E8184365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01FAB6-C1F9-47DE-AB75-2E7D45F3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C981D-F0E2-4E49-8B4B-F461A928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97A-6196-418C-B9AA-FCF0BDB9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E91C-5F2D-4424-9C9A-30DCBBC8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5CBD-C3C5-47E4-BBA2-4CFC6784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4397-B085-45A8-BDE7-EBCC016D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BADD-5C53-4154-B672-6B836CCC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7C66-5AA0-4EDE-8234-C577B875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B74D-DDC5-4F5A-8A93-6500E243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DE2AB-DD91-42BA-B96E-A93FFE6D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043B-D479-45E2-A671-147344FE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295CA-9300-481C-A572-CF4BE8FB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6E30E-E62D-4C2A-B3A5-7C15DC10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2A9D-DD18-40C2-A221-AE73B013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6B1C-6388-44D6-9FAA-BE1A90EE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96F8-1F48-4837-84E0-3FB7E212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C2238-B87B-4D60-89BA-6EB34F66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4BED5-5726-415C-8EDC-421A1BD5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CED60-FE08-4B12-A7BB-E27CE092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635D-C06A-4DB8-BB75-8BB34839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6D632-8CB4-4DF8-AD19-0D06D77F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9BD20-6EFC-4FC4-AFF3-6193291A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D3E95-99E2-4194-AA4F-07E13826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EC3A-C57E-4495-A0A5-5BB0F7D0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52F-CD5E-4C37-9DE9-64BB68A2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70F80-A8D0-4EAB-AD9A-E5BC806E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AD3E9-A79B-4646-AF4C-4E1E89BE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7570B-FEA8-47A7-827E-A279831B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AE94D-8871-449C-BD14-3DB44B37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9A80C-62E2-4622-A982-51CEFDF9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422FF-7369-4541-B191-D7E14082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23C2C-3DAA-479C-8309-97461BC4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39A04-E629-4C62-85FD-A2F7EB726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9AAC7-91BF-4F7B-A4F7-1866B558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31EB0-CFC0-46C4-B93D-E2F26CBF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6971-02CF-4256-AEC9-0653511F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337F9-C321-4823-8DE6-7D552AE1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9167B-4140-4C2B-8785-155A761C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CD5FC-6D41-4516-A530-C3A9969F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C9D02-6B4F-43A0-9D8B-6B53810C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C1954-F4E2-422F-9FF9-E7AFD9EC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901E8-18AB-40F7-BF9C-A2D8D4CC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0B5BD-F1DD-4311-9DED-1AEFDA1B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8DDE9-0799-4A41-AA15-FA88BFD6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F0878-8903-4D70-AF1B-8D593334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DCD26-0D11-4C48-BF96-DA1BC3B9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23B-A39F-4AF4-8821-2FEACBCB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C7125-E97D-4239-8E5D-A2042104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FB760-0852-4FEC-BA24-B68A482F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9CD21-0636-4C58-84B4-B660F1CF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0E910-4A6C-452E-9FB5-E7DE38B9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A0AC3-D24E-4B51-B322-A204A12C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71626-04FD-46BE-9CD3-65805845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E6528-7B24-482F-ABE4-3F8717AC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51679-BCD2-4F41-B2E2-C5F5358B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8A225-5A52-4076-A4CC-A501F40A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D3B53-7099-404C-8107-373FDC22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C31-7830-4685-B083-624CDFA1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74DA3-598A-4B08-AC72-F49D86F5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EFF01-3789-4A61-AD55-727A914D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DA706-0EEC-4E1B-9B41-8FB62056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D1475-782A-4357-AD4F-32A843A3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B6514-A901-4418-B8BA-D282CD1F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E2A40-5BDF-4E90-8F73-6076421A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99337-7711-42D0-B633-8EE70D5E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40C31-CC01-4AF5-8D68-3D486681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BA092-762B-409D-A6F4-E7E6BCF9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75ABD-B914-4EC9-94D1-ED11B621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35E6-2E58-4B7C-B334-F624C5A1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89BFA-2A54-4E01-912B-A4D230BE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3BF28-3803-4ABA-84EC-5F8EEFED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C7744-5657-4CDD-B320-D2F52F3A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3D68C-D05E-43B3-B241-44DA15C7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C7E6B-E3AC-43BA-AC5D-3D4824D8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BE369-FD72-4AD4-ADE9-FF36286E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2773B-BF93-4ACE-A589-3C1CB169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64852-057D-45B4-89BF-B7F3E63F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49967-7753-4E62-8968-E803ECD2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AF6D1-F26B-4AA8-966E-7A378D17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531-760A-4C3B-9EF4-FE186882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EFDDE-3380-4369-B69D-BBBEED6A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548E6-6AA5-4BAD-B84C-6A29B3E9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1400F-4F39-4112-8DB5-16CF6CE2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53612-F420-446A-96F5-BEDE9544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F4C3F-F4AD-4E3E-BC7B-BE3A2302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D68DF-262C-403E-A2D1-01052759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DC5A9-44B5-4819-925B-EA1E33F0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5620A-EC55-4152-9E9C-D44A2CD4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91EB8-52EB-452B-8C16-E4D0733F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E6622-FD11-4FEE-9B22-529F9823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814E-DD1C-4913-9A1E-CF119D677A7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8FBC-AC9E-4AB4-A8D8-CB97FFA760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1" descr="E:\制作工作\2014\7月\7.10 小数专题模板\模板6-2.png"/>
          <p:cNvPicPr/>
          <p:nvPr/>
        </p:nvPicPr>
        <p:blipFill>
          <a:blip r:embed="rId5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6" descr="E:\制作工作\2014\7月\7.10 小数专题模板\模板6-1.png"/>
          <p:cNvPicPr/>
          <p:nvPr/>
        </p:nvPicPr>
        <p:blipFill>
          <a:blip r:embed="rId6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15E7-F9E5-40A4-AD3E-97F068DC8E3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8E80-0FE3-452C-ACD1-0A31523AF2E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BB46-8C2F-4E1E-B921-3DABF819D3E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D6BC-FC59-4880-83D2-E965456E3BC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11" descr="E:\制作工作\2014\7月\7.10 小数专题模板\模板6-2.png"/>
          <p:cNvPicPr/>
          <p:nvPr/>
        </p:nvPicPr>
        <p:blipFill>
          <a:blip r:embed="rId5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2D48-8529-4D39-9F38-36F857FCC81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011C-7C56-4866-8730-3E5B6ECA5B8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16CF-8E1C-40EB-8CA1-A8A7D7C4790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B4EB-04D7-41A2-B183-038174BC581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1" descr="E:\制作工作\2014\7月\7.10 小数专题模板\模板6-2.png"/>
          <p:cNvPicPr/>
          <p:nvPr/>
        </p:nvPicPr>
        <p:blipFill>
          <a:blip r:embed="rId5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3AC8-94E7-4272-82B2-0C2F67D539E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8EF0-DDD5-4D07-9908-88108ADA089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F605-43C6-4E99-86C7-9B4173E1513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0C7B-88CB-4FA0-9E7D-201CAF463C6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A89C-65B5-422B-A1B9-AA1282ED0D9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D841-E868-48B8-ACC0-B9FC7B42842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36E1-4EF0-49D6-8B3C-1B59CAE6358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3C33-C46F-4201-A91F-8E2E8EBC20D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E956-125B-42DD-B0B1-4BB3B916C36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075F-6FB2-4BD9-AE56-9902F2780EF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1" descr="E:\制作工作\2014\7月\7.10 小数专题模板\模板6-2.png"/>
          <p:cNvPicPr/>
          <p:nvPr/>
        </p:nvPicPr>
        <p:blipFill>
          <a:blip r:embed="rId5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E:\制作工作\2014\7月\7.10 小数专题模板\模板6-1.png"/>
          <p:cNvPicPr/>
          <p:nvPr/>
        </p:nvPicPr>
        <p:blipFill>
          <a:blip r:embed="rId6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BBD6-9920-4890-BBDB-26615093E9B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0A1F-1D5D-4CA6-A654-5482A341FAE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4ABB-6D22-4914-B4D7-99644DEC64C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FF7E-6BAC-477E-93C5-0266DE46D21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1" descr="E:\制作工作\2014\7月\7.10 小数专题模板\模板6-2.png"/>
          <p:cNvPicPr/>
          <p:nvPr/>
        </p:nvPicPr>
        <p:blipFill>
          <a:blip r:embed="rId5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E:\制作工作\2014\7月\7.10 小数专题模板\模板6-1.png"/>
          <p:cNvPicPr/>
          <p:nvPr/>
        </p:nvPicPr>
        <p:blipFill>
          <a:blip r:embed="rId6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8AE3-CBBD-4DDE-811F-9BBE41A19E5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32EB-BF1C-49FD-ABB1-FEB95212401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17C6-84D5-46FA-8660-2EA7CF5DDEA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EDA4-8927-4DAA-B647-DCF8F6C955E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1" descr="E:\制作工作\2014\7月\7.10 小数专题模板\模板6-2.png"/>
          <p:cNvPicPr/>
          <p:nvPr/>
        </p:nvPicPr>
        <p:blipFill>
          <a:blip r:embed="rId5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E:\制作工作\2014\7月\7.10 小数专题模板\模板6-1.png"/>
          <p:cNvPicPr/>
          <p:nvPr/>
        </p:nvPicPr>
        <p:blipFill>
          <a:blip r:embed="rId6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D685-5C04-4D04-9F64-5C2C47FE3C7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2A84-33A9-4BD3-BDDF-1F81FCFB29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CA91-F516-454A-8F07-1F2A8C82A32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7CFA-B022-42DB-9CDF-38E84C3C6EE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11" descr="E:\制作工作\2014\7月\7.10 小数专题模板\模板6-2.png"/>
          <p:cNvPicPr/>
          <p:nvPr/>
        </p:nvPicPr>
        <p:blipFill>
          <a:blip r:embed="rId5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564000" y="2060280"/>
            <a:ext cx="525600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折扣与成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1"/>
          <p:cNvSpPr/>
          <p:nvPr/>
        </p:nvSpPr>
        <p:spPr>
          <a:xfrm>
            <a:off x="1335240" y="404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二单元：百分数（二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10"/>
          <p:cNvSpPr/>
          <p:nvPr/>
        </p:nvSpPr>
        <p:spPr>
          <a:xfrm>
            <a:off x="2032200" y="61657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"/>
          <p:cNvSpPr/>
          <p:nvPr/>
        </p:nvSpPr>
        <p:spPr>
          <a:xfrm>
            <a:off x="1285920" y="357120"/>
            <a:ext cx="59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790920" y="378936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3670560" y="376380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6694560" y="376380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117072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0"/>
          <p:cNvSpPr/>
          <p:nvPr/>
        </p:nvSpPr>
        <p:spPr>
          <a:xfrm>
            <a:off x="4050360" y="378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1"/>
          <p:cNvSpPr/>
          <p:nvPr/>
        </p:nvSpPr>
        <p:spPr>
          <a:xfrm>
            <a:off x="7074720" y="3763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2"/>
          <p:cNvSpPr/>
          <p:nvPr/>
        </p:nvSpPr>
        <p:spPr>
          <a:xfrm>
            <a:off x="2552040" y="3036960"/>
            <a:ext cx="40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成            四成五           七成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1"/>
          <p:cNvSpPr/>
          <p:nvPr/>
        </p:nvSpPr>
        <p:spPr>
          <a:xfrm>
            <a:off x="3002400" y="21128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将下列成数改写成百分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3"/>
          <p:cNvSpPr/>
          <p:nvPr/>
        </p:nvSpPr>
        <p:spPr>
          <a:xfrm>
            <a:off x="1285920" y="357120"/>
            <a:ext cx="609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755640" y="177660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工厂去年用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千瓦时，今年比去年节电二成五，今年用电多少万千瓦时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16"/>
          <p:cNvSpPr/>
          <p:nvPr/>
        </p:nvSpPr>
        <p:spPr>
          <a:xfrm>
            <a:off x="1838160" y="3316680"/>
            <a:ext cx="48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50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62.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万千瓦时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7"/>
          <p:cNvSpPr/>
          <p:nvPr/>
        </p:nvSpPr>
        <p:spPr>
          <a:xfrm>
            <a:off x="1476360" y="40064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答：今年用电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62.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千瓦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3"/>
          <p:cNvSpPr/>
          <p:nvPr/>
        </p:nvSpPr>
        <p:spPr>
          <a:xfrm>
            <a:off x="1285920" y="357120"/>
            <a:ext cx="638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"/>
          <p:cNvSpPr/>
          <p:nvPr/>
        </p:nvSpPr>
        <p:spPr>
          <a:xfrm>
            <a:off x="755640" y="184716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出境旅游人数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次，比上一年增长两成。该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出境旅游人数为多少人次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2169720" y="3252960"/>
            <a:ext cx="49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5000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5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人次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>
            <a:off x="1979640" y="40777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答：该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出境旅游人数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5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人次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3"/>
          <p:cNvSpPr/>
          <p:nvPr/>
        </p:nvSpPr>
        <p:spPr>
          <a:xfrm>
            <a:off x="1285920" y="357120"/>
            <a:ext cx="58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6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1511280" cy="1500120"/>
          </a:xfrm>
          <a:prstGeom prst="rect">
            <a:avLst/>
          </a:prstGeom>
          <a:ln w="0">
            <a:noFill/>
          </a:ln>
        </p:spPr>
      </p:pic>
      <p:sp>
        <p:nvSpPr>
          <p:cNvPr id="807" name="AutoShape 7"/>
          <p:cNvSpPr/>
          <p:nvPr/>
        </p:nvSpPr>
        <p:spPr>
          <a:xfrm>
            <a:off x="2556000" y="2708280"/>
            <a:ext cx="4248000" cy="936720"/>
          </a:xfrm>
          <a:prstGeom prst="wedgeRoundRectCallout">
            <a:avLst>
              <a:gd name="adj1" fmla="val -64305"/>
              <a:gd name="adj2" fmla="val 4875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2627280" y="2852640"/>
            <a:ext cx="41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想一想，我们刚才是怎么解决有关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折扣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成数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的问题的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9" descr=""/>
          <p:cNvPicPr/>
          <p:nvPr/>
        </p:nvPicPr>
        <p:blipFill>
          <a:blip r:embed="rId2"/>
          <a:stretch/>
        </p:blipFill>
        <p:spPr>
          <a:xfrm>
            <a:off x="2922480" y="1601640"/>
            <a:ext cx="1505160" cy="81936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0" descr=""/>
          <p:cNvPicPr/>
          <p:nvPr/>
        </p:nvPicPr>
        <p:blipFill>
          <a:blip r:embed="rId3"/>
          <a:stretch/>
        </p:blipFill>
        <p:spPr>
          <a:xfrm>
            <a:off x="5116680" y="1644480"/>
            <a:ext cx="154296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3"/>
          <p:cNvSpPr/>
          <p:nvPr/>
        </p:nvSpPr>
        <p:spPr>
          <a:xfrm>
            <a:off x="1285920" y="357120"/>
            <a:ext cx="616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应用练习，巩固认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8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162920" cy="40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3"/>
          <p:cNvSpPr/>
          <p:nvPr/>
        </p:nvSpPr>
        <p:spPr>
          <a:xfrm>
            <a:off x="1285920" y="357120"/>
            <a:ext cx="58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应用练习，巩固认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4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429680" cy="65700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7"/>
          <p:cNvSpPr/>
          <p:nvPr/>
        </p:nvSpPr>
        <p:spPr>
          <a:xfrm>
            <a:off x="5724360" y="1411920"/>
            <a:ext cx="34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402c"/>
                </a:solidFill>
                <a:latin typeface="楷体"/>
                <a:ea typeface="楷体"/>
              </a:rPr>
              <a:t>9.6</a:t>
            </a:r>
            <a:r>
              <a:rPr b="1" lang="zh-CN" sz="2000" spc="-1" strike="noStrike">
                <a:solidFill>
                  <a:srgbClr val="fc402c"/>
                </a:solidFill>
                <a:latin typeface="楷体"/>
                <a:ea typeface="楷体"/>
              </a:rPr>
              <a:t>元与八折有什么关系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8"/>
          <p:cNvSpPr/>
          <p:nvPr/>
        </p:nvSpPr>
        <p:spPr>
          <a:xfrm>
            <a:off x="7380360" y="227664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9"/>
          <p:cNvSpPr/>
          <p:nvPr/>
        </p:nvSpPr>
        <p:spPr>
          <a:xfrm>
            <a:off x="2755800" y="2964240"/>
            <a:ext cx="37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.6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0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元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10"/>
          <p:cNvSpPr/>
          <p:nvPr/>
        </p:nvSpPr>
        <p:spPr>
          <a:xfrm>
            <a:off x="2484360" y="36856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答：这套书原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3"/>
          <p:cNvSpPr/>
          <p:nvPr/>
        </p:nvSpPr>
        <p:spPr>
          <a:xfrm>
            <a:off x="1285920" y="357120"/>
            <a:ext cx="58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应用练习，巩固认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6"/>
          <p:cNvSpPr/>
          <p:nvPr/>
        </p:nvSpPr>
        <p:spPr>
          <a:xfrm>
            <a:off x="1116000" y="1611000"/>
            <a:ext cx="748836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县前年秋粮产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吨，去年比前年增产三成。去年秋粮产量是多少万吨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某汽车出口公司二月份出口汽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万辆，比上月增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。一月份出口汽车多少万辆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7"/>
          <p:cNvSpPr/>
          <p:nvPr/>
        </p:nvSpPr>
        <p:spPr>
          <a:xfrm>
            <a:off x="2775240" y="2676960"/>
            <a:ext cx="42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8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0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6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万吨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8"/>
          <p:cNvSpPr/>
          <p:nvPr/>
        </p:nvSpPr>
        <p:spPr>
          <a:xfrm>
            <a:off x="2411280" y="328572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答：去年秋粮产量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6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9"/>
          <p:cNvSpPr/>
          <p:nvPr/>
        </p:nvSpPr>
        <p:spPr>
          <a:xfrm>
            <a:off x="2886840" y="49089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3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0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万辆）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0"/>
          <p:cNvSpPr/>
          <p:nvPr/>
        </p:nvSpPr>
        <p:spPr>
          <a:xfrm>
            <a:off x="2556000" y="55209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答：一月份出口汽车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"/>
          <p:cNvSpPr/>
          <p:nvPr/>
        </p:nvSpPr>
        <p:spPr>
          <a:xfrm>
            <a:off x="1285920" y="357120"/>
            <a:ext cx="58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四、回顾梳理，课堂总结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矩形 1"/>
          <p:cNvSpPr/>
          <p:nvPr/>
        </p:nvSpPr>
        <p:spPr>
          <a:xfrm>
            <a:off x="1979640" y="2421000"/>
            <a:ext cx="559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今天这节课我们学了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们应如何解决这一类问题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704F-1658-4233-9457-782D6ED758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矩形 8"/>
          <p:cNvSpPr/>
          <p:nvPr/>
        </p:nvSpPr>
        <p:spPr>
          <a:xfrm>
            <a:off x="1403280" y="17668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3"/>
          <p:cNvSpPr/>
          <p:nvPr/>
        </p:nvSpPr>
        <p:spPr>
          <a:xfrm>
            <a:off x="1285920" y="357120"/>
            <a:ext cx="58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创设情境，引入新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240000" cy="220176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" descr=""/>
          <p:cNvPicPr/>
          <p:nvPr/>
        </p:nvPicPr>
        <p:blipFill>
          <a:blip r:embed="rId2"/>
          <a:stretch/>
        </p:blipFill>
        <p:spPr>
          <a:xfrm>
            <a:off x="2195640" y="4005360"/>
            <a:ext cx="3528720" cy="20890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9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2103480" cy="22320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1" descr=""/>
          <p:cNvPicPr/>
          <p:nvPr/>
        </p:nvPicPr>
        <p:blipFill>
          <a:blip r:embed="rId4"/>
          <a:stretch/>
        </p:blipFill>
        <p:spPr>
          <a:xfrm rot="1510200">
            <a:off x="6877080" y="2060640"/>
            <a:ext cx="2016000" cy="109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3"/>
          <p:cNvSpPr/>
          <p:nvPr/>
        </p:nvSpPr>
        <p:spPr>
          <a:xfrm>
            <a:off x="1285920" y="357120"/>
            <a:ext cx="609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WordArt 8"/>
          <p:cNvSpPr txBox="1"/>
          <p:nvPr/>
        </p:nvSpPr>
        <p:spPr>
          <a:xfrm>
            <a:off x="826920" y="1484280"/>
            <a:ext cx="73152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1f497d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店庆</a:t>
            </a:r>
            <a:r>
              <a:rPr b="1" lang="en-US" sz="1800" spc="-1" strike="noStrike">
                <a:ln w="0">
                  <a:noFill/>
                </a:ln>
                <a:solidFill>
                  <a:srgbClr val="1f497d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5</a:t>
            </a:r>
            <a:r>
              <a:rPr b="1" lang="zh-CN" sz="1800" spc="-1" strike="noStrike">
                <a:ln w="0">
                  <a:noFill/>
                </a:ln>
                <a:solidFill>
                  <a:srgbClr val="1f497d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周年，电器九折，其他商品八五折</a:t>
            </a:r>
            <a:endParaRPr b="1" lang="en-US" sz="1800" spc="-1" strike="noStrike">
              <a:ln w="0">
                <a:noFill/>
              </a:ln>
              <a:solidFill>
                <a:srgbClr val="1f497d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18" name="Picture 9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2160720" cy="165888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12"/>
          <p:cNvSpPr/>
          <p:nvPr/>
        </p:nvSpPr>
        <p:spPr>
          <a:xfrm>
            <a:off x="12589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16"/>
          <p:cNvGrpSpPr/>
          <p:nvPr/>
        </p:nvGrpSpPr>
        <p:grpSpPr>
          <a:xfrm>
            <a:off x="826920" y="3141720"/>
            <a:ext cx="2232360" cy="1224000"/>
            <a:chOff x="826920" y="3141720"/>
            <a:chExt cx="2232360" cy="1224000"/>
          </a:xfrm>
        </p:grpSpPr>
        <p:sp>
          <p:nvSpPr>
            <p:cNvPr id="721" name="AutoShape 10"/>
            <p:cNvSpPr/>
            <p:nvPr/>
          </p:nvSpPr>
          <p:spPr>
            <a:xfrm>
              <a:off x="826920" y="3141720"/>
              <a:ext cx="2232360" cy="1224000"/>
            </a:xfrm>
            <a:prstGeom prst="wedgeRoundRectCallout">
              <a:avLst>
                <a:gd name="adj1" fmla="val 65148"/>
                <a:gd name="adj2" fmla="val 579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Text Box 13"/>
            <p:cNvSpPr/>
            <p:nvPr/>
          </p:nvSpPr>
          <p:spPr>
            <a:xfrm>
              <a:off x="826920" y="3284640"/>
              <a:ext cx="216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九折和八五折是什么意思？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17"/>
          <p:cNvGrpSpPr/>
          <p:nvPr/>
        </p:nvGrpSpPr>
        <p:grpSpPr>
          <a:xfrm>
            <a:off x="5724360" y="2852640"/>
            <a:ext cx="2232360" cy="1224000"/>
            <a:chOff x="5724360" y="2852640"/>
            <a:chExt cx="2232360" cy="1224000"/>
          </a:xfrm>
        </p:grpSpPr>
        <p:sp>
          <p:nvSpPr>
            <p:cNvPr id="724" name="AutoShape 11"/>
            <p:cNvSpPr/>
            <p:nvPr/>
          </p:nvSpPr>
          <p:spPr>
            <a:xfrm>
              <a:off x="5724360" y="2852640"/>
              <a:ext cx="2232360" cy="1224000"/>
            </a:xfrm>
            <a:prstGeom prst="wedgeRoundRectCallout">
              <a:avLst>
                <a:gd name="adj1" fmla="val -67425"/>
                <a:gd name="adj2" fmla="val 7490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4"/>
            <p:cNvSpPr/>
            <p:nvPr/>
          </p:nvSpPr>
          <p:spPr>
            <a:xfrm>
              <a:off x="5796000" y="2889360"/>
              <a:ext cx="216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九折就是原价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90%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，八五折就是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……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3"/>
          <p:cNvSpPr/>
          <p:nvPr/>
        </p:nvSpPr>
        <p:spPr>
          <a:xfrm>
            <a:off x="1285920" y="357120"/>
            <a:ext cx="60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4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2160720" cy="1658880"/>
          </a:xfrm>
          <a:prstGeom prst="rect">
            <a:avLst/>
          </a:prstGeom>
          <a:ln w="0">
            <a:noFill/>
          </a:ln>
        </p:spPr>
      </p:pic>
      <p:sp>
        <p:nvSpPr>
          <p:cNvPr id="729" name="AutoShape 6"/>
          <p:cNvSpPr/>
          <p:nvPr/>
        </p:nvSpPr>
        <p:spPr>
          <a:xfrm>
            <a:off x="5724360" y="2924280"/>
            <a:ext cx="2735280" cy="1296720"/>
          </a:xfrm>
          <a:prstGeom prst="wedgeRoundRectCallout">
            <a:avLst>
              <a:gd name="adj1" fmla="val -64217"/>
              <a:gd name="adj2" fmla="val 62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12589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10"/>
          <p:cNvGrpSpPr/>
          <p:nvPr/>
        </p:nvGrpSpPr>
        <p:grpSpPr>
          <a:xfrm>
            <a:off x="826920" y="3141720"/>
            <a:ext cx="2233800" cy="1224000"/>
            <a:chOff x="826920" y="3141720"/>
            <a:chExt cx="2233800" cy="1224000"/>
          </a:xfrm>
        </p:grpSpPr>
        <p:sp>
          <p:nvSpPr>
            <p:cNvPr id="732" name="AutoShape 5"/>
            <p:cNvSpPr/>
            <p:nvPr/>
          </p:nvSpPr>
          <p:spPr>
            <a:xfrm>
              <a:off x="826920" y="3141720"/>
              <a:ext cx="2232360" cy="1224000"/>
            </a:xfrm>
            <a:prstGeom prst="wedgeRoundRectCallout">
              <a:avLst>
                <a:gd name="adj1" fmla="val 65148"/>
                <a:gd name="adj2" fmla="val 579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Text Box 8"/>
            <p:cNvSpPr/>
            <p:nvPr/>
          </p:nvSpPr>
          <p:spPr>
            <a:xfrm>
              <a:off x="900000" y="3284640"/>
              <a:ext cx="216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八五折就是原价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85%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Text Box 9"/>
          <p:cNvSpPr/>
          <p:nvPr/>
        </p:nvSpPr>
        <p:spPr>
          <a:xfrm>
            <a:off x="5796000" y="2997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商品打几折，其实就是指现价是原价的百分之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WordArt 8"/>
          <p:cNvSpPr txBox="1"/>
          <p:nvPr/>
        </p:nvSpPr>
        <p:spPr>
          <a:xfrm>
            <a:off x="826920" y="1484280"/>
            <a:ext cx="73152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1f497d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店庆</a:t>
            </a:r>
            <a:r>
              <a:rPr b="1" lang="en-US" sz="1800" spc="-1" strike="noStrike">
                <a:ln w="0">
                  <a:noFill/>
                </a:ln>
                <a:solidFill>
                  <a:srgbClr val="1f497d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5</a:t>
            </a:r>
            <a:r>
              <a:rPr b="1" lang="zh-CN" sz="1800" spc="-1" strike="noStrike">
                <a:ln w="0">
                  <a:noFill/>
                </a:ln>
                <a:solidFill>
                  <a:srgbClr val="1f497d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周年，电器九折，其他商品八五折</a:t>
            </a:r>
            <a:endParaRPr b="1" lang="en-US" sz="1800" spc="-1" strike="noStrike">
              <a:ln w="0">
                <a:noFill/>
              </a:ln>
              <a:solidFill>
                <a:srgbClr val="1f497d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6" name="文本框 1"/>
          <p:cNvSpPr/>
          <p:nvPr/>
        </p:nvSpPr>
        <p:spPr>
          <a:xfrm>
            <a:off x="447840" y="5883120"/>
            <a:ext cx="82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3"/>
          <p:cNvSpPr/>
          <p:nvPr/>
        </p:nvSpPr>
        <p:spPr>
          <a:xfrm>
            <a:off x="1285920" y="357120"/>
            <a:ext cx="609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3019320" y="15580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折扣写出相应的百分数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12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7372440" cy="1371600"/>
          </a:xfrm>
          <a:prstGeom prst="rect">
            <a:avLst/>
          </a:prstGeom>
          <a:ln w="0">
            <a:noFill/>
          </a:ln>
        </p:spPr>
      </p:pic>
      <p:sp>
        <p:nvSpPr>
          <p:cNvPr id="741" name="Text Box 13"/>
          <p:cNvSpPr/>
          <p:nvPr/>
        </p:nvSpPr>
        <p:spPr>
          <a:xfrm>
            <a:off x="933480" y="441180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4"/>
          <p:cNvSpPr/>
          <p:nvPr/>
        </p:nvSpPr>
        <p:spPr>
          <a:xfrm>
            <a:off x="3516480" y="439884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5"/>
          <p:cNvSpPr/>
          <p:nvPr/>
        </p:nvSpPr>
        <p:spPr>
          <a:xfrm>
            <a:off x="6324840" y="4411800"/>
            <a:ext cx="15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        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6"/>
          <p:cNvSpPr/>
          <p:nvPr/>
        </p:nvSpPr>
        <p:spPr>
          <a:xfrm>
            <a:off x="1313640" y="4411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7"/>
          <p:cNvSpPr/>
          <p:nvPr/>
        </p:nvSpPr>
        <p:spPr>
          <a:xfrm>
            <a:off x="3906000" y="4411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8"/>
          <p:cNvSpPr/>
          <p:nvPr/>
        </p:nvSpPr>
        <p:spPr>
          <a:xfrm>
            <a:off x="6714360" y="4411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3"/>
          <p:cNvSpPr/>
          <p:nvPr/>
        </p:nvSpPr>
        <p:spPr>
          <a:xfrm>
            <a:off x="1285920" y="357120"/>
            <a:ext cx="59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Group 19"/>
          <p:cNvGrpSpPr/>
          <p:nvPr/>
        </p:nvGrpSpPr>
        <p:grpSpPr>
          <a:xfrm>
            <a:off x="2556000" y="3717360"/>
            <a:ext cx="4751280" cy="1325160"/>
            <a:chOff x="2556000" y="3717360"/>
            <a:chExt cx="4751280" cy="1325160"/>
          </a:xfrm>
        </p:grpSpPr>
        <p:sp>
          <p:nvSpPr>
            <p:cNvPr id="750" name="Rectangle 13"/>
            <p:cNvSpPr/>
            <p:nvPr/>
          </p:nvSpPr>
          <p:spPr>
            <a:xfrm>
              <a:off x="2556000" y="3717360"/>
              <a:ext cx="374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180×85%=153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元）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4"/>
            <p:cNvSpPr/>
            <p:nvPr/>
          </p:nvSpPr>
          <p:spPr>
            <a:xfrm>
              <a:off x="2556000" y="4582800"/>
              <a:ext cx="475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答：买这辆车用了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153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元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Rectangle 11"/>
          <p:cNvSpPr/>
          <p:nvPr/>
        </p:nvSpPr>
        <p:spPr>
          <a:xfrm>
            <a:off x="611280" y="1990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爸爸给小雨买了一辆自行车，原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，现在商店打八五折出售。买这辆车用了多少钱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6"/>
          <p:cNvSpPr/>
          <p:nvPr/>
        </p:nvSpPr>
        <p:spPr>
          <a:xfrm>
            <a:off x="1763640" y="2708280"/>
            <a:ext cx="1079640" cy="0"/>
          </a:xfrm>
          <a:prstGeom prst="line">
            <a:avLst/>
          </a:prstGeom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7"/>
          <p:cNvSpPr/>
          <p:nvPr/>
        </p:nvSpPr>
        <p:spPr>
          <a:xfrm>
            <a:off x="1258920" y="2780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402c"/>
                </a:solidFill>
                <a:latin typeface="楷体"/>
                <a:ea typeface="楷体"/>
              </a:rPr>
              <a:t>现价是原价的</a:t>
            </a:r>
            <a:r>
              <a:rPr b="1" lang="en-US" sz="2000" spc="-1" strike="noStrike">
                <a:solidFill>
                  <a:srgbClr val="fc402c"/>
                </a:solidFill>
                <a:latin typeface="楷体"/>
                <a:ea typeface="楷体"/>
              </a:rPr>
              <a:t>85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3"/>
          <p:cNvSpPr/>
          <p:nvPr/>
        </p:nvSpPr>
        <p:spPr>
          <a:xfrm>
            <a:off x="1285920" y="357120"/>
            <a:ext cx="609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900000" y="3142080"/>
            <a:ext cx="38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60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60×9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900000" y="17740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爸爸买了一个随声听，原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，现在只花了九折的钱，比原价便宜了多少钱？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2"/>
          <p:cNvSpPr/>
          <p:nvPr/>
        </p:nvSpPr>
        <p:spPr>
          <a:xfrm>
            <a:off x="4859280" y="314208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60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90%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）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元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3"/>
          <p:cNvSpPr/>
          <p:nvPr/>
        </p:nvSpPr>
        <p:spPr>
          <a:xfrm>
            <a:off x="2124000" y="37904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答：比原价便宜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4"/>
          <p:cNvSpPr/>
          <p:nvPr/>
        </p:nvSpPr>
        <p:spPr>
          <a:xfrm>
            <a:off x="900000" y="26078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一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5"/>
          <p:cNvSpPr/>
          <p:nvPr/>
        </p:nvSpPr>
        <p:spPr>
          <a:xfrm>
            <a:off x="4859280" y="26078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二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16" descr=""/>
          <p:cNvPicPr/>
          <p:nvPr/>
        </p:nvPicPr>
        <p:blipFill>
          <a:blip r:embed="rId1"/>
          <a:stretch/>
        </p:blipFill>
        <p:spPr>
          <a:xfrm>
            <a:off x="468360" y="4653000"/>
            <a:ext cx="1511280" cy="1500120"/>
          </a:xfrm>
          <a:prstGeom prst="rect">
            <a:avLst/>
          </a:prstGeom>
          <a:ln w="0">
            <a:noFill/>
          </a:ln>
        </p:spPr>
      </p:pic>
      <p:grpSp>
        <p:nvGrpSpPr>
          <p:cNvPr id="764" name="Group 20"/>
          <p:cNvGrpSpPr/>
          <p:nvPr/>
        </p:nvGrpSpPr>
        <p:grpSpPr>
          <a:xfrm>
            <a:off x="2411280" y="4724280"/>
            <a:ext cx="3241800" cy="720720"/>
            <a:chOff x="2411280" y="4724280"/>
            <a:chExt cx="3241800" cy="720720"/>
          </a:xfrm>
        </p:grpSpPr>
        <p:sp>
          <p:nvSpPr>
            <p:cNvPr id="765" name="AutoShape 17"/>
            <p:cNvSpPr/>
            <p:nvPr/>
          </p:nvSpPr>
          <p:spPr>
            <a:xfrm>
              <a:off x="2411280" y="4724280"/>
              <a:ext cx="2521080" cy="720720"/>
            </a:xfrm>
            <a:prstGeom prst="wedgeRoundRectCallout">
              <a:avLst>
                <a:gd name="adj1" fmla="val -71490"/>
                <a:gd name="adj2" fmla="val 3442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8"/>
            <p:cNvSpPr/>
            <p:nvPr/>
          </p:nvSpPr>
          <p:spPr>
            <a:xfrm>
              <a:off x="2484360" y="479736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"/>
                </a:rPr>
                <a:t>分别是怎么想的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3"/>
          <p:cNvSpPr/>
          <p:nvPr/>
        </p:nvSpPr>
        <p:spPr>
          <a:xfrm>
            <a:off x="1285920" y="357120"/>
            <a:ext cx="63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12" descr=""/>
          <p:cNvPicPr/>
          <p:nvPr/>
        </p:nvPicPr>
        <p:blipFill>
          <a:blip r:embed="rId1"/>
          <a:srcRect l="0" t="0" r="0" b="66302"/>
          <a:stretch/>
        </p:blipFill>
        <p:spPr>
          <a:xfrm>
            <a:off x="611280" y="1197000"/>
            <a:ext cx="7896240" cy="115236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13" descr=""/>
          <p:cNvPicPr/>
          <p:nvPr/>
        </p:nvPicPr>
        <p:blipFill>
          <a:blip r:embed="rId2"/>
          <a:stretch/>
        </p:blipFill>
        <p:spPr>
          <a:xfrm>
            <a:off x="0" y="4149720"/>
            <a:ext cx="1511280" cy="1500120"/>
          </a:xfrm>
          <a:prstGeom prst="rect">
            <a:avLst/>
          </a:prstGeom>
          <a:ln w="0">
            <a:noFill/>
          </a:ln>
        </p:spPr>
      </p:pic>
      <p:sp>
        <p:nvSpPr>
          <p:cNvPr id="771" name="AutoShape 14"/>
          <p:cNvSpPr/>
          <p:nvPr/>
        </p:nvSpPr>
        <p:spPr>
          <a:xfrm>
            <a:off x="1763640" y="4869000"/>
            <a:ext cx="3097440" cy="863640"/>
          </a:xfrm>
          <a:prstGeom prst="wedgeRoundRectCallout">
            <a:avLst>
              <a:gd name="adj1" fmla="val -66402"/>
              <a:gd name="adj2" fmla="val 250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1836720" y="486900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原价、现价和折扣之间有什么关系呢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17" descr=""/>
          <p:cNvPicPr/>
          <p:nvPr/>
        </p:nvPicPr>
        <p:blipFill>
          <a:blip r:embed="rId3"/>
          <a:stretch/>
        </p:blipFill>
        <p:spPr>
          <a:xfrm>
            <a:off x="7451640" y="3933720"/>
            <a:ext cx="1511280" cy="1500120"/>
          </a:xfrm>
          <a:prstGeom prst="rect">
            <a:avLst/>
          </a:prstGeom>
          <a:ln w="0">
            <a:noFill/>
          </a:ln>
        </p:spPr>
      </p:pic>
      <p:sp>
        <p:nvSpPr>
          <p:cNvPr id="774" name="AutoShape 18"/>
          <p:cNvSpPr/>
          <p:nvPr/>
        </p:nvSpPr>
        <p:spPr>
          <a:xfrm>
            <a:off x="5076720" y="5229360"/>
            <a:ext cx="2808360" cy="576000"/>
          </a:xfrm>
          <a:prstGeom prst="wedgeRoundRectCallout">
            <a:avLst>
              <a:gd name="adj1" fmla="val 52657"/>
              <a:gd name="adj2" fmla="val -8361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9"/>
          <p:cNvSpPr/>
          <p:nvPr/>
        </p:nvSpPr>
        <p:spPr>
          <a:xfrm>
            <a:off x="5148360" y="5300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现价＝原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"/>
              </a:rPr>
              <a:t>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折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22"/>
          <p:cNvSpPr/>
          <p:nvPr/>
        </p:nvSpPr>
        <p:spPr>
          <a:xfrm>
            <a:off x="6919920" y="3960720"/>
            <a:ext cx="10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0.8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14" descr=""/>
          <p:cNvPicPr/>
          <p:nvPr/>
        </p:nvPicPr>
        <p:blipFill>
          <a:blip r:embed="rId4"/>
          <a:stretch/>
        </p:blipFill>
        <p:spPr>
          <a:xfrm>
            <a:off x="1042920" y="2276640"/>
            <a:ext cx="7296120" cy="1409400"/>
          </a:xfrm>
          <a:prstGeom prst="rect">
            <a:avLst/>
          </a:prstGeom>
          <a:ln w="0">
            <a:noFill/>
          </a:ln>
        </p:spPr>
      </p:pic>
      <p:sp>
        <p:nvSpPr>
          <p:cNvPr id="778" name="Text Box 20"/>
          <p:cNvSpPr/>
          <p:nvPr/>
        </p:nvSpPr>
        <p:spPr>
          <a:xfrm>
            <a:off x="1733400" y="39448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1"/>
          <p:cNvSpPr/>
          <p:nvPr/>
        </p:nvSpPr>
        <p:spPr>
          <a:xfrm>
            <a:off x="4327560" y="3944880"/>
            <a:ext cx="10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73.5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17" descr=""/>
          <p:cNvPicPr/>
          <p:nvPr/>
        </p:nvPicPr>
        <p:blipFill>
          <a:blip r:embed="rId5"/>
          <a:stretch/>
        </p:blipFill>
        <p:spPr>
          <a:xfrm>
            <a:off x="1042920" y="3645000"/>
            <a:ext cx="6772320" cy="74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7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1280" cy="4390920"/>
          </a:xfrm>
          <a:prstGeom prst="rect">
            <a:avLst/>
          </a:prstGeom>
          <a:ln w="0">
            <a:noFill/>
          </a:ln>
        </p:spPr>
      </p:pic>
      <p:sp>
        <p:nvSpPr>
          <p:cNvPr id="783" name="TextBox 3"/>
          <p:cNvSpPr/>
          <p:nvPr/>
        </p:nvSpPr>
        <p:spPr>
          <a:xfrm>
            <a:off x="1285920" y="357120"/>
            <a:ext cx="59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结合情境，学习新知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09Z</dcterms:modified>
  <cp:revision>1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