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02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1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102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2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1.xml" ContentType="application/vnd.openxmlformats-officedocument.theme+xml"/>
  <Override PartName="/ppt/theme/theme143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4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10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46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39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138.xml" ContentType="application/vnd.openxmlformats-officedocument.theme+xml"/>
  <Override PartName="/ppt/theme/theme56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53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4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41.xml" ContentType="application/vnd.openxmlformats-officedocument.theme+xml"/>
  <Override PartName="/ppt/theme/theme36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theme/theme102.xml" ContentType="application/vnd.openxmlformats-officedocument.theme+xml"/>
  <Override PartName="/ppt/theme/theme98.xml" ContentType="application/vnd.openxmlformats-officedocument.theme+xml"/>
  <Override PartName="/ppt/theme/theme103.xml" ContentType="application/vnd.openxmlformats-officedocument.theme+xml"/>
  <Override PartName="/ppt/theme/theme99.xml" ContentType="application/vnd.openxmlformats-officedocument.theme+xml"/>
  <Override PartName="/ppt/theme/theme104.xml" ContentType="application/vnd.openxmlformats-officedocument.theme+xml"/>
  <Override PartName="/ppt/theme/theme105.xml" ContentType="application/vnd.openxmlformats-officedocument.theme+xml"/>
  <Override PartName="/ppt/theme/theme106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chimes.wav" ContentType="audio/x-wav"/>
  <Override PartName="/ppt/media/image12.wmf" ContentType="image/x-wmf"/>
  <Override PartName="/ppt/media/image9.png" ContentType="image/png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326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</p:sldMasterIdLst>
  <p:sldIdLst>
    <p:sldId id="256" r:id="rId146"/>
    <p:sldId id="257" r:id="rId147"/>
    <p:sldId id="258" r:id="rId148"/>
    <p:sldId id="259" r:id="rId149"/>
    <p:sldId id="260" r:id="rId150"/>
    <p:sldId id="261" r:id="rId151"/>
    <p:sldId id="262" r:id="rId152"/>
    <p:sldId id="263" r:id="rId153"/>
    <p:sldId id="264" r:id="rId154"/>
    <p:sldId id="265" r:id="rId155"/>
    <p:sldId id="266" r:id="rId156"/>
    <p:sldId id="267" r:id="rId157"/>
    <p:sldId id="268" r:id="rId158"/>
    <p:sldId id="269" r:id="rId1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" Target="slides/slide1.xml"/><Relationship Id="rId147" Type="http://schemas.openxmlformats.org/officeDocument/2006/relationships/slide" Target="slides/slide2.xml"/><Relationship Id="rId148" Type="http://schemas.openxmlformats.org/officeDocument/2006/relationships/slide" Target="slides/slide3.xml"/><Relationship Id="rId149" Type="http://schemas.openxmlformats.org/officeDocument/2006/relationships/slide" Target="slides/slide4.xml"/><Relationship Id="rId150" Type="http://schemas.openxmlformats.org/officeDocument/2006/relationships/slide" Target="slides/slide5.xml"/><Relationship Id="rId151" Type="http://schemas.openxmlformats.org/officeDocument/2006/relationships/slide" Target="slides/slide6.xml"/><Relationship Id="rId152" Type="http://schemas.openxmlformats.org/officeDocument/2006/relationships/slide" Target="slides/slide7.xml"/><Relationship Id="rId153" Type="http://schemas.openxmlformats.org/officeDocument/2006/relationships/slide" Target="slides/slide8.xml"/><Relationship Id="rId154" Type="http://schemas.openxmlformats.org/officeDocument/2006/relationships/slide" Target="slides/slide9.xml"/><Relationship Id="rId155" Type="http://schemas.openxmlformats.org/officeDocument/2006/relationships/slide" Target="slides/slide10.xml"/><Relationship Id="rId156" Type="http://schemas.openxmlformats.org/officeDocument/2006/relationships/slide" Target="slides/slide11.xml"/><Relationship Id="rId157" Type="http://schemas.openxmlformats.org/officeDocument/2006/relationships/slide" Target="slides/slide12.xml"/><Relationship Id="rId158" Type="http://schemas.openxmlformats.org/officeDocument/2006/relationships/slide" Target="slides/slide13.xml"/><Relationship Id="rId159" Type="http://schemas.openxmlformats.org/officeDocument/2006/relationships/slide" Target="slides/slide14.xml"/><Relationship Id="rId1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2C4-79E9-4A86-B718-E91FE59B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78E-ADF5-4D4B-A663-868F2D86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833D2-E7AC-450B-89A0-75FCBB85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A113DB4-10A8-485D-9B0C-20066DF6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C5C04E7-F463-42D6-B914-187604EC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1B16105-E53E-41FB-8702-DC8F6425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EBB381B-D1C5-4EDA-A8BB-AF67ADB1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9A48B43-3B8C-497A-B06E-42AB85A3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41CE13E-6449-42B7-BF52-D0F66EAA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32B5A8C-CBA4-42B6-A81B-F7398B6D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379F141-7EC1-4A92-A67B-21B3FB21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9E80931-440D-4274-BB49-9A107B96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925068D-7864-452A-AFAB-FAA0CF11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ACBC3-88F3-43FF-830D-CC3BD82C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2C313D6-86B6-4CD9-AB11-B9F4B8F5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4876124-26B1-4F70-9620-3914646E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AB4209C-D97C-4E52-A73C-35D84F2E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B5F25B4-F3BC-4F44-8CF8-FCE04B33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45D8183-E51B-44E2-9D98-6329DB05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2E77CE9-1694-4505-81F5-93BA0476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7143ADF-78BB-48BA-80E1-B8BA5440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55AE346-40DA-4A74-91F2-8750D778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EB0FB22-1E29-4E17-BB62-F46E7385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33C83B7-CAB0-457F-952A-6E41C38C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72E33-19E9-462B-A37B-51E536F5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974DBBF-67E8-4C0E-AFAC-5CBF0DA2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16076B8-6DC3-4F03-942F-A0FC916B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EB716E2-1035-443E-BF08-1ABA157D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B8B0F65-8EEB-4A81-BD69-B61F74C0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A02D620-B7F8-4E98-9982-1F4102A0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BB96F34-AF12-4287-B2E3-84E89E0A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B767170-2D1A-4A75-8C00-736D0548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8E926BE-EC8A-43D5-A0D8-19EEB220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0A7F2B6-3020-405D-9D06-DF7BDE84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AD244B2-83B6-451A-9F45-4F3DD627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72005-B572-40E8-8451-F1AABDF0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33FC3A9-E657-427A-88BE-7AA93F62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D50F6DD-9FFA-4078-9543-3238B7C2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EF23F5F-E76E-4164-AAEE-0F584CC1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1D09AE8-3307-4E95-A395-F9928A89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E35C470-332A-4A12-B2B8-B98FEA98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47B7E11-FCBE-4D47-B095-090A7238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4DCDD9B-4385-4B9A-ABDF-5ED95EF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72434E8-71BB-4AB3-8ACE-BD92BD63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D55A980-08CD-4633-B304-4CB2929B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6185B8B-0B76-4957-A574-2F0584CB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A0BF3-4FBA-4DF4-8DAE-108AD79A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31830C5-7B02-4BBC-A470-C54FF7C9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2A0C894-F4E6-4224-85FD-D83B082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B90103C-3AF7-4133-B9CA-F6E70E30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FD47B9C-4838-428C-B70D-6C7B9B6B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729B264-1F7E-450D-A8FF-D004354A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9BDD66A-27B1-497D-AA21-80D49033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50EE98D-D503-437F-81A1-BE89A0CA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FCA5915-58FD-4B49-8478-B7432925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8FA66A9-4558-4023-B194-35F5A558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F3A86CC-EE5F-4887-A232-CBE7A3CA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7698A-7A8E-4508-A9CD-158576B0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C4A6D86-F8F5-4E48-B4E2-B96284A8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21B9A14-9EF2-4970-A4D1-5A451B13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18D635A-D4C4-436D-ABE9-628B6FD9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831FC20-9BE3-45D2-89F2-F64CBD65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25B28FC-6210-4753-A2C3-20043D0A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1988D26-9AC7-4442-A1F4-50EB5BC5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AD23E58-EDA8-4BEA-A9E2-69A7C626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D9FE019-0697-4A79-B9DD-74D35DFC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FA7273E-BA0B-4A3F-82F3-DE955EA2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30D9BE8-9FAF-4D06-BBAE-0620BBFB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5A7DF-77F8-467C-B905-9DE50457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5E264D3-8192-4D71-A3C3-05DC2702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3DC8101-B864-4481-80D1-C632682E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E8432DB-E58A-4B09-A736-CA81ECF9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710821E-A12A-459E-9BA4-5A729DBF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8EDB812-0385-4ECE-BD2D-9BF71E81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89DA3C4-A032-47A9-AB67-59B416A4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5B9285F-8DE9-4CC5-B91F-E59BA3DD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A868123-DF77-4C19-B2B7-23CBAD7D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4A82072-B57E-459F-9364-A11F7FD2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69BE1F11-32FB-4DF7-9B06-BFBB1E0F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A3B94-BF83-4BA8-8933-6A4F3C2A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6318DBF-7688-4F0F-8BBD-DE40015E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896BEDF-0AEF-47FE-B521-77F31808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3EA54C5-CBD6-421F-A5D7-F069178A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6DF2BFE7-31F4-4BA8-9E7B-5F9948AB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403CC48-0B93-43D9-BFDE-C1043458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F9EDB0B-D884-4D1E-AD4F-4249FBF4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AB274ED-BC68-41A2-ADBD-BFE0745F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710265C-68D0-4DD8-8E7F-04DF80E0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AC23B9E-929D-4372-8F31-65B12F50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7A59E98-15A2-46FA-B668-323C92B5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E97AC-7360-4444-8888-7D9B7599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4643DF2-518B-44A0-B0E3-7B47D6ED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66318A9-EEF5-4DEF-BE42-2C0767A6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163771C-9CC8-455F-928B-51142FE5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86DB69C9-98A2-403A-BD1F-27EE7D6E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C67CBAD-21E0-4A54-9B18-D37DF9A7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231A4A2-924A-43EA-B482-2867FE9A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5A63519B-7A05-40A1-A9FF-DA2FBF9F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4C46DE2A-E141-4AB5-A12A-52FFAD59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992BE85-73DD-4F4E-BF41-11A74C14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2D21C34-BDCF-4993-A2C1-92D26F48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62603-B3F2-4182-B876-07AF9BC2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4EE29369-5F5D-430D-A4C5-ABC00AAB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599AB07-F2C5-48CC-BD38-747CCF4F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50CF0C4C-CE0D-41DC-8A2F-96835E42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796704C-97D1-40D5-96DD-E32E8FBB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1FD7789-489B-4047-A57E-058E1B80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2F480731-E084-4203-8056-BA81EB37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A70B242-28C5-4636-9B4B-0AFC702C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28DD08C7-6C0B-4FAB-AF49-68F8EA46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8F71A5B-579E-45BD-8E07-A011F215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EEAEED01-A417-45A4-B2E7-E2853913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B18-07A9-4F74-B30B-78A5D4CD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92B5B-4D42-419F-8FBD-47975922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18DD233-D824-49E9-887D-D67F24FB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810167F-765C-45B4-8794-E4551D0E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255EEE2-D0BA-464D-A0A0-7C814332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0DE1154-BCF4-487B-BC04-AA7A77C8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D6258B7-1234-4A3D-97ED-54543E83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CEB8CF55-7EAB-4D38-90D4-387A4A9D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CC040133-ECA2-49B2-8840-94B0151F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93379A63-EE07-4C2D-B13D-57DF90F1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752D79E-6164-45BB-8317-726848B2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281E227-9998-4D39-9D81-71019A28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C0CE1-0589-4BDB-B55F-E5E7DEBA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3529BFC-5BFB-4801-A4B3-678A4B19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D44CFC3-AA32-4F71-A3DA-30D532F5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13F5B4F-ECFD-47DA-8C78-5024893C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76E03EE-226D-4621-9583-8710C8F6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4C793D0-B569-4451-99F9-3FAC611E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FAC86D4-CA96-4ED8-9A7D-54F41DD8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FFDCCA2-D851-4F8A-8F9E-6C5353E9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6FD873E4-C8A0-4E67-8F4B-334AFCEE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72C73C3-40D6-4551-B4BB-249B3B38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1E3DCD81-960A-485B-B01A-F0DC11BD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CCF9C-A1B7-4841-BB9C-CA99FB4E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08D6C70-1089-4FBA-9BA1-6BC8CC57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8D6A78D-65BA-43B1-BEBE-B5B95A99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7277D96-E43A-473C-A3BD-0599F3BA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044BA12-9F85-4C5D-9A23-7FC413A7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871ED48-FFA4-4253-9D2D-95D09C24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0B6ED76-B827-4F3F-8A51-CB52B136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37E19E3-8677-4B39-89C9-9103ADB8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DF9790E-F208-43F7-8C96-C2E90F13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F3C1060-7129-4726-B9B3-94ABED43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A46EE5B-CCAE-4664-AF0B-FC4008C6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C9CE3-0D48-44F7-A26E-369D1D69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D6989F9-611A-4F9E-9256-B38845A0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E9E6F28-0255-442D-960A-EE836FF2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D6878861-F0EB-458C-BF43-BA5092B9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E4955F8-EA1D-44FF-8106-BEC35652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4600AA1-3861-457D-93C7-DE63EDCF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841F913-0D0A-4434-BF39-95CC7A5B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372C29C-D47C-4726-B382-1EECEF6B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C2F6996-1963-4869-95DF-A445C127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AF362F1-3935-461F-937C-FEC49977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E0A513A-BCA6-4820-A62E-D2B96BD3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24452-AE11-4891-8293-8BC036F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D642ACCB-3EDB-4921-ADDB-7A4E0F3A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97FF38A-3CB0-49A7-9B3C-B3E12538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C173E352-BBFA-4C1B-89E0-A31B4161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60A0AAE-7C50-4D39-B8E8-C9B30195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0FAD391-5432-4BFA-A02E-8713F66C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CE887861-CD24-4FF1-9507-4DB6CE3E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04C35CF-4944-4EDA-A480-27E9E316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2ED751F-38C4-4D58-B734-B8625CCC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6AE87A5-733E-45B4-B530-440C00E5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590B170-885F-4893-9653-BB8B1FC8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343C3-A518-438D-95DE-1A49CB1B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97F9DAE-CB9F-4BDE-8C98-4010EBAC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8DC5590-CEF9-4B88-B400-07147C5B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22AB688F-9B66-4FA6-B6BC-91A50E75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94E287F-1E8A-4868-8069-B8EEBB79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50E23775-4934-4B0D-BB96-AB1CC0B4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C6D2E08A-6323-42BE-82C8-1235F4C0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CD3A16D8-64FC-4801-B51E-ED7BD675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94F135B-E707-43D5-BDFB-3FB3D11B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5201B4E-A019-4A7F-BEB4-6331DBEA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5381EC56-2875-47A0-A356-7A872221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E0BC0-B883-4D4D-9140-B66652C2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F970494-3EF8-46EE-B09C-99E6EF8F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6EF0CB1-D8A0-48E3-AFB6-FD9D0EB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C2F3E56-B77E-4305-8FFD-27D4DF95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1DEEB46-49D1-4921-B17C-DC83292C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0B48F97-59F3-4433-BD5A-854E3036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065808E-F9D0-4689-A0BD-299B0B38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99AABF6-4921-482F-BA5D-2009B877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963CF464-7CB3-4EE7-ACE4-409F406A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36C40AC-CB4C-4768-8CBD-1482A1C6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D585334-77EC-471F-8DB7-113ED798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EDA32-0EA3-4577-9E04-FEF2622B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5EA9764-70A6-4F74-8C93-5B7CDEBB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C78A054-635E-4598-AAA7-959E7F00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F20AA80-72EE-40D3-8CF3-2588117D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E48A7F5E-4D54-422E-A5AC-AC7D09D1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F83BA2C-DC84-4B4C-9068-D3CAADD6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BE757DC-8E37-4836-B881-60EFAE5A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FEC89B04-CAEE-432C-BD9B-4D8DA8E2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74C0CA3-CE75-4BF7-BD45-9783261C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8FE006EF-6E22-4301-B848-E3F9D45C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167E801-CBF1-4A10-AA30-9DCAEC6C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7F91C-2E2A-487B-B421-E172CC57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21703F26-D785-42C1-A3C9-6800B1D5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A98AAF2-3A5B-4F35-8EBC-346A5CA6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E7BC114-CA83-4DB8-9EC4-BD713126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CC17ABE-5DAD-4C33-9C42-C6AFFC30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6357139-E750-4737-AEBE-F78EE844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852EC36A-E929-4873-A878-CAE1CB68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69054F0-A6D6-4CD7-897A-13A7B3FB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01A5FEB-060F-4342-A0F4-45487B10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908A1AB-A8CB-4ABD-A147-96035205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1B74A4B-A007-45E6-AFBC-E582C78D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75BFD-0638-47FC-9FD1-C34E105B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2AB999A-B665-47D7-87ED-0E2AE855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C2FE0C97-1121-48FD-ABE7-F55F0132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81EA5E1-35B2-46DD-8780-8FCD6A71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C4D7849-979A-40F4-B861-B63582B3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03568D7-36AB-4002-BC7C-DB44AE36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3F36933-D2BC-4A92-9A8A-C93ADA99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62C02EF-B618-4808-9EB8-B5FECD6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F457B7C-BC50-49DA-8591-9B18C16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C1904DF4-4014-43F5-ACBA-D19E8BAF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35EC1F28-FB67-4C97-8651-ADFF5A72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6C2-6D0A-4801-AE4F-587BAEBC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58C28-2157-4665-9976-AB9921EA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1119B474-7FC0-4F0E-98BD-50F6339F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3D9B751-A617-4C91-BF59-E4A17A18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22EF83E4-5DFF-45D1-AE6C-160ADA15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B13B2F6-93F2-42D0-929C-2EEB8F29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1FCAB39-5AB6-4B42-8EDE-95572923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6C636DBF-190A-42E0-962A-D1E8F95A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344820A4-8DA7-49B5-9A08-B7646AF1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4319748-6D8C-4597-B50D-C1EDA483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ED4F0BE-5B4A-4372-8254-E005B02D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949F018-9122-4FBD-896D-C3F3DBCE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9CF06-2D4F-44F9-A3AC-6C653C34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28E691E-9F07-4907-8196-066D156E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B376A26-EBC4-4CDB-8CBA-0EAEEE0E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5C0759C7-A472-431D-A1A5-29974173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2EE4AB9-ADCA-4E11-BC42-5FB00748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0EA87A3-C0E5-4F25-9AE7-B38F7D27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A8ADBF6E-66B5-4F86-88F1-8D5EC835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244DA473-E5A1-4934-9169-4EE80AC7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D610D0D-EB7B-421D-86B9-1426EBAD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B1C7115-7B6C-4DE3-B371-DD03A872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7BFA222-DF5A-4E6E-A62A-E3E83504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E301D-0C31-4022-9805-B7176F02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35C1470-457D-4E72-A506-4652667F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D7B5BE9-8DA2-4AE6-8161-AE088655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10D7825-4A60-454B-9129-9F75DFA6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0DBF2CB-A6FE-4FF5-8856-8853E658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1E547E1-E577-4567-A044-B79CD52E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E27182B-FACA-4769-B91E-8ABC4ACB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A7A6132-62C0-463F-9F3C-2F7D84AD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57B4631-5C50-4BE3-A4BB-F1F9DCE8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135DFD7-9BC7-4057-8A79-FB1D8A79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8FE8B4A4-5A14-4D37-99E7-14F442BA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3786E-4C5A-4978-A594-374E655A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4DE390B-F5CF-4FC3-9419-D08DC662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8BD56A1F-A373-419F-9A9D-E6816D64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22EAE646-C17B-4F32-8640-AEEBAFC5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29EEF95-4B01-4884-ABC3-DB91BF9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91EE276-19E1-4813-9BD3-43FDABAD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5060A0D4-9590-42E2-A81D-AAC316CA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20D30B47-ED33-443B-A0CA-A288FEFF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E891325B-A666-400A-A191-7FC667E9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A9D61B0-9D55-4569-B184-0D32A1E1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6EED306-31CC-41C9-AFB5-DD406EC7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95123-FE8A-4F11-B861-9D6BE721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630849C-B542-4E67-AFDE-4516BF8F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47A977CF-C38F-4B26-89CB-A898BD7B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C894D6D-3348-4D68-A5F8-61590BEA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E8A6C75-92B2-4BD5-981F-AA3CCDFE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9B09FA63-2313-4A43-95F6-5AFCD3E3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13D4E57-4D0F-4D18-9337-0EF2A0A8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AC9370F-3F37-45CE-A60D-4924AF76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4FD8E0DC-9EFC-48B1-AE2E-434655A4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92195F3-DCEE-4739-AD0F-BE1EA72F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7979CAC-E0CC-44B0-9971-CF49D9E9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A1D4F-6FF6-4BA5-8F3A-40E57C22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C2CCF521-E58D-4CD2-A448-371E6332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0B1FD63-DEF9-4637-A66D-BB8D7167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7A36F59-2E15-4894-8E6D-CFF33EEB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382A6F74-2AF3-4F71-8CAA-452E4F69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CA49DCB-D88B-4F98-B2B2-2CA45CCF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3791300-1C7F-414A-A3A6-3CEAA844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73D9E7E-6922-4D1B-B6D2-27FA0ACC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155861E-11C3-45F4-B937-558EC169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93B40BC2-E0F3-4EA0-8A70-CBC1F02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BF1EB70C-169B-4079-964F-77499AEB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47C3F-743F-4D29-A957-CE205ECF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A79BD004-5928-41A0-9356-B428A05B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251B681-F795-4D01-841C-452CFD93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8B81BA8-327F-4B7D-A255-57BA24F1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CB9EBCE-6653-417B-A409-EEB5918F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B95ABE0-0DDA-4C06-A35C-6DDA09F3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F69E55A7-2DEE-426D-AAAA-162698E8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EF7338B-8B5E-448D-ADAD-1AB1D43A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5B245D9-13E2-4AD5-BED4-921401D7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4013C74-4EB1-47A6-876A-1603D9A0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0688754E-2454-4631-96EC-3E53CF27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AAA88-E2BC-42F7-BE30-A0745BF7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0CAFA0A-7DF2-47A9-BB8F-4B232C83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ADD7A46-0864-4941-BE56-F0DE1ACC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F4DB017-19FB-418B-9971-7E91FB6B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B6F42EA-8D73-47CC-A48E-87074E24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BA0545C-1128-43BC-9754-5FF274BA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4AC890E-4E1F-43B5-BEC8-B82B5C2A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BB82788-6BEE-413C-AA79-EDB1C79E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8DA7BE97-6AEE-45DF-9757-ACE12FD0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08A931F-95B4-4D75-806A-39BB160B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54AFC4F2-B967-455E-8245-A541564B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2C8C6-04EE-4B54-B3A0-064722BC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5C453F3-B72F-45D2-92E6-6B8523EB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88CAD78D-5B05-4BB4-8E9F-74CFD392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044F795-20FE-494A-A98F-C71F37DD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2F74870-AE52-4952-AF2F-CFA0A577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8204F7E-78DB-416A-9441-EB9B634C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05068705-7E00-4F6A-BD6D-E730E71B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15829B2-C906-4193-AB7D-706A07B0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439F44BC-1C8C-41FC-A949-E664864D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380E7B8-1635-466C-9FBC-F7D315E4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F9A4E98D-1F51-4B1A-B9F8-95519FF5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7AE2F-8991-4541-8244-BAA7DC42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6528BB4-71D0-40C2-81ED-F85EF197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C79446C8-7B9E-4821-B3C1-B70CD16D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ED6E6EA8-E1E6-426F-B86A-815D6D76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7171252-56D3-4DEE-A78C-5E94D24C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7FEBA3FA-FD76-4FB5-B83D-AED01577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DBB51E19-8D5D-4C69-826F-6E97A233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7C80C049-F5DD-45C6-B255-42F538CD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ED1AEF9C-71A1-49DA-AF65-208AA33A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BD349B1-DB69-4E20-8623-F9269720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084C321-F0A3-4DDD-B794-AF4EAF8F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DCCC-E42E-499E-9256-5AC1709E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3EDCE-3A1E-4242-81D5-BA5D3BFD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6810B188-9829-4643-AAB1-8A7C645E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11478970-5951-439F-B286-022CC5B7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7E674FC-CED1-4589-963C-4D20A8B7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63B1F5C-1E4E-4D39-B404-46409DA0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0ED3B6F-9321-4073-93F6-34E4EDA7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8ED8CE0-60C9-4406-A6A1-BD4C4664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DACD600-19E3-48F8-BA19-78AD7A0F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AEBBAA0-6D88-4A24-ADF2-E451A1D1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E8B6520-6374-4908-9F9D-18FB6A4B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BB76EE31-1A07-481D-828F-A3A60438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2C1F7-80C6-42C0-90BE-3E3B5F7B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A9600F74-771F-434D-8CA8-812216F2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A7B5B4EB-0B76-4F4D-BD67-5826BAC5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8FC8345-4E40-4FC0-ABA8-8B143B4E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EFAE587-039A-45D1-B056-EF507282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ED08069-F6D9-40FB-A496-20E4CCC7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825631BB-0574-4D8B-BCDF-7CEBADFC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04CB65B8-4194-4212-843E-36995A5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722B7668-9560-4656-9CC7-FE37D2B1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D45C36A3-3B58-496B-81D7-81A907C2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25219124-C8A2-4EBB-B6DF-5BA72FA7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D2FE8-11EF-4103-93FD-9FF4C7BF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DA142C75-B19A-43B9-8DED-4CF466BF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88DE6E15-33CB-4D6A-BB57-9182269F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B1A38DE-3CFB-4E0E-B9F3-9F420F9A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2FDF2EB-3EE1-4C71-BC44-F1BA1E69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06F98BD-872C-46BE-91FD-1903B955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CEA9D95-A281-485E-9334-5337B919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441F57DC-519D-4B0F-85D7-947D39D4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36437CB-4036-4C3D-AF5D-36E1FB4B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969626E2-4E42-4191-83BB-25BA465A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AD1B41D0-6F51-4866-87E3-25F10AFC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78AA4-7AA6-4CD8-B7EA-DAF6646E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CDC67519-9584-4446-BD6C-5ADC48D3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B19B39FB-D986-406B-9E73-44AC1E48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E67ED54-52D7-45ED-A4B8-380DC5CE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E7F91FC5-B6AC-4CC4-8377-AB50242D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3ECB1B10-3B8C-461A-9339-2C64827C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EDC78EF6-3D6C-465C-9A46-05A19DA8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21574A2-D4CE-4646-819F-1D200D1E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D93484E-8830-4D3A-8515-FE27813E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EAB32CA7-9178-449E-BC38-11493C4B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79899060-6F38-4F86-868E-79FA3800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4CBB4-8FA8-45EF-A162-B59EE7D7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0358F5B-EFED-48B4-BDE4-D026C3A7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37010B3E-F365-4954-8C57-613F03CF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F3B78DF-AB99-4F40-9C39-29EF4373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579917A-5263-4CB0-95EB-51BFEA43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42AE1A42-4610-484D-B78F-07CB15F7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D4D5173-47F6-4CB7-B678-5A3421FD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F27FEB33-FCF2-4048-9A9F-A64D386B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FB605EAC-F05C-4DD2-863B-C92AB056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2BF00D4-5881-4A28-A8F4-21859E52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BFE267F-4F4E-4206-9E71-EFC40790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5DDF3-0810-4184-B928-F9B70B5B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EBD13E16-2CEF-4ED5-87B5-8A9C97DF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EACC732-9264-4BEE-B63F-7B71B8D6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904C96E1-B5FE-46AD-9C1B-638EE8E1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CD68022-DCA0-4F2E-8808-1351C889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3CDA50C-24AF-4DD9-AEDE-BEB569F5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A23BCF8-A47E-4105-826E-565CFA61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A3C52B3-5477-4D70-A7FD-A940C340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B95D66C-4895-4C82-B6D7-736E26DD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FD98BCBF-4AEE-4A09-8084-D532D044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FD76127E-AE06-46CD-ACB0-EFF5FF6D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07738-6926-4ED6-948E-2938F653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4A9E99E6-FBE8-40F3-8EBF-07BBB1F8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9421904-0E3E-4D5C-BA68-BF75B628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3D073A5-9164-4AF3-BF19-6071B2EC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5B7EB928-0CC1-4640-8CA0-8B5C5D12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4B1DA24F-1AD7-4412-B174-DE906C82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E663FB3-298C-4779-BB36-CC438179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B80A278-42BE-438E-BF6F-778D83B9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CF1F34F-B514-40DF-9659-13ABAD6E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19BA4C88-762B-4F02-939F-8D3D297E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6B1DF72-B02D-4AF2-B68A-43C5BCC8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91863-D5B3-4505-AF78-03341F49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1428516E-3C26-41EC-A654-DE0B3516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899AE951-952A-4E00-89EA-71F3793F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5739824-B5A0-4DE6-B0CF-BCF8AC50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010947A-9DB2-403F-B36E-7E47679C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BDBF836A-A657-4ADE-A8AB-E521100E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182F4A6B-5D8C-4088-98EA-CA8D4B9D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72657F9-C6A1-49A6-A00F-3BC3D7DD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818F4F68-CD59-4A93-834C-8C0455F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5F06A2C-F34F-411D-A1A6-B19B6183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4A726303-3BF9-44F8-A087-127C09EC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874D0-3065-4DF0-A38B-79729D61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F835D064-8702-411F-851F-76E23A53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98AEFAF-FBD0-4FE8-9436-43BE6DBB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EA78FB1F-ECD4-4741-AF2F-C2E98F98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174F9B8-6312-4C27-A9D9-D40ACA84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D2553355-5892-4C65-95B3-66D5AC2A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FD646C27-92D1-4540-85B0-21AF1922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3B34F5D9-EC5A-4F56-835A-4CB84402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453F0F4-144A-4EDA-8EF5-24A3F31F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72DE78F3-D61A-4130-826E-141DD882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80822A87-224A-486A-98C9-7A30C63F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1BC61-1EA0-4B05-BC68-8FBD0185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B7E2637A-CB80-4894-BAD3-9C135F8F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FDFCAE24-3457-4B7A-9590-E2016424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41AA8FA-45DE-4982-9A8D-04735CC9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A1A74341-D889-4843-8025-D815E513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C65F33A6-73FD-44F1-AD8C-90378977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D38E6846-F61D-47B3-A4E1-734CC048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A9FFE151-B4D4-40A4-B1F8-F17358CC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33DDF68F-677C-4DFC-A963-0B2893EA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178E696F-ED47-4236-AAEE-53078A9A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49DB8DD4-3464-4B1A-A869-0AC88D38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F758-DCD2-4207-BCF7-B78CB018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9DF6D-02EB-41E1-AC04-9335334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FDD7A9C-E717-4DEF-B75F-7E77726E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979F16C9-6BCE-42B2-9448-4CAE4489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49812C47-4C0E-4E1A-A094-D9B2C8F1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139311A1-D27A-45D6-A1B7-811973BB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5DF88AA-1403-49F2-902E-F93B4594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5B7FA8C9-4671-44CD-906E-42EB82F1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1B6EF6A7-569F-47C7-B30B-BA81BD90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F513791-8EA4-4D8D-B171-F537E11A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CA250BB-EF76-45CB-8128-DB159420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97C28D7C-7D17-41D0-89F7-72158A2D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E0BE6-AC9A-4426-843B-2BB64948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B6828719-B28D-4BC6-A192-F65EDFA0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FE75268-746C-4404-974E-CE25F4E5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2EBD09B9-2DE6-46FC-80F8-D58F0F97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1CB3E067-3789-4646-94C4-720137B0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2CF68295-FC51-4C70-943E-D7C726EC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2062BF22-6574-4760-975B-F84481D2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680DA1E6-DAC4-488C-BC08-5F4CC4BC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3EDCEEE-DBE2-4230-A1FE-32474145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7991911F-3A6F-48FE-A0A4-F4BA490B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1AF5180-2A9C-46D4-A1C0-7DC7B306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04457-B0DE-4F85-B554-0D0AE541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6DDDF258-F195-49EE-9C44-FBB499A2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0EA5822-521A-4434-AD28-A6553404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315CEAF-CFEE-4939-92EB-16E5F00C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79DCA850-293C-4BC7-9D05-168B1559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115B518-0A56-40C3-A5FF-A255DC4A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AD143B4-AF21-4BAF-9B58-A55394B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F62154B-5E61-4C4D-8E56-C3567F11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973F0EC-CB04-453F-B439-92EFAC4A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7713800-5E5B-474E-B8A7-7EE4C7AA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D1AF708-EBEC-40F5-B871-C98D8D3C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44C9A-5568-4E5B-858E-AA60855B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189BFD6-55A1-41A7-AA33-E9AD3C6F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AF13657-9793-4A37-9FBC-D340FA8A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9D053379-30A3-44A2-A88F-C98B6742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657768E-7C81-44C4-BF66-5E876D1F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8AF791F-351F-4E13-B5C4-B3827D8A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FD8960E1-B7AB-4E07-A06C-3389AC72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C2284AD-BBFA-4D76-8968-A7253A1A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9136FE3-A7D6-4D4F-BC4F-249A05FE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9A79EA5-9BEE-4DF1-9031-3E82997B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E7A8B72-C22C-4214-AE42-A7D5D029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4F02D-A3F7-48BA-B812-235EC35E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D66B592-8A03-4D83-BE1E-25E4714A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9B8A8FBD-0A1F-4F68-B000-D5470C84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5D875E5-3ED3-427A-9E7E-C1BBE2A9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A83FD1B2-6560-4129-85AA-8B3B696B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03AF06B-7C7F-4201-8F1A-A1690AC2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5B8CB4EA-099B-481A-9C5A-966763BB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C5685F03-9241-4F4F-9B82-C4FA57EA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2AFCDC3-8446-4E96-8ED0-36D19DA4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733999A-DD2F-4833-8B9B-BDE06C80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762D037-B1F2-445C-A0BF-B0A30F4D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4F0EC-F2B6-4DAF-88EB-5935BF64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95C2F0EB-0CE1-4407-85D7-0374356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E71F9B67-F95F-4572-A4A8-92D35A64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56CACDE3-2B0C-4DF7-9B9A-DC2BCC56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E89272A6-3ADC-46DB-A26B-4A03D59F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CCB6EDF8-E6E8-4896-8F10-33FA4735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6139958E-081E-4300-A86E-158D0E18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6EEB5B1D-967D-4036-8121-EE3C2095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FB3ED7F-AB1B-45EA-ADCC-0BA86AC2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C6F86F1-C563-4A7A-9CFB-9651ADE3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E9F7B19B-AAFA-4689-8D84-73CE75F0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CE0D3-FC02-42A3-9B03-B89B7086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1BF86CCD-BF47-4925-AF69-3BDFACF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3C3EBB9-477F-439C-9D93-161324D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0DA1A4CB-FF35-4D80-9585-6856C655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333DD8EE-5750-42BC-AF39-B69B9350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C210AAFE-ADC5-4706-9A8E-1EA27FB1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00A4FE72-A91F-4C4E-8959-8B400EB6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202A347-819D-418D-8C9E-CBCECFE1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8D12ECF7-40C1-4FCC-AB1B-810B68DB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B6E5CB9-7C31-4A55-9B8C-ECBDEBFF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8ED4747A-5716-4B75-8D15-5FA4F668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37174-A0AA-41BD-BBCC-DD8C5DDE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872BF21-487D-48BD-B06C-FFA41372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0688D07A-ED40-4968-BB9E-016D8EA3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1101A03-0D71-452D-9085-2BE41198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A18E909-6EB5-45B9-BD28-BFB37F3D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A7C54CC-C10B-4A9D-8385-EF976D1D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DA9BE0E1-A74F-48C8-8FA5-7C046757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C491926B-2DB7-4D05-A780-69EEF4CC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3784D138-0B67-4EE1-BCA0-84B8DDBB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2F291C09-5611-41EB-A45A-C7409FD9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53B91FB6-A414-478C-8B56-1A39BC2E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826C9-59FD-4A7F-B4B9-2E1CB4ED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7432CC10-9995-42C9-9CF3-4120CB99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A3596817-AB5B-472A-9F26-BE91C203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7A9EB527-868B-4CAA-92E8-28762877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393C2B53-D1D7-4DA5-A38D-715B00AA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A738548F-DA76-4DF3-B748-CE7E198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02A39F65-4052-46A6-8BAD-87C21F8F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EF1D2313-312B-43E7-AF24-69C7D112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EF65B6B3-446C-4F02-A184-9798F9A1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258472B6-325C-4721-A64B-BC956BE8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12CE87A4-A594-43AB-93C7-CBC86981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15CC3-2628-4670-B1FE-627728A2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6BF059C-4FC8-4935-9511-229355C4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70F89948-A30E-4E91-87CB-2059538B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E0C8D04F-6A03-4460-84C8-E59A7FD8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A5E605C7-E0DA-430B-B6EF-3EFF7BE5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5BB52C79-E549-45D8-A69E-CFFD6944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42E98099-99CC-4165-A4B8-8977E041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EE20848A-938A-4C5A-9B6C-0E5FE71A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9DE72F35-64E4-455A-9157-A9E59B6E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C7A62A5E-1227-4BF8-B028-54F2F4EF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722639E3-8A60-4B75-9036-D5631E78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866D-0BFD-4BE3-9B30-7BAD915C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047BA-35A6-415B-8A9D-F8DE48A7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5A1F89BD-F287-4CF6-93B2-4217233E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51843390-2967-4AEE-927A-F2666078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0F6FCB21-6662-4EDE-8088-3B12A48E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0CBD7483-317B-4E49-AADA-441835CB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D05DD32E-2D54-4E6A-8194-21C9F6BE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1E96C005-42B2-4E83-B035-9DB66C34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34F66CA-CDE7-4D64-94DD-1CFF36E8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D559E589-678C-4CD1-A86D-5ED48F27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035F46E8-20C1-4063-B319-D561A70D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3930A802-9913-4626-81B1-035ED341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7634F-665A-45A3-B0CB-926BE943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8ABD4C5C-4E5E-4A41-9664-B77B9F78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0CB9279D-907E-47CD-AD28-D961F442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A98D6117-3B82-4C65-99EA-1C43AF2F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0E1F981-18A8-4EF0-B40E-F2784FCC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CF5939CC-E75D-47EB-B009-C60DA3A5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A513D827-E269-4CFE-9ABE-33E1C8DC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AC049B48-3EDA-4B3D-9FB0-5F5F6928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0C8AF1CD-C1D0-4795-A172-D33CA405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BEC5574D-779E-43C7-8BFE-453A9B56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977E3C30-A7BF-4E56-8346-6318BEE0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E13FC-5D61-437D-BBE3-D3AEE3CE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B645C6B8-3E6B-48F7-BA22-B4F2263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66FEE33-1B04-4C14-A93C-9C8480A5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056B6188-15CA-4377-9F7A-B7A005B8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92B6225-BF70-4DDE-B7E2-0602505C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EC1EDFB9-294E-4C94-A606-A4236381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4F674C2E-9154-4854-89D9-5683F709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202351A-443D-4B83-BFFF-C0BF066D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C931E6F7-8BA9-4566-B342-42DB2F2E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52559FF-B13D-45A4-B47B-F3DA2433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D44D8A3B-F6FF-4323-BF54-C64B26EF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A5143-9E1F-4B05-B79F-2D0DC45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E989075-DC86-4992-BC61-61ADA621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B703446B-6A84-4774-BDD1-C44F6F21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26F4E313-3C1E-41AB-B6F2-601917FC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E45C1200-2035-4957-BB28-DA0F6E79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676793C1-0C80-438C-843C-44C274F3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67A27DB6-1BB6-489A-98E0-62D10F2B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9B1612E6-C9A2-4CEA-8D9B-7347F957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40A240D2-9D6A-4835-85CA-8C60EA53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2924CCAE-85FF-49FE-A98D-52705D49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818D09E0-056E-4614-A4DA-A8EDF6EF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B98D0-EFBC-4511-B21C-7BDA7646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9305733-DAC7-44FA-8803-4E03DE01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D4C17810-0A67-405F-9726-5A4F8514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29920D21-6F46-4210-AD2E-CABD63F1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D302002A-CCB2-48FD-B450-EC95985F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584F0C58-DC3D-4A17-8707-3BBA91DC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BAB2D4B-1E3E-45B3-9DC1-52EFE0CB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CCE716D-58C2-47DA-92D2-C349E694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EF6F52C5-BF8A-4462-A110-1FDF99D3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FE8ED51-127C-4ED1-9D49-F44BB213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3848B69A-59C1-4418-BEDF-1853F8F1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F1029-5420-4F12-B673-3F2A0A48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4E49C71-F993-48AB-8873-3A2BB428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1648186-3741-4843-B635-C673CC25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E8D9CCD-AF0C-4CE8-9A3D-69DF974E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8E2BE3B9-EF47-458D-900E-C8B74FBB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145AC587-5FE0-44C7-8DC6-FD82C7CE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5F98403F-7AAD-4CFB-9BDA-3A7A3DB1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D755D406-32F9-4629-85B5-14164964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40FEB0F-C9DB-440F-83D8-D639A5B1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3FDCEC7-9692-4B21-923E-CA56A6DC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15462AED-0975-4C21-86F2-D7BD6082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738D4-1ABC-44D6-8DF6-04A9FD64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3B23A3F2-36BE-4C58-8A7D-8E5FB149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ACC8284E-9E9D-441D-AC63-72D775EC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92A019A1-DDF0-4FA6-BE9F-AB8E8007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B01DC792-0FE5-4051-858F-0B57C9AB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30DA76A1-F562-4E09-9077-B324497A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55F7C72C-02C5-4E90-914E-76616B3A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B1B4110B-B135-4CD8-A19A-6217F176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B31DE5F4-D1AE-45E8-B1AC-6E6C2B95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83A9CEDB-A036-4339-9E16-E477D87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15C0E0EC-2949-4473-BE3D-AB5DBED0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A8DD4-F4B8-4E9C-80DE-AE7F3008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1A5E5ADA-1830-473E-B41B-978FDD9C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BA3FF877-7BF2-41C0-88FA-EA46C025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47EFE193-EEB5-4E81-B6DC-1B46EF59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799ECE95-8946-4819-A005-BFE04B62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F06F9879-C3CC-436F-8493-7C811795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DE4EC0F3-D6C8-4A18-98E5-50188AE6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1658222E-EBCD-42C4-B5F7-A45C27E5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698A0FF6-65C1-441F-9440-F17DC0EA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12E3E2C5-09EF-4416-B2FD-E645F334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BC793F24-8D6A-48E9-8AAA-E0E0D1A4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30E5A-D3ED-47E6-B5AB-F05F281A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895889B2-8B24-46EF-BD86-20B0425D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4102AC31-222F-448E-A918-6BE01C98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DC2DDEE1-B6B2-4201-B00B-D4285209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E0290AAA-0F61-4D59-A3E3-80F6F7C9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D31F911F-EEB9-43C3-938A-3DCF88F9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440DE94F-6A8E-4FCA-8CA7-6AE3BB8A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62001EDD-E246-4C1A-925A-1B026F3E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C7EC887B-CEDA-4283-9CD6-CAB5B59D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FB8E337-B74D-44DD-A290-D6256499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544E07BB-59B7-470B-A944-6551E0B0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496A2-906D-4B3C-807F-ED8C98D7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75EB4B6F-40FE-442D-8128-91535C68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BF689ED7-EB65-4077-9D06-324872E0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8BC12458-E485-4FE8-BFC5-80F702E3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0A3845E2-1976-4FAD-A904-84A343BE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F122802D-DC91-4C4A-AB9D-86E9532F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E00DEB47-465C-4E1C-A4E4-5A973E14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0F8E28B4-72D4-4BD5-A821-DC038C95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A2920406-5ADE-4A2B-851A-7E0A95B0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8C9C93C8-6E9D-4F62-B42F-E5868D55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262D6CD6-5ECD-4D64-AE9D-6706B936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D666-3294-46F5-929B-45CA44CC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6882F-034D-4EBC-8D25-3DE32E89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5741904C-9559-4260-9814-DE18C2BA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F32E629-91AD-4570-82CB-D8F3DF9A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48431BD9-61F9-4D37-AE89-4EFE3016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FCCC3F3-3858-4ECA-BCDB-A25FBDBC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0F9A73B3-1DC2-4BE2-BEFE-6B56F1B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B21F8ED8-CD19-446A-B104-116B9598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1120F182-D37D-4DB9-A3E9-6E98BB94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D027057-8BE9-4EDE-BB44-8776DEF9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8EC3E516-9113-46EB-849F-85F74D58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F90A7AD1-6D27-4B95-B06D-8198B814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91341-6C98-443B-8854-20937C27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D2D4D657-5C8D-4DA8-AF42-4445BEBE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CEF0BD49-DB18-4411-8F5A-996E2105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8CBB1A93-238C-41C0-9390-F97EA31A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980ECCED-11F7-42D2-9B31-DE536727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F54376B7-42FB-41FB-9FE8-BA0E06D2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0A1A98B3-8B96-460F-B1DD-F6CA8E80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245C348-834B-43CB-8B78-2BB332E1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2774C5B-9ECF-4B02-87E4-7B32E45F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B4768852-C3B7-40FA-9BBA-89171025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E141D0BB-387D-4552-B18C-8928B73C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9FC09-150B-41B5-84C0-5EDA81D0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77339812-DA04-48D1-8F31-3E4E16BD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C6FF812E-7EF2-471F-B8FF-4A06C1D5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9C10568C-F89D-4B38-990C-BBF81C1B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96F67D3E-3FF4-4492-BFD4-270B2BBD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68C759D4-8DE5-4A1B-913B-F2CA5228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80865E8C-FCE8-4BDA-9125-F4CF341A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2EAD73CE-A0FA-43DC-BA74-74EDE6EE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5E1663FA-29B8-4D32-850D-F449D0B0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868D41D-A615-4EB4-9001-B2A5A64B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72BF2F3-77BD-4943-A402-1B72759E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A0272-68C0-43B1-B13F-14977097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7DEB9E6E-1DD2-4C0B-A958-8AAFCFD6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5CA6E004-E80B-4641-96C4-9855206B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228B8C21-6A4E-4028-8C05-D122D081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162575FE-7BE8-4835-86FA-32C5A254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A7DFB16-FA82-4557-A41D-802F2817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EAB2DB13-3BE4-4736-884F-1AAFCCEE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B5EFFD4-2E94-41B4-BB8E-ED744C00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49892EAD-B634-44EC-B859-538192B7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BE96B6CC-4CF4-4A82-A85F-C61096B5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6DAA68AD-A546-4A62-97F3-1B83E1DE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7909B-8193-42B4-9E93-FD5C3A10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4458991D-6EF8-4E5E-B589-107FA7DF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4ACE9582-DACB-4E0C-A83A-42365365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7D85A35-7C05-4430-8F0C-D6DD43CB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7FFA0FFB-B7CC-4234-B675-C7B87D86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CE00F0F9-77FD-464D-A5FE-6FE52DC2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8E608C79-D8F8-4C85-83AC-CF1819AF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16878786-A831-44EC-8DBE-C13ED479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390C3F36-17D5-45E6-8E98-4FEA1CA4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256C081D-F8FC-4809-BC4F-B74854D7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929062C-D349-4703-86C4-153C3FF3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0B5BF-A028-4E77-897D-0DA8132E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B815B06-962F-4A1D-98FA-C47E4A80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1C333883-3381-4C20-9D71-4B702A07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4E861CF1-56A1-4160-8C0C-29151A76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CE4865EB-F786-4B61-8BC4-43E90758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20FD5955-1FFB-4E2E-BED5-5C406761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0670A1E9-87C0-4DA0-B810-E1819AAB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5CDFB8B1-90C1-4EBD-90F4-2CAFC5BE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DB4D0293-B462-42D4-968F-14B70B25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AE801641-6B4F-47D2-B753-C6177D2D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8514C02D-1900-4196-B6E6-00F6A465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1184A4-F585-46DA-9DBD-50ECFEF7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9F341ED8-08D6-44E3-A91D-E3F0763C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198D31F1-99FB-424F-9DBB-08259CDB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8A219163-A3D8-45F8-A449-189DDD69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6344A5B0-9B82-4930-85BB-79F52D84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DE9A08C0-5746-4A4E-A7C9-68E9782B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9032C07B-48C4-43DA-9E5C-EBF66580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8D6D2A66-2FF3-4DDE-B44A-6CFB96BF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AC5E2972-1017-47C5-A2CE-566A000D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28DC80A2-8BBF-4E23-B0C6-15E04912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1F2023F5-D1C0-41AA-97FE-5C7B2765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9EFCA-AE51-493D-9316-61DBD75E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0CB9ABA-836B-48DC-92CE-8A0E24A5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3B90F67-0AD7-4794-BA32-C4E29096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4F3A932C-F58D-4AF6-A204-58CFE85C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A4879DF5-0CA1-4EB2-B728-68E3453F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90B3C266-0E83-4F28-8E4B-B0A442CB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24C03CA-BD1F-487B-92E2-AA4DB350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D5B2D111-1507-40B3-8B58-48837620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D72738F-3B89-46AE-88E6-F7E5B93A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5731BDD-4440-47AD-AA7F-7B6E8906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01D4709-B853-410C-8860-85B778F0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36E22-2845-46CD-BB3A-648ABD9C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C06D362A-29CD-46B1-940C-6AFEB513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8F80C16F-3653-4F8C-A2FB-4507CB06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F9873C1B-4165-476A-9B8C-3B86040F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C9E5CAC9-9E4E-431D-B49E-827E87E2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7042969-2991-450A-B339-EF22A42D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4BCBE454-BD9F-4C07-8121-853AAEF1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7C533037-A053-4640-B18B-54CA6635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D2CBF8A-0C80-4C61-9F6E-C72BCBBA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7060052D-6211-4160-B1B2-97AFF524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DF82CA8C-4F99-4E01-8819-94DBDE97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EADF57-2447-4374-A723-2E4BD327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C5C3C834-DBBC-4178-A3CE-ECE453D8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97F8F4C6-2431-470B-8DE0-94A368C9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03300C1E-CCB9-4E69-BCD4-496475FB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0AEF76B8-CC37-4C6B-818F-C88F2500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C8BD5625-8648-469A-8783-C98B50E9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C5E1655-703D-4326-B2E5-AFB4ADD9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F455E5D1-66B8-41C8-A626-0E31EF0E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E42BF68-A413-42BF-BD0E-24C66A68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8ACCF037-43D7-4F86-9424-BB208F62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86F82788-2154-4D6A-8D5C-A1FBAD6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FDEF-106B-48BD-AEDB-6699FCA4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BF3BC-9950-474B-B116-0EC2A94D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10D16FA5-935A-48BA-B05C-8DFC69BA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4D722466-0579-42FB-BE46-1C98DE96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34022FA-13E1-4631-8544-F4A6854F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DFFC1576-E14A-496D-A623-4D6A3BED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7B238224-080A-4A27-B071-E4FA6B39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6BF6131D-D330-44EB-BBCC-AD6F5DAF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188E43C6-1285-4EDF-8368-D41307C7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0C27BE04-008D-4125-A364-8FA20E75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DF488E3D-264D-42D6-84C1-7CBD1F3D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08E97BB5-C3F5-49D5-8DAA-70F103B0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021E86-45F8-46F7-938B-CE3E43EA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69665724-8589-4FFB-88EC-674FFB90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A8677729-DBB6-40E6-9B80-AF723579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85DA6289-DF51-42D1-9097-19227B50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D9071356-7BBC-44BE-9067-57494B8D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1DD67330-B31C-45D8-9DB7-051A0F62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CE7E4657-96EE-44A1-85F6-C78265E3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16073C6B-307A-4FD4-B23D-7A89947B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7B9B8B0B-6B0E-4F57-9A71-8FA39E47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3E4B792C-DCF7-4E10-92AC-BD03A4EA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4BFB81FD-3881-4466-9CCE-AF959939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AC32BD-B3E3-420A-B886-53698818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C5843CF7-9D54-491F-B718-B0FC6AB6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F7296A22-E894-46B2-98E4-5BC6A4D0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EF86BE6-6C94-4858-8BC0-D9815EF8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5BDA87D4-A8D0-4B1E-979B-88C0DA39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F81AAB0-C324-440E-A196-4CF1DEE3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A01438ED-9AA6-4212-BA55-83568462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5E4C1F0E-AFFD-4ECF-A6D4-3E5F111B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A71EE4C8-25EE-40E4-9ADF-A3BD9017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0626240A-2366-400A-8F37-A4D08F3F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9C011C-A62D-4A6E-8450-9E4C8141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0FD0A-946D-4313-99AC-03610827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1ED927-A9E6-4703-9D22-19FECDBC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EAD6D-EDC1-415B-9DE4-724E69C9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56CAD-28FA-4908-A9F0-5CE62D5C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C561A-AD9A-4E97-A06B-45EFE0C7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F945B-603A-4D6E-BEF0-881EBEC6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3A15-ECB5-464F-BA7E-01BBB075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E929A-785A-4747-8FD6-D451C30A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5BAAB3-7617-442F-9772-921FC6CE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3DCDB-4C63-46F3-80C7-3BC4BA4C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F91145-DC52-404D-AD00-F6C0987B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CC5D0-EB77-4C64-9433-9245E30F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573093-1EF9-49B2-87F4-20C24E27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1B8E6B-2CE2-4EEC-A5A8-661FDA2F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54369-EAA6-4F04-9175-6A9FC8F2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F355E-463D-45C7-AA39-A5301EA6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93AA9-DBCE-4A1A-B56D-FDA99B3B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1CFA-E347-47D4-87FD-056D9627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FEF40-1520-4DAF-BC19-31EB8090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0EC9D6-D045-4898-9C48-958D2246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5C81A-7874-49CC-9F49-34F096B3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A7C4E-3C6B-49DB-9808-96F35997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E3AD2-2018-4B58-84FA-5229F0ED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B4AC2-390C-4D30-9B15-AC20B60F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AD3E3-0184-42DA-B1AD-FEB06986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3EACE3-BF05-4D93-B60B-68D7E8AB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551E8-ABF7-41FF-A8C8-3EBB7CD1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01074-BB18-4C96-A6FD-1675C3E6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547-795D-4288-AE2F-CC82C981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967E-08ED-42C1-BA8D-DC13A95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3FD85-8F25-4A40-BB1F-522E4179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70B8D1-5BFF-4B67-B81E-4CD9EA08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5E9B7-BAF1-4CC1-B51D-A3331E6D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5FA4E3-82E4-4CE6-9ECE-50121936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7A270-35D1-4068-8708-1F2D0F18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9E3CB-EBAA-4527-B4E9-A559D72F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E02D1-5954-4DA0-8C34-B1DA68BD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BE609F-C5DC-4477-933C-C21319E6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4C7B73-9630-4D5D-96A0-10F35961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C8EF5F-862D-4298-936A-7A88F3C4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D823-A24D-4634-B326-41B82850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384A90-6A19-4427-A3C9-6D73EFE9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E16205-FCAD-45A4-BAC6-9E964ABF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A85AEB-170D-40B4-B10E-481B45E7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AD9D31-791A-4DB3-95BC-97295E27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9F9D7D-9D7B-447B-A62E-5B444CA2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A7CCA-9318-47B7-A5A0-DD05304C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E39B6-49A0-478E-8136-B12946AD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9D714D-DEA3-47A4-83AF-7604CA42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C34CC6-6FF2-4E15-B458-F2274DFA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FA6235-0590-43F7-BA6C-53AA2E39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D446-9748-4DA3-A20F-1D786B84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3F24BD-A14C-472F-B0BE-A5307C43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C29BE1-CCA4-4F95-A8DB-974FA942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A2D49E-6DAC-471B-924E-D8635B38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71FCE5-0189-41CF-95B3-1192360A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C14818-088A-48CC-9541-ED03BA1C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D87D66-7BF4-4ACF-A419-8161D11F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FED4A-CCC6-4514-82B9-9968382C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B6E657-5C9E-4F7F-8FCC-5D8D2EF1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011A74-AE57-41D3-A9B1-6993308F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3A5D0F-2847-434A-99CB-81BBB436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5AAD-406D-4D0A-AB46-2CDDDCCC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2597EC-F9B4-4D21-A979-9B4A9CA7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426822-0432-4575-A269-1094A603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A366E-66AE-43EE-A3FB-DD854260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CFE6B-CC73-41D4-AA8A-667E997D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6D3A3F-2770-4063-8E69-D02AA672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0DD606-757E-4DAB-941B-06F50805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5BAF4A-C5F5-49CD-806C-0CE443AF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C178DC-5196-499B-A63E-06EBD2DD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EC2DFA-C7A3-4849-834C-E9324CB5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F76AC2-6DAE-4401-9274-B7FB844F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2D93-D145-44DA-AAFD-30F3FFE6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BAA348-4424-4E6D-85D7-4130DE98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D52A9-CAFF-4EDD-BC5D-9360CF44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602A5-9BB3-46DD-8910-9AD0B17E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3983BC-2076-4191-A24C-735F2C57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7E35A1-1D17-4F9C-8F9D-4C6F663B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7B195C-7B07-4A9B-AA66-A80DC905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5DD179-610D-4309-A5AC-D92628BE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248D3-D77F-4CE9-B9A0-49D2FA61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7244F-5ED3-4267-98A8-6DBD0F11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913E67-2E05-4E90-BEA2-6687A524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B3D0-3D00-46C5-9EDA-BBBB5819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EC88E5-86E0-43EC-8601-A67ABEA8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A48E53-3597-4908-8E40-80ED54F3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DB8F20-154F-47FF-A068-4923409D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F2C3BA-3DE2-4FA4-8162-D279071C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173681-8531-45B0-B930-67A3A03B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2FD9FA-F569-497B-950C-FCDA0B9F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AB4317-FC19-41BD-9D7A-C6B7A368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CC9D97-A190-4D94-9179-EA4DBB95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A607BD-01C3-4D4F-A544-7CAEDDBD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04954E-5CC2-42F9-9D13-73CB1048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1020-C223-4B6C-AAE6-BEC75C69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D2267B-882C-475A-BF73-73C1CCBA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95490B-D0DC-4E2F-A5B6-98C78CC8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BBBCE1-7061-46B4-92A9-FDADDE19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C3BC11-B1E2-4E97-AD47-30DFA784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BB91DB-BCAB-4FCA-9014-FDF8513E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AD8CAE-F1E4-47BB-AAF8-F352F0A7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C1BCBE-2A37-4F76-BECC-9D5BA336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0CA72F-EB9A-4B92-B2D1-6C4D3349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860088-13DC-4010-82B5-6B846D4E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DFEDB9-393F-4E4A-B5CF-D3F1FF75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A5A3-0A9F-4B8F-9D70-2DA0CAB3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CC68A3-5725-401E-8210-E8D6ABBB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45320D-3D52-4239-B252-E1D4B4E1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5FF4CD-963B-44BF-8DB4-728B470A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D0A6D3-86BF-4208-AA4E-853E502E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E36A7C-1257-47CC-8DDD-91EC7D73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61BBC7-0403-4772-8D3E-3A97077E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FC1A58-3E91-46A3-89FF-9405F5FE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E67556-6798-4BDC-AC3F-65EF6289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E801E9-794B-450B-806D-04AAA4E6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C43C07-46B3-4B2D-BCDB-0A012E72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EF1D5-4763-4A77-94D9-E6AAC12E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A23BEA-34ED-45F7-B888-EE4F1BA2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9C0D12-AB10-4E44-9456-219CF11E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30F8BE-83AF-4B39-9186-DAB5C990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B69F80-8A57-43F4-901C-D246DA1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BC4BD1-B526-4E0F-837B-817C2511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84D4CB-E160-4BA1-978B-BBB74CC4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CB03D4-B005-4D83-8F63-758C39A4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42C41F-6783-490A-89FD-880C13A8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9B3BA2-A668-46F1-B3F1-6B8C17AF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471B12-DFE6-41F3-AECD-5D5C5059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A977-11D4-4DFD-9909-71177060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6DF88B-C996-43F0-84F2-C746C742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F39031-CDE4-4DCC-B87A-166FFA2A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54ABB1-38BD-460C-95EA-1600A487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53A2D3-6445-4C83-ABE8-AC91F511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847139-FD5F-4635-8775-018C5E85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4404D5-5EA7-4E82-A2BF-D7673A1A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D01370-4743-41B6-8E92-05DB9758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44EB2C-1E6A-4EAF-847C-3B76AE98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3E8C7B-0584-4CF9-A203-F840432C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576FD6-3B2E-4F93-8000-33249407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82A-CE27-4D00-84B9-250A84D3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4ACE-4146-4103-8B9B-04154CCB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A28854-1180-4858-8F02-ED2AF363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1EA8BD-83C3-446A-9DC1-F4C1E4E2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2A9310-1D22-4EFC-A114-E15DF77F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0C3682-424A-45E6-B6D4-AECFD672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F37B6D-BA4A-4CD4-AD06-79942608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B23E3E-87C7-4127-BD96-ABAE39EA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CB43DD-9792-4373-B4EC-B2176A3A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031378-7BFC-48BF-BA6E-C1EB8CE5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E57D20-89F6-405D-B9CE-B9F93B9F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BCCA1D-181D-455D-984D-15603214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EFDF0-9380-4C48-BFA6-3199E763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1DE599-D034-4BB0-91B5-B9E00A7C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A62905-F0F4-40EE-84D8-C120EDB4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CE9304-F5A5-4796-99AF-7CFD7085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9E6B33-54C8-4059-B935-B3209B35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7B99B8-D8D9-4374-8A3D-576BAC80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185D64-D9C0-4F63-A4E7-0FDFAC23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4A9364-5DB1-48FB-BD2E-2331BC24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D38866-0C1A-48F8-B89B-296E97E8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AF36D4-78BF-4346-A943-0C6DFD2D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0508C6-479C-4821-9935-6065D00C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5CAA7-500D-4758-ACA4-29DF4B6D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85EE17-F5EC-4319-BBE8-E398059C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B74152-B888-45AD-BE39-A91F9ECC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066670-5E8A-4E8B-B2C9-819ED277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9C1BD5-747F-488E-84B4-A104C0B3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B73F4E-DC39-441C-81AA-8D2D7231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995754-FB52-4C19-A496-22BA91F4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17EA39-069E-4854-B3CE-3FDB7F77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E15F6B-C435-4721-AE95-CCBFB9C6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05D1AA-AD92-4F5C-82DB-E3355B49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DB91D7-D531-4F28-9E10-4FD6B05B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9C128-E7EF-40C1-A564-007B238D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A0DCB2-CBAA-494E-932F-C3AC7309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A28B89-A3CE-4A0E-AF7E-28C902D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367D87-60F0-468F-97FF-EB93A0B7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5DB49D-F5D7-4FF5-960A-DAD529E6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B06F50-0B05-4A5A-A086-562FE560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C7DF7D-FEAB-41B2-892E-8196F2D1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9E0FE7-0A79-4CC0-8244-A59F3A31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923083-4BC1-4886-B41B-25B92F12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52B36C-41CF-4086-8A51-3D8BCCEE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7288FE-C361-4C5A-8C13-A708DA54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C73E-09BA-412B-8D1E-45C550E6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0E6437-25B5-4329-962E-818EBCC7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305D84-489C-4001-A631-9EE21571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811A6F-7E8E-4180-BBC3-2430FE4F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165DB1-7BE4-4462-AE78-5CDC3021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D7A547-D773-43DA-B713-36B7F4DE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0FBCD5-5918-4C1B-99A5-B026BA9B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B90828-B622-48B0-8FEF-4E3064B1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C57010-6289-466C-8A71-69B5C1A0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36B048-78D4-4677-935A-B9FAF6F8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BB6E36-3655-44FC-BDB0-787E9433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C44A7-3CAD-4945-BFAB-E6062CE4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208ACD-3E45-4AC8-ADD1-BCD5FF27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B1F5D9-3983-42DD-8932-8C9B02AC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FC601F-AD09-42D6-A96C-B2E3E376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393BE3-8F83-4487-BE18-669D1024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E665D2-1A18-4C2E-BAB6-A2556ABA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69F1A8-0516-4EC9-B8C5-B5DA5668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0BA45C-981F-4AF5-98E0-3B407670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7642F8-9D7E-4487-A82C-1964F2B2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B0836A-E75B-4469-9736-6D58D04F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408249-8E52-4195-8CA3-7D08391C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42187-7BCB-421B-9C36-A9621FC5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5D69A2-400E-4846-ADD8-9FA9D6EB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D1B233-210D-471D-B552-BDFA4C66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CD6140-FB2C-4D99-8324-8B9599F3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F9654A-5C43-4365-B996-85EF10F9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8F5474-FCC7-4D45-8E21-53CE4785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29EF78-3B5F-4103-BAA6-C77223F4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6789E2-28F5-4D51-8D2A-C0829E60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24B638-1219-44BD-A95F-258F56EF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906B9A-7653-4E45-9FD5-146434CA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39B048-CDFD-4EDB-8A26-0D26039D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2ED5F-5691-41AF-B4DA-8818420B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0A5772-0846-4231-9233-C23827DA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C775FB-7C6D-4EA4-9F21-F837395F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FFDC89-F506-419E-A5FF-3E2117A0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40184B-95C1-4F67-96AA-80AF32AD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DEBA1F-1397-49B5-947C-5B388660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F81133-F9C5-42BE-BD84-D136BF95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35BA7D-E218-42B9-B4B7-39B95476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A07B2A-7AF6-4B50-9F38-2EDEA24C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C834B8-F6F1-4ABB-9A19-6FB56333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CF31EB-32FB-4250-A79B-1EF7FA8A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B380E-F82B-4819-AFE9-7DA8BEA8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E5C9FC-79F9-4FEF-B715-C74A53DA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207846-EEB2-4750-B19D-21BCE83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5AEAD7-E506-4AE6-91A9-E616AF0D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3E3162-5488-4536-865E-44CB4FEB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CA0839-DE16-46FA-9CD8-F3CEA1F2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DF8084-3297-41EC-828C-167642F0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CBD687-51ED-4DF8-841C-7FADBC55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07B5BD-5A73-4EC8-AAB5-FB2FAC59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10BEE4-AF76-40C2-A991-821D45BB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797F54-A912-4394-8072-27086300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64A4-1058-4F38-8783-A4448A53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913144-9CE3-4210-847D-A9AA0FF6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2D0D90-17B9-4122-B8B9-A3227D34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BED61E-40B3-4EAC-A15C-AC130685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0F984C-1A1B-45D5-AE56-908E460A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8E9392-8B7E-4E7F-AA15-C320DBA5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424EEB-C7CE-43C4-B5B3-53BACD4E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16470E-0166-4070-83EA-67401CDF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749319-99DB-4F4E-9166-43AD2579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A64901-2296-4B1C-A6B8-D5AD761B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9A5611-5FC6-400A-AFEE-B2F0266D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725-4847-4C8A-B004-C46B0989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215A1-6D9D-492A-9C4A-E1E7B709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5391E7-A11C-40F0-B3A7-08F73E15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6C0A24-1C6C-43F7-AE5F-022882F3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C00F74-6FB5-4660-BC5C-708CDFBA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5A045F-99FB-4F92-B476-AB59E93D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335963-08B6-4441-B7D0-5AD879A2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C780AC-F380-4FF8-BE92-AE5D0D4F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A7C58C-9C8D-4BA0-9D12-08BD6415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0AD5D5-D0FA-4CAE-827A-F81406F9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BD5D11-F241-4AEF-A92D-6E16F2D9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18E5E7-D1D8-4DEC-9ACB-71E45736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131E-0E68-4E0A-B22B-C93F9F9D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4D2125-9DD9-42B8-B4A6-2B8A8BB0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1770C0-8901-4472-B5DB-3AF62819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B81FFD-6BFC-4F90-BABC-486EB62B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9621B7-357B-4065-A729-04177199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8E274C-5E51-47F7-9716-AC1B7DC9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F628FA4-A786-4A55-A874-0AD10CAE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6C00BE-ACD7-4EA9-9D6A-73B9B21B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184722-D5C2-44FC-8DEF-56B7DA15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C1B9EB-B662-480A-A629-661B7B71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4F9F74-67B5-4AA4-B022-028CC283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E9793-CD74-433C-853B-F0A36D97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13405E-D12C-4106-95AE-531DD689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3A47D6-9A51-49A8-8CE3-BEC47747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207EC03-255D-4BDC-9A1E-7C3BD007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ABE0D4-AE46-4970-8CCA-6F370919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05502E-3406-4937-BC20-10BC7442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298795-CE94-4495-9CEC-8DCB9D5F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F2A570-8189-4AB7-B711-569C2CBF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D78626-7C7E-4F94-A237-32CB3BF1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C78BF8-17B1-45B6-B86F-C155E21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DE7E5D-C749-4AFA-84A8-47B63E3F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9D3F8-0AF2-44D4-B169-EFE95C36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98D0B2-3C9D-43FD-A851-8A7A43B6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94EBF0-7C00-4214-BFAB-287B2009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F66C35-6E5E-47D7-95BB-BBF8935C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F5AE77-CE37-4A92-A37E-B8102897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591A0C-4BD0-491D-BB08-5002D440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4EF533E-0DEF-4D31-8C1C-BE457ED8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27075F-6C0A-4409-953B-725BBD6A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1F0EC81-F233-4D03-8D4C-05C32A79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D55CF5-2C13-4128-9CCC-38231B39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5CA22B-3470-4C89-BCBE-D5DFA83A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FDB8D-9B6B-4EEF-9910-C39A4151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0931E4D-6A00-49F0-9899-7BCEC71A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BA26C9-DDBE-49BE-B11D-44516EFD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EE185B-2B4E-4851-AA8F-ED1D7D4D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FBB1CF-3DA7-4689-8BF9-FA959754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F581286-F5F6-44F6-8E95-2EF96F8B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592CFB-1589-4D66-913B-934D7713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CF4B50-8CCB-497D-8346-04D062A4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B7EC95-2161-46B1-B285-86F47357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AAFD20E-BBD6-4686-B3FB-1AEE8804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E401931-D933-4BD9-9FDA-74DC74AA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191F9-9EBA-4FC0-BD46-0B6DE449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D5DFF6-DB79-43C8-B450-2FF04F8F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5775053-0689-47D7-B646-502387A9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C60A61-F736-4747-BDB9-01B155B0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1AC1151-62D3-4705-B19D-AD762347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D2D2F8-0882-4C1D-B2E4-00620563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F60904-03B0-4C9D-BAE5-22E79857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4425D5-C532-4DE9-A974-9C7437BB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4F4E45-A70D-4E98-8BA9-EC0EA2A5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85F399-0FE9-4BC4-A806-5CD350E1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FDDA3F-7F2A-435C-BD3A-0C5178F2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79EA7-EEB1-4645-BC94-4FE90E2E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3512F82-8191-4E0F-A23F-853C4CF0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F56450-CA6F-4CF3-9BAF-B64BE02B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527140-8EC8-4C2F-B28A-3DBDC25C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9F2854-3CEB-4297-BE3E-1D143F7B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7749B33-5496-46D1-B41C-4319D4CC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68826B-9A5D-474F-9C44-9B92EB36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F1281A-5A13-4B33-B715-0DC1AC17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016F6D2-F650-42F1-BC2B-D0BA68AC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B45ACE3-48C5-418D-A64C-64C0F5EE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F37314-5663-4647-807C-D5CAB2EF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2CF9D-C54E-4807-AD7F-565A8C7F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638594-2B47-4BCB-A761-9FD3506D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4B6D47B-90F8-467B-A909-FBAE3628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75F25E-E6B3-4CE2-A505-90E9956A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53C557C-8834-4E5C-B806-DD2ADAC9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CE75A71-CF3C-4FC0-B54D-3B296049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E13B2D-22BA-4D61-8731-77C2AF25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76215BB-F7EC-42E7-A618-0DEBF234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056F29-D49C-4B40-88DA-488F2172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451269A-0E7E-472F-B020-89C2F8F2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08DB45-FB6F-44D6-BD43-85608D30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5AE9-F822-4214-B241-B8C1697A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19086B-1FFB-4ED0-A89A-663733DA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6627056-8197-4325-8254-7FC778DE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D332F4E-876C-48E7-9156-D460B506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1B24341-23F3-4954-A5AE-EFF063A6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F6226C-5A53-409C-A214-DBCBFDBE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6B46F54-7152-4F32-9508-6036B78C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E21BFA-D1A7-4EC7-9763-92F3A283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DEA2D46-2C0F-4059-9E22-BFAE4C06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B019D9-C438-49BB-BBEA-0AB2B4C7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C88DBA4-291E-403D-867C-B5494213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35B2F-557D-4533-AD8B-A2DF268A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C0674FE-E384-494D-97E0-8E210807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EE89A6C-C76E-4A0F-BACA-11051796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3039F69-9630-4B27-94BE-7789EA00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F8B901E-0307-4850-A14A-7285D079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B47A2E1-2F26-4911-949F-9A8A1C9F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062835C-C726-4148-A7CE-BB4C2999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523E3D5-0FF5-4967-BD13-4B91E472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E821CA1-D6EC-405A-B037-DA0C08D3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49916EE-57C9-42CA-8A42-7555F85D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B16ADF-E153-4627-8675-8CD52988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BAE-D77F-49D3-8839-4A155DFD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CDA95-AEC3-4DB4-A773-7BC719A4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532DC1-69CA-4B16-A857-E1604573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49FC07B-B479-47BC-B6D6-62ABE180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81B6342-03C7-4B43-B931-A2C0F56E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9EFFB5-C393-445B-9FC4-670F3981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18455A2-2257-4915-B950-D32BDCF3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AF9DF3F-D157-4980-99BA-E38EE91E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3DA40C-B7BE-4DB7-8273-AE000FB6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A354390-3A65-4404-B75C-75E2E95E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CB4CEEE-EB8A-4367-B942-0A310AC1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C639162-1247-4DAD-981B-E43675B6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A4AE7-A88A-48FB-902C-B49C9E72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3E67B4A-413A-46B1-9CB6-8115CBF8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38BA55D-7A43-4CF0-B208-6D586DC4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6AEF56-188E-4C8B-A9E8-9E9EB7D4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D96F0A-FFAF-477F-B4DE-BC5B0157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51C9D9F-50F5-4D34-8EAB-72741324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3F9E09C-FCB0-4E17-B379-05886FD1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E24624D-7845-458D-A721-FD768E5C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EB3157-F736-4586-8B69-EFC7CC6D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6B73469-F057-419A-8C60-ABFA8B3F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1EFC990-0005-4E53-B710-D8F51406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9BFF6-57A9-40E0-8910-EFB674FC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CFD2A3B-1099-4005-86FB-EFDB6F70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2205EA5-4E83-437C-BAA4-944B8DF5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E4D434B-83C3-486C-908A-E0F70D51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FF007C1-4E05-463D-B071-A63EE181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8EB650C-63AA-41CD-9EAE-822AC5B8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46373D5-A9E5-48D2-88C9-6B1D2EFA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997FE3A-938B-46D1-93D8-91BA5995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5072D85-825D-47C6-BCFF-43659610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2D1823D-7A65-482D-B06F-3F23CA83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939ED5D-B332-45FF-88A3-2B30F78F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E77F-FD4B-4F2E-AEB4-7584BE5A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947874A-56DE-4210-A750-FF03496C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22D09D7-87FE-4A4B-B9D4-6BB81EBA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A2F0DFB-8F7B-4AF3-AB3E-F73EF73E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55D8515-002D-4B04-AE13-2EF97B92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A0BB9F-EDB5-4ADD-9DCF-10C4666A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CE01155-67B2-409C-B8FD-FD4B27BB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6D5EBF4-148C-4BDE-A36B-20190C5C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9AFEBCC-77D0-4054-9106-BC4E7C53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30E5DD3-4BEA-4073-BB6B-616A8998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311787C-5AF6-4627-B0F9-97B8E113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D7774-8A63-4F08-9BCE-4EC12A05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789CDB3-9DC6-4DB8-8099-99A5A402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82BC4C6-F000-4FA8-8746-4EAE60BD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45A4FA-61C9-4A79-9C8D-0F4D2F6A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DC290D0-5174-4D2E-BBC3-746418AF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74C1355-D8ED-4A38-A2C6-704421BC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AAFA7B-776A-44DC-9501-1647DA72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3F3B773-F590-47EA-9DC0-C98776BB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48ED6A-753D-4364-8821-213E71DF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1CE91B8-9048-40DF-A5DA-CA6440AA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657EE7A-21A8-4924-8271-2D589D8F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A4FD2-3DC6-4C43-AD75-EBB77BC8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8740CB6-3E31-46B0-B6FC-B42BA935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0536FE6-24B9-413D-86E0-FCF6A19B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CC7A9E8-7FE2-4F83-BD69-7DCCB04E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3984F1B-D64C-4EE8-9014-675F5F9B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AD84B26-A2ED-4CA3-AF7C-91CB55CC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9ABFB33-2CD3-401E-90C3-4DA898A3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CE2B2A1-393B-4B14-915E-3F97A8C0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023EAB-37F5-4A5E-814E-DD80B5D3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3E665A1-DD13-4DD5-B1A0-E2A98167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170E01B-BB4F-4053-9F1C-937D939B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051BC-A6B2-4358-9CAE-D58F227E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60881A9-5A8F-4AF7-A07C-61211780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7F6CBEE-07A6-4EC0-9377-01A22E8E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DF2B4B7-5D87-45CC-934E-000B25DC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62D4D58-BF1E-40B4-A27D-605A696F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5A2E807-9DF0-430D-B095-7219F953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191145-2869-4A2C-A2F6-52191DEF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0B2BEBB-1364-4240-A70F-E42F2FEA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09C1A86-2910-4FF5-889A-6110A78C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37BC548-7AD5-47C8-8E05-CD571493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AEC6407-1761-43E6-8910-FDD5AC5B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B9130-4DC2-47C1-A11B-C7C3C492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5F647D-0DBF-4BEB-B640-C82CA309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EF205F5-796C-44FD-A39E-AE438979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B7CDF3C-844B-4129-89F8-C4AD05BE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E6CB20B-A4B5-4769-8C1C-40D1672B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8766DF1-3A09-4858-A613-E13518C2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1606E05-F2CB-4670-A146-2EB66CC4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F1A8B1A-56D3-4393-A895-375CEC0B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1728AD2-5638-4259-9EA5-A0246F78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B7E0926-42B2-4DA3-9AD3-7F8F5C23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6D385CF-163B-42B9-8F2C-F9CF496F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DB74A-743F-43EB-B02B-F4D0609A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F2C233D-E7CA-409B-8DC9-99E278AC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3DAA5FD-4E5D-422B-B317-AFDBD26F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9CE5C33-A073-4CC0-8CB9-C5AA27CA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C12C235-442A-4D8D-B113-B20B80A5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695BE00-E421-4769-8341-2D08852B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4B4B6B-7CC2-4E65-BE28-B9678FED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41EC995-1227-4BCC-BCAB-401DE6D5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A552853-5ABE-4199-A39C-F00FACE3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E92CCD8-5DF0-4D6F-9608-FC6E9595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AE6CB20-7865-4360-97E9-FEAF29AE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B84CB-2307-498C-B853-F2F5B483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B4DC70-F24D-46F5-9FBF-328DDEEA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FD54FC9-E489-4F29-852B-B086DCC6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677A17F-A4D6-47FE-BC38-870732FE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F3DA42D-D6A0-4059-BD50-2ECE5661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3620AE8-139C-47B9-8C8F-B01EE4D8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A9C9307-7249-4FCD-A337-8F28A553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81806AA-C5B3-4B5A-8C63-C129A6D2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051B8C8-011F-403F-8893-02893A11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3D369BE-5660-4B4D-BBD3-4DE1C75C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CE7DE5-FAE0-43B2-9C0B-22B2B9A7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C9F-B883-44C5-BE39-48055261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D4C4F-2A1B-4B5D-8136-A38EBE99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CE477BC-EE8E-4298-98C7-4433D962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22BA1EC-B35C-459F-9392-DE7985C4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0CF8C0B-7850-4F61-A496-65073696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8845AB7-F9AA-4B21-B7DB-E7C087BD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83C9AEC-DB16-4374-A892-5530E24A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5FE5A45-0486-4EAB-88BB-DFC05AD5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1547B3C-9C21-440D-BFF5-64860DD6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B4D3ACD-5CE3-469B-B033-68D6FEE0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211EF0B-A55F-4B85-842E-96289971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C95A9F9-2294-4B28-8385-1F18F65F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6E692-7A23-4D6D-9E61-33D18996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A2F0752-5D8E-4E39-9ECE-513C8F66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68641EF-9960-4ABB-A444-E4AD0CF7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DD5FD22-D39E-481A-8A49-BA2EAEBD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5FC7C27-3B13-4E33-A473-8803F5D7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644393D-8072-459E-8B31-0353F64D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19F9D63-5B1B-4A0C-93AA-D18D7172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00ED26F-9EBF-474D-85C4-DC24EE2C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1DA5C6A-C99D-49BD-B958-1D014AB8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77C580F-79EF-4B11-81F9-B402D0DE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3B23EEE-F467-47C1-88F0-CDF1662E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FA337-F63D-4013-B4CD-9CAB35F0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269EC0C-09FB-4F53-844F-02FB4B0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CF4C265-6533-4E07-9C7E-24F32928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268B90B-49C0-4535-A7E3-44AE9A9B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A881BB2-F783-4101-9852-0F56B194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1F60A86-9AE2-4CB8-928C-BA9A9D83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49DAF71-C5EE-4386-834E-56CE3CBC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01AB162-4F8E-4D70-B3BE-A35EC195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168AA62-9CDC-402F-985B-49E628FA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82EDBCC-80E8-4688-89A7-5E908324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4AEE19E-9E3F-4E46-B311-7E1733F2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3B782-0B35-4628-BA1C-2C032DDC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2967A78-4942-47A5-81DC-8B1CAA24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CFC31FB-93B1-43CA-85C8-53B6A00F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F0C4DA2-D215-4B3D-92B1-851CAC0D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90A4172-A4DA-4461-B5E2-BDB1CA1A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1E49AF6-C45E-4838-9FFF-D756F59F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81F0618-E977-4332-A354-9EA07430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A4773CB-6A6E-4015-B79F-D8A62AA5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1D86DCB-2247-4110-8213-3F9E1F87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3F5127A-3D18-4794-9681-F26E56D5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5DE035E-3932-4ACD-AF7C-FABB6E63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73641-771B-42FC-87F4-06026CB3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E38F214-07DF-4427-A994-C2C66B3D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A3D30A7-DAE7-4F08-BD48-901089FA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556AA4E-7879-4B41-9365-13B11D22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EC1C89F-9658-4230-8E1A-8CCDCE0F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073CE15-BC64-4D23-A6D5-DCC0D129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96417AE-B7D9-4D5D-90DC-AF1D5A9A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1B40A55-7BBF-4029-83B5-74395941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B5B99A0-0A3B-4C0E-957E-CCB88D36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91ED9C3-7885-4644-8ABE-7F705330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178E240-61A4-422C-89AC-1AA36DCE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768D5-D3C2-4EE3-8A67-B7515F82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6E78F80-A45E-468A-8532-ECE0EB3B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6278C54-F58A-4B51-8504-7CDC094E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9334A37-AE2F-40F3-84F5-99A98FD6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BFA8B9F-00B1-4EA1-8F12-700A2329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BABAE97-4BDA-4E64-833E-B78992B2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448E005-B95B-4696-87AA-D589A7CF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EEC0347-66E2-4190-9381-DAD19987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09DC901-D2CE-4B7E-9F9F-4FFEF0A3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0625593-21E5-47A5-8CCA-D5F841F7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62D02F3-47C4-487D-834D-FAC2E412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73E8A-C89E-49A6-9DE4-2761E0B4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75CE900-FA0E-485C-A7BC-8371A413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759696E-8FD7-4C5C-B4AF-D03EE320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3A3CE18-C5BC-409F-86B5-25F28720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D78AD84-17EB-49CD-8584-E9A161A1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436F17F-B439-43E6-A863-D2FC8C56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3E51536-16C2-417D-9942-4B7EE574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3CD7418-A03F-4ABF-8A67-2FFA8D84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21D3806-BA45-41D9-8827-6617402A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308E6AF-E742-4832-B110-4638A212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BCA93EA-5969-4860-A2BA-61A0E040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EEE79-0AB1-4411-9C2C-5E64E029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6006D78-1AC4-485E-91CF-282ED86E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855EE43-DC3A-4741-8383-C3E05465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BE37826-9AFD-4A0A-9B5D-4F519FEF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1BE725D-3581-41E3-8775-479D3A15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5CBFEEF-E1DA-4D2C-8316-01DA0B1A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389D4CF-33EE-4521-9390-A9B03E30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353917-6EB6-4707-B5DC-B1AC1677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B88D304-61B3-47AC-83E2-F1A641EA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91E613D-08E3-4FFA-A73C-C6FF2EEF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17F329D-C6F5-44E1-8B61-65111020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5391A-0636-4D26-B560-FE484308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A66A7F5-50B0-4D5E-B804-6B66D8DD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54F9EF6-111B-4C28-8639-25C867A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24DA7AC-9A3B-4B07-8802-B523E88A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E9BF127-89BB-41B2-B768-5329FCB8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74EF10E-238A-4FC9-8E5A-4431F462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9F9AB39-1D0A-4983-87B1-CED64CE2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C6FA8C2-71C2-4640-82DB-7E385900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074FE9B-6917-4F7A-BBFA-993DE88C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27FABC2-892E-4AB9-9742-EEEF03FB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3F6B551-030F-4E5C-B059-7CF10B6D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69320-E442-4120-87D9-BB851A1B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DB57D5A-FDA1-4590-A02E-AC6BD5F4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638ED93-7130-4CF8-AB91-3D5B8942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5ACACEC-41A3-4277-A0DA-44D4813D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7DE42D5-740E-44CE-BD71-7EDA6E36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7557C86-88CA-445E-9B16-AE2AF65B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4CC4F2C-FC91-450B-AFEC-F50B3080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021354B-2A7B-4D8A-9BB1-A95C170D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B73E1EE-7041-489F-8493-E825107B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0F1519C-BF24-432B-9F43-5A64859D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6DF3E71-BFBB-4C08-93EB-FC658B2C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CC4-C5AC-4257-ADD2-517292CB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411E6-F47D-470B-9EE7-822652BE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BB0B8CA-E5A7-47FC-8087-8FF73E13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5EABE60-FD48-4EB4-AE22-3D1355C9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949D147-7A4F-4B04-BEA0-40303234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D578589-6C07-49E9-A902-BB9B2A30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E163702-AB46-4F64-B1A3-ACE5A363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C31D597-680D-4830-9926-69C5A6B1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13FA2C6-B35D-4EC7-ADD8-105E8F18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C318ED1-1CAF-4900-B629-AD180A60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2890EE0-3CD9-44B1-8B13-6B77C725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919E823-43F8-4C47-9477-B844CB1C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B7913-6B9F-4214-86A9-369E8BA3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E852BBE-058D-4913-ADD9-9A10B6AA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6DEF775-E39B-4A95-B465-E8FB730D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27F9E60-DE9B-4CC2-8B78-56554491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FD11A3A-ACAD-4105-ADC4-7A14E368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3F62BDB-785C-4B59-A303-B8229F6B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CF4B045-38D3-4F12-88DE-707E9DD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8DC7832-90E0-4C70-83A0-2D0753E2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53ED307-CF78-4ADC-BF9A-2551537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F3F1E43-C42E-495C-9499-403371F0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FB48A2D-5FD5-4BDB-A7A4-20B23B01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83724-E1A9-4D81-965E-BFFFE040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F2744F4-4593-4844-9B2E-65C19920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CE0BBAA-A949-4771-B8AE-9DE254AA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F89E5DF-574F-4EBD-AA99-7AA7DBAC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4A81B41-45A2-42A2-BE49-0EB2F0B6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E42039D-996C-46D7-B5BD-FE12B8C6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AC8ECA7-32C7-4007-835A-E7D1DD3D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C5B8832-B4CC-445E-9083-62E93D31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1DE94C5-996F-4BC4-A71A-A31DD4FA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864F1AB-9264-4669-B7F1-6EFE7CB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7F03D5C-3755-46C7-9C6D-CFDC993D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B1C90-5B99-46DE-B08D-6C585325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584352B-401F-48CF-8075-B404CFCC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3DFAB93-C1B4-4DAA-B95D-69C9DC83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F22CCDF-B878-4767-8CD2-0A037EAB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10ECF40-60FD-4C4F-A04E-9DFCAF8D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7839D6D-B2D5-48B4-9F4F-F2390473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B7DCD4E-C6AE-446A-B33A-178D6A40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8661DF3-2CC1-4B41-960C-89F9BA81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FEEFDAD-F189-4B1D-B7D3-AF9A278F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86A707A-1D2F-4EA6-AD51-9BC417A4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E23079D-950E-4BF7-9E14-32C2455E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59C3-D788-4092-BE47-462D8E05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F71760F-DD60-4EE7-AF1B-80B8195D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488B20B-24BC-4BFC-82D9-2794BD0B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D07288B-1E14-4791-99EE-352FFD2C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D15DAA9-39CB-4E4B-8CEE-91A1E363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42AD285-0591-47E8-9680-E59AB244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AE849B0-4C4A-4B6F-A4EA-B9D8D0AE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7684463-6B26-4750-887A-25AFFCA3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D66F22B-8E6E-4BA1-A3A1-B97115A0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414F968-79B9-42F2-A471-486D3151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4A43258-D82D-43F3-A887-B62EEB9A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5D309-2A82-40EA-8C4B-E1424215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C050AEA-81FE-4C1B-8810-6168F7F5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8498BD2-BA75-4A4E-9905-25E834F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AD9E7CC-8E77-49F7-9182-A65B6DC9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BDC6BBD-FB93-477D-BF4C-9867097D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28EB313-C8DA-4C36-8F4D-07222B48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781A03C-780C-4965-8B40-E4E5F657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BEC1A2C-275F-404F-8960-96160A41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8710BD8-8306-498A-82F0-36A3D5D2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BE8E23A-4AE5-4253-872C-1812EDAC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E8BC103-FAB5-461C-A0A3-F81D932C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30075-DF12-4EEB-8901-EB8C61F7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1CAFAF3-D02E-421D-9EB1-A2F7EE00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561FA30-0424-40AA-BE81-60D0CE2A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43DDC33-2B2E-49BD-ABE7-0D3BD470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12E2E07-A7B6-4830-9BC3-4D781E9D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5BE7C34-6CBB-4F7E-8065-DB828457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6AD9FD8-1DF2-4D4D-9BCA-FE1F6353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5D7070C-33A9-4ED0-B1AA-E7258FD4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5E9A3BD-D117-438A-B9C1-5EB2713E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6CF3604-042A-4841-8731-F28A98B7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0BDFEAD-5180-4DE0-847C-09C589AD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B8B7D-9FB6-4117-BCA1-F966939A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65BE29F-F5A2-45DF-9F45-526FE3CF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7EA74B5-082C-4B14-8987-44F7B51C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3A4BFCC-C00E-4A55-8C88-ED9E3383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BDE5C59-09D5-4E14-A18B-087F62C3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0E27CC5-1E33-487A-B4A8-F67E38DF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D9EBFC0-8D8F-4F7D-B7B6-DBB61AB0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3AE1FCB-EA2B-4F11-AD12-4BE513C5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504C629-7BBC-467B-9464-C9FC1A33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279E566-0607-4BAE-962B-B1012710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9A1889F-C8E8-4C26-8E9A-55331901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5DF84-4D33-409F-AE14-35A0BA20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3C5D6A9-2E72-43D7-A1E4-AD0B4EE6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D94745B-BC2D-4A65-BB94-C55FC628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715DE2A-49A0-49B7-B532-1313D1A5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B5F8924-71C0-423A-82C8-62D785F6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C7D1AF0-807B-4A79-92D8-9C992882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25A8878-8760-4E5E-8337-5340DC42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70A550D-2860-4F86-A184-31180879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38FFA1B-D865-4456-996F-ECB15082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AA2BE6A-17B6-4132-BBEA-E386434C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DDE9305-7BBA-4C01-9FF1-C71828DE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B6523-177E-432E-B00D-08867449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7DE6F26-CC7C-4923-8D32-B86986A8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6F0BCC2-CD8C-4C21-9169-0BE02A7B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C2F3E2F-4E78-4563-ADF3-0761FBC5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C23FBD2-E237-4339-8904-DBC711BF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EDA6926-D496-4DDA-A831-7275DDD7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A47A26E-B3AE-4654-BA7C-D0A1A691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641D524-29E7-447D-A849-17E0C137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89C0607-CC83-4C49-A509-65057812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69D269D-3B81-49AD-8CC9-F8CD9D30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1F21591-C72D-478D-8DEF-601BE2A5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A48-C8E6-40F2-915E-34EFDE1D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A0959-10A7-4729-9C9D-5CF9FC25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2DF5651-8E28-4D70-AE31-CEF3374C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0F13533-1DE1-4BA0-BBDB-CD4142CA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34D071C-4E58-4B00-957B-BE552E47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6CC22BA-EB93-48AF-A746-6001DEC9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F1632CA-A669-47F1-A992-3D808E5E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F5F96E0-A434-4F62-B239-40A1B37A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E00DEA6-F673-4DAD-945F-D1BD9F0F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72AA131-1868-4F54-AB17-597FAA77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CA81413-A178-4BD1-A717-04CAB5D7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3B5FF4B-9A35-4803-8804-D45C630C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03B77-3843-483B-8376-DC33CABA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49647E3-74A4-4DCC-A393-0EA3A672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FAB83CA-DEB0-4F77-8C68-75D090F3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BFB0E9F-FE80-49AF-8175-C64A9A7B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6C8ED9B-C4B7-401F-B4D3-52A7DAE8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1425D5E-3808-4E1D-B4AA-A23DF3DA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E69C9FB-5D98-4E34-B6D6-F0DB167C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35E8951-7118-41A8-85FC-945B4911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BB211D0-32AB-4675-9770-B6AB21C9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983EAD5-F484-4BD1-82A1-B4185849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19FD890-A880-4DF3-9399-63448651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6C1EB-DB65-45D5-B78C-0357F37B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0B0B5C6-C5ED-4003-B855-28C2E0BC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6258A78-C215-4ED1-8F64-B88D1C85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99DD236-B806-4BBA-B543-747F9F4F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2A96080-9FDB-472A-AE20-1942004B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0935B3C-949F-4186-90A9-9B9A882F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CFF8028-841E-49A0-9AA0-F10E1C9C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A2D5970-F647-4CCD-8AE0-3110C033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B7457DA-9312-49A0-A021-1D41F820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8BF9DE3-5212-480C-94FC-9B3CCB2D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7623F3A-DC99-4C40-A7CA-C4FF7DAC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C730A-422E-4D02-B0D3-C0F50942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9C78948-2B69-414C-B94F-9DC1E0D4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8343AF5-183C-41B4-B899-754E1B6D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3A7D57A-357C-4DDF-87FA-40B595EE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0F3CF14-F234-47DD-BB06-D8B070A7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306D068-B0DA-4F0A-8D5B-5B44B25C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48D4BF3-FB13-4561-8291-535447B1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6CCA636-7EF6-496A-8AD7-9E1EDC1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2AD7106-5F6E-46BF-9E6A-2047EBA0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5E98DE6-E61C-4EF9-BBCC-9E830FD1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D6790F3-1B19-49A5-B432-01F0A80F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A09D2-AD12-44D6-91A2-37E2D3D9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E66079C-F614-4912-B485-743F66A9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45BC67F-1651-4B31-B786-E873A27A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1DE808B-57EE-4AB8-ACC4-F2722819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81D521F-7DC1-453F-B65C-5E4C095C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275C8D9-0927-497E-AC2A-03278572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34997D9-2051-44F2-BB68-BC2DB848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48B0D28-F272-4C89-A464-0D16975D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6E36819-B43D-4E10-8690-7F542B9F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731D47C-1D83-43FB-914F-CFC631D0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D155FC0-F1C8-4753-B689-8EE58EBC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D7E98-E825-4F41-B823-D90569C0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BEE86BB-001B-4DC6-A721-15984976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A933D85-7021-4DFB-B7B5-E50DA0AD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3D9D204-10A7-436F-AD40-1A5F61FC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11CC0C7-E82D-4010-93F6-078DADCC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97B9DFF-CA21-43C2-9001-FDD2594B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BDABDB3-22AB-45E5-8CF5-B90D922B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848F538-B685-4E13-94E3-A959C0A6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A7C0DF0-9562-45FD-B52D-E15BFEE0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471D229-9181-43C2-9BA5-2708F681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A18A8AD-D353-4F66-B8D2-95ECF97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22CAC-D81A-43A8-A582-3FAC664B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A2E7CB5-93DF-4799-A836-FD1F879B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961AFCE-A7F5-4CC1-BC63-B3DDB44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B0AFC25-551C-42C7-83E0-407470BD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B20C557-9332-40A4-8548-7C3EB3AC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1A7A60B-1242-4357-B42C-A667C609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5E5B067-071D-4320-B865-80074BEE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098263B-E0CD-460E-B301-337640E6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A5F3970-DFB4-4784-AD3A-D8002480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F1F9AAC-6878-45CC-BFB6-00D7636B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4A246C0-1DE3-4B24-9AE1-41F61DB3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EDD4A-9FC4-4D58-A1DB-23E01341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25BE5B6-9EF7-443F-A937-E4A8956F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9AF64EF-22C1-4B8D-A66B-167D1734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3249BA7-E771-4E4E-9256-DFBCF56C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8A6073F-97F4-4489-BE36-62CB12E9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408E5BE-AF0D-4018-A0DB-B026D6C9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1F8894E-EA39-4BC4-AA32-B0547C98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02ED696-54E1-4018-891E-B5628CE1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36F6EC3-AC2D-4365-A6B9-2DD44B49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4A3BE00-F83D-410F-A4F3-D635EDD6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4E65D43-7351-4085-9B72-063F4A83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3EC40-1416-475F-8AEC-4F88D5F1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27079D5-56AF-4A07-986B-AF93308A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50D74BA-61D9-4795-B93B-8F902689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90F170A-C1C9-4763-A0D6-1FE2C001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BE18EAA-8F45-4739-8055-45A28C23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3C0001F-E1E2-42B5-935C-E963BFA4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4BB8009-B470-4C22-B838-665022B8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A3B2730-EC85-41BB-8899-83CF8A5F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BBF9C0F-95E7-4A20-A372-E2C16A98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3671800-CE52-4451-B40C-4BDF59FB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994CE61-30A8-48F4-9A1E-35F81EAA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CCD35-14E7-4171-B508-FAD6F1F0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B246C89-C387-4FC3-8BF6-02DD4BFF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E2D8888-2CEE-4207-AB91-CDFFDE55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313C701-1C6B-4A79-88B5-7817BA7D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9A128FD-8A19-43F8-BFA1-7D7F3F61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D0E209B-7850-45C0-85F3-B54E0443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F3F9600-27ED-4BE2-B71E-5C5D5709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09E123F-E730-4C05-956D-73C12395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A56495D-BFDE-40F6-B596-AE01B63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C96573F-9AC7-448E-B31A-82B32642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8DCEBD4-CC45-4343-87BF-AFE17A7D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DF9-BECB-42DD-A16B-FCF068BA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4D40B-C984-4820-B983-E61D7A33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127EC0E-FAB1-4792-A564-930B9136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6FAC820-9FEF-456B-A0B5-0A73C0A5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127BB74-2319-4D2D-BBAE-1C262A25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906C110-0372-428F-B92A-2EF3FFAB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2C3FF5D-7A3A-43AE-A5CD-FA0630E3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D3E09ED-8D97-4A4D-B255-D36A94F9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F17B22F-A5B7-4C7A-A81E-F1AE3D8F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E36B7D6-3B5A-4C03-A7B3-D641C361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474AA49-0EB1-45C4-9CDA-ACC2479C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2E59018-A65F-4DCF-84B6-BE3B08B3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3AACB-BCCF-47CD-8BB9-BB002380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60540E8-D9C0-4BD9-A9BF-53322EC8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4123C09-FDA2-4D5B-97B9-32F0BF01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F37A3AB-D408-4836-AD41-E44C8C01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B943C47-C24C-4562-9B57-E3A04534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0541818-E740-4EA2-8FC2-4EDD8DC7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8916793-F100-4E73-B423-86D3702A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1A7B89A-C582-43F6-B12F-D1828E9C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C13EEFC-5C7F-4554-AECD-A6D1B8FB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CDD64D2-4B9E-469D-ACEB-F508D7C3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1CAF1B7-0A21-4523-9290-AC4DBE08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93E2F-665C-485A-A015-EF9435FE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5F9AFB2-2ED5-4338-B117-A80E5A33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553717B-980C-48DD-8A8F-0F04BB99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2AEDE61-739A-4494-87EC-FD538711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9AA42A3-175C-4229-AD9F-232ABD1E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816675E-A453-44FD-BF5D-221042E3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B12ACF7-A867-416D-91D7-EE606FCB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5059419-22EA-421A-806F-751E8659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FBA56B2-275C-4BAD-A513-92C40122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BFA36A1-E28A-446B-A50B-40C5903A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FE5DE99-6F2E-4A17-BDFF-98818656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2986D-4C0C-41A0-B2C4-5F95BC03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66E6682-FC8A-4F05-A58F-52B638BF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7D9462E-5DDE-457B-9D93-A6904913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DF219D2-F9CF-42E4-A1A5-C9BEE4F2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52874DC-9888-4A80-86E1-CD7777C9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26A0D67-2A1F-4654-B9BA-88FDBB8A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1F49034-B871-463F-9AB6-65640227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A1C5BAD-AB73-454E-A90C-21985853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3584B54-67DB-4A90-BAC0-DFABA4C1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DA619CD-CBD6-4B50-9B4F-BD2F5491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9A642D5-4030-424E-A8F1-55A7340B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E62C1-3DF0-4351-B475-20D3ECD6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D7D9972-B9A0-4A66-856C-C2FFE3AD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3F17717-AB81-4DD9-B525-8923CF03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EAF62C1-C5D3-49B2-8BFA-D101E192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9BB3C53-1CB9-4994-93FD-54BD190A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8DB633A-8DF2-4E6C-9762-AF0FC8BA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F5950E4-7A2A-4AED-A4B0-0653571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E3A35DE-DBFD-46FC-9EED-168635B5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BF90E45-734A-4329-8DB2-F6E30FB9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8D86720-6048-4049-A074-D2FD6E4A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4D04BD2-756A-4020-A7DE-1636E134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0D691-9B0D-4930-87ED-DC599900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F6BAC1C-D1B9-4C5D-B828-26B70CE8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689E375-A9EC-404E-878C-95898A32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4B0A41B-A929-4006-8A51-55D93ADD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65E0065-1669-44DF-BC3F-4450509F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B375DA8-463B-4E8D-A760-6712C077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5486A1D-C1FB-4CC9-9401-C48F4B08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04A812A-117A-4E55-925D-93429A39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D178150-BF11-44D9-9891-0AEC9814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0D65916-5741-41B3-9C03-19D135FA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59D1BAB-C887-4273-AECC-76466A13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70A5F-50BF-411C-9259-260FDCB4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4899B44-991F-4C17-AAA8-E6804660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14881A5-E127-4597-AC16-7020817B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D8DBA41-2B79-4772-95E2-08706D2A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C11DEE4-DE1E-4CC8-A2E1-936EEB85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1E62ED7-ACDD-4039-B27F-4460D709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F564B34-C9AC-43B5-BD60-7412D1E4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7FA1152-CF66-43F0-A8CE-4CE6CA8E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4F26851-0CC1-4BCD-A889-028C275C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E84C95C-B1E6-4854-86B8-EC03A2F0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98238D6-1138-4626-9B41-9271E0EA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725D6-5B2A-4072-AB25-6D514AE9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D42DAC8-3859-4BBF-865E-A15BAABF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4FBAE21-2165-41F2-B0BD-C5C2A0B0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D7B3C10-7C08-49C6-B5F6-9C991597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DE44600-9520-421C-A017-BA9FB2E5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8D3BCB1-422F-4DA0-9278-48C13083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8497B57-D043-4E1F-B770-0C5D394B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7C329BC-EA8C-4604-BDBF-DEF35B46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5D993CA-37B9-4C33-892E-81293856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075251F-D99C-4329-B98A-C478692A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ACF2AE1-1B3F-4F6C-BA07-4AF9D27B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51672-BB28-4623-A914-E1775B7B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73AD649-D31A-4B41-82AC-5623C93C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7FA9BD8-E293-4DC9-8F2B-9192DDB2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EA9127A-CD82-464B-808A-D92A189C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A193076-B0A8-4B3F-BCF9-32025C72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268CBE6-C8E8-41B9-B97C-058FE1EF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8A740C8-A1B3-49B9-B69E-F4EF63B5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BD72649-8423-47A6-916B-2093943C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C1A425F-9B34-41A4-963E-802BA950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75B913A-3ED3-4AD4-BDED-1418E76E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9E19B3A-02D0-4B6A-AB33-8858D38E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8B7E9-A998-403B-8C14-D2005556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D4BB959-A188-4809-A32D-FB5A76C6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FD65790-873E-43C5-9C16-8F3FEB04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7EFE065-1128-4FB9-8F76-9C278AF4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F8D8040-A7A5-4273-BFDE-A82D1C22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1D9437A-826C-4B81-91D7-5EE8566C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3289530-452F-4AED-94AC-149F93BB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0D3DE25-2EB3-44F9-B818-CBF7A0D9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FFAD956-799B-45BD-9A97-2C61D36B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30564B6-ED56-4115-9D46-C62008C1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92F808C-1EB0-4197-8D47-F7DA2C8A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61.xml"/><Relationship Id="rId4" Type="http://schemas.openxmlformats.org/officeDocument/2006/relationships/slideLayout" Target="../slideLayouts/slideLayout1262.xml"/><Relationship Id="rId5" Type="http://schemas.openxmlformats.org/officeDocument/2006/relationships/slideLayout" Target="../slideLayouts/slideLayout1263.xml"/><Relationship Id="rId6" Type="http://schemas.openxmlformats.org/officeDocument/2006/relationships/slideLayout" Target="../slideLayouts/slideLayout1264.xml"/><Relationship Id="rId7" Type="http://schemas.openxmlformats.org/officeDocument/2006/relationships/slideLayout" Target="../slideLayouts/slideLayout1265.xml"/><Relationship Id="rId8" Type="http://schemas.openxmlformats.org/officeDocument/2006/relationships/slideLayout" Target="../slideLayouts/slideLayout1266.xml"/><Relationship Id="rId9" Type="http://schemas.openxmlformats.org/officeDocument/2006/relationships/slideLayout" Target="../slideLayouts/slideLayout1267.xml"/><Relationship Id="rId10" Type="http://schemas.openxmlformats.org/officeDocument/2006/relationships/slideLayout" Target="../slideLayouts/slideLayout1268.xml"/><Relationship Id="rId11" Type="http://schemas.openxmlformats.org/officeDocument/2006/relationships/slideLayout" Target="../slideLayouts/slideLayout1269.xml"/><Relationship Id="rId12" Type="http://schemas.openxmlformats.org/officeDocument/2006/relationships/slideLayout" Target="../slideLayouts/slideLayout1270.xml"/><Relationship Id="rId13" Type="http://schemas.openxmlformats.org/officeDocument/2006/relationships/slideLayout" Target="../slideLayouts/slideLayout1271.xml"/><Relationship Id="rId14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73.xml"/><Relationship Id="rId4" Type="http://schemas.openxmlformats.org/officeDocument/2006/relationships/slideLayout" Target="../slideLayouts/slideLayout1274.xml"/><Relationship Id="rId5" Type="http://schemas.openxmlformats.org/officeDocument/2006/relationships/slideLayout" Target="../slideLayouts/slideLayout1275.xml"/><Relationship Id="rId6" Type="http://schemas.openxmlformats.org/officeDocument/2006/relationships/slideLayout" Target="../slideLayouts/slideLayout1276.xml"/><Relationship Id="rId7" Type="http://schemas.openxmlformats.org/officeDocument/2006/relationships/slideLayout" Target="../slideLayouts/slideLayout1277.xml"/><Relationship Id="rId8" Type="http://schemas.openxmlformats.org/officeDocument/2006/relationships/slideLayout" Target="../slideLayouts/slideLayout1278.xml"/><Relationship Id="rId9" Type="http://schemas.openxmlformats.org/officeDocument/2006/relationships/slideLayout" Target="../slideLayouts/slideLayout1279.xml"/><Relationship Id="rId10" Type="http://schemas.openxmlformats.org/officeDocument/2006/relationships/slideLayout" Target="../slideLayouts/slideLayout1280.xml"/><Relationship Id="rId11" Type="http://schemas.openxmlformats.org/officeDocument/2006/relationships/slideLayout" Target="../slideLayouts/slideLayout1281.xml"/><Relationship Id="rId12" Type="http://schemas.openxmlformats.org/officeDocument/2006/relationships/slideLayout" Target="../slideLayouts/slideLayout1282.xml"/><Relationship Id="rId13" Type="http://schemas.openxmlformats.org/officeDocument/2006/relationships/slideLayout" Target="../slideLayouts/slideLayout1283.xml"/><Relationship Id="rId14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85.xml"/><Relationship Id="rId4" Type="http://schemas.openxmlformats.org/officeDocument/2006/relationships/slideLayout" Target="../slideLayouts/slideLayout1286.xml"/><Relationship Id="rId5" Type="http://schemas.openxmlformats.org/officeDocument/2006/relationships/slideLayout" Target="../slideLayouts/slideLayout1287.xml"/><Relationship Id="rId6" Type="http://schemas.openxmlformats.org/officeDocument/2006/relationships/slideLayout" Target="../slideLayouts/slideLayout1288.xml"/><Relationship Id="rId7" Type="http://schemas.openxmlformats.org/officeDocument/2006/relationships/slideLayout" Target="../slideLayouts/slideLayout1289.xml"/><Relationship Id="rId8" Type="http://schemas.openxmlformats.org/officeDocument/2006/relationships/slideLayout" Target="../slideLayouts/slideLayout1290.xml"/><Relationship Id="rId9" Type="http://schemas.openxmlformats.org/officeDocument/2006/relationships/slideLayout" Target="../slideLayouts/slideLayout1291.xml"/><Relationship Id="rId10" Type="http://schemas.openxmlformats.org/officeDocument/2006/relationships/slideLayout" Target="../slideLayouts/slideLayout1292.xml"/><Relationship Id="rId11" Type="http://schemas.openxmlformats.org/officeDocument/2006/relationships/slideLayout" Target="../slideLayouts/slideLayout1293.xml"/><Relationship Id="rId12" Type="http://schemas.openxmlformats.org/officeDocument/2006/relationships/slideLayout" Target="../slideLayouts/slideLayout1294.xml"/><Relationship Id="rId13" Type="http://schemas.openxmlformats.org/officeDocument/2006/relationships/slideLayout" Target="../slideLayouts/slideLayout1295.xml"/><Relationship Id="rId14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97.xml"/><Relationship Id="rId4" Type="http://schemas.openxmlformats.org/officeDocument/2006/relationships/slideLayout" Target="../slideLayouts/slideLayout1298.xml"/><Relationship Id="rId5" Type="http://schemas.openxmlformats.org/officeDocument/2006/relationships/slideLayout" Target="../slideLayouts/slideLayout1299.xml"/><Relationship Id="rId6" Type="http://schemas.openxmlformats.org/officeDocument/2006/relationships/slideLayout" Target="../slideLayouts/slideLayout1300.xml"/><Relationship Id="rId7" Type="http://schemas.openxmlformats.org/officeDocument/2006/relationships/slideLayout" Target="../slideLayouts/slideLayout1301.xml"/><Relationship Id="rId8" Type="http://schemas.openxmlformats.org/officeDocument/2006/relationships/slideLayout" Target="../slideLayouts/slideLayout1302.xml"/><Relationship Id="rId9" Type="http://schemas.openxmlformats.org/officeDocument/2006/relationships/slideLayout" Target="../slideLayouts/slideLayout1303.xml"/><Relationship Id="rId10" Type="http://schemas.openxmlformats.org/officeDocument/2006/relationships/slideLayout" Target="../slideLayouts/slideLayout1304.xml"/><Relationship Id="rId11" Type="http://schemas.openxmlformats.org/officeDocument/2006/relationships/slideLayout" Target="../slideLayouts/slideLayout1305.xml"/><Relationship Id="rId12" Type="http://schemas.openxmlformats.org/officeDocument/2006/relationships/slideLayout" Target="../slideLayouts/slideLayout1306.xml"/><Relationship Id="rId13" Type="http://schemas.openxmlformats.org/officeDocument/2006/relationships/slideLayout" Target="../slideLayouts/slideLayout1307.xml"/><Relationship Id="rId14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09.xml"/><Relationship Id="rId4" Type="http://schemas.openxmlformats.org/officeDocument/2006/relationships/slideLayout" Target="../slideLayouts/slideLayout1310.xml"/><Relationship Id="rId5" Type="http://schemas.openxmlformats.org/officeDocument/2006/relationships/slideLayout" Target="../slideLayouts/slideLayout1311.xml"/><Relationship Id="rId6" Type="http://schemas.openxmlformats.org/officeDocument/2006/relationships/slideLayout" Target="../slideLayouts/slideLayout1312.xml"/><Relationship Id="rId7" Type="http://schemas.openxmlformats.org/officeDocument/2006/relationships/slideLayout" Target="../slideLayouts/slideLayout1313.xml"/><Relationship Id="rId8" Type="http://schemas.openxmlformats.org/officeDocument/2006/relationships/slideLayout" Target="../slideLayouts/slideLayout1314.xml"/><Relationship Id="rId9" Type="http://schemas.openxmlformats.org/officeDocument/2006/relationships/slideLayout" Target="../slideLayouts/slideLayout1315.xml"/><Relationship Id="rId10" Type="http://schemas.openxmlformats.org/officeDocument/2006/relationships/slideLayout" Target="../slideLayouts/slideLayout1316.xml"/><Relationship Id="rId11" Type="http://schemas.openxmlformats.org/officeDocument/2006/relationships/slideLayout" Target="../slideLayouts/slideLayout1317.xml"/><Relationship Id="rId12" Type="http://schemas.openxmlformats.org/officeDocument/2006/relationships/slideLayout" Target="../slideLayouts/slideLayout1318.xml"/><Relationship Id="rId13" Type="http://schemas.openxmlformats.org/officeDocument/2006/relationships/slideLayout" Target="../slideLayouts/slideLayout1319.xml"/><Relationship Id="rId14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21.xml"/><Relationship Id="rId4" Type="http://schemas.openxmlformats.org/officeDocument/2006/relationships/slideLayout" Target="../slideLayouts/slideLayout1322.xml"/><Relationship Id="rId5" Type="http://schemas.openxmlformats.org/officeDocument/2006/relationships/slideLayout" Target="../slideLayouts/slideLayout1323.xml"/><Relationship Id="rId6" Type="http://schemas.openxmlformats.org/officeDocument/2006/relationships/slideLayout" Target="../slideLayouts/slideLayout1324.xml"/><Relationship Id="rId7" Type="http://schemas.openxmlformats.org/officeDocument/2006/relationships/slideLayout" Target="../slideLayouts/slideLayout1325.xml"/><Relationship Id="rId8" Type="http://schemas.openxmlformats.org/officeDocument/2006/relationships/slideLayout" Target="../slideLayouts/slideLayout1326.xml"/><Relationship Id="rId9" Type="http://schemas.openxmlformats.org/officeDocument/2006/relationships/slideLayout" Target="../slideLayouts/slideLayout1327.xml"/><Relationship Id="rId10" Type="http://schemas.openxmlformats.org/officeDocument/2006/relationships/slideLayout" Target="../slideLayouts/slideLayout1328.xml"/><Relationship Id="rId11" Type="http://schemas.openxmlformats.org/officeDocument/2006/relationships/slideLayout" Target="../slideLayouts/slideLayout1329.xml"/><Relationship Id="rId12" Type="http://schemas.openxmlformats.org/officeDocument/2006/relationships/slideLayout" Target="../slideLayouts/slideLayout1330.xml"/><Relationship Id="rId13" Type="http://schemas.openxmlformats.org/officeDocument/2006/relationships/slideLayout" Target="../slideLayouts/slideLayout1331.xml"/><Relationship Id="rId14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3.xml"/><Relationship Id="rId4" Type="http://schemas.openxmlformats.org/officeDocument/2006/relationships/slideLayout" Target="../slideLayouts/slideLayout1334.xml"/><Relationship Id="rId5" Type="http://schemas.openxmlformats.org/officeDocument/2006/relationships/slideLayout" Target="../slideLayouts/slideLayout1335.xml"/><Relationship Id="rId6" Type="http://schemas.openxmlformats.org/officeDocument/2006/relationships/slideLayout" Target="../slideLayouts/slideLayout1336.xml"/><Relationship Id="rId7" Type="http://schemas.openxmlformats.org/officeDocument/2006/relationships/slideLayout" Target="../slideLayouts/slideLayout1337.xml"/><Relationship Id="rId8" Type="http://schemas.openxmlformats.org/officeDocument/2006/relationships/slideLayout" Target="../slideLayouts/slideLayout1338.xml"/><Relationship Id="rId9" Type="http://schemas.openxmlformats.org/officeDocument/2006/relationships/slideLayout" Target="../slideLayouts/slideLayout1339.xml"/><Relationship Id="rId10" Type="http://schemas.openxmlformats.org/officeDocument/2006/relationships/slideLayout" Target="../slideLayouts/slideLayout1340.xml"/><Relationship Id="rId11" Type="http://schemas.openxmlformats.org/officeDocument/2006/relationships/slideLayout" Target="../slideLayouts/slideLayout1341.xml"/><Relationship Id="rId12" Type="http://schemas.openxmlformats.org/officeDocument/2006/relationships/slideLayout" Target="../slideLayouts/slideLayout1342.xml"/><Relationship Id="rId13" Type="http://schemas.openxmlformats.org/officeDocument/2006/relationships/slideLayout" Target="../slideLayouts/slideLayout1343.xml"/><Relationship Id="rId14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45.xml"/><Relationship Id="rId4" Type="http://schemas.openxmlformats.org/officeDocument/2006/relationships/slideLayout" Target="../slideLayouts/slideLayout1346.xml"/><Relationship Id="rId5" Type="http://schemas.openxmlformats.org/officeDocument/2006/relationships/slideLayout" Target="../slideLayouts/slideLayout1347.xml"/><Relationship Id="rId6" Type="http://schemas.openxmlformats.org/officeDocument/2006/relationships/slideLayout" Target="../slideLayouts/slideLayout1348.xml"/><Relationship Id="rId7" Type="http://schemas.openxmlformats.org/officeDocument/2006/relationships/slideLayout" Target="../slideLayouts/slideLayout1349.xml"/><Relationship Id="rId8" Type="http://schemas.openxmlformats.org/officeDocument/2006/relationships/slideLayout" Target="../slideLayouts/slideLayout1350.xml"/><Relationship Id="rId9" Type="http://schemas.openxmlformats.org/officeDocument/2006/relationships/slideLayout" Target="../slideLayouts/slideLayout1351.xml"/><Relationship Id="rId10" Type="http://schemas.openxmlformats.org/officeDocument/2006/relationships/slideLayout" Target="../slideLayouts/slideLayout1352.xml"/><Relationship Id="rId11" Type="http://schemas.openxmlformats.org/officeDocument/2006/relationships/slideLayout" Target="../slideLayouts/slideLayout1353.xml"/><Relationship Id="rId12" Type="http://schemas.openxmlformats.org/officeDocument/2006/relationships/slideLayout" Target="../slideLayouts/slideLayout1354.xml"/><Relationship Id="rId13" Type="http://schemas.openxmlformats.org/officeDocument/2006/relationships/slideLayout" Target="../slideLayouts/slideLayout1355.xml"/><Relationship Id="rId14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57.xml"/><Relationship Id="rId4" Type="http://schemas.openxmlformats.org/officeDocument/2006/relationships/slideLayout" Target="../slideLayouts/slideLayout1358.xml"/><Relationship Id="rId5" Type="http://schemas.openxmlformats.org/officeDocument/2006/relationships/slideLayout" Target="../slideLayouts/slideLayout1359.xml"/><Relationship Id="rId6" Type="http://schemas.openxmlformats.org/officeDocument/2006/relationships/slideLayout" Target="../slideLayouts/slideLayout1360.xml"/><Relationship Id="rId7" Type="http://schemas.openxmlformats.org/officeDocument/2006/relationships/slideLayout" Target="../slideLayouts/slideLayout1361.xml"/><Relationship Id="rId8" Type="http://schemas.openxmlformats.org/officeDocument/2006/relationships/slideLayout" Target="../slideLayouts/slideLayout1362.xml"/><Relationship Id="rId9" Type="http://schemas.openxmlformats.org/officeDocument/2006/relationships/slideLayout" Target="../slideLayouts/slideLayout1363.xml"/><Relationship Id="rId10" Type="http://schemas.openxmlformats.org/officeDocument/2006/relationships/slideLayout" Target="../slideLayouts/slideLayout1364.xml"/><Relationship Id="rId11" Type="http://schemas.openxmlformats.org/officeDocument/2006/relationships/slideLayout" Target="../slideLayouts/slideLayout1365.xml"/><Relationship Id="rId12" Type="http://schemas.openxmlformats.org/officeDocument/2006/relationships/slideLayout" Target="../slideLayouts/slideLayout1366.xml"/><Relationship Id="rId13" Type="http://schemas.openxmlformats.org/officeDocument/2006/relationships/slideLayout" Target="../slideLayouts/slideLayout1367.xml"/><Relationship Id="rId14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69.xml"/><Relationship Id="rId4" Type="http://schemas.openxmlformats.org/officeDocument/2006/relationships/slideLayout" Target="../slideLayouts/slideLayout1370.xml"/><Relationship Id="rId5" Type="http://schemas.openxmlformats.org/officeDocument/2006/relationships/slideLayout" Target="../slideLayouts/slideLayout1371.xml"/><Relationship Id="rId6" Type="http://schemas.openxmlformats.org/officeDocument/2006/relationships/slideLayout" Target="../slideLayouts/slideLayout1372.xml"/><Relationship Id="rId7" Type="http://schemas.openxmlformats.org/officeDocument/2006/relationships/slideLayout" Target="../slideLayouts/slideLayout1373.xml"/><Relationship Id="rId8" Type="http://schemas.openxmlformats.org/officeDocument/2006/relationships/slideLayout" Target="../slideLayouts/slideLayout1374.xml"/><Relationship Id="rId9" Type="http://schemas.openxmlformats.org/officeDocument/2006/relationships/slideLayout" Target="../slideLayouts/slideLayout1375.xml"/><Relationship Id="rId10" Type="http://schemas.openxmlformats.org/officeDocument/2006/relationships/slideLayout" Target="../slideLayouts/slideLayout1376.xml"/><Relationship Id="rId11" Type="http://schemas.openxmlformats.org/officeDocument/2006/relationships/slideLayout" Target="../slideLayouts/slideLayout1377.xml"/><Relationship Id="rId12" Type="http://schemas.openxmlformats.org/officeDocument/2006/relationships/slideLayout" Target="../slideLayouts/slideLayout1378.xml"/><Relationship Id="rId13" Type="http://schemas.openxmlformats.org/officeDocument/2006/relationships/slideLayout" Target="../slideLayouts/slideLayout1379.xml"/><Relationship Id="rId14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81.xml"/><Relationship Id="rId4" Type="http://schemas.openxmlformats.org/officeDocument/2006/relationships/slideLayout" Target="../slideLayouts/slideLayout1382.xml"/><Relationship Id="rId5" Type="http://schemas.openxmlformats.org/officeDocument/2006/relationships/slideLayout" Target="../slideLayouts/slideLayout1383.xml"/><Relationship Id="rId6" Type="http://schemas.openxmlformats.org/officeDocument/2006/relationships/slideLayout" Target="../slideLayouts/slideLayout1384.xml"/><Relationship Id="rId7" Type="http://schemas.openxmlformats.org/officeDocument/2006/relationships/slideLayout" Target="../slideLayouts/slideLayout1385.xml"/><Relationship Id="rId8" Type="http://schemas.openxmlformats.org/officeDocument/2006/relationships/slideLayout" Target="../slideLayouts/slideLayout1386.xml"/><Relationship Id="rId9" Type="http://schemas.openxmlformats.org/officeDocument/2006/relationships/slideLayout" Target="../slideLayouts/slideLayout1387.xml"/><Relationship Id="rId10" Type="http://schemas.openxmlformats.org/officeDocument/2006/relationships/slideLayout" Target="../slideLayouts/slideLayout1388.xml"/><Relationship Id="rId11" Type="http://schemas.openxmlformats.org/officeDocument/2006/relationships/slideLayout" Target="../slideLayouts/slideLayout1389.xml"/><Relationship Id="rId12" Type="http://schemas.openxmlformats.org/officeDocument/2006/relationships/slideLayout" Target="../slideLayouts/slideLayout1390.xml"/><Relationship Id="rId13" Type="http://schemas.openxmlformats.org/officeDocument/2006/relationships/slideLayout" Target="../slideLayouts/slideLayout1391.xml"/><Relationship Id="rId14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93.xml"/><Relationship Id="rId4" Type="http://schemas.openxmlformats.org/officeDocument/2006/relationships/slideLayout" Target="../slideLayouts/slideLayout1394.xml"/><Relationship Id="rId5" Type="http://schemas.openxmlformats.org/officeDocument/2006/relationships/slideLayout" Target="../slideLayouts/slideLayout1395.xml"/><Relationship Id="rId6" Type="http://schemas.openxmlformats.org/officeDocument/2006/relationships/slideLayout" Target="../slideLayouts/slideLayout1396.xml"/><Relationship Id="rId7" Type="http://schemas.openxmlformats.org/officeDocument/2006/relationships/slideLayout" Target="../slideLayouts/slideLayout1397.xml"/><Relationship Id="rId8" Type="http://schemas.openxmlformats.org/officeDocument/2006/relationships/slideLayout" Target="../slideLayouts/slideLayout1398.xml"/><Relationship Id="rId9" Type="http://schemas.openxmlformats.org/officeDocument/2006/relationships/slideLayout" Target="../slideLayouts/slideLayout1399.xml"/><Relationship Id="rId10" Type="http://schemas.openxmlformats.org/officeDocument/2006/relationships/slideLayout" Target="../slideLayouts/slideLayout1400.xml"/><Relationship Id="rId11" Type="http://schemas.openxmlformats.org/officeDocument/2006/relationships/slideLayout" Target="../slideLayouts/slideLayout1401.xml"/><Relationship Id="rId12" Type="http://schemas.openxmlformats.org/officeDocument/2006/relationships/slideLayout" Target="../slideLayouts/slideLayout1402.xml"/><Relationship Id="rId13" Type="http://schemas.openxmlformats.org/officeDocument/2006/relationships/slideLayout" Target="../slideLayouts/slideLayout1403.xml"/><Relationship Id="rId14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05.xml"/><Relationship Id="rId4" Type="http://schemas.openxmlformats.org/officeDocument/2006/relationships/slideLayout" Target="../slideLayouts/slideLayout1406.xml"/><Relationship Id="rId5" Type="http://schemas.openxmlformats.org/officeDocument/2006/relationships/slideLayout" Target="../slideLayouts/slideLayout1407.xml"/><Relationship Id="rId6" Type="http://schemas.openxmlformats.org/officeDocument/2006/relationships/slideLayout" Target="../slideLayouts/slideLayout1408.xml"/><Relationship Id="rId7" Type="http://schemas.openxmlformats.org/officeDocument/2006/relationships/slideLayout" Target="../slideLayouts/slideLayout1409.xml"/><Relationship Id="rId8" Type="http://schemas.openxmlformats.org/officeDocument/2006/relationships/slideLayout" Target="../slideLayouts/slideLayout1410.xml"/><Relationship Id="rId9" Type="http://schemas.openxmlformats.org/officeDocument/2006/relationships/slideLayout" Target="../slideLayouts/slideLayout1411.xml"/><Relationship Id="rId10" Type="http://schemas.openxmlformats.org/officeDocument/2006/relationships/slideLayout" Target="../slideLayouts/slideLayout1412.xml"/><Relationship Id="rId11" Type="http://schemas.openxmlformats.org/officeDocument/2006/relationships/slideLayout" Target="../slideLayouts/slideLayout1413.xml"/><Relationship Id="rId12" Type="http://schemas.openxmlformats.org/officeDocument/2006/relationships/slideLayout" Target="../slideLayouts/slideLayout1414.xml"/><Relationship Id="rId13" Type="http://schemas.openxmlformats.org/officeDocument/2006/relationships/slideLayout" Target="../slideLayouts/slideLayout1415.xml"/><Relationship Id="rId14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17.xml"/><Relationship Id="rId4" Type="http://schemas.openxmlformats.org/officeDocument/2006/relationships/slideLayout" Target="../slideLayouts/slideLayout1418.xml"/><Relationship Id="rId5" Type="http://schemas.openxmlformats.org/officeDocument/2006/relationships/slideLayout" Target="../slideLayouts/slideLayout1419.xml"/><Relationship Id="rId6" Type="http://schemas.openxmlformats.org/officeDocument/2006/relationships/slideLayout" Target="../slideLayouts/slideLayout1420.xml"/><Relationship Id="rId7" Type="http://schemas.openxmlformats.org/officeDocument/2006/relationships/slideLayout" Target="../slideLayouts/slideLayout1421.xml"/><Relationship Id="rId8" Type="http://schemas.openxmlformats.org/officeDocument/2006/relationships/slideLayout" Target="../slideLayouts/slideLayout1422.xml"/><Relationship Id="rId9" Type="http://schemas.openxmlformats.org/officeDocument/2006/relationships/slideLayout" Target="../slideLayouts/slideLayout1423.xml"/><Relationship Id="rId10" Type="http://schemas.openxmlformats.org/officeDocument/2006/relationships/slideLayout" Target="../slideLayouts/slideLayout1424.xml"/><Relationship Id="rId11" Type="http://schemas.openxmlformats.org/officeDocument/2006/relationships/slideLayout" Target="../slideLayouts/slideLayout1425.xml"/><Relationship Id="rId12" Type="http://schemas.openxmlformats.org/officeDocument/2006/relationships/slideLayout" Target="../slideLayouts/slideLayout1426.xml"/><Relationship Id="rId13" Type="http://schemas.openxmlformats.org/officeDocument/2006/relationships/slideLayout" Target="../slideLayouts/slideLayout1427.xml"/><Relationship Id="rId14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29.xml"/><Relationship Id="rId4" Type="http://schemas.openxmlformats.org/officeDocument/2006/relationships/slideLayout" Target="../slideLayouts/slideLayout1430.xml"/><Relationship Id="rId5" Type="http://schemas.openxmlformats.org/officeDocument/2006/relationships/slideLayout" Target="../slideLayouts/slideLayout1431.xml"/><Relationship Id="rId6" Type="http://schemas.openxmlformats.org/officeDocument/2006/relationships/slideLayout" Target="../slideLayouts/slideLayout1432.xml"/><Relationship Id="rId7" Type="http://schemas.openxmlformats.org/officeDocument/2006/relationships/slideLayout" Target="../slideLayouts/slideLayout1433.xml"/><Relationship Id="rId8" Type="http://schemas.openxmlformats.org/officeDocument/2006/relationships/slideLayout" Target="../slideLayouts/slideLayout1434.xml"/><Relationship Id="rId9" Type="http://schemas.openxmlformats.org/officeDocument/2006/relationships/slideLayout" Target="../slideLayouts/slideLayout1435.xml"/><Relationship Id="rId10" Type="http://schemas.openxmlformats.org/officeDocument/2006/relationships/slideLayout" Target="../slideLayouts/slideLayout1436.xml"/><Relationship Id="rId11" Type="http://schemas.openxmlformats.org/officeDocument/2006/relationships/slideLayout" Target="../slideLayouts/slideLayout1437.xml"/><Relationship Id="rId12" Type="http://schemas.openxmlformats.org/officeDocument/2006/relationships/slideLayout" Target="../slideLayouts/slideLayout1438.xml"/><Relationship Id="rId13" Type="http://schemas.openxmlformats.org/officeDocument/2006/relationships/slideLayout" Target="../slideLayouts/slideLayout1439.xml"/><Relationship Id="rId14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41.xml"/><Relationship Id="rId4" Type="http://schemas.openxmlformats.org/officeDocument/2006/relationships/slideLayout" Target="../slideLayouts/slideLayout1442.xml"/><Relationship Id="rId5" Type="http://schemas.openxmlformats.org/officeDocument/2006/relationships/slideLayout" Target="../slideLayouts/slideLayout1443.xml"/><Relationship Id="rId6" Type="http://schemas.openxmlformats.org/officeDocument/2006/relationships/slideLayout" Target="../slideLayouts/slideLayout1444.xml"/><Relationship Id="rId7" Type="http://schemas.openxmlformats.org/officeDocument/2006/relationships/slideLayout" Target="../slideLayouts/slideLayout1445.xml"/><Relationship Id="rId8" Type="http://schemas.openxmlformats.org/officeDocument/2006/relationships/slideLayout" Target="../slideLayouts/slideLayout1446.xml"/><Relationship Id="rId9" Type="http://schemas.openxmlformats.org/officeDocument/2006/relationships/slideLayout" Target="../slideLayouts/slideLayout1447.xml"/><Relationship Id="rId10" Type="http://schemas.openxmlformats.org/officeDocument/2006/relationships/slideLayout" Target="../slideLayouts/slideLayout1448.xml"/><Relationship Id="rId11" Type="http://schemas.openxmlformats.org/officeDocument/2006/relationships/slideLayout" Target="../slideLayouts/slideLayout1449.xml"/><Relationship Id="rId12" Type="http://schemas.openxmlformats.org/officeDocument/2006/relationships/slideLayout" Target="../slideLayouts/slideLayout1450.xml"/><Relationship Id="rId13" Type="http://schemas.openxmlformats.org/officeDocument/2006/relationships/slideLayout" Target="../slideLayouts/slideLayout1451.xml"/><Relationship Id="rId14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3.xml"/><Relationship Id="rId4" Type="http://schemas.openxmlformats.org/officeDocument/2006/relationships/slideLayout" Target="../slideLayouts/slideLayout1454.xml"/><Relationship Id="rId5" Type="http://schemas.openxmlformats.org/officeDocument/2006/relationships/slideLayout" Target="../slideLayouts/slideLayout1455.xml"/><Relationship Id="rId6" Type="http://schemas.openxmlformats.org/officeDocument/2006/relationships/slideLayout" Target="../slideLayouts/slideLayout1456.xml"/><Relationship Id="rId7" Type="http://schemas.openxmlformats.org/officeDocument/2006/relationships/slideLayout" Target="../slideLayouts/slideLayout1457.xml"/><Relationship Id="rId8" Type="http://schemas.openxmlformats.org/officeDocument/2006/relationships/slideLayout" Target="../slideLayouts/slideLayout1458.xml"/><Relationship Id="rId9" Type="http://schemas.openxmlformats.org/officeDocument/2006/relationships/slideLayout" Target="../slideLayouts/slideLayout1459.xml"/><Relationship Id="rId10" Type="http://schemas.openxmlformats.org/officeDocument/2006/relationships/slideLayout" Target="../slideLayouts/slideLayout1460.xml"/><Relationship Id="rId11" Type="http://schemas.openxmlformats.org/officeDocument/2006/relationships/slideLayout" Target="../slideLayouts/slideLayout1461.xml"/><Relationship Id="rId12" Type="http://schemas.openxmlformats.org/officeDocument/2006/relationships/slideLayout" Target="../slideLayouts/slideLayout1462.xml"/><Relationship Id="rId13" Type="http://schemas.openxmlformats.org/officeDocument/2006/relationships/slideLayout" Target="../slideLayouts/slideLayout1463.xml"/><Relationship Id="rId14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65.xml"/><Relationship Id="rId4" Type="http://schemas.openxmlformats.org/officeDocument/2006/relationships/slideLayout" Target="../slideLayouts/slideLayout1466.xml"/><Relationship Id="rId5" Type="http://schemas.openxmlformats.org/officeDocument/2006/relationships/slideLayout" Target="../slideLayouts/slideLayout1467.xml"/><Relationship Id="rId6" Type="http://schemas.openxmlformats.org/officeDocument/2006/relationships/slideLayout" Target="../slideLayouts/slideLayout1468.xml"/><Relationship Id="rId7" Type="http://schemas.openxmlformats.org/officeDocument/2006/relationships/slideLayout" Target="../slideLayouts/slideLayout1469.xml"/><Relationship Id="rId8" Type="http://schemas.openxmlformats.org/officeDocument/2006/relationships/slideLayout" Target="../slideLayouts/slideLayout1470.xml"/><Relationship Id="rId9" Type="http://schemas.openxmlformats.org/officeDocument/2006/relationships/slideLayout" Target="../slideLayouts/slideLayout1471.xml"/><Relationship Id="rId10" Type="http://schemas.openxmlformats.org/officeDocument/2006/relationships/slideLayout" Target="../slideLayouts/slideLayout1472.xml"/><Relationship Id="rId11" Type="http://schemas.openxmlformats.org/officeDocument/2006/relationships/slideLayout" Target="../slideLayouts/slideLayout1473.xml"/><Relationship Id="rId12" Type="http://schemas.openxmlformats.org/officeDocument/2006/relationships/slideLayout" Target="../slideLayouts/slideLayout1474.xml"/><Relationship Id="rId13" Type="http://schemas.openxmlformats.org/officeDocument/2006/relationships/slideLayout" Target="../slideLayouts/slideLayout1475.xml"/><Relationship Id="rId14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77.xml"/><Relationship Id="rId4" Type="http://schemas.openxmlformats.org/officeDocument/2006/relationships/slideLayout" Target="../slideLayouts/slideLayout1478.xml"/><Relationship Id="rId5" Type="http://schemas.openxmlformats.org/officeDocument/2006/relationships/slideLayout" Target="../slideLayouts/slideLayout1479.xml"/><Relationship Id="rId6" Type="http://schemas.openxmlformats.org/officeDocument/2006/relationships/slideLayout" Target="../slideLayouts/slideLayout1480.xml"/><Relationship Id="rId7" Type="http://schemas.openxmlformats.org/officeDocument/2006/relationships/slideLayout" Target="../slideLayouts/slideLayout1481.xml"/><Relationship Id="rId8" Type="http://schemas.openxmlformats.org/officeDocument/2006/relationships/slideLayout" Target="../slideLayouts/slideLayout1482.xml"/><Relationship Id="rId9" Type="http://schemas.openxmlformats.org/officeDocument/2006/relationships/slideLayout" Target="../slideLayouts/slideLayout1483.xml"/><Relationship Id="rId10" Type="http://schemas.openxmlformats.org/officeDocument/2006/relationships/slideLayout" Target="../slideLayouts/slideLayout1484.xml"/><Relationship Id="rId11" Type="http://schemas.openxmlformats.org/officeDocument/2006/relationships/slideLayout" Target="../slideLayouts/slideLayout1485.xml"/><Relationship Id="rId12" Type="http://schemas.openxmlformats.org/officeDocument/2006/relationships/slideLayout" Target="../slideLayouts/slideLayout1486.xml"/><Relationship Id="rId13" Type="http://schemas.openxmlformats.org/officeDocument/2006/relationships/slideLayout" Target="../slideLayouts/slideLayout1487.xml"/><Relationship Id="rId14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89.xml"/><Relationship Id="rId4" Type="http://schemas.openxmlformats.org/officeDocument/2006/relationships/slideLayout" Target="../slideLayouts/slideLayout1490.xml"/><Relationship Id="rId5" Type="http://schemas.openxmlformats.org/officeDocument/2006/relationships/slideLayout" Target="../slideLayouts/slideLayout1491.xml"/><Relationship Id="rId6" Type="http://schemas.openxmlformats.org/officeDocument/2006/relationships/slideLayout" Target="../slideLayouts/slideLayout1492.xml"/><Relationship Id="rId7" Type="http://schemas.openxmlformats.org/officeDocument/2006/relationships/slideLayout" Target="../slideLayouts/slideLayout1493.xml"/><Relationship Id="rId8" Type="http://schemas.openxmlformats.org/officeDocument/2006/relationships/slideLayout" Target="../slideLayouts/slideLayout1494.xml"/><Relationship Id="rId9" Type="http://schemas.openxmlformats.org/officeDocument/2006/relationships/slideLayout" Target="../slideLayouts/slideLayout1495.xml"/><Relationship Id="rId10" Type="http://schemas.openxmlformats.org/officeDocument/2006/relationships/slideLayout" Target="../slideLayouts/slideLayout1496.xml"/><Relationship Id="rId11" Type="http://schemas.openxmlformats.org/officeDocument/2006/relationships/slideLayout" Target="../slideLayouts/slideLayout1497.xml"/><Relationship Id="rId12" Type="http://schemas.openxmlformats.org/officeDocument/2006/relationships/slideLayout" Target="../slideLayouts/slideLayout1498.xml"/><Relationship Id="rId13" Type="http://schemas.openxmlformats.org/officeDocument/2006/relationships/slideLayout" Target="../slideLayouts/slideLayout1499.xml"/><Relationship Id="rId14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01.xml"/><Relationship Id="rId4" Type="http://schemas.openxmlformats.org/officeDocument/2006/relationships/slideLayout" Target="../slideLayouts/slideLayout1502.xml"/><Relationship Id="rId5" Type="http://schemas.openxmlformats.org/officeDocument/2006/relationships/slideLayout" Target="../slideLayouts/slideLayout1503.xml"/><Relationship Id="rId6" Type="http://schemas.openxmlformats.org/officeDocument/2006/relationships/slideLayout" Target="../slideLayouts/slideLayout1504.xml"/><Relationship Id="rId7" Type="http://schemas.openxmlformats.org/officeDocument/2006/relationships/slideLayout" Target="../slideLayouts/slideLayout1505.xml"/><Relationship Id="rId8" Type="http://schemas.openxmlformats.org/officeDocument/2006/relationships/slideLayout" Target="../slideLayouts/slideLayout1506.xml"/><Relationship Id="rId9" Type="http://schemas.openxmlformats.org/officeDocument/2006/relationships/slideLayout" Target="../slideLayouts/slideLayout1507.xml"/><Relationship Id="rId10" Type="http://schemas.openxmlformats.org/officeDocument/2006/relationships/slideLayout" Target="../slideLayouts/slideLayout1508.xml"/><Relationship Id="rId11" Type="http://schemas.openxmlformats.org/officeDocument/2006/relationships/slideLayout" Target="../slideLayouts/slideLayout1509.xml"/><Relationship Id="rId12" Type="http://schemas.openxmlformats.org/officeDocument/2006/relationships/slideLayout" Target="../slideLayouts/slideLayout1510.xml"/><Relationship Id="rId13" Type="http://schemas.openxmlformats.org/officeDocument/2006/relationships/slideLayout" Target="../slideLayouts/slideLayout1511.xml"/><Relationship Id="rId14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13.xml"/><Relationship Id="rId4" Type="http://schemas.openxmlformats.org/officeDocument/2006/relationships/slideLayout" Target="../slideLayouts/slideLayout1514.xml"/><Relationship Id="rId5" Type="http://schemas.openxmlformats.org/officeDocument/2006/relationships/slideLayout" Target="../slideLayouts/slideLayout1515.xml"/><Relationship Id="rId6" Type="http://schemas.openxmlformats.org/officeDocument/2006/relationships/slideLayout" Target="../slideLayouts/slideLayout1516.xml"/><Relationship Id="rId7" Type="http://schemas.openxmlformats.org/officeDocument/2006/relationships/slideLayout" Target="../slideLayouts/slideLayout1517.xml"/><Relationship Id="rId8" Type="http://schemas.openxmlformats.org/officeDocument/2006/relationships/slideLayout" Target="../slideLayouts/slideLayout1518.xml"/><Relationship Id="rId9" Type="http://schemas.openxmlformats.org/officeDocument/2006/relationships/slideLayout" Target="../slideLayouts/slideLayout1519.xml"/><Relationship Id="rId10" Type="http://schemas.openxmlformats.org/officeDocument/2006/relationships/slideLayout" Target="../slideLayouts/slideLayout1520.xml"/><Relationship Id="rId11" Type="http://schemas.openxmlformats.org/officeDocument/2006/relationships/slideLayout" Target="../slideLayouts/slideLayout1521.xml"/><Relationship Id="rId12" Type="http://schemas.openxmlformats.org/officeDocument/2006/relationships/slideLayout" Target="../slideLayouts/slideLayout1522.xml"/><Relationship Id="rId13" Type="http://schemas.openxmlformats.org/officeDocument/2006/relationships/slideLayout" Target="../slideLayouts/slideLayout1523.xml"/><Relationship Id="rId14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25.xml"/><Relationship Id="rId4" Type="http://schemas.openxmlformats.org/officeDocument/2006/relationships/slideLayout" Target="../slideLayouts/slideLayout1526.xml"/><Relationship Id="rId5" Type="http://schemas.openxmlformats.org/officeDocument/2006/relationships/slideLayout" Target="../slideLayouts/slideLayout1527.xml"/><Relationship Id="rId6" Type="http://schemas.openxmlformats.org/officeDocument/2006/relationships/slideLayout" Target="../slideLayouts/slideLayout1528.xml"/><Relationship Id="rId7" Type="http://schemas.openxmlformats.org/officeDocument/2006/relationships/slideLayout" Target="../slideLayouts/slideLayout1529.xml"/><Relationship Id="rId8" Type="http://schemas.openxmlformats.org/officeDocument/2006/relationships/slideLayout" Target="../slideLayouts/slideLayout1530.xml"/><Relationship Id="rId9" Type="http://schemas.openxmlformats.org/officeDocument/2006/relationships/slideLayout" Target="../slideLayouts/slideLayout1531.xml"/><Relationship Id="rId10" Type="http://schemas.openxmlformats.org/officeDocument/2006/relationships/slideLayout" Target="../slideLayouts/slideLayout1532.xml"/><Relationship Id="rId11" Type="http://schemas.openxmlformats.org/officeDocument/2006/relationships/slideLayout" Target="../slideLayouts/slideLayout1533.xml"/><Relationship Id="rId12" Type="http://schemas.openxmlformats.org/officeDocument/2006/relationships/slideLayout" Target="../slideLayouts/slideLayout1534.xml"/><Relationship Id="rId13" Type="http://schemas.openxmlformats.org/officeDocument/2006/relationships/slideLayout" Target="../slideLayouts/slideLayout1535.xml"/><Relationship Id="rId14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37.xml"/><Relationship Id="rId4" Type="http://schemas.openxmlformats.org/officeDocument/2006/relationships/slideLayout" Target="../slideLayouts/slideLayout1538.xml"/><Relationship Id="rId5" Type="http://schemas.openxmlformats.org/officeDocument/2006/relationships/slideLayout" Target="../slideLayouts/slideLayout1539.xml"/><Relationship Id="rId6" Type="http://schemas.openxmlformats.org/officeDocument/2006/relationships/slideLayout" Target="../slideLayouts/slideLayout1540.xml"/><Relationship Id="rId7" Type="http://schemas.openxmlformats.org/officeDocument/2006/relationships/slideLayout" Target="../slideLayouts/slideLayout1541.xml"/><Relationship Id="rId8" Type="http://schemas.openxmlformats.org/officeDocument/2006/relationships/slideLayout" Target="../slideLayouts/slideLayout1542.xml"/><Relationship Id="rId9" Type="http://schemas.openxmlformats.org/officeDocument/2006/relationships/slideLayout" Target="../slideLayouts/slideLayout1543.xml"/><Relationship Id="rId10" Type="http://schemas.openxmlformats.org/officeDocument/2006/relationships/slideLayout" Target="../slideLayouts/slideLayout1544.xml"/><Relationship Id="rId11" Type="http://schemas.openxmlformats.org/officeDocument/2006/relationships/slideLayout" Target="../slideLayouts/slideLayout1545.xml"/><Relationship Id="rId12" Type="http://schemas.openxmlformats.org/officeDocument/2006/relationships/slideLayout" Target="../slideLayouts/slideLayout1546.xml"/><Relationship Id="rId13" Type="http://schemas.openxmlformats.org/officeDocument/2006/relationships/slideLayout" Target="../slideLayouts/slideLayout1547.xml"/><Relationship Id="rId14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49.xml"/><Relationship Id="rId4" Type="http://schemas.openxmlformats.org/officeDocument/2006/relationships/slideLayout" Target="../slideLayouts/slideLayout1550.xml"/><Relationship Id="rId5" Type="http://schemas.openxmlformats.org/officeDocument/2006/relationships/slideLayout" Target="../slideLayouts/slideLayout1551.xml"/><Relationship Id="rId6" Type="http://schemas.openxmlformats.org/officeDocument/2006/relationships/slideLayout" Target="../slideLayouts/slideLayout1552.xml"/><Relationship Id="rId7" Type="http://schemas.openxmlformats.org/officeDocument/2006/relationships/slideLayout" Target="../slideLayouts/slideLayout1553.xml"/><Relationship Id="rId8" Type="http://schemas.openxmlformats.org/officeDocument/2006/relationships/slideLayout" Target="../slideLayouts/slideLayout1554.xml"/><Relationship Id="rId9" Type="http://schemas.openxmlformats.org/officeDocument/2006/relationships/slideLayout" Target="../slideLayouts/slideLayout1555.xml"/><Relationship Id="rId10" Type="http://schemas.openxmlformats.org/officeDocument/2006/relationships/slideLayout" Target="../slideLayouts/slideLayout1556.xml"/><Relationship Id="rId11" Type="http://schemas.openxmlformats.org/officeDocument/2006/relationships/slideLayout" Target="../slideLayouts/slideLayout1557.xml"/><Relationship Id="rId12" Type="http://schemas.openxmlformats.org/officeDocument/2006/relationships/slideLayout" Target="../slideLayouts/slideLayout1558.xml"/><Relationship Id="rId13" Type="http://schemas.openxmlformats.org/officeDocument/2006/relationships/slideLayout" Target="../slideLayouts/slideLayout1559.xml"/><Relationship Id="rId14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61.xml"/><Relationship Id="rId4" Type="http://schemas.openxmlformats.org/officeDocument/2006/relationships/slideLayout" Target="../slideLayouts/slideLayout1562.xml"/><Relationship Id="rId5" Type="http://schemas.openxmlformats.org/officeDocument/2006/relationships/slideLayout" Target="../slideLayouts/slideLayout1563.xml"/><Relationship Id="rId6" Type="http://schemas.openxmlformats.org/officeDocument/2006/relationships/slideLayout" Target="../slideLayouts/slideLayout1564.xml"/><Relationship Id="rId7" Type="http://schemas.openxmlformats.org/officeDocument/2006/relationships/slideLayout" Target="../slideLayouts/slideLayout1565.xml"/><Relationship Id="rId8" Type="http://schemas.openxmlformats.org/officeDocument/2006/relationships/slideLayout" Target="../slideLayouts/slideLayout1566.xml"/><Relationship Id="rId9" Type="http://schemas.openxmlformats.org/officeDocument/2006/relationships/slideLayout" Target="../slideLayouts/slideLayout1567.xml"/><Relationship Id="rId10" Type="http://schemas.openxmlformats.org/officeDocument/2006/relationships/slideLayout" Target="../slideLayouts/slideLayout1568.xml"/><Relationship Id="rId11" Type="http://schemas.openxmlformats.org/officeDocument/2006/relationships/slideLayout" Target="../slideLayouts/slideLayout1569.xml"/><Relationship Id="rId12" Type="http://schemas.openxmlformats.org/officeDocument/2006/relationships/slideLayout" Target="../slideLayouts/slideLayout1570.xml"/><Relationship Id="rId13" Type="http://schemas.openxmlformats.org/officeDocument/2006/relationships/slideLayout" Target="../slideLayouts/slideLayout1571.xml"/><Relationship Id="rId14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3.xml"/><Relationship Id="rId4" Type="http://schemas.openxmlformats.org/officeDocument/2006/relationships/slideLayout" Target="../slideLayouts/slideLayout1574.xml"/><Relationship Id="rId5" Type="http://schemas.openxmlformats.org/officeDocument/2006/relationships/slideLayout" Target="../slideLayouts/slideLayout1575.xml"/><Relationship Id="rId6" Type="http://schemas.openxmlformats.org/officeDocument/2006/relationships/slideLayout" Target="../slideLayouts/slideLayout1576.xml"/><Relationship Id="rId7" Type="http://schemas.openxmlformats.org/officeDocument/2006/relationships/slideLayout" Target="../slideLayouts/slideLayout1577.xml"/><Relationship Id="rId8" Type="http://schemas.openxmlformats.org/officeDocument/2006/relationships/slideLayout" Target="../slideLayouts/slideLayout1578.xml"/><Relationship Id="rId9" Type="http://schemas.openxmlformats.org/officeDocument/2006/relationships/slideLayout" Target="../slideLayouts/slideLayout1579.xml"/><Relationship Id="rId10" Type="http://schemas.openxmlformats.org/officeDocument/2006/relationships/slideLayout" Target="../slideLayouts/slideLayout1580.xml"/><Relationship Id="rId11" Type="http://schemas.openxmlformats.org/officeDocument/2006/relationships/slideLayout" Target="../slideLayouts/slideLayout1581.xml"/><Relationship Id="rId12" Type="http://schemas.openxmlformats.org/officeDocument/2006/relationships/slideLayout" Target="../slideLayouts/slideLayout1582.xml"/><Relationship Id="rId13" Type="http://schemas.openxmlformats.org/officeDocument/2006/relationships/slideLayout" Target="../slideLayouts/slideLayout1583.xml"/><Relationship Id="rId14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85.xml"/><Relationship Id="rId4" Type="http://schemas.openxmlformats.org/officeDocument/2006/relationships/slideLayout" Target="../slideLayouts/slideLayout1586.xml"/><Relationship Id="rId5" Type="http://schemas.openxmlformats.org/officeDocument/2006/relationships/slideLayout" Target="../slideLayouts/slideLayout1587.xml"/><Relationship Id="rId6" Type="http://schemas.openxmlformats.org/officeDocument/2006/relationships/slideLayout" Target="../slideLayouts/slideLayout1588.xml"/><Relationship Id="rId7" Type="http://schemas.openxmlformats.org/officeDocument/2006/relationships/slideLayout" Target="../slideLayouts/slideLayout1589.xml"/><Relationship Id="rId8" Type="http://schemas.openxmlformats.org/officeDocument/2006/relationships/slideLayout" Target="../slideLayouts/slideLayout1590.xml"/><Relationship Id="rId9" Type="http://schemas.openxmlformats.org/officeDocument/2006/relationships/slideLayout" Target="../slideLayouts/slideLayout1591.xml"/><Relationship Id="rId10" Type="http://schemas.openxmlformats.org/officeDocument/2006/relationships/slideLayout" Target="../slideLayouts/slideLayout1592.xml"/><Relationship Id="rId11" Type="http://schemas.openxmlformats.org/officeDocument/2006/relationships/slideLayout" Target="../slideLayouts/slideLayout1593.xml"/><Relationship Id="rId12" Type="http://schemas.openxmlformats.org/officeDocument/2006/relationships/slideLayout" Target="../slideLayouts/slideLayout1594.xml"/><Relationship Id="rId13" Type="http://schemas.openxmlformats.org/officeDocument/2006/relationships/slideLayout" Target="../slideLayouts/slideLayout1595.xml"/><Relationship Id="rId14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97.xml"/><Relationship Id="rId4" Type="http://schemas.openxmlformats.org/officeDocument/2006/relationships/slideLayout" Target="../slideLayouts/slideLayout1598.xml"/><Relationship Id="rId5" Type="http://schemas.openxmlformats.org/officeDocument/2006/relationships/slideLayout" Target="../slideLayouts/slideLayout1599.xml"/><Relationship Id="rId6" Type="http://schemas.openxmlformats.org/officeDocument/2006/relationships/slideLayout" Target="../slideLayouts/slideLayout1600.xml"/><Relationship Id="rId7" Type="http://schemas.openxmlformats.org/officeDocument/2006/relationships/slideLayout" Target="../slideLayouts/slideLayout1601.xml"/><Relationship Id="rId8" Type="http://schemas.openxmlformats.org/officeDocument/2006/relationships/slideLayout" Target="../slideLayouts/slideLayout1602.xml"/><Relationship Id="rId9" Type="http://schemas.openxmlformats.org/officeDocument/2006/relationships/slideLayout" Target="../slideLayouts/slideLayout1603.xml"/><Relationship Id="rId10" Type="http://schemas.openxmlformats.org/officeDocument/2006/relationships/slideLayout" Target="../slideLayouts/slideLayout1604.xml"/><Relationship Id="rId11" Type="http://schemas.openxmlformats.org/officeDocument/2006/relationships/slideLayout" Target="../slideLayouts/slideLayout1605.xml"/><Relationship Id="rId12" Type="http://schemas.openxmlformats.org/officeDocument/2006/relationships/slideLayout" Target="../slideLayouts/slideLayout1606.xml"/><Relationship Id="rId13" Type="http://schemas.openxmlformats.org/officeDocument/2006/relationships/slideLayout" Target="../slideLayouts/slideLayout1607.xml"/><Relationship Id="rId14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09.xml"/><Relationship Id="rId4" Type="http://schemas.openxmlformats.org/officeDocument/2006/relationships/slideLayout" Target="../slideLayouts/slideLayout1610.xml"/><Relationship Id="rId5" Type="http://schemas.openxmlformats.org/officeDocument/2006/relationships/slideLayout" Target="../slideLayouts/slideLayout1611.xml"/><Relationship Id="rId6" Type="http://schemas.openxmlformats.org/officeDocument/2006/relationships/slideLayout" Target="../slideLayouts/slideLayout1612.xml"/><Relationship Id="rId7" Type="http://schemas.openxmlformats.org/officeDocument/2006/relationships/slideLayout" Target="../slideLayouts/slideLayout1613.xml"/><Relationship Id="rId8" Type="http://schemas.openxmlformats.org/officeDocument/2006/relationships/slideLayout" Target="../slideLayouts/slideLayout1614.xml"/><Relationship Id="rId9" Type="http://schemas.openxmlformats.org/officeDocument/2006/relationships/slideLayout" Target="../slideLayouts/slideLayout1615.xml"/><Relationship Id="rId10" Type="http://schemas.openxmlformats.org/officeDocument/2006/relationships/slideLayout" Target="../slideLayouts/slideLayout1616.xml"/><Relationship Id="rId11" Type="http://schemas.openxmlformats.org/officeDocument/2006/relationships/slideLayout" Target="../slideLayouts/slideLayout1617.xml"/><Relationship Id="rId12" Type="http://schemas.openxmlformats.org/officeDocument/2006/relationships/slideLayout" Target="../slideLayouts/slideLayout1618.xml"/><Relationship Id="rId13" Type="http://schemas.openxmlformats.org/officeDocument/2006/relationships/slideLayout" Target="../slideLayouts/slideLayout1619.xml"/><Relationship Id="rId14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21.xml"/><Relationship Id="rId4" Type="http://schemas.openxmlformats.org/officeDocument/2006/relationships/slideLayout" Target="../slideLayouts/slideLayout1622.xml"/><Relationship Id="rId5" Type="http://schemas.openxmlformats.org/officeDocument/2006/relationships/slideLayout" Target="../slideLayouts/slideLayout1623.xml"/><Relationship Id="rId6" Type="http://schemas.openxmlformats.org/officeDocument/2006/relationships/slideLayout" Target="../slideLayouts/slideLayout1624.xml"/><Relationship Id="rId7" Type="http://schemas.openxmlformats.org/officeDocument/2006/relationships/slideLayout" Target="../slideLayouts/slideLayout1625.xml"/><Relationship Id="rId8" Type="http://schemas.openxmlformats.org/officeDocument/2006/relationships/slideLayout" Target="../slideLayouts/slideLayout1626.xml"/><Relationship Id="rId9" Type="http://schemas.openxmlformats.org/officeDocument/2006/relationships/slideLayout" Target="../slideLayouts/slideLayout1627.xml"/><Relationship Id="rId10" Type="http://schemas.openxmlformats.org/officeDocument/2006/relationships/slideLayout" Target="../slideLayouts/slideLayout1628.xml"/><Relationship Id="rId11" Type="http://schemas.openxmlformats.org/officeDocument/2006/relationships/slideLayout" Target="../slideLayouts/slideLayout1629.xml"/><Relationship Id="rId12" Type="http://schemas.openxmlformats.org/officeDocument/2006/relationships/slideLayout" Target="../slideLayouts/slideLayout1630.xml"/><Relationship Id="rId13" Type="http://schemas.openxmlformats.org/officeDocument/2006/relationships/slideLayout" Target="../slideLayouts/slideLayout1631.xml"/><Relationship Id="rId14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33.xml"/><Relationship Id="rId4" Type="http://schemas.openxmlformats.org/officeDocument/2006/relationships/slideLayout" Target="../slideLayouts/slideLayout1634.xml"/><Relationship Id="rId5" Type="http://schemas.openxmlformats.org/officeDocument/2006/relationships/slideLayout" Target="../slideLayouts/slideLayout1635.xml"/><Relationship Id="rId6" Type="http://schemas.openxmlformats.org/officeDocument/2006/relationships/slideLayout" Target="../slideLayouts/slideLayout1636.xml"/><Relationship Id="rId7" Type="http://schemas.openxmlformats.org/officeDocument/2006/relationships/slideLayout" Target="../slideLayouts/slideLayout1637.xml"/><Relationship Id="rId8" Type="http://schemas.openxmlformats.org/officeDocument/2006/relationships/slideLayout" Target="../slideLayouts/slideLayout1638.xml"/><Relationship Id="rId9" Type="http://schemas.openxmlformats.org/officeDocument/2006/relationships/slideLayout" Target="../slideLayouts/slideLayout1639.xml"/><Relationship Id="rId10" Type="http://schemas.openxmlformats.org/officeDocument/2006/relationships/slideLayout" Target="../slideLayouts/slideLayout1640.xml"/><Relationship Id="rId11" Type="http://schemas.openxmlformats.org/officeDocument/2006/relationships/slideLayout" Target="../slideLayouts/slideLayout1641.xml"/><Relationship Id="rId12" Type="http://schemas.openxmlformats.org/officeDocument/2006/relationships/slideLayout" Target="../slideLayouts/slideLayout1642.xml"/><Relationship Id="rId13" Type="http://schemas.openxmlformats.org/officeDocument/2006/relationships/slideLayout" Target="../slideLayouts/slideLayout1643.xml"/><Relationship Id="rId14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45.xml"/><Relationship Id="rId4" Type="http://schemas.openxmlformats.org/officeDocument/2006/relationships/slideLayout" Target="../slideLayouts/slideLayout1646.xml"/><Relationship Id="rId5" Type="http://schemas.openxmlformats.org/officeDocument/2006/relationships/slideLayout" Target="../slideLayouts/slideLayout1647.xml"/><Relationship Id="rId6" Type="http://schemas.openxmlformats.org/officeDocument/2006/relationships/slideLayout" Target="../slideLayouts/slideLayout1648.xml"/><Relationship Id="rId7" Type="http://schemas.openxmlformats.org/officeDocument/2006/relationships/slideLayout" Target="../slideLayouts/slideLayout1649.xml"/><Relationship Id="rId8" Type="http://schemas.openxmlformats.org/officeDocument/2006/relationships/slideLayout" Target="../slideLayouts/slideLayout1650.xml"/><Relationship Id="rId9" Type="http://schemas.openxmlformats.org/officeDocument/2006/relationships/slideLayout" Target="../slideLayouts/slideLayout1651.xml"/><Relationship Id="rId10" Type="http://schemas.openxmlformats.org/officeDocument/2006/relationships/slideLayout" Target="../slideLayouts/slideLayout1652.xml"/><Relationship Id="rId11" Type="http://schemas.openxmlformats.org/officeDocument/2006/relationships/slideLayout" Target="../slideLayouts/slideLayout1653.xml"/><Relationship Id="rId12" Type="http://schemas.openxmlformats.org/officeDocument/2006/relationships/slideLayout" Target="../slideLayouts/slideLayout1654.xml"/><Relationship Id="rId13" Type="http://schemas.openxmlformats.org/officeDocument/2006/relationships/slideLayout" Target="../slideLayouts/slideLayout1655.xml"/><Relationship Id="rId14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57.xml"/><Relationship Id="rId4" Type="http://schemas.openxmlformats.org/officeDocument/2006/relationships/slideLayout" Target="../slideLayouts/slideLayout1658.xml"/><Relationship Id="rId5" Type="http://schemas.openxmlformats.org/officeDocument/2006/relationships/slideLayout" Target="../slideLayouts/slideLayout1659.xml"/><Relationship Id="rId6" Type="http://schemas.openxmlformats.org/officeDocument/2006/relationships/slideLayout" Target="../slideLayouts/slideLayout1660.xml"/><Relationship Id="rId7" Type="http://schemas.openxmlformats.org/officeDocument/2006/relationships/slideLayout" Target="../slideLayouts/slideLayout1661.xml"/><Relationship Id="rId8" Type="http://schemas.openxmlformats.org/officeDocument/2006/relationships/slideLayout" Target="../slideLayouts/slideLayout1662.xml"/><Relationship Id="rId9" Type="http://schemas.openxmlformats.org/officeDocument/2006/relationships/slideLayout" Target="../slideLayouts/slideLayout1663.xml"/><Relationship Id="rId10" Type="http://schemas.openxmlformats.org/officeDocument/2006/relationships/slideLayout" Target="../slideLayouts/slideLayout1664.xml"/><Relationship Id="rId11" Type="http://schemas.openxmlformats.org/officeDocument/2006/relationships/slideLayout" Target="../slideLayouts/slideLayout1665.xml"/><Relationship Id="rId12" Type="http://schemas.openxmlformats.org/officeDocument/2006/relationships/slideLayout" Target="../slideLayouts/slideLayout1666.xml"/><Relationship Id="rId13" Type="http://schemas.openxmlformats.org/officeDocument/2006/relationships/slideLayout" Target="../slideLayouts/slideLayout1667.xml"/><Relationship Id="rId14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69.xml"/><Relationship Id="rId4" Type="http://schemas.openxmlformats.org/officeDocument/2006/relationships/slideLayout" Target="../slideLayouts/slideLayout1670.xml"/><Relationship Id="rId5" Type="http://schemas.openxmlformats.org/officeDocument/2006/relationships/slideLayout" Target="../slideLayouts/slideLayout1671.xml"/><Relationship Id="rId6" Type="http://schemas.openxmlformats.org/officeDocument/2006/relationships/slideLayout" Target="../slideLayouts/slideLayout1672.xml"/><Relationship Id="rId7" Type="http://schemas.openxmlformats.org/officeDocument/2006/relationships/slideLayout" Target="../slideLayouts/slideLayout1673.xml"/><Relationship Id="rId8" Type="http://schemas.openxmlformats.org/officeDocument/2006/relationships/slideLayout" Target="../slideLayouts/slideLayout1674.xml"/><Relationship Id="rId9" Type="http://schemas.openxmlformats.org/officeDocument/2006/relationships/slideLayout" Target="../slideLayouts/slideLayout1675.xml"/><Relationship Id="rId10" Type="http://schemas.openxmlformats.org/officeDocument/2006/relationships/slideLayout" Target="../slideLayouts/slideLayout1676.xml"/><Relationship Id="rId11" Type="http://schemas.openxmlformats.org/officeDocument/2006/relationships/slideLayout" Target="../slideLayouts/slideLayout1677.xml"/><Relationship Id="rId12" Type="http://schemas.openxmlformats.org/officeDocument/2006/relationships/slideLayout" Target="../slideLayouts/slideLayout1678.xml"/><Relationship Id="rId13" Type="http://schemas.openxmlformats.org/officeDocument/2006/relationships/slideLayout" Target="../slideLayouts/slideLayout1679.xml"/><Relationship Id="rId14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81.xml"/><Relationship Id="rId4" Type="http://schemas.openxmlformats.org/officeDocument/2006/relationships/slideLayout" Target="../slideLayouts/slideLayout1682.xml"/><Relationship Id="rId5" Type="http://schemas.openxmlformats.org/officeDocument/2006/relationships/slideLayout" Target="../slideLayouts/slideLayout1683.xml"/><Relationship Id="rId6" Type="http://schemas.openxmlformats.org/officeDocument/2006/relationships/slideLayout" Target="../slideLayouts/slideLayout1684.xml"/><Relationship Id="rId7" Type="http://schemas.openxmlformats.org/officeDocument/2006/relationships/slideLayout" Target="../slideLayouts/slideLayout1685.xml"/><Relationship Id="rId8" Type="http://schemas.openxmlformats.org/officeDocument/2006/relationships/slideLayout" Target="../slideLayouts/slideLayout1686.xml"/><Relationship Id="rId9" Type="http://schemas.openxmlformats.org/officeDocument/2006/relationships/slideLayout" Target="../slideLayouts/slideLayout1687.xml"/><Relationship Id="rId10" Type="http://schemas.openxmlformats.org/officeDocument/2006/relationships/slideLayout" Target="../slideLayouts/slideLayout1688.xml"/><Relationship Id="rId11" Type="http://schemas.openxmlformats.org/officeDocument/2006/relationships/slideLayout" Target="../slideLayouts/slideLayout1689.xml"/><Relationship Id="rId12" Type="http://schemas.openxmlformats.org/officeDocument/2006/relationships/slideLayout" Target="../slideLayouts/slideLayout1690.xml"/><Relationship Id="rId13" Type="http://schemas.openxmlformats.org/officeDocument/2006/relationships/slideLayout" Target="../slideLayouts/slideLayout1691.xml"/><Relationship Id="rId14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3.xml"/><Relationship Id="rId4" Type="http://schemas.openxmlformats.org/officeDocument/2006/relationships/slideLayout" Target="../slideLayouts/slideLayout1694.xml"/><Relationship Id="rId5" Type="http://schemas.openxmlformats.org/officeDocument/2006/relationships/slideLayout" Target="../slideLayouts/slideLayout1695.xml"/><Relationship Id="rId6" Type="http://schemas.openxmlformats.org/officeDocument/2006/relationships/slideLayout" Target="../slideLayouts/slideLayout1696.xml"/><Relationship Id="rId7" Type="http://schemas.openxmlformats.org/officeDocument/2006/relationships/slideLayout" Target="../slideLayouts/slideLayout1697.xml"/><Relationship Id="rId8" Type="http://schemas.openxmlformats.org/officeDocument/2006/relationships/slideLayout" Target="../slideLayouts/slideLayout1698.xml"/><Relationship Id="rId9" Type="http://schemas.openxmlformats.org/officeDocument/2006/relationships/slideLayout" Target="../slideLayouts/slideLayout1699.xml"/><Relationship Id="rId10" Type="http://schemas.openxmlformats.org/officeDocument/2006/relationships/slideLayout" Target="../slideLayouts/slideLayout1700.xml"/><Relationship Id="rId11" Type="http://schemas.openxmlformats.org/officeDocument/2006/relationships/slideLayout" Target="../slideLayouts/slideLayout1701.xml"/><Relationship Id="rId12" Type="http://schemas.openxmlformats.org/officeDocument/2006/relationships/slideLayout" Target="../slideLayouts/slideLayout1702.xml"/><Relationship Id="rId13" Type="http://schemas.openxmlformats.org/officeDocument/2006/relationships/slideLayout" Target="../slideLayouts/slideLayout1703.xml"/><Relationship Id="rId14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705.xml"/><Relationship Id="rId4" Type="http://schemas.openxmlformats.org/officeDocument/2006/relationships/slideLayout" Target="../slideLayouts/slideLayout1706.xml"/><Relationship Id="rId5" Type="http://schemas.openxmlformats.org/officeDocument/2006/relationships/slideLayout" Target="../slideLayouts/slideLayout1707.xml"/><Relationship Id="rId6" Type="http://schemas.openxmlformats.org/officeDocument/2006/relationships/slideLayout" Target="../slideLayouts/slideLayout1708.xml"/><Relationship Id="rId7" Type="http://schemas.openxmlformats.org/officeDocument/2006/relationships/slideLayout" Target="../slideLayouts/slideLayout1709.xml"/><Relationship Id="rId8" Type="http://schemas.openxmlformats.org/officeDocument/2006/relationships/slideLayout" Target="../slideLayouts/slideLayout1710.xml"/><Relationship Id="rId9" Type="http://schemas.openxmlformats.org/officeDocument/2006/relationships/slideLayout" Target="../slideLayouts/slideLayout1711.xml"/><Relationship Id="rId10" Type="http://schemas.openxmlformats.org/officeDocument/2006/relationships/slideLayout" Target="../slideLayouts/slideLayout1712.xml"/><Relationship Id="rId11" Type="http://schemas.openxmlformats.org/officeDocument/2006/relationships/slideLayout" Target="../slideLayouts/slideLayout1713.xml"/><Relationship Id="rId12" Type="http://schemas.openxmlformats.org/officeDocument/2006/relationships/slideLayout" Target="../slideLayouts/slideLayout1714.xml"/><Relationship Id="rId13" Type="http://schemas.openxmlformats.org/officeDocument/2006/relationships/slideLayout" Target="../slideLayouts/slideLayout1715.xml"/><Relationship Id="rId14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717.xml"/><Relationship Id="rId4" Type="http://schemas.openxmlformats.org/officeDocument/2006/relationships/slideLayout" Target="../slideLayouts/slideLayout1718.xml"/><Relationship Id="rId5" Type="http://schemas.openxmlformats.org/officeDocument/2006/relationships/slideLayout" Target="../slideLayouts/slideLayout1719.xml"/><Relationship Id="rId6" Type="http://schemas.openxmlformats.org/officeDocument/2006/relationships/slideLayout" Target="../slideLayouts/slideLayout1720.xml"/><Relationship Id="rId7" Type="http://schemas.openxmlformats.org/officeDocument/2006/relationships/slideLayout" Target="../slideLayouts/slideLayout1721.xml"/><Relationship Id="rId8" Type="http://schemas.openxmlformats.org/officeDocument/2006/relationships/slideLayout" Target="../slideLayouts/slideLayout1722.xml"/><Relationship Id="rId9" Type="http://schemas.openxmlformats.org/officeDocument/2006/relationships/slideLayout" Target="../slideLayouts/slideLayout1723.xml"/><Relationship Id="rId10" Type="http://schemas.openxmlformats.org/officeDocument/2006/relationships/slideLayout" Target="../slideLayouts/slideLayout1724.xml"/><Relationship Id="rId11" Type="http://schemas.openxmlformats.org/officeDocument/2006/relationships/slideLayout" Target="../slideLayouts/slideLayout1725.xml"/><Relationship Id="rId12" Type="http://schemas.openxmlformats.org/officeDocument/2006/relationships/slideLayout" Target="../slideLayouts/slideLayout1726.xml"/><Relationship Id="rId13" Type="http://schemas.openxmlformats.org/officeDocument/2006/relationships/slideLayout" Target="../slideLayouts/slideLayout1727.xml"/><Relationship Id="rId14" Type="http://schemas.openxmlformats.org/officeDocument/2006/relationships/slideLayout" Target="../slideLayouts/slideLayout172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B334-AB01-41E1-9DE0-C578511D3F27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6C7E-4238-4EA9-A545-CC7E5ED8F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-4680" y="-4680"/>
            <a:ext cx="681120" cy="6869160"/>
            <a:chOff x="-4680" y="-4680"/>
            <a:chExt cx="681120" cy="6869160"/>
          </a:xfrm>
        </p:grpSpPr>
        <p:pic>
          <p:nvPicPr>
            <p:cNvPr id="396" name="矩形 6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68112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4"/>
            <p:cNvSpPr/>
            <p:nvPr/>
          </p:nvSpPr>
          <p:spPr>
            <a:xfrm>
              <a:off x="1440" y="1440"/>
              <a:ext cx="6685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4"/>
          <a:stretch/>
        </p:blipFill>
        <p:spPr>
          <a:xfrm>
            <a:off x="8132760" y="-4680"/>
            <a:ext cx="1017720" cy="14367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40B1-FA4E-474D-8818-990CB319B23B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D50A-C149-44C3-9DBF-2DF278EBFEDD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 type="dt" idx="2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0A2A-DCC1-4FA8-A2E4-641454793FBE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 type="ftr" idx="2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1" name="PlaceHolder 5"/>
          <p:cNvSpPr>
            <a:spLocks noGrp="1"/>
          </p:cNvSpPr>
          <p:nvPr>
            <p:ph type="sldNum" idx="3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91D3-BE36-4B81-B7A1-007EF25CEC3D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 type="dt" idx="3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6982-CE7A-47A7-B1E4-AEA9C942AECB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 type="ftr" idx="3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PlaceHolder 5"/>
          <p:cNvSpPr>
            <a:spLocks noGrp="1"/>
          </p:cNvSpPr>
          <p:nvPr>
            <p:ph type="sldNum" idx="3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1357-C079-4A61-88A5-FD93A92AB38E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81" name="PlaceHolder 3"/>
          <p:cNvSpPr>
            <a:spLocks noGrp="1"/>
          </p:cNvSpPr>
          <p:nvPr>
            <p:ph type="dt" idx="3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922F-7AF7-4F83-932C-08988CF939DC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PlaceHolder 4"/>
          <p:cNvSpPr>
            <a:spLocks noGrp="1"/>
          </p:cNvSpPr>
          <p:nvPr>
            <p:ph type="ftr" idx="3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3" name="PlaceHolder 5"/>
          <p:cNvSpPr>
            <a:spLocks noGrp="1"/>
          </p:cNvSpPr>
          <p:nvPr>
            <p:ph type="sldNum" idx="3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084D-64B5-41DE-944D-29010EC5C557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 type="dt" idx="3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A3BD-EA46-4EB3-A1BA-D1AF57D1A905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 type="ftr" idx="3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4" name="PlaceHolder 5"/>
          <p:cNvSpPr>
            <a:spLocks noGrp="1"/>
          </p:cNvSpPr>
          <p:nvPr>
            <p:ph type="sldNum" idx="3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B5ED-F8BD-4FC7-9976-17E7A29768B0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 type="dt" idx="3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2B0A-3115-4993-8937-A52D7EBA9439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 type="ftr" idx="3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PlaceHolder 5"/>
          <p:cNvSpPr>
            <a:spLocks noGrp="1"/>
          </p:cNvSpPr>
          <p:nvPr>
            <p:ph type="sldNum" idx="3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8395-354D-4F5E-9A42-2CCFFD3F8F03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4" name="PlaceHolder 3"/>
          <p:cNvSpPr>
            <a:spLocks noGrp="1"/>
          </p:cNvSpPr>
          <p:nvPr>
            <p:ph type="dt" idx="3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43DD-0814-4DC1-82F6-CCAC56BD3E61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PlaceHolder 4"/>
          <p:cNvSpPr>
            <a:spLocks noGrp="1"/>
          </p:cNvSpPr>
          <p:nvPr>
            <p:ph type="ftr" idx="3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PlaceHolder 5"/>
          <p:cNvSpPr>
            <a:spLocks noGrp="1"/>
          </p:cNvSpPr>
          <p:nvPr>
            <p:ph type="sldNum" idx="3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1560-AF39-4446-ADED-8196F41E2B1E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 type="dt" idx="3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FB88-FAC3-4C2F-89BC-85A4667029DF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 type="ftr" idx="3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7" name="PlaceHolder 5"/>
          <p:cNvSpPr>
            <a:spLocks noGrp="1"/>
          </p:cNvSpPr>
          <p:nvPr>
            <p:ph type="sldNum" idx="3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EC45-28BD-45E9-B2AD-EC23BCE52D2E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3"/>
    <p:sldLayoutId id="2147485015" r:id="rId4"/>
    <p:sldLayoutId id="2147485016" r:id="rId5"/>
    <p:sldLayoutId id="2147485017" r:id="rId6"/>
    <p:sldLayoutId id="2147485018" r:id="rId7"/>
    <p:sldLayoutId id="2147485019" r:id="rId8"/>
    <p:sldLayoutId id="2147485020" r:id="rId9"/>
    <p:sldLayoutId id="2147485021" r:id="rId10"/>
    <p:sldLayoutId id="2147485022" r:id="rId11"/>
    <p:sldLayoutId id="2147485023" r:id="rId12"/>
    <p:sldLayoutId id="2147485024" r:id="rId13"/>
    <p:sldLayoutId id="2147485025" r:id="rId14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6" name="PlaceHolder 3"/>
          <p:cNvSpPr>
            <a:spLocks noGrp="1"/>
          </p:cNvSpPr>
          <p:nvPr>
            <p:ph type="dt" idx="3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A5E4-9CD5-40E6-B53F-D0EDB9894083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PlaceHolder 4"/>
          <p:cNvSpPr>
            <a:spLocks noGrp="1"/>
          </p:cNvSpPr>
          <p:nvPr>
            <p:ph type="ftr" idx="3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8" name="PlaceHolder 5"/>
          <p:cNvSpPr>
            <a:spLocks noGrp="1"/>
          </p:cNvSpPr>
          <p:nvPr>
            <p:ph type="sldNum" idx="3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8956-9C17-4260-9826-C081433565B3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3"/>
    <p:sldLayoutId id="2147485028" r:id="rId4"/>
    <p:sldLayoutId id="2147485029" r:id="rId5"/>
    <p:sldLayoutId id="2147485030" r:id="rId6"/>
    <p:sldLayoutId id="2147485031" r:id="rId7"/>
    <p:sldLayoutId id="2147485032" r:id="rId8"/>
    <p:sldLayoutId id="2147485033" r:id="rId9"/>
    <p:sldLayoutId id="2147485034" r:id="rId10"/>
    <p:sldLayoutId id="2147485035" r:id="rId11"/>
    <p:sldLayoutId id="2147485036" r:id="rId12"/>
    <p:sldLayoutId id="2147485037" r:id="rId13"/>
    <p:sldLayoutId id="2147485038" r:id="rId14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27" name="PlaceHolder 3"/>
          <p:cNvSpPr>
            <a:spLocks noGrp="1"/>
          </p:cNvSpPr>
          <p:nvPr>
            <p:ph type="dt" idx="3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5139-CA1A-4F03-A76B-16352E7CFB75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PlaceHolder 4"/>
          <p:cNvSpPr>
            <a:spLocks noGrp="1"/>
          </p:cNvSpPr>
          <p:nvPr>
            <p:ph type="ftr" idx="3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9" name="PlaceHolder 5"/>
          <p:cNvSpPr>
            <a:spLocks noGrp="1"/>
          </p:cNvSpPr>
          <p:nvPr>
            <p:ph type="sldNum" idx="3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E16C-E099-4EF6-B37A-A79DDBBBDD62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3"/>
    <p:sldLayoutId id="2147485041" r:id="rId4"/>
    <p:sldLayoutId id="2147485042" r:id="rId5"/>
    <p:sldLayoutId id="2147485043" r:id="rId6"/>
    <p:sldLayoutId id="2147485044" r:id="rId7"/>
    <p:sldLayoutId id="2147485045" r:id="rId8"/>
    <p:sldLayoutId id="2147485046" r:id="rId9"/>
    <p:sldLayoutId id="2147485047" r:id="rId10"/>
    <p:sldLayoutId id="2147485048" r:id="rId11"/>
    <p:sldLayoutId id="2147485049" r:id="rId12"/>
    <p:sldLayoutId id="2147485050" r:id="rId13"/>
    <p:sldLayoutId id="2147485051" r:id="rId14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8" name="PlaceHolder 3"/>
          <p:cNvSpPr>
            <a:spLocks noGrp="1"/>
          </p:cNvSpPr>
          <p:nvPr>
            <p:ph type="dt" idx="3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A692-75E5-4748-B889-6014F020E5A8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PlaceHolder 4"/>
          <p:cNvSpPr>
            <a:spLocks noGrp="1"/>
          </p:cNvSpPr>
          <p:nvPr>
            <p:ph type="ftr" idx="3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0" name="PlaceHolder 5"/>
          <p:cNvSpPr>
            <a:spLocks noGrp="1"/>
          </p:cNvSpPr>
          <p:nvPr>
            <p:ph type="sldNum" idx="3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5001-B534-483E-824C-9E0F3C30FA57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3"/>
    <p:sldLayoutId id="2147485054" r:id="rId4"/>
    <p:sldLayoutId id="2147485055" r:id="rId5"/>
    <p:sldLayoutId id="2147485056" r:id="rId6"/>
    <p:sldLayoutId id="2147485057" r:id="rId7"/>
    <p:sldLayoutId id="2147485058" r:id="rId8"/>
    <p:sldLayoutId id="2147485059" r:id="rId9"/>
    <p:sldLayoutId id="2147485060" r:id="rId10"/>
    <p:sldLayoutId id="2147485061" r:id="rId11"/>
    <p:sldLayoutId id="2147485062" r:id="rId12"/>
    <p:sldLayoutId id="2147485063" r:id="rId13"/>
    <p:sldLayoutId id="2147485064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4680" y="-4680"/>
            <a:ext cx="681120" cy="6869160"/>
            <a:chOff x="-4680" y="-4680"/>
            <a:chExt cx="681120" cy="6869160"/>
          </a:xfrm>
        </p:grpSpPr>
        <p:pic>
          <p:nvPicPr>
            <p:cNvPr id="441" name="矩形 6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68112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4"/>
            <p:cNvSpPr/>
            <p:nvPr/>
          </p:nvSpPr>
          <p:spPr>
            <a:xfrm>
              <a:off x="1440" y="1440"/>
              <a:ext cx="6685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4"/>
          <a:stretch/>
        </p:blipFill>
        <p:spPr>
          <a:xfrm>
            <a:off x="8132760" y="-4680"/>
            <a:ext cx="1017720" cy="14367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E8C3-7964-4D9A-9883-EBE12CF2E41E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5F54-1905-48B2-BEED-ECD9104744C6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09" name="PlaceHolder 3"/>
          <p:cNvSpPr>
            <a:spLocks noGrp="1"/>
          </p:cNvSpPr>
          <p:nvPr>
            <p:ph type="dt" idx="3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62DF-394E-47E6-AAFE-37A843A019F8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PlaceHolder 4"/>
          <p:cNvSpPr>
            <a:spLocks noGrp="1"/>
          </p:cNvSpPr>
          <p:nvPr>
            <p:ph type="ftr" idx="3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1" name="PlaceHolder 5"/>
          <p:cNvSpPr>
            <a:spLocks noGrp="1"/>
          </p:cNvSpPr>
          <p:nvPr>
            <p:ph type="sldNum" idx="3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CE4A-810C-4AA2-B912-6EBDAADB05ED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3"/>
    <p:sldLayoutId id="2147485067" r:id="rId4"/>
    <p:sldLayoutId id="2147485068" r:id="rId5"/>
    <p:sldLayoutId id="2147485069" r:id="rId6"/>
    <p:sldLayoutId id="2147485070" r:id="rId7"/>
    <p:sldLayoutId id="2147485071" r:id="rId8"/>
    <p:sldLayoutId id="2147485072" r:id="rId9"/>
    <p:sldLayoutId id="2147485073" r:id="rId10"/>
    <p:sldLayoutId id="2147485074" r:id="rId11"/>
    <p:sldLayoutId id="2147485075" r:id="rId12"/>
    <p:sldLayoutId id="2147485076" r:id="rId13"/>
    <p:sldLayoutId id="2147485077" r:id="rId14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0" name="PlaceHolder 3"/>
          <p:cNvSpPr>
            <a:spLocks noGrp="1"/>
          </p:cNvSpPr>
          <p:nvPr>
            <p:ph type="dt" idx="3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F9E8-38E4-40AF-A12F-CEB716EE8F67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PlaceHolder 4"/>
          <p:cNvSpPr>
            <a:spLocks noGrp="1"/>
          </p:cNvSpPr>
          <p:nvPr>
            <p:ph type="ftr" idx="3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2" name="PlaceHolder 5"/>
          <p:cNvSpPr>
            <a:spLocks noGrp="1"/>
          </p:cNvSpPr>
          <p:nvPr>
            <p:ph type="sldNum" idx="3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5E65-E87F-40CF-B9CB-093496A3143E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3"/>
    <p:sldLayoutId id="2147485080" r:id="rId4"/>
    <p:sldLayoutId id="2147485081" r:id="rId5"/>
    <p:sldLayoutId id="2147485082" r:id="rId6"/>
    <p:sldLayoutId id="2147485083" r:id="rId7"/>
    <p:sldLayoutId id="2147485084" r:id="rId8"/>
    <p:sldLayoutId id="2147485085" r:id="rId9"/>
    <p:sldLayoutId id="2147485086" r:id="rId10"/>
    <p:sldLayoutId id="2147485087" r:id="rId11"/>
    <p:sldLayoutId id="2147485088" r:id="rId12"/>
    <p:sldLayoutId id="2147485089" r:id="rId13"/>
    <p:sldLayoutId id="2147485090" r:id="rId14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 type="dt" idx="334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4661-6EB2-40C3-8930-833614662659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PlaceHolder 4"/>
          <p:cNvSpPr>
            <a:spLocks noGrp="1"/>
          </p:cNvSpPr>
          <p:nvPr>
            <p:ph type="ftr" idx="335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3" name="PlaceHolder 5"/>
          <p:cNvSpPr>
            <a:spLocks noGrp="1"/>
          </p:cNvSpPr>
          <p:nvPr>
            <p:ph type="sldNum" idx="336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92AE-6F8F-4AAA-A1E7-9E5E76681DD6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3"/>
    <p:sldLayoutId id="2147485093" r:id="rId4"/>
    <p:sldLayoutId id="2147485094" r:id="rId5"/>
    <p:sldLayoutId id="2147485095" r:id="rId6"/>
    <p:sldLayoutId id="2147485096" r:id="rId7"/>
    <p:sldLayoutId id="2147485097" r:id="rId8"/>
    <p:sldLayoutId id="2147485098" r:id="rId9"/>
    <p:sldLayoutId id="2147485099" r:id="rId10"/>
    <p:sldLayoutId id="2147485100" r:id="rId11"/>
    <p:sldLayoutId id="2147485101" r:id="rId12"/>
    <p:sldLayoutId id="2147485102" r:id="rId13"/>
    <p:sldLayoutId id="2147485103" r:id="rId14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32" name="PlaceHolder 3"/>
          <p:cNvSpPr>
            <a:spLocks noGrp="1"/>
          </p:cNvSpPr>
          <p:nvPr>
            <p:ph type="dt" idx="337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F0D9-ABCC-4841-A8E2-0E9FF89D9BA9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PlaceHolder 4"/>
          <p:cNvSpPr>
            <a:spLocks noGrp="1"/>
          </p:cNvSpPr>
          <p:nvPr>
            <p:ph type="ftr" idx="338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4" name="PlaceHolder 5"/>
          <p:cNvSpPr>
            <a:spLocks noGrp="1"/>
          </p:cNvSpPr>
          <p:nvPr>
            <p:ph type="sldNum" idx="339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12EE-9AEE-4B78-8AFC-84FE930BC4F7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3"/>
    <p:sldLayoutId id="2147485106" r:id="rId4"/>
    <p:sldLayoutId id="2147485107" r:id="rId5"/>
    <p:sldLayoutId id="2147485108" r:id="rId6"/>
    <p:sldLayoutId id="2147485109" r:id="rId7"/>
    <p:sldLayoutId id="2147485110" r:id="rId8"/>
    <p:sldLayoutId id="2147485111" r:id="rId9"/>
    <p:sldLayoutId id="2147485112" r:id="rId10"/>
    <p:sldLayoutId id="2147485113" r:id="rId11"/>
    <p:sldLayoutId id="2147485114" r:id="rId12"/>
    <p:sldLayoutId id="2147485115" r:id="rId13"/>
    <p:sldLayoutId id="2147485116" r:id="rId14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73" name="PlaceHolder 3"/>
          <p:cNvSpPr>
            <a:spLocks noGrp="1"/>
          </p:cNvSpPr>
          <p:nvPr>
            <p:ph type="dt" idx="340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83F1-E682-48FD-96A4-97F0EF94281B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PlaceHolder 4"/>
          <p:cNvSpPr>
            <a:spLocks noGrp="1"/>
          </p:cNvSpPr>
          <p:nvPr>
            <p:ph type="ftr" idx="341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5" name="PlaceHolder 5"/>
          <p:cNvSpPr>
            <a:spLocks noGrp="1"/>
          </p:cNvSpPr>
          <p:nvPr>
            <p:ph type="sldNum" idx="342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4B8B-D717-4DC5-95D3-BDDC6B1C0F37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3"/>
    <p:sldLayoutId id="2147485119" r:id="rId4"/>
    <p:sldLayoutId id="2147485120" r:id="rId5"/>
    <p:sldLayoutId id="2147485121" r:id="rId6"/>
    <p:sldLayoutId id="2147485122" r:id="rId7"/>
    <p:sldLayoutId id="2147485123" r:id="rId8"/>
    <p:sldLayoutId id="2147485124" r:id="rId9"/>
    <p:sldLayoutId id="2147485125" r:id="rId10"/>
    <p:sldLayoutId id="2147485126" r:id="rId11"/>
    <p:sldLayoutId id="2147485127" r:id="rId12"/>
    <p:sldLayoutId id="2147485128" r:id="rId13"/>
    <p:sldLayoutId id="2147485129" r:id="rId14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14" name="PlaceHolder 3"/>
          <p:cNvSpPr>
            <a:spLocks noGrp="1"/>
          </p:cNvSpPr>
          <p:nvPr>
            <p:ph type="dt" idx="343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4ABE-061C-4179-BC2E-3D46E7B63181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PlaceHolder 4"/>
          <p:cNvSpPr>
            <a:spLocks noGrp="1"/>
          </p:cNvSpPr>
          <p:nvPr>
            <p:ph type="ftr" idx="344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6" name="PlaceHolder 5"/>
          <p:cNvSpPr>
            <a:spLocks noGrp="1"/>
          </p:cNvSpPr>
          <p:nvPr>
            <p:ph type="sldNum" idx="345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D0CD-737E-49E5-9BF3-98EC79A95F8A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3"/>
    <p:sldLayoutId id="2147485132" r:id="rId4"/>
    <p:sldLayoutId id="2147485133" r:id="rId5"/>
    <p:sldLayoutId id="2147485134" r:id="rId6"/>
    <p:sldLayoutId id="2147485135" r:id="rId7"/>
    <p:sldLayoutId id="2147485136" r:id="rId8"/>
    <p:sldLayoutId id="2147485137" r:id="rId9"/>
    <p:sldLayoutId id="2147485138" r:id="rId10"/>
    <p:sldLayoutId id="2147485139" r:id="rId11"/>
    <p:sldLayoutId id="2147485140" r:id="rId12"/>
    <p:sldLayoutId id="2147485141" r:id="rId13"/>
    <p:sldLayoutId id="2147485142" r:id="rId14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5" name="PlaceHolder 3"/>
          <p:cNvSpPr>
            <a:spLocks noGrp="1"/>
          </p:cNvSpPr>
          <p:nvPr>
            <p:ph type="dt" idx="346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92BB-19FA-4AED-90B4-E93BDD4AA269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PlaceHolder 4"/>
          <p:cNvSpPr>
            <a:spLocks noGrp="1"/>
          </p:cNvSpPr>
          <p:nvPr>
            <p:ph type="ftr" idx="347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7" name="PlaceHolder 5"/>
          <p:cNvSpPr>
            <a:spLocks noGrp="1"/>
          </p:cNvSpPr>
          <p:nvPr>
            <p:ph type="sldNum" idx="348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6115-DE19-455D-99E7-74246BF7F859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3"/>
    <p:sldLayoutId id="2147485145" r:id="rId4"/>
    <p:sldLayoutId id="2147485146" r:id="rId5"/>
    <p:sldLayoutId id="2147485147" r:id="rId6"/>
    <p:sldLayoutId id="2147485148" r:id="rId7"/>
    <p:sldLayoutId id="2147485149" r:id="rId8"/>
    <p:sldLayoutId id="2147485150" r:id="rId9"/>
    <p:sldLayoutId id="2147485151" r:id="rId10"/>
    <p:sldLayoutId id="2147485152" r:id="rId11"/>
    <p:sldLayoutId id="2147485153" r:id="rId12"/>
    <p:sldLayoutId id="2147485154" r:id="rId13"/>
    <p:sldLayoutId id="2147485155" r:id="rId14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96" name="PlaceHolder 3"/>
          <p:cNvSpPr>
            <a:spLocks noGrp="1"/>
          </p:cNvSpPr>
          <p:nvPr>
            <p:ph type="dt" idx="349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D19B-0B88-4758-AB13-93476A17D7E2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7" name="PlaceHolder 4"/>
          <p:cNvSpPr>
            <a:spLocks noGrp="1"/>
          </p:cNvSpPr>
          <p:nvPr>
            <p:ph type="ftr" idx="350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8" name="PlaceHolder 5"/>
          <p:cNvSpPr>
            <a:spLocks noGrp="1"/>
          </p:cNvSpPr>
          <p:nvPr>
            <p:ph type="sldNum" idx="351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2F60-8E79-42FB-BB7B-C033053C2121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3"/>
    <p:sldLayoutId id="2147485158" r:id="rId4"/>
    <p:sldLayoutId id="2147485159" r:id="rId5"/>
    <p:sldLayoutId id="2147485160" r:id="rId6"/>
    <p:sldLayoutId id="2147485161" r:id="rId7"/>
    <p:sldLayoutId id="2147485162" r:id="rId8"/>
    <p:sldLayoutId id="2147485163" r:id="rId9"/>
    <p:sldLayoutId id="2147485164" r:id="rId10"/>
    <p:sldLayoutId id="2147485165" r:id="rId11"/>
    <p:sldLayoutId id="2147485166" r:id="rId12"/>
    <p:sldLayoutId id="2147485167" r:id="rId13"/>
    <p:sldLayoutId id="2147485168" r:id="rId14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 type="dt" idx="352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64CE-8874-4FFC-BBB5-2A4FC1339C99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PlaceHolder 4"/>
          <p:cNvSpPr>
            <a:spLocks noGrp="1"/>
          </p:cNvSpPr>
          <p:nvPr>
            <p:ph type="ftr" idx="353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9" name="PlaceHolder 5"/>
          <p:cNvSpPr>
            <a:spLocks noGrp="1"/>
          </p:cNvSpPr>
          <p:nvPr>
            <p:ph type="sldNum" idx="354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6142-17B7-4A9A-A345-8A8080CCC910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3"/>
    <p:sldLayoutId id="2147485171" r:id="rId4"/>
    <p:sldLayoutId id="2147485172" r:id="rId5"/>
    <p:sldLayoutId id="2147485173" r:id="rId6"/>
    <p:sldLayoutId id="2147485174" r:id="rId7"/>
    <p:sldLayoutId id="2147485175" r:id="rId8"/>
    <p:sldLayoutId id="2147485176" r:id="rId9"/>
    <p:sldLayoutId id="2147485177" r:id="rId10"/>
    <p:sldLayoutId id="2147485178" r:id="rId11"/>
    <p:sldLayoutId id="2147485179" r:id="rId12"/>
    <p:sldLayoutId id="2147485180" r:id="rId13"/>
    <p:sldLayoutId id="2147485181" r:id="rId14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78" name="PlaceHolder 3"/>
          <p:cNvSpPr>
            <a:spLocks noGrp="1"/>
          </p:cNvSpPr>
          <p:nvPr>
            <p:ph type="dt" idx="355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C55F-AEF7-447E-9D33-72A89A990D15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PlaceHolder 4"/>
          <p:cNvSpPr>
            <a:spLocks noGrp="1"/>
          </p:cNvSpPr>
          <p:nvPr>
            <p:ph type="ftr" idx="356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0" name="PlaceHolder 5"/>
          <p:cNvSpPr>
            <a:spLocks noGrp="1"/>
          </p:cNvSpPr>
          <p:nvPr>
            <p:ph type="sldNum" idx="357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6F50-CDD5-4C1B-8DCC-A91454373D03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3"/>
    <p:sldLayoutId id="2147485184" r:id="rId4"/>
    <p:sldLayoutId id="2147485185" r:id="rId5"/>
    <p:sldLayoutId id="2147485186" r:id="rId6"/>
    <p:sldLayoutId id="2147485187" r:id="rId7"/>
    <p:sldLayoutId id="2147485188" r:id="rId8"/>
    <p:sldLayoutId id="2147485189" r:id="rId9"/>
    <p:sldLayoutId id="2147485190" r:id="rId10"/>
    <p:sldLayoutId id="2147485191" r:id="rId11"/>
    <p:sldLayoutId id="2147485192" r:id="rId12"/>
    <p:sldLayoutId id="2147485193" r:id="rId13"/>
    <p:sldLayoutId id="2147485194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-4680" y="-4680"/>
            <a:ext cx="681120" cy="6869160"/>
            <a:chOff x="-4680" y="-4680"/>
            <a:chExt cx="681120" cy="6869160"/>
          </a:xfrm>
        </p:grpSpPr>
        <p:pic>
          <p:nvPicPr>
            <p:cNvPr id="486" name="矩形 6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68112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4"/>
            <p:cNvSpPr/>
            <p:nvPr/>
          </p:nvSpPr>
          <p:spPr>
            <a:xfrm>
              <a:off x="1440" y="1440"/>
              <a:ext cx="6685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4"/>
          <a:stretch/>
        </p:blipFill>
        <p:spPr>
          <a:xfrm>
            <a:off x="8132760" y="-4680"/>
            <a:ext cx="1017720" cy="14367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73CF-2712-48B9-B0D4-3165B572886C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540A-BA6C-4345-85C0-06D4EB6EEA9E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9" name="PlaceHolder 3"/>
          <p:cNvSpPr>
            <a:spLocks noGrp="1"/>
          </p:cNvSpPr>
          <p:nvPr>
            <p:ph type="dt" idx="35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C45D-D6CE-4D61-AB6E-B75BD9B4E5CC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PlaceHolder 4"/>
          <p:cNvSpPr>
            <a:spLocks noGrp="1"/>
          </p:cNvSpPr>
          <p:nvPr>
            <p:ph type="ftr" idx="35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1" name="PlaceHolder 5"/>
          <p:cNvSpPr>
            <a:spLocks noGrp="1"/>
          </p:cNvSpPr>
          <p:nvPr>
            <p:ph type="sldNum" idx="36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3BFE-3119-498E-AE2F-8ACB1626041B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3"/>
    <p:sldLayoutId id="2147485197" r:id="rId4"/>
    <p:sldLayoutId id="2147485198" r:id="rId5"/>
    <p:sldLayoutId id="2147485199" r:id="rId6"/>
    <p:sldLayoutId id="2147485200" r:id="rId7"/>
    <p:sldLayoutId id="2147485201" r:id="rId8"/>
    <p:sldLayoutId id="2147485202" r:id="rId9"/>
    <p:sldLayoutId id="2147485203" r:id="rId10"/>
    <p:sldLayoutId id="2147485204" r:id="rId11"/>
    <p:sldLayoutId id="2147485205" r:id="rId12"/>
    <p:sldLayoutId id="2147485206" r:id="rId13"/>
    <p:sldLayoutId id="2147485207" r:id="rId14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60" name="PlaceHolder 3"/>
          <p:cNvSpPr>
            <a:spLocks noGrp="1"/>
          </p:cNvSpPr>
          <p:nvPr>
            <p:ph type="dt" idx="361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C839-F18C-4B69-90B9-27DA27B3FD17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PlaceHolder 4"/>
          <p:cNvSpPr>
            <a:spLocks noGrp="1"/>
          </p:cNvSpPr>
          <p:nvPr>
            <p:ph type="ftr" idx="362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2" name="PlaceHolder 5"/>
          <p:cNvSpPr>
            <a:spLocks noGrp="1"/>
          </p:cNvSpPr>
          <p:nvPr>
            <p:ph type="sldNum" idx="363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BF9B-B090-4984-9051-2DF2CF6D80B2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3"/>
    <p:sldLayoutId id="2147485210" r:id="rId4"/>
    <p:sldLayoutId id="2147485211" r:id="rId5"/>
    <p:sldLayoutId id="2147485212" r:id="rId6"/>
    <p:sldLayoutId id="2147485213" r:id="rId7"/>
    <p:sldLayoutId id="2147485214" r:id="rId8"/>
    <p:sldLayoutId id="2147485215" r:id="rId9"/>
    <p:sldLayoutId id="2147485216" r:id="rId10"/>
    <p:sldLayoutId id="2147485217" r:id="rId11"/>
    <p:sldLayoutId id="2147485218" r:id="rId12"/>
    <p:sldLayoutId id="2147485219" r:id="rId13"/>
    <p:sldLayoutId id="2147485220" r:id="rId14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1" name="PlaceHolder 3"/>
          <p:cNvSpPr>
            <a:spLocks noGrp="1"/>
          </p:cNvSpPr>
          <p:nvPr>
            <p:ph type="dt" idx="364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E988-E067-4119-A378-E3BFD49F3B4E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PlaceHolder 4"/>
          <p:cNvSpPr>
            <a:spLocks noGrp="1"/>
          </p:cNvSpPr>
          <p:nvPr>
            <p:ph type="ftr" idx="365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3" name="PlaceHolder 5"/>
          <p:cNvSpPr>
            <a:spLocks noGrp="1"/>
          </p:cNvSpPr>
          <p:nvPr>
            <p:ph type="sldNum" idx="366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61FE-B817-4518-9DB3-270660E4DA51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3"/>
    <p:sldLayoutId id="2147485223" r:id="rId4"/>
    <p:sldLayoutId id="2147485224" r:id="rId5"/>
    <p:sldLayoutId id="2147485225" r:id="rId6"/>
    <p:sldLayoutId id="2147485226" r:id="rId7"/>
    <p:sldLayoutId id="2147485227" r:id="rId8"/>
    <p:sldLayoutId id="2147485228" r:id="rId9"/>
    <p:sldLayoutId id="2147485229" r:id="rId10"/>
    <p:sldLayoutId id="2147485230" r:id="rId11"/>
    <p:sldLayoutId id="2147485231" r:id="rId12"/>
    <p:sldLayoutId id="2147485232" r:id="rId13"/>
    <p:sldLayoutId id="2147485233" r:id="rId14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42" name="PlaceHolder 3"/>
          <p:cNvSpPr>
            <a:spLocks noGrp="1"/>
          </p:cNvSpPr>
          <p:nvPr>
            <p:ph type="dt" idx="3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13C1-76E1-4817-8993-DA1269799B7B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PlaceHolder 4"/>
          <p:cNvSpPr>
            <a:spLocks noGrp="1"/>
          </p:cNvSpPr>
          <p:nvPr>
            <p:ph type="ftr" idx="3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4" name="PlaceHolder 5"/>
          <p:cNvSpPr>
            <a:spLocks noGrp="1"/>
          </p:cNvSpPr>
          <p:nvPr>
            <p:ph type="sldNum" idx="3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AA5C-BE25-4180-952D-351783AA1018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3"/>
    <p:sldLayoutId id="2147485236" r:id="rId4"/>
    <p:sldLayoutId id="2147485237" r:id="rId5"/>
    <p:sldLayoutId id="2147485238" r:id="rId6"/>
    <p:sldLayoutId id="2147485239" r:id="rId7"/>
    <p:sldLayoutId id="2147485240" r:id="rId8"/>
    <p:sldLayoutId id="2147485241" r:id="rId9"/>
    <p:sldLayoutId id="2147485242" r:id="rId10"/>
    <p:sldLayoutId id="2147485243" r:id="rId11"/>
    <p:sldLayoutId id="2147485244" r:id="rId12"/>
    <p:sldLayoutId id="2147485245" r:id="rId13"/>
    <p:sldLayoutId id="2147485246" r:id="rId14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83" name="PlaceHolder 3"/>
          <p:cNvSpPr>
            <a:spLocks noGrp="1"/>
          </p:cNvSpPr>
          <p:nvPr>
            <p:ph type="dt" idx="3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DF55-D20C-46C3-9F58-E30433E7F105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PlaceHolder 4"/>
          <p:cNvSpPr>
            <a:spLocks noGrp="1"/>
          </p:cNvSpPr>
          <p:nvPr>
            <p:ph type="ftr" idx="3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5" name="PlaceHolder 5"/>
          <p:cNvSpPr>
            <a:spLocks noGrp="1"/>
          </p:cNvSpPr>
          <p:nvPr>
            <p:ph type="sldNum" idx="3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95F6-0567-4D2D-B04B-73631E671AF3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3"/>
    <p:sldLayoutId id="2147485249" r:id="rId4"/>
    <p:sldLayoutId id="2147485250" r:id="rId5"/>
    <p:sldLayoutId id="2147485251" r:id="rId6"/>
    <p:sldLayoutId id="2147485252" r:id="rId7"/>
    <p:sldLayoutId id="2147485253" r:id="rId8"/>
    <p:sldLayoutId id="2147485254" r:id="rId9"/>
    <p:sldLayoutId id="2147485255" r:id="rId10"/>
    <p:sldLayoutId id="2147485256" r:id="rId11"/>
    <p:sldLayoutId id="2147485257" r:id="rId12"/>
    <p:sldLayoutId id="2147485258" r:id="rId13"/>
    <p:sldLayoutId id="2147485259" r:id="rId14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24" name="PlaceHolder 3"/>
          <p:cNvSpPr>
            <a:spLocks noGrp="1"/>
          </p:cNvSpPr>
          <p:nvPr>
            <p:ph type="dt" idx="3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47B5-D77B-4BA8-8EB6-3CD5A19AE3B0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PlaceHolder 4"/>
          <p:cNvSpPr>
            <a:spLocks noGrp="1"/>
          </p:cNvSpPr>
          <p:nvPr>
            <p:ph type="ftr" idx="3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6" name="PlaceHolder 5"/>
          <p:cNvSpPr>
            <a:spLocks noGrp="1"/>
          </p:cNvSpPr>
          <p:nvPr>
            <p:ph type="sldNum" idx="3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5555-B960-49BC-83DA-9F39B8AF50DB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3"/>
    <p:sldLayoutId id="2147485262" r:id="rId4"/>
    <p:sldLayoutId id="2147485263" r:id="rId5"/>
    <p:sldLayoutId id="2147485264" r:id="rId6"/>
    <p:sldLayoutId id="2147485265" r:id="rId7"/>
    <p:sldLayoutId id="2147485266" r:id="rId8"/>
    <p:sldLayoutId id="2147485267" r:id="rId9"/>
    <p:sldLayoutId id="2147485268" r:id="rId10"/>
    <p:sldLayoutId id="2147485269" r:id="rId11"/>
    <p:sldLayoutId id="2147485270" r:id="rId12"/>
    <p:sldLayoutId id="2147485271" r:id="rId13"/>
    <p:sldLayoutId id="2147485272" r:id="rId14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65" name="PlaceHolder 3"/>
          <p:cNvSpPr>
            <a:spLocks noGrp="1"/>
          </p:cNvSpPr>
          <p:nvPr>
            <p:ph type="dt" idx="3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E9A3-4595-4DDF-9B47-3DB21EAD0ABE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PlaceHolder 4"/>
          <p:cNvSpPr>
            <a:spLocks noGrp="1"/>
          </p:cNvSpPr>
          <p:nvPr>
            <p:ph type="ftr" idx="3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7" name="PlaceHolder 5"/>
          <p:cNvSpPr>
            <a:spLocks noGrp="1"/>
          </p:cNvSpPr>
          <p:nvPr>
            <p:ph type="sldNum" idx="3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FB3C-A508-4146-9367-F74B19DCB697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3"/>
    <p:sldLayoutId id="2147485275" r:id="rId4"/>
    <p:sldLayoutId id="2147485276" r:id="rId5"/>
    <p:sldLayoutId id="2147485277" r:id="rId6"/>
    <p:sldLayoutId id="2147485278" r:id="rId7"/>
    <p:sldLayoutId id="2147485279" r:id="rId8"/>
    <p:sldLayoutId id="2147485280" r:id="rId9"/>
    <p:sldLayoutId id="2147485281" r:id="rId10"/>
    <p:sldLayoutId id="2147485282" r:id="rId11"/>
    <p:sldLayoutId id="2147485283" r:id="rId12"/>
    <p:sldLayoutId id="2147485284" r:id="rId13"/>
    <p:sldLayoutId id="2147485285" r:id="rId14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6" name="PlaceHolder 3"/>
          <p:cNvSpPr>
            <a:spLocks noGrp="1"/>
          </p:cNvSpPr>
          <p:nvPr>
            <p:ph type="dt" idx="3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F18D-6437-4994-8A14-D886ACF385DB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PlaceHolder 4"/>
          <p:cNvSpPr>
            <a:spLocks noGrp="1"/>
          </p:cNvSpPr>
          <p:nvPr>
            <p:ph type="ftr" idx="3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8" name="PlaceHolder 5"/>
          <p:cNvSpPr>
            <a:spLocks noGrp="1"/>
          </p:cNvSpPr>
          <p:nvPr>
            <p:ph type="sldNum" idx="3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A924-DB58-45C5-BFC9-E6833700A681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3"/>
    <p:sldLayoutId id="2147485288" r:id="rId4"/>
    <p:sldLayoutId id="2147485289" r:id="rId5"/>
    <p:sldLayoutId id="2147485290" r:id="rId6"/>
    <p:sldLayoutId id="2147485291" r:id="rId7"/>
    <p:sldLayoutId id="2147485292" r:id="rId8"/>
    <p:sldLayoutId id="2147485293" r:id="rId9"/>
    <p:sldLayoutId id="2147485294" r:id="rId10"/>
    <p:sldLayoutId id="2147485295" r:id="rId11"/>
    <p:sldLayoutId id="2147485296" r:id="rId12"/>
    <p:sldLayoutId id="2147485297" r:id="rId13"/>
    <p:sldLayoutId id="2147485298" r:id="rId14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47" name="PlaceHolder 3"/>
          <p:cNvSpPr>
            <a:spLocks noGrp="1"/>
          </p:cNvSpPr>
          <p:nvPr>
            <p:ph type="dt" idx="3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1B38-387C-429C-AF74-9E972D046E99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8" name="PlaceHolder 4"/>
          <p:cNvSpPr>
            <a:spLocks noGrp="1"/>
          </p:cNvSpPr>
          <p:nvPr>
            <p:ph type="ftr" idx="3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9" name="PlaceHolder 5"/>
          <p:cNvSpPr>
            <a:spLocks noGrp="1"/>
          </p:cNvSpPr>
          <p:nvPr>
            <p:ph type="sldNum" idx="3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FDC5-F9A5-409E-8A83-371CD18E48DA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3"/>
    <p:sldLayoutId id="2147485301" r:id="rId4"/>
    <p:sldLayoutId id="2147485302" r:id="rId5"/>
    <p:sldLayoutId id="2147485303" r:id="rId6"/>
    <p:sldLayoutId id="2147485304" r:id="rId7"/>
    <p:sldLayoutId id="2147485305" r:id="rId8"/>
    <p:sldLayoutId id="2147485306" r:id="rId9"/>
    <p:sldLayoutId id="2147485307" r:id="rId10"/>
    <p:sldLayoutId id="2147485308" r:id="rId11"/>
    <p:sldLayoutId id="2147485309" r:id="rId12"/>
    <p:sldLayoutId id="2147485310" r:id="rId13"/>
    <p:sldLayoutId id="2147485311" r:id="rId14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8" name="PlaceHolder 3"/>
          <p:cNvSpPr>
            <a:spLocks noGrp="1"/>
          </p:cNvSpPr>
          <p:nvPr>
            <p:ph type="dt" idx="3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8C48-98FF-48FA-A249-89E14319FDBC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PlaceHolder 4"/>
          <p:cNvSpPr>
            <a:spLocks noGrp="1"/>
          </p:cNvSpPr>
          <p:nvPr>
            <p:ph type="ftr" idx="3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0" name="PlaceHolder 5"/>
          <p:cNvSpPr>
            <a:spLocks noGrp="1"/>
          </p:cNvSpPr>
          <p:nvPr>
            <p:ph type="sldNum" idx="3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F98A-CB75-4CD0-9336-5B2651CE905E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3"/>
    <p:sldLayoutId id="2147485314" r:id="rId4"/>
    <p:sldLayoutId id="2147485315" r:id="rId5"/>
    <p:sldLayoutId id="2147485316" r:id="rId6"/>
    <p:sldLayoutId id="2147485317" r:id="rId7"/>
    <p:sldLayoutId id="2147485318" r:id="rId8"/>
    <p:sldLayoutId id="2147485319" r:id="rId9"/>
    <p:sldLayoutId id="2147485320" r:id="rId10"/>
    <p:sldLayoutId id="2147485321" r:id="rId11"/>
    <p:sldLayoutId id="2147485322" r:id="rId12"/>
    <p:sldLayoutId id="2147485323" r:id="rId13"/>
    <p:sldLayoutId id="2147485324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662C-A798-49EA-8E78-4ACB27EBD4D6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6D02-BD7E-4925-AD8F-58B6ACFB6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9" name="PlaceHolder 3"/>
          <p:cNvSpPr>
            <a:spLocks noGrp="1"/>
          </p:cNvSpPr>
          <p:nvPr>
            <p:ph type="dt" idx="3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6723-5BA1-4651-9C79-81D4485DF070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PlaceHolder 4"/>
          <p:cNvSpPr>
            <a:spLocks noGrp="1"/>
          </p:cNvSpPr>
          <p:nvPr>
            <p:ph type="ftr" idx="3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1" name="PlaceHolder 5"/>
          <p:cNvSpPr>
            <a:spLocks noGrp="1"/>
          </p:cNvSpPr>
          <p:nvPr>
            <p:ph type="sldNum" idx="3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3A0C-805F-4B53-BCB1-E7248136C46B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3"/>
    <p:sldLayoutId id="2147485327" r:id="rId4"/>
    <p:sldLayoutId id="2147485328" r:id="rId5"/>
    <p:sldLayoutId id="2147485329" r:id="rId6"/>
    <p:sldLayoutId id="2147485330" r:id="rId7"/>
    <p:sldLayoutId id="2147485331" r:id="rId8"/>
    <p:sldLayoutId id="2147485332" r:id="rId9"/>
    <p:sldLayoutId id="2147485333" r:id="rId10"/>
    <p:sldLayoutId id="2147485334" r:id="rId11"/>
    <p:sldLayoutId id="2147485335" r:id="rId12"/>
    <p:sldLayoutId id="2147485336" r:id="rId13"/>
    <p:sldLayoutId id="2147485337" r:id="rId14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70" name="PlaceHolder 3"/>
          <p:cNvSpPr>
            <a:spLocks noGrp="1"/>
          </p:cNvSpPr>
          <p:nvPr>
            <p:ph type="dt" idx="3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2A08-4477-41A2-83E0-1E27D4061C33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PlaceHolder 4"/>
          <p:cNvSpPr>
            <a:spLocks noGrp="1"/>
          </p:cNvSpPr>
          <p:nvPr>
            <p:ph type="ftr" idx="3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2" name="PlaceHolder 5"/>
          <p:cNvSpPr>
            <a:spLocks noGrp="1"/>
          </p:cNvSpPr>
          <p:nvPr>
            <p:ph type="sldNum" idx="3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6CA6-8CC1-42DB-9195-5E5D197E0D8C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3"/>
    <p:sldLayoutId id="2147485340" r:id="rId4"/>
    <p:sldLayoutId id="2147485341" r:id="rId5"/>
    <p:sldLayoutId id="2147485342" r:id="rId6"/>
    <p:sldLayoutId id="2147485343" r:id="rId7"/>
    <p:sldLayoutId id="2147485344" r:id="rId8"/>
    <p:sldLayoutId id="2147485345" r:id="rId9"/>
    <p:sldLayoutId id="2147485346" r:id="rId10"/>
    <p:sldLayoutId id="2147485347" r:id="rId11"/>
    <p:sldLayoutId id="2147485348" r:id="rId12"/>
    <p:sldLayoutId id="2147485349" r:id="rId13"/>
    <p:sldLayoutId id="2147485350" r:id="rId14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11" name="PlaceHolder 3"/>
          <p:cNvSpPr>
            <a:spLocks noGrp="1"/>
          </p:cNvSpPr>
          <p:nvPr>
            <p:ph type="dt" idx="3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ED02-CDAF-407B-9EF3-039D7F250FB1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PlaceHolder 4"/>
          <p:cNvSpPr>
            <a:spLocks noGrp="1"/>
          </p:cNvSpPr>
          <p:nvPr>
            <p:ph type="ftr" idx="3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3" name="PlaceHolder 5"/>
          <p:cNvSpPr>
            <a:spLocks noGrp="1"/>
          </p:cNvSpPr>
          <p:nvPr>
            <p:ph type="sldNum" idx="3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9567-F619-454B-8647-8DB0C2859B5A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3"/>
    <p:sldLayoutId id="2147485353" r:id="rId4"/>
    <p:sldLayoutId id="2147485354" r:id="rId5"/>
    <p:sldLayoutId id="2147485355" r:id="rId6"/>
    <p:sldLayoutId id="2147485356" r:id="rId7"/>
    <p:sldLayoutId id="2147485357" r:id="rId8"/>
    <p:sldLayoutId id="2147485358" r:id="rId9"/>
    <p:sldLayoutId id="2147485359" r:id="rId10"/>
    <p:sldLayoutId id="2147485360" r:id="rId11"/>
    <p:sldLayoutId id="2147485361" r:id="rId12"/>
    <p:sldLayoutId id="2147485362" r:id="rId13"/>
    <p:sldLayoutId id="2147485363" r:id="rId14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52" name="PlaceHolder 3"/>
          <p:cNvSpPr>
            <a:spLocks noGrp="1"/>
          </p:cNvSpPr>
          <p:nvPr>
            <p:ph type="dt" idx="3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C4C6-F42C-4E08-AFAC-9E994594CC24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PlaceHolder 4"/>
          <p:cNvSpPr>
            <a:spLocks noGrp="1"/>
          </p:cNvSpPr>
          <p:nvPr>
            <p:ph type="ftr" idx="3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4" name="PlaceHolder 5"/>
          <p:cNvSpPr>
            <a:spLocks noGrp="1"/>
          </p:cNvSpPr>
          <p:nvPr>
            <p:ph type="sldNum" idx="3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6A5E-D815-4108-B6D0-711B8680ADE2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3"/>
    <p:sldLayoutId id="2147485366" r:id="rId4"/>
    <p:sldLayoutId id="2147485367" r:id="rId5"/>
    <p:sldLayoutId id="2147485368" r:id="rId6"/>
    <p:sldLayoutId id="2147485369" r:id="rId7"/>
    <p:sldLayoutId id="2147485370" r:id="rId8"/>
    <p:sldLayoutId id="2147485371" r:id="rId9"/>
    <p:sldLayoutId id="2147485372" r:id="rId10"/>
    <p:sldLayoutId id="2147485373" r:id="rId11"/>
    <p:sldLayoutId id="2147485374" r:id="rId12"/>
    <p:sldLayoutId id="2147485375" r:id="rId13"/>
    <p:sldLayoutId id="2147485376" r:id="rId14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93" name="PlaceHolder 3"/>
          <p:cNvSpPr>
            <a:spLocks noGrp="1"/>
          </p:cNvSpPr>
          <p:nvPr>
            <p:ph type="dt" idx="4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345D-3CC6-43A8-AEF9-72E919722C3C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PlaceHolder 4"/>
          <p:cNvSpPr>
            <a:spLocks noGrp="1"/>
          </p:cNvSpPr>
          <p:nvPr>
            <p:ph type="ftr" idx="4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5" name="PlaceHolder 5"/>
          <p:cNvSpPr>
            <a:spLocks noGrp="1"/>
          </p:cNvSpPr>
          <p:nvPr>
            <p:ph type="sldNum" idx="4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5333-87CD-4FCE-A2D7-4B734CB71A9A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3"/>
    <p:sldLayoutId id="2147485379" r:id="rId4"/>
    <p:sldLayoutId id="2147485380" r:id="rId5"/>
    <p:sldLayoutId id="2147485381" r:id="rId6"/>
    <p:sldLayoutId id="2147485382" r:id="rId7"/>
    <p:sldLayoutId id="2147485383" r:id="rId8"/>
    <p:sldLayoutId id="2147485384" r:id="rId9"/>
    <p:sldLayoutId id="2147485385" r:id="rId10"/>
    <p:sldLayoutId id="2147485386" r:id="rId11"/>
    <p:sldLayoutId id="2147485387" r:id="rId12"/>
    <p:sldLayoutId id="2147485388" r:id="rId13"/>
    <p:sldLayoutId id="2147485389" r:id="rId14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34" name="PlaceHolder 3"/>
          <p:cNvSpPr>
            <a:spLocks noGrp="1"/>
          </p:cNvSpPr>
          <p:nvPr>
            <p:ph type="dt" idx="4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F131-311F-4CEA-8D66-C4D165626784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PlaceHolder 4"/>
          <p:cNvSpPr>
            <a:spLocks noGrp="1"/>
          </p:cNvSpPr>
          <p:nvPr>
            <p:ph type="ftr" idx="4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6" name="PlaceHolder 5"/>
          <p:cNvSpPr>
            <a:spLocks noGrp="1"/>
          </p:cNvSpPr>
          <p:nvPr>
            <p:ph type="sldNum" idx="4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1342-FB19-4D2A-A1C8-70977878BBC8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3"/>
    <p:sldLayoutId id="2147485392" r:id="rId4"/>
    <p:sldLayoutId id="2147485393" r:id="rId5"/>
    <p:sldLayoutId id="2147485394" r:id="rId6"/>
    <p:sldLayoutId id="2147485395" r:id="rId7"/>
    <p:sldLayoutId id="2147485396" r:id="rId8"/>
    <p:sldLayoutId id="2147485397" r:id="rId9"/>
    <p:sldLayoutId id="2147485398" r:id="rId10"/>
    <p:sldLayoutId id="2147485399" r:id="rId11"/>
    <p:sldLayoutId id="2147485400" r:id="rId12"/>
    <p:sldLayoutId id="2147485401" r:id="rId13"/>
    <p:sldLayoutId id="2147485402" r:id="rId14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75" name="PlaceHolder 3"/>
          <p:cNvSpPr>
            <a:spLocks noGrp="1"/>
          </p:cNvSpPr>
          <p:nvPr>
            <p:ph type="dt" idx="4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ED47-B6C5-499E-86CF-1045F2F67B7E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PlaceHolder 4"/>
          <p:cNvSpPr>
            <a:spLocks noGrp="1"/>
          </p:cNvSpPr>
          <p:nvPr>
            <p:ph type="ftr" idx="4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7" name="PlaceHolder 5"/>
          <p:cNvSpPr>
            <a:spLocks noGrp="1"/>
          </p:cNvSpPr>
          <p:nvPr>
            <p:ph type="sldNum" idx="4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1300-40B2-4FB0-83B4-B8FA8DEAF144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3"/>
    <p:sldLayoutId id="2147485405" r:id="rId4"/>
    <p:sldLayoutId id="2147485406" r:id="rId5"/>
    <p:sldLayoutId id="2147485407" r:id="rId6"/>
    <p:sldLayoutId id="2147485408" r:id="rId7"/>
    <p:sldLayoutId id="2147485409" r:id="rId8"/>
    <p:sldLayoutId id="2147485410" r:id="rId9"/>
    <p:sldLayoutId id="2147485411" r:id="rId10"/>
    <p:sldLayoutId id="2147485412" r:id="rId11"/>
    <p:sldLayoutId id="2147485413" r:id="rId12"/>
    <p:sldLayoutId id="2147485414" r:id="rId13"/>
    <p:sldLayoutId id="2147485415" r:id="rId14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6" name="PlaceHolder 3"/>
          <p:cNvSpPr>
            <a:spLocks noGrp="1"/>
          </p:cNvSpPr>
          <p:nvPr>
            <p:ph type="dt" idx="4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7A8C-A183-4CCF-A961-B1D1EA830444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PlaceHolder 4"/>
          <p:cNvSpPr>
            <a:spLocks noGrp="1"/>
          </p:cNvSpPr>
          <p:nvPr>
            <p:ph type="ftr" idx="4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8" name="PlaceHolder 5"/>
          <p:cNvSpPr>
            <a:spLocks noGrp="1"/>
          </p:cNvSpPr>
          <p:nvPr>
            <p:ph type="sldNum" idx="4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CE71-5CA6-4AF9-90F4-30308AD4EF09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3"/>
    <p:sldLayoutId id="2147485418" r:id="rId4"/>
    <p:sldLayoutId id="2147485419" r:id="rId5"/>
    <p:sldLayoutId id="2147485420" r:id="rId6"/>
    <p:sldLayoutId id="2147485421" r:id="rId7"/>
    <p:sldLayoutId id="2147485422" r:id="rId8"/>
    <p:sldLayoutId id="2147485423" r:id="rId9"/>
    <p:sldLayoutId id="2147485424" r:id="rId10"/>
    <p:sldLayoutId id="2147485425" r:id="rId11"/>
    <p:sldLayoutId id="2147485426" r:id="rId12"/>
    <p:sldLayoutId id="2147485427" r:id="rId13"/>
    <p:sldLayoutId id="2147485428" r:id="rId14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57" name="PlaceHolder 3"/>
          <p:cNvSpPr>
            <a:spLocks noGrp="1"/>
          </p:cNvSpPr>
          <p:nvPr>
            <p:ph type="dt" idx="4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852D-6B3D-47A4-A5C0-31F29C2C4142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PlaceHolder 4"/>
          <p:cNvSpPr>
            <a:spLocks noGrp="1"/>
          </p:cNvSpPr>
          <p:nvPr>
            <p:ph type="ftr" idx="4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9" name="PlaceHolder 5"/>
          <p:cNvSpPr>
            <a:spLocks noGrp="1"/>
          </p:cNvSpPr>
          <p:nvPr>
            <p:ph type="sldNum" idx="4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35B2-2547-44E4-A926-F99C5CA29BD9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3"/>
    <p:sldLayoutId id="2147485431" r:id="rId4"/>
    <p:sldLayoutId id="2147485432" r:id="rId5"/>
    <p:sldLayoutId id="2147485433" r:id="rId6"/>
    <p:sldLayoutId id="2147485434" r:id="rId7"/>
    <p:sldLayoutId id="2147485435" r:id="rId8"/>
    <p:sldLayoutId id="2147485436" r:id="rId9"/>
    <p:sldLayoutId id="2147485437" r:id="rId10"/>
    <p:sldLayoutId id="2147485438" r:id="rId11"/>
    <p:sldLayoutId id="2147485439" r:id="rId12"/>
    <p:sldLayoutId id="2147485440" r:id="rId13"/>
    <p:sldLayoutId id="2147485441" r:id="rId14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8" name="PlaceHolder 3"/>
          <p:cNvSpPr>
            <a:spLocks noGrp="1"/>
          </p:cNvSpPr>
          <p:nvPr>
            <p:ph type="dt" idx="4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446-5A09-47CE-B41E-0DA600833A60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PlaceHolder 4"/>
          <p:cNvSpPr>
            <a:spLocks noGrp="1"/>
          </p:cNvSpPr>
          <p:nvPr>
            <p:ph type="ftr" idx="4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0" name="PlaceHolder 5"/>
          <p:cNvSpPr>
            <a:spLocks noGrp="1"/>
          </p:cNvSpPr>
          <p:nvPr>
            <p:ph type="sldNum" idx="4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C26D-F226-4E8F-BB4D-0ED1003DF7B9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3"/>
    <p:sldLayoutId id="2147485444" r:id="rId4"/>
    <p:sldLayoutId id="2147485445" r:id="rId5"/>
    <p:sldLayoutId id="2147485446" r:id="rId6"/>
    <p:sldLayoutId id="2147485447" r:id="rId7"/>
    <p:sldLayoutId id="2147485448" r:id="rId8"/>
    <p:sldLayoutId id="2147485449" r:id="rId9"/>
    <p:sldLayoutId id="2147485450" r:id="rId10"/>
    <p:sldLayoutId id="2147485451" r:id="rId11"/>
    <p:sldLayoutId id="2147485452" r:id="rId12"/>
    <p:sldLayoutId id="2147485453" r:id="rId13"/>
    <p:sldLayoutId id="2147485454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3E77-3D1F-45CF-9DA8-ECB5303E5B9C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E161-6EE0-46F3-97DA-6E198AB9F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39" name="PlaceHolder 3"/>
          <p:cNvSpPr>
            <a:spLocks noGrp="1"/>
          </p:cNvSpPr>
          <p:nvPr>
            <p:ph type="dt" idx="4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D76B-7DB9-454D-81AD-1D31C31BB374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PlaceHolder 4"/>
          <p:cNvSpPr>
            <a:spLocks noGrp="1"/>
          </p:cNvSpPr>
          <p:nvPr>
            <p:ph type="ftr" idx="4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1" name="PlaceHolder 5"/>
          <p:cNvSpPr>
            <a:spLocks noGrp="1"/>
          </p:cNvSpPr>
          <p:nvPr>
            <p:ph type="sldNum" idx="4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2916-9ADA-4BE3-8FBA-B120FE4EB13B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3"/>
    <p:sldLayoutId id="2147485457" r:id="rId4"/>
    <p:sldLayoutId id="2147485458" r:id="rId5"/>
    <p:sldLayoutId id="2147485459" r:id="rId6"/>
    <p:sldLayoutId id="2147485460" r:id="rId7"/>
    <p:sldLayoutId id="2147485461" r:id="rId8"/>
    <p:sldLayoutId id="2147485462" r:id="rId9"/>
    <p:sldLayoutId id="2147485463" r:id="rId10"/>
    <p:sldLayoutId id="2147485464" r:id="rId11"/>
    <p:sldLayoutId id="2147485465" r:id="rId12"/>
    <p:sldLayoutId id="2147485466" r:id="rId13"/>
    <p:sldLayoutId id="2147485467" r:id="rId14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80" name="PlaceHolder 3"/>
          <p:cNvSpPr>
            <a:spLocks noGrp="1"/>
          </p:cNvSpPr>
          <p:nvPr>
            <p:ph type="dt" idx="4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1C56-89BA-4948-9D6E-DCFD162B99EB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PlaceHolder 4"/>
          <p:cNvSpPr>
            <a:spLocks noGrp="1"/>
          </p:cNvSpPr>
          <p:nvPr>
            <p:ph type="ftr" idx="4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2" name="PlaceHolder 5"/>
          <p:cNvSpPr>
            <a:spLocks noGrp="1"/>
          </p:cNvSpPr>
          <p:nvPr>
            <p:ph type="sldNum" idx="4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2496-A62E-414C-B11E-992CC663F810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3"/>
    <p:sldLayoutId id="2147485470" r:id="rId4"/>
    <p:sldLayoutId id="2147485471" r:id="rId5"/>
    <p:sldLayoutId id="2147485472" r:id="rId6"/>
    <p:sldLayoutId id="2147485473" r:id="rId7"/>
    <p:sldLayoutId id="2147485474" r:id="rId8"/>
    <p:sldLayoutId id="2147485475" r:id="rId9"/>
    <p:sldLayoutId id="2147485476" r:id="rId10"/>
    <p:sldLayoutId id="2147485477" r:id="rId11"/>
    <p:sldLayoutId id="2147485478" r:id="rId12"/>
    <p:sldLayoutId id="2147485479" r:id="rId13"/>
    <p:sldLayoutId id="2147485480" r:id="rId14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21" name="PlaceHolder 3"/>
          <p:cNvSpPr>
            <a:spLocks noGrp="1"/>
          </p:cNvSpPr>
          <p:nvPr>
            <p:ph type="dt" idx="4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B96A-1EFC-4FD8-A5A0-0DDA440086A7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PlaceHolder 4"/>
          <p:cNvSpPr>
            <a:spLocks noGrp="1"/>
          </p:cNvSpPr>
          <p:nvPr>
            <p:ph type="ftr" idx="4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3" name="PlaceHolder 5"/>
          <p:cNvSpPr>
            <a:spLocks noGrp="1"/>
          </p:cNvSpPr>
          <p:nvPr>
            <p:ph type="sldNum" idx="4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6B94-9575-4426-8544-99F1118854FB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3"/>
    <p:sldLayoutId id="2147485483" r:id="rId4"/>
    <p:sldLayoutId id="2147485484" r:id="rId5"/>
    <p:sldLayoutId id="2147485485" r:id="rId6"/>
    <p:sldLayoutId id="2147485486" r:id="rId7"/>
    <p:sldLayoutId id="2147485487" r:id="rId8"/>
    <p:sldLayoutId id="2147485488" r:id="rId9"/>
    <p:sldLayoutId id="2147485489" r:id="rId10"/>
    <p:sldLayoutId id="2147485490" r:id="rId11"/>
    <p:sldLayoutId id="2147485491" r:id="rId12"/>
    <p:sldLayoutId id="2147485492" r:id="rId13"/>
    <p:sldLayoutId id="2147485493" r:id="rId14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62" name="PlaceHolder 3"/>
          <p:cNvSpPr>
            <a:spLocks noGrp="1"/>
          </p:cNvSpPr>
          <p:nvPr>
            <p:ph type="dt" idx="4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2864-A574-4CC5-871C-8064B58D0682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PlaceHolder 4"/>
          <p:cNvSpPr>
            <a:spLocks noGrp="1"/>
          </p:cNvSpPr>
          <p:nvPr>
            <p:ph type="ftr" idx="4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4" name="PlaceHolder 5"/>
          <p:cNvSpPr>
            <a:spLocks noGrp="1"/>
          </p:cNvSpPr>
          <p:nvPr>
            <p:ph type="sldNum" idx="4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4F74-BE93-4A88-BCE9-7E41ADE01C51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3"/>
    <p:sldLayoutId id="2147485496" r:id="rId4"/>
    <p:sldLayoutId id="2147485497" r:id="rId5"/>
    <p:sldLayoutId id="2147485498" r:id="rId6"/>
    <p:sldLayoutId id="2147485499" r:id="rId7"/>
    <p:sldLayoutId id="2147485500" r:id="rId8"/>
    <p:sldLayoutId id="2147485501" r:id="rId9"/>
    <p:sldLayoutId id="2147485502" r:id="rId10"/>
    <p:sldLayoutId id="2147485503" r:id="rId11"/>
    <p:sldLayoutId id="2147485504" r:id="rId12"/>
    <p:sldLayoutId id="2147485505" r:id="rId13"/>
    <p:sldLayoutId id="2147485506" r:id="rId14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03" name="PlaceHolder 3"/>
          <p:cNvSpPr>
            <a:spLocks noGrp="1"/>
          </p:cNvSpPr>
          <p:nvPr>
            <p:ph type="dt" idx="4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3D55-8F0B-4398-92C2-866EE0684594}" type="datetime">
              <a:rPr b="0" lang="zh-CN" sz="1200" spc="-1" strike="noStrike">
                <a:solidFill>
                  <a:srgbClr val="ffffff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PlaceHolder 4"/>
          <p:cNvSpPr>
            <a:spLocks noGrp="1"/>
          </p:cNvSpPr>
          <p:nvPr>
            <p:ph type="ftr" idx="4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5" name="PlaceHolder 5"/>
          <p:cNvSpPr>
            <a:spLocks noGrp="1"/>
          </p:cNvSpPr>
          <p:nvPr>
            <p:ph type="sldNum" idx="4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0FF7-D6E2-4B60-AADF-F494F07B7F89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3"/>
    <p:sldLayoutId id="2147485509" r:id="rId4"/>
    <p:sldLayoutId id="2147485510" r:id="rId5"/>
    <p:sldLayoutId id="2147485511" r:id="rId6"/>
    <p:sldLayoutId id="2147485512" r:id="rId7"/>
    <p:sldLayoutId id="2147485513" r:id="rId8"/>
    <p:sldLayoutId id="2147485514" r:id="rId9"/>
    <p:sldLayoutId id="2147485515" r:id="rId10"/>
    <p:sldLayoutId id="2147485516" r:id="rId11"/>
    <p:sldLayoutId id="2147485517" r:id="rId12"/>
    <p:sldLayoutId id="2147485518" r:id="rId13"/>
    <p:sldLayoutId id="214748551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6823-AEAA-40FE-AA53-7609A3D464F8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FE01-8DB7-469B-930C-D11F2C152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7983-5C17-4438-B188-99DA237121AE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3CB4-CD39-4DEF-ADA2-2E8BD75C9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2843-08CC-49B0-855B-062D26DFD5C0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1A3A-54B1-49B7-B5B1-FD8504D5B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45A8-AF19-4891-87CB-FC4BC699A7D4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98C2-CF32-431F-8E27-751A8BA58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7B38-700E-405B-BD06-EE81BD77D47B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9289-C872-49B6-A51F-285ECF46B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4680" y="5205240"/>
            <a:ext cx="14796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002F-6698-462F-BBD2-6042069BE872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92A5-9049-4394-A131-3166307621A5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B99E-0708-4250-8C28-45C2A9F4C491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1F88-85E0-49F9-9E1D-662AB3092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FADD-34D6-445D-8BA7-89EEB58FF60B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A76B-8DE7-4902-BE7F-850BCD99E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3080-7511-4C73-A12B-522719ABDC28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A7EB-DC84-441C-9CB1-67532F4E2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1465-4A8D-4B18-AE9A-5794D1DB5A07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0642-4925-4705-96B5-33279AAAA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A14F-1257-4DEB-A03D-9FE1718712E9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72E6-A814-4248-8429-7CFB498195B2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D14A-64A5-490E-9E47-11EB08CE0C58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9E8B-6A19-40EA-B170-88CE498C520C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659E-2646-4561-84E1-C0DF38D60CA5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DB68-670B-428B-9A47-0C043A84EDE4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701F-B108-48AD-B0C7-5B1FF7E61D70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DC87-0BA3-40B2-943F-1CC2B833BB97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6AF4-7622-41AC-BC20-98BB23CF9094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6205-2338-4ED2-BFA2-27B80ABF8620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D4DD-4198-4786-BCDF-7E5D635CE876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D5A6-FEF1-4909-9031-0CEEE9D55314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-4680" y="-4680"/>
            <a:ext cx="681120" cy="6869160"/>
            <a:chOff x="-4680" y="-4680"/>
            <a:chExt cx="681120" cy="6869160"/>
          </a:xfrm>
        </p:grpSpPr>
        <p:pic>
          <p:nvPicPr>
            <p:cNvPr id="84" name="矩形 6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68112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4"/>
            <p:cNvSpPr/>
            <p:nvPr/>
          </p:nvSpPr>
          <p:spPr>
            <a:xfrm>
              <a:off x="1440" y="1440"/>
              <a:ext cx="6685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4"/>
          <a:stretch/>
        </p:blipFill>
        <p:spPr>
          <a:xfrm>
            <a:off x="8132760" y="-4680"/>
            <a:ext cx="1017720" cy="14367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DBE9-8487-4584-9436-2282FF40A650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408D-2D16-494A-BBA3-F792064A3565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6A15-57A9-40BD-94A9-276EEC708AB7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8075-5123-46F4-9E08-DC7AF1850CC7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930C-0A70-4EE4-A47A-478A45343743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B630-EED4-4885-8C32-4D7A0902BD48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5914-3854-42BF-B203-8C57C979D51C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18FD-431C-4F86-B327-57AB924E9002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58AD-A245-46E1-AA50-89487A2DB913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ADB2-699F-4EF6-8A26-B303CB66624A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124D-41C7-4B13-87EE-90F02CC8DB92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6624-EC3E-4B30-AAD2-BA5E1633334B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1DE9-3D60-45A6-96B4-12D87BEBCC85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A333-D063-45EB-A499-D865F248230E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546A-498A-4740-8956-2AA419ED0EAF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408D-9B11-414E-B138-8A76654C32EC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39E0-D58A-4071-AE58-E66E8AAF2E87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75CC-C3A6-4F0C-B4E8-27D132FE774C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5D99-2FD0-43A7-8400-F17893C0C03D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0AD3-9198-433E-A36E-1ECA94FE00CA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E849-375E-4B9B-A491-0C486DD0D5DD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0744-FD39-488F-B0B8-6DD112109945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4680"/>
            <a:ext cx="1676520" cy="2369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5676-A61A-47C3-9224-E016BC13D12F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EA67-5896-4C7D-8804-B5E51C7BAA5D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1026-54AE-47E6-AE08-DE18ADFFD29B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8551-5E4C-404B-BA70-5DDAF062F308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519C-C984-4897-AC69-4D120DA34E30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75D5-1677-4FE3-8767-B6D9149B5704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6A37-51E0-41C7-89D4-515C1BFC0B8C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1F4B-FA36-4BAF-8DDD-40F15AE61E53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41BB-4B6C-466D-B562-3A54A865E571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6E23-A655-4DAC-94C6-DFD7F1E73B16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8D1B-DA8E-4C62-957C-BED0EDB21134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21C8-16F5-4846-842B-D0C6222F0C41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44C5-E33F-4BA7-9BE0-909E4FF3E295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2CD6-A09F-4834-93DA-0CC1A6E3499B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8D3D-8761-42F7-A1EB-38197D05D7C5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6B95-5D57-484F-ABB4-16E7287BE68F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EE41-2372-4F0B-995E-E5C9DC4D84F9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1701-832D-4FF2-9DF2-8A4888F50696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179D-21C7-432D-838B-BA340349C7D1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8529-0715-4531-93B5-0E23732A0F15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34A5-1CB5-496E-97E3-48B576B8E360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F27A-4E15-4BA1-BD8A-0116540488B5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-4680" y="-4680"/>
            <a:ext cx="663480" cy="6869160"/>
            <a:chOff x="-4680" y="-4680"/>
            <a:chExt cx="663480" cy="6869160"/>
          </a:xfrm>
        </p:grpSpPr>
        <p:pic>
          <p:nvPicPr>
            <p:cNvPr id="171" name="矩形 6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6634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4"/>
            <p:cNvSpPr/>
            <p:nvPr/>
          </p:nvSpPr>
          <p:spPr>
            <a:xfrm>
              <a:off x="1440" y="1440"/>
              <a:ext cx="6537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4"/>
          <a:stretch/>
        </p:blipFill>
        <p:spPr>
          <a:xfrm>
            <a:off x="8132760" y="-4680"/>
            <a:ext cx="1017720" cy="1436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28B7-F4DA-49BB-954D-88BE4066F719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E929-4DB8-4DA2-8939-2B81011F973F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92C4-E03E-4AE8-ABCD-0A6F1CB2E704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5FDF-CD0D-48C1-A72F-9575ED723F20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59F6-40AF-48EF-B75F-AE4F1418BA91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71D0-62A3-404E-99F3-AE1BF157F084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1937-3DCD-4811-AECC-3E6A9F45E61B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AB1A-33D7-4314-9707-1B2D1A6609C5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9DFE-54F8-438F-B438-D01F8B6B2417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EFAC-1B8C-4DE6-93BE-883956562378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EA0D-FD18-4CDA-A20B-0084D1850045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5C9C-E983-4E27-AF8C-3F8325C5B793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98F1-9F58-49EB-8F00-951BDEEE3173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0273-F759-4A0F-ADEF-C2CFFBFB6EE8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47CD-2FB5-4F28-961D-9D84AF9DA7AA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09A9-C489-4541-BD6B-CFC586A8AA9F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ACCB-3EF4-4858-B7E3-5EC95233FBCA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3CB9-0EC9-4C1F-A074-6ACD55A516A8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F4A4-4288-4798-B2AA-7F4B7FD907CB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D613-2C59-4B6C-A7BD-F79B275367E0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5DC2-E29C-461B-AB91-F100D7D152AF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51A5-42EB-4055-A7B3-C513E7D48642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-4680" y="-4680"/>
            <a:ext cx="650880" cy="6869160"/>
            <a:chOff x="-4680" y="-4680"/>
            <a:chExt cx="650880" cy="6869160"/>
          </a:xfrm>
        </p:grpSpPr>
        <p:pic>
          <p:nvPicPr>
            <p:cNvPr id="216" name="矩形 6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6508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4"/>
            <p:cNvSpPr/>
            <p:nvPr/>
          </p:nvSpPr>
          <p:spPr>
            <a:xfrm>
              <a:off x="1440" y="1440"/>
              <a:ext cx="6397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4"/>
          <a:stretch/>
        </p:blipFill>
        <p:spPr>
          <a:xfrm>
            <a:off x="8132760" y="-4680"/>
            <a:ext cx="1017720" cy="14367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5EE8-D768-4844-A5A3-ECB8700701FB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48BA-1F30-429B-BFA2-BC6A9E858A31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2C23-6FD2-4CC8-9A6E-0AD655924C8A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E81F-7637-4B91-A5EF-A6EEA2C19AAC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1888-4222-4E5C-BE6D-8F9FD008EC09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3EDC-D64E-4932-AAB7-22A2BC2CD9E2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AF82-AF91-49C7-9F08-B2CD4AE3FD70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13D3-E12A-4774-B292-C0D798FE6F16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5E0A-9E99-4B0C-8046-0CF98A6B0CDD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DC71-0A43-4CA3-B219-32603B2D44F9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39E8-3C4F-4411-A170-8780CD446003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E3D2-B296-405D-886B-4407267BE19B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4F09-68C5-425C-AA7E-935E67F335AC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9517-74B7-4181-829B-348CA2127D70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4A72-F351-4AFD-9FC5-010FB3539D43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556E-3496-480B-8C21-358A7BD97BB9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4380-B339-4A05-AD27-A27329762CBF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7035-9647-45B1-AB82-BE7C1A7F5A90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834F-EAF9-4A21-91CE-2829DBE8FD84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F329-4BD4-4495-86D1-50D7C6734EED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1975-ECEE-4B0A-A046-DCC9526C9417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F082-290C-4D43-8212-48C4F0F9438D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-4680" y="-4680"/>
            <a:ext cx="681120" cy="6869160"/>
            <a:chOff x="-4680" y="-4680"/>
            <a:chExt cx="681120" cy="6869160"/>
          </a:xfrm>
        </p:grpSpPr>
        <p:pic>
          <p:nvPicPr>
            <p:cNvPr id="261" name="矩形 6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68112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4"/>
            <p:cNvSpPr/>
            <p:nvPr/>
          </p:nvSpPr>
          <p:spPr>
            <a:xfrm>
              <a:off x="1440" y="1440"/>
              <a:ext cx="6685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4"/>
          <a:stretch/>
        </p:blipFill>
        <p:spPr>
          <a:xfrm>
            <a:off x="8132760" y="-4680"/>
            <a:ext cx="1017720" cy="14367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1886-5188-4B1D-AAB8-A63B00B584D3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865E-C995-4979-9FB9-1EA1FC8E8001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BCDD-1109-475F-8B35-78F88BA403BA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B7EC-C054-4673-A12F-E2CFCC188CFD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EBA8-FCD8-4418-9D0A-176F27F221E6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728A-6FFC-4FEE-9F0F-E3240F2327B7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C218-381C-4F67-839D-24E0A67286DE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A40B-5BCC-4D4D-B5F7-B44F369A23F7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C200-5D3F-418C-880F-6490962FA121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D4F9-071F-4D1A-9BD1-363D75871A09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1060-467F-4FE9-BB9D-7C7CA93FEB3C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360B-AA5B-4367-8111-4E91156E31FA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7ED8-B3CA-4F47-B17E-59BA57B5D3E1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711B-1313-4E6D-BFC8-C36D492B5D8D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6D66-EC58-482D-BD70-6744C00A0DA9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CF23-3972-442E-B846-DFC48F6A902F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E1E0-BE4F-4C99-9738-DD1B58E4BE92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DFA2-7E36-49B4-BCF5-9BF44AF2193A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9D52-32E4-4AF6-B25C-417E0CE1DB5A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1B3E-0C72-418C-BED0-6E1400702B85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E0E2-BC88-4E1C-BEEE-ED3995EB5357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4507-E3AE-4D1D-844F-DEF07F426340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-4680" y="-4680"/>
            <a:ext cx="681120" cy="6869160"/>
            <a:chOff x="-4680" y="-4680"/>
            <a:chExt cx="681120" cy="6869160"/>
          </a:xfrm>
        </p:grpSpPr>
        <p:pic>
          <p:nvPicPr>
            <p:cNvPr id="306" name="矩形 6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68112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4"/>
            <p:cNvSpPr/>
            <p:nvPr/>
          </p:nvSpPr>
          <p:spPr>
            <a:xfrm>
              <a:off x="1440" y="1440"/>
              <a:ext cx="6685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4"/>
          <a:stretch/>
        </p:blipFill>
        <p:spPr>
          <a:xfrm>
            <a:off x="8132760" y="-4680"/>
            <a:ext cx="1017720" cy="14367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32D5-2DFB-4E20-A991-C45B4F0AEEEE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7759-6932-4D30-9996-EDE5F52FD9DA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947E-8E38-43F1-96CC-EEB338523A1D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9716-0302-4AF2-807F-695B32AF7022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3767-21D4-46AA-BA9E-8E139F7BD5DA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4889-EBA9-4E09-AAAC-26916F5BC392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79D0-9E4D-4057-8819-C4C7515C78AA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1A14-0D5D-449C-8DD0-822AF3668463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8D3D-D515-4241-A8BC-D772D407F62E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F87C-1F4E-4F59-A31C-4EE83005B1D0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CE9B-C7F0-43BA-AC5C-6699B3140591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88CD-3A63-42CB-BE0B-92EDA69DD32F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BC43-B163-467F-972A-3A810A1CB91D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3AA6-29CA-43CE-A211-9EEB7691ED34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3DA8-5BB6-4320-9A0B-C7DD1BACB7D2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122D-2B57-438A-9789-67A61A111BC1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 type="dt" idx="2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8032-B553-42DD-8AA3-3BDA1EDB9BA5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 type="ftr" idx="2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 type="sldNum" idx="2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0B91-4585-41C0-BA40-C9ED1F3E761D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 type="dt" idx="2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028F-78EE-479A-913C-92B586A46B99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 type="ftr" idx="2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PlaceHolder 5"/>
          <p:cNvSpPr>
            <a:spLocks noGrp="1"/>
          </p:cNvSpPr>
          <p:nvPr>
            <p:ph type="sldNum" idx="2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7714-AE44-4702-A766-699CC9446396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48" name="PlaceHolder 3"/>
          <p:cNvSpPr>
            <a:spLocks noGrp="1"/>
          </p:cNvSpPr>
          <p:nvPr>
            <p:ph type="dt" idx="2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5688-CCC5-4F20-AD04-A0EA71A7B548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PlaceHolder 4"/>
          <p:cNvSpPr>
            <a:spLocks noGrp="1"/>
          </p:cNvSpPr>
          <p:nvPr>
            <p:ph type="ftr" idx="2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PlaceHolder 5"/>
          <p:cNvSpPr>
            <a:spLocks noGrp="1"/>
          </p:cNvSpPr>
          <p:nvPr>
            <p:ph type="sldNum" idx="2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88DD-E3B1-484B-A890-B83023035F5F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-4680" y="-4680"/>
            <a:ext cx="681120" cy="6869160"/>
            <a:chOff x="-4680" y="-4680"/>
            <a:chExt cx="681120" cy="6869160"/>
          </a:xfrm>
        </p:grpSpPr>
        <p:pic>
          <p:nvPicPr>
            <p:cNvPr id="351" name="矩形 6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68112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4"/>
            <p:cNvSpPr/>
            <p:nvPr/>
          </p:nvSpPr>
          <p:spPr>
            <a:xfrm>
              <a:off x="1440" y="1440"/>
              <a:ext cx="67140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4"/>
          <a:stretch/>
        </p:blipFill>
        <p:spPr>
          <a:xfrm>
            <a:off x="8132760" y="-4680"/>
            <a:ext cx="1017720" cy="14367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762E-5740-4FEA-8747-4E45B56EEAA3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4A18-B809-4D58-ABDB-C78CD6D07629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89" name="PlaceHolder 3"/>
          <p:cNvSpPr>
            <a:spLocks noGrp="1"/>
          </p:cNvSpPr>
          <p:nvPr>
            <p:ph type="dt" idx="2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ADF0-A6EB-4184-BE31-3856F6E46857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PlaceHolder 4"/>
          <p:cNvSpPr>
            <a:spLocks noGrp="1"/>
          </p:cNvSpPr>
          <p:nvPr>
            <p:ph type="ftr" idx="2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1" name="PlaceHolder 5"/>
          <p:cNvSpPr>
            <a:spLocks noGrp="1"/>
          </p:cNvSpPr>
          <p:nvPr>
            <p:ph type="sldNum" idx="2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E5D1-CED2-4D54-AF9B-ECA8F4814336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 type="dt" idx="2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FD5A-40ED-4A04-9039-150E22A891A8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 type="ftr" idx="2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2" name="PlaceHolder 5"/>
          <p:cNvSpPr>
            <a:spLocks noGrp="1"/>
          </p:cNvSpPr>
          <p:nvPr>
            <p:ph type="sldNum" idx="2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2B56-9915-4A03-A143-87059EC8C70E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dt" idx="2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045E-0ECB-4420-9F63-F4C814D5C83A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PlaceHolder 4"/>
          <p:cNvSpPr>
            <a:spLocks noGrp="1"/>
          </p:cNvSpPr>
          <p:nvPr>
            <p:ph type="ftr" idx="2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PlaceHolder 5"/>
          <p:cNvSpPr>
            <a:spLocks noGrp="1"/>
          </p:cNvSpPr>
          <p:nvPr>
            <p:ph type="sldNum" idx="2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CE49-7956-4FE3-AA87-58BCACC2EF96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12" name="PlaceHolder 3"/>
          <p:cNvSpPr>
            <a:spLocks noGrp="1"/>
          </p:cNvSpPr>
          <p:nvPr>
            <p:ph type="dt" idx="2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4E9D-3C53-4175-B818-22768E44A6A6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PlaceHolder 4"/>
          <p:cNvSpPr>
            <a:spLocks noGrp="1"/>
          </p:cNvSpPr>
          <p:nvPr>
            <p:ph type="ftr" idx="2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4" name="PlaceHolder 5"/>
          <p:cNvSpPr>
            <a:spLocks noGrp="1"/>
          </p:cNvSpPr>
          <p:nvPr>
            <p:ph type="sldNum" idx="2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F713-81DE-405D-B5EC-C85434A273C7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3" name="PlaceHolder 3"/>
          <p:cNvSpPr>
            <a:spLocks noGrp="1"/>
          </p:cNvSpPr>
          <p:nvPr>
            <p:ph type="dt" idx="2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3C7A-D15C-4434-88D0-85EC928D5123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PlaceHolder 4"/>
          <p:cNvSpPr>
            <a:spLocks noGrp="1"/>
          </p:cNvSpPr>
          <p:nvPr>
            <p:ph type="ftr" idx="2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5" name="PlaceHolder 5"/>
          <p:cNvSpPr>
            <a:spLocks noGrp="1"/>
          </p:cNvSpPr>
          <p:nvPr>
            <p:ph type="sldNum" idx="2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4DB3-9CBC-4FCB-B31C-7DAD84307304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94" name="PlaceHolder 3"/>
          <p:cNvSpPr>
            <a:spLocks noGrp="1"/>
          </p:cNvSpPr>
          <p:nvPr>
            <p:ph type="dt" idx="2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C012-107F-4A61-A299-3B9E37F49D21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PlaceHolder 4"/>
          <p:cNvSpPr>
            <a:spLocks noGrp="1"/>
          </p:cNvSpPr>
          <p:nvPr>
            <p:ph type="ftr" idx="2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PlaceHolder 5"/>
          <p:cNvSpPr>
            <a:spLocks noGrp="1"/>
          </p:cNvSpPr>
          <p:nvPr>
            <p:ph type="sldNum" idx="2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06D6-C29B-455A-B84B-BE50E78FEEF3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5" name="PlaceHolder 3"/>
          <p:cNvSpPr>
            <a:spLocks noGrp="1"/>
          </p:cNvSpPr>
          <p:nvPr>
            <p:ph type="dt" idx="2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5565-C9F8-462D-8B76-2EC764EA7AB5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PlaceHolder 4"/>
          <p:cNvSpPr>
            <a:spLocks noGrp="1"/>
          </p:cNvSpPr>
          <p:nvPr>
            <p:ph type="ftr" idx="2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7" name="PlaceHolder 5"/>
          <p:cNvSpPr>
            <a:spLocks noGrp="1"/>
          </p:cNvSpPr>
          <p:nvPr>
            <p:ph type="sldNum" idx="28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1C9E-32BF-479C-B159-1ECA18083AE6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76" name="PlaceHolder 3"/>
          <p:cNvSpPr>
            <a:spLocks noGrp="1"/>
          </p:cNvSpPr>
          <p:nvPr>
            <p:ph type="dt" idx="2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FDA4-BCBD-4379-9111-1D62DB8AC59F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PlaceHolder 4"/>
          <p:cNvSpPr>
            <a:spLocks noGrp="1"/>
          </p:cNvSpPr>
          <p:nvPr>
            <p:ph type="ftr" idx="2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8" name="PlaceHolder 5"/>
          <p:cNvSpPr>
            <a:spLocks noGrp="1"/>
          </p:cNvSpPr>
          <p:nvPr>
            <p:ph type="sldNum" idx="2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6349-EEB4-4C82-B910-0D41F0CE15C4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7" name="PlaceHolder 3"/>
          <p:cNvSpPr>
            <a:spLocks noGrp="1"/>
          </p:cNvSpPr>
          <p:nvPr>
            <p:ph type="dt" idx="2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3B5C-44E9-4A8D-8882-7ABD6E017E06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PlaceHolder 4"/>
          <p:cNvSpPr>
            <a:spLocks noGrp="1"/>
          </p:cNvSpPr>
          <p:nvPr>
            <p:ph type="ftr" idx="2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9" name="PlaceHolder 5"/>
          <p:cNvSpPr>
            <a:spLocks noGrp="1"/>
          </p:cNvSpPr>
          <p:nvPr>
            <p:ph type="sldNum" idx="2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1EF5-2A82-4712-9F2F-9FC0D875F592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58" name="PlaceHolder 3"/>
          <p:cNvSpPr>
            <a:spLocks noGrp="1"/>
          </p:cNvSpPr>
          <p:nvPr>
            <p:ph type="dt" idx="2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696D-E0B7-4DA6-9E0A-54F326E6F88E}" type="datetime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PlaceHolder 4"/>
          <p:cNvSpPr>
            <a:spLocks noGrp="1"/>
          </p:cNvSpPr>
          <p:nvPr>
            <p:ph type="ftr" idx="2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0" name="PlaceHolder 5"/>
          <p:cNvSpPr>
            <a:spLocks noGrp="1"/>
          </p:cNvSpPr>
          <p:nvPr>
            <p:ph type="sldNum" idx="2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423D-EADC-4BD0-A5B0-9D615A8505E7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1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1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1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1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1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1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1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1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1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1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1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2" name="Rectangle 3"/>
          <p:cNvSpPr/>
          <p:nvPr/>
        </p:nvSpPr>
        <p:spPr>
          <a:xfrm>
            <a:off x="2438640" y="628560"/>
            <a:ext cx="44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人教版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·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数学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·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八年级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上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3" name="矩形 1" descr=""/>
          <p:cNvPicPr/>
          <p:nvPr/>
        </p:nvPicPr>
        <p:blipFill>
          <a:blip r:embed="rId2"/>
          <a:stretch/>
        </p:blipFill>
        <p:spPr>
          <a:xfrm>
            <a:off x="1260360" y="2209680"/>
            <a:ext cx="6819840" cy="701640"/>
          </a:xfrm>
          <a:prstGeom prst="rect">
            <a:avLst/>
          </a:prstGeom>
          <a:ln w="0">
            <a:noFill/>
          </a:ln>
        </p:spPr>
      </p:pic>
      <p:sp>
        <p:nvSpPr>
          <p:cNvPr id="594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3" name="Text Box 2"/>
          <p:cNvSpPr/>
          <p:nvPr/>
        </p:nvSpPr>
        <p:spPr>
          <a:xfrm>
            <a:off x="1695600" y="907920"/>
            <a:ext cx="4835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：计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⑴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(12a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-6a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+3a)÷3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4" name="Text Box 3"/>
          <p:cNvSpPr/>
          <p:nvPr/>
        </p:nvSpPr>
        <p:spPr>
          <a:xfrm>
            <a:off x="1378080" y="2460600"/>
            <a:ext cx="531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解：⑴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(12a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-6a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+3a)÷3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=12a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÷3a-6a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÷3a+3a÷3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=4a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-2a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5" name="文本框 8199"/>
          <p:cNvSpPr/>
          <p:nvPr/>
        </p:nvSpPr>
        <p:spPr>
          <a:xfrm>
            <a:off x="603360" y="58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9be02"/>
                </a:solidFill>
                <a:uFillTx/>
                <a:latin typeface="Goudy Old Style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d9be02"/>
                </a:solidFill>
                <a:uFillTx/>
                <a:latin typeface="Goudy Old Style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5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6" name="Text Box 2"/>
          <p:cNvSpPr/>
          <p:nvPr/>
        </p:nvSpPr>
        <p:spPr>
          <a:xfrm>
            <a:off x="1157400" y="1038240"/>
            <a:ext cx="606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：计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⑵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(21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4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y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-35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y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+7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y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)÷(-7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y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7" name="Text Box 3"/>
          <p:cNvSpPr/>
          <p:nvPr/>
        </p:nvSpPr>
        <p:spPr>
          <a:xfrm>
            <a:off x="1405080" y="2592360"/>
            <a:ext cx="72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解：⑵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(21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4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y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-35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y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+7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y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)÷(-7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=-3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y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+5xy-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5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5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8" name="Text Box 2"/>
          <p:cNvSpPr/>
          <p:nvPr/>
        </p:nvSpPr>
        <p:spPr>
          <a:xfrm>
            <a:off x="1768320" y="631800"/>
            <a:ext cx="4980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：计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⑶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[(x+y)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-y(2x+y)-8x]÷2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9" name="Group 3"/>
          <p:cNvGrpSpPr/>
          <p:nvPr/>
        </p:nvGrpSpPr>
        <p:grpSpPr>
          <a:xfrm>
            <a:off x="1506600" y="2403360"/>
            <a:ext cx="6229440" cy="2614680"/>
            <a:chOff x="1506600" y="2403360"/>
            <a:chExt cx="6229440" cy="2614680"/>
          </a:xfrm>
        </p:grpSpPr>
        <p:sp>
          <p:nvSpPr>
            <p:cNvPr id="5990" name="Text Box 4"/>
            <p:cNvSpPr/>
            <p:nvPr/>
          </p:nvSpPr>
          <p:spPr>
            <a:xfrm>
              <a:off x="1506600" y="2403360"/>
              <a:ext cx="622944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解： ⑶</a:t>
              </a:r>
              <a:r>
                <a:rPr b="1" lang="en-US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[(x+y)</a:t>
              </a:r>
              <a:r>
                <a:rPr b="1" lang="en-US" sz="2800" spc="-1" strike="noStrike" baseline="30000">
                  <a:solidFill>
                    <a:srgbClr val="3333ff"/>
                  </a:solidFill>
                  <a:latin typeface="Arial"/>
                  <a:ea typeface="黑体"/>
                </a:rPr>
                <a:t>2</a:t>
              </a:r>
              <a:r>
                <a:rPr b="1" lang="en-US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-y(2x+y)-8x]÷2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=(x</a:t>
              </a:r>
              <a:r>
                <a:rPr b="1" lang="en-US" sz="2800" spc="-1" strike="noStrike" baseline="30000">
                  <a:solidFill>
                    <a:srgbClr val="3333ff"/>
                  </a:solidFill>
                  <a:latin typeface="Arial"/>
                  <a:ea typeface="黑体"/>
                </a:rPr>
                <a:t>2</a:t>
              </a:r>
              <a:r>
                <a:rPr b="1" lang="en-US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+2xy+y</a:t>
              </a:r>
              <a:r>
                <a:rPr b="1" lang="en-US" sz="2800" spc="-1" strike="noStrike" baseline="30000">
                  <a:solidFill>
                    <a:srgbClr val="3333ff"/>
                  </a:solidFill>
                  <a:latin typeface="Arial"/>
                  <a:ea typeface="黑体"/>
                </a:rPr>
                <a:t>2</a:t>
              </a:r>
              <a:r>
                <a:rPr b="1" lang="en-US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-2xy-y</a:t>
              </a:r>
              <a:r>
                <a:rPr b="1" lang="en-US" sz="2800" spc="-1" strike="noStrike" baseline="30000">
                  <a:solidFill>
                    <a:srgbClr val="3333ff"/>
                  </a:solidFill>
                  <a:latin typeface="Arial"/>
                  <a:ea typeface="黑体"/>
                </a:rPr>
                <a:t>2</a:t>
              </a:r>
              <a:r>
                <a:rPr b="1" lang="en-US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-8x)÷2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=(x</a:t>
              </a:r>
              <a:r>
                <a:rPr b="1" lang="en-US" sz="2800" spc="-1" strike="noStrike" baseline="30000">
                  <a:solidFill>
                    <a:srgbClr val="3333ff"/>
                  </a:solidFill>
                  <a:latin typeface="Arial"/>
                  <a:ea typeface="黑体"/>
                </a:rPr>
                <a:t>2</a:t>
              </a:r>
              <a:r>
                <a:rPr b="1" lang="en-US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-8x)÷2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=      x-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91" name="Object 5" descr=""/>
            <p:cNvPicPr/>
            <p:nvPr/>
          </p:nvPicPr>
          <p:blipFill>
            <a:blip r:embed="rId2"/>
            <a:stretch/>
          </p:blipFill>
          <p:spPr>
            <a:xfrm>
              <a:off x="2028960" y="4024080"/>
              <a:ext cx="384120" cy="99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5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5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2" name="WordArt 4"/>
          <p:cNvSpPr txBox="1"/>
          <p:nvPr/>
        </p:nvSpPr>
        <p:spPr>
          <a:xfrm>
            <a:off x="228600" y="304920"/>
            <a:ext cx="25146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三、小结回顾</a:t>
            </a:r>
            <a:endParaRPr b="1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93" name="Text Box 19"/>
          <p:cNvSpPr/>
          <p:nvPr/>
        </p:nvSpPr>
        <p:spPr>
          <a:xfrm>
            <a:off x="60948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单项式除法的法则是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4" name="Text Box 21"/>
          <p:cNvSpPr/>
          <p:nvPr/>
        </p:nvSpPr>
        <p:spPr>
          <a:xfrm>
            <a:off x="457200" y="3429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多项式除以单项式的法则是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5" name="Text Box 23"/>
          <p:cNvSpPr/>
          <p:nvPr/>
        </p:nvSpPr>
        <p:spPr>
          <a:xfrm>
            <a:off x="304920" y="1981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单项式相除，把系数、同底数幂分别相除后作为商的因式；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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对于只在被除式里含有的字母，则连同它的指数一起作为商的一个因式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6" name="Text Box 24"/>
          <p:cNvSpPr/>
          <p:nvPr/>
        </p:nvSpPr>
        <p:spPr>
          <a:xfrm>
            <a:off x="609480" y="4343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多项式除以单项式：先把这个多项式的每一项除以这个单项式，再把所得的商相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5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5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5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5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bc5b9"/>
                </a:solidFill>
                <a:latin typeface="Footlight MT Light"/>
              </a:rPr>
              <a:t>使用规范说明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oudy Old Style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oudy Old Style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oudy Old Style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oudy Old Styl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oudy Old Style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oudy Old Styl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oudy Old Style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Goudy Old Style"/>
              </a:rPr>
              <a:t> </a:t>
            </a:r>
            <a:r>
              <a:rPr b="0" lang="zh-CN" sz="1400" spc="-1" strike="noStrike" u="sng">
                <a:solidFill>
                  <a:srgbClr val="d9be02"/>
                </a:solidFill>
                <a:uFillTx/>
                <a:latin typeface="Goudy Old Style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9be02"/>
                </a:solidFill>
                <a:uFillTx/>
                <a:latin typeface="Goudy Old Style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oudy Old Style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Goudy Old Style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Goudy Old Style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oudy Old Style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9F61-E36D-4C9F-94F2-742B0105BD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WordArt 4"/>
          <p:cNvSpPr txBox="1"/>
          <p:nvPr/>
        </p:nvSpPr>
        <p:spPr>
          <a:xfrm>
            <a:off x="228600" y="304920"/>
            <a:ext cx="25146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一、情景引入</a:t>
            </a:r>
            <a:endParaRPr b="1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46" name="Text Box 6"/>
          <p:cNvSpPr/>
          <p:nvPr/>
        </p:nvSpPr>
        <p:spPr>
          <a:xfrm>
            <a:off x="45720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问题：木星的质量约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．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90×1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吨．地球的质量约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5.08×1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吨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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你知道木星的质量约为地球质量的多少倍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7" name="Text Box 7"/>
          <p:cNvSpPr/>
          <p:nvPr/>
        </p:nvSpPr>
        <p:spPr>
          <a:xfrm>
            <a:off x="380880" y="32767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这是除法运算，木星的质量约为地球质量的（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1.90×10</a:t>
            </a:r>
            <a:r>
              <a:rPr b="1" lang="en-US" sz="2800" spc="-1" strike="noStrike" baseline="30000">
                <a:solidFill>
                  <a:srgbClr val="f53760"/>
                </a:solidFill>
                <a:latin typeface="Arial"/>
                <a:ea typeface="黑体"/>
              </a:rPr>
              <a:t>24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÷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5.98×10</a:t>
            </a:r>
            <a:r>
              <a:rPr b="1" lang="en-US" sz="2800" spc="-1" strike="noStrike" baseline="30000">
                <a:solidFill>
                  <a:srgbClr val="f53760"/>
                </a:solidFill>
                <a:latin typeface="Arial"/>
                <a:ea typeface="黑体"/>
              </a:rPr>
              <a:t>21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）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8" name="Text Box 17"/>
          <p:cNvSpPr/>
          <p:nvPr/>
        </p:nvSpPr>
        <p:spPr>
          <a:xfrm>
            <a:off x="228600" y="4648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.90×102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5.98×102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怎样计算呢 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5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9" name="WordArt 4"/>
          <p:cNvSpPr txBox="1"/>
          <p:nvPr/>
        </p:nvSpPr>
        <p:spPr>
          <a:xfrm>
            <a:off x="228600" y="304920"/>
            <a:ext cx="25146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二、探求新知</a:t>
            </a:r>
            <a:endParaRPr b="1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50" name="Text Box 5"/>
          <p:cNvSpPr/>
          <p:nvPr/>
        </p:nvSpPr>
        <p:spPr>
          <a:xfrm>
            <a:off x="152280" y="1066680"/>
            <a:ext cx="8534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讨论：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计算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1.90×1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5.98×1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．说说你计算的根据是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1" name="WordArt 7"/>
          <p:cNvSpPr txBox="1"/>
          <p:nvPr/>
        </p:nvSpPr>
        <p:spPr>
          <a:xfrm>
            <a:off x="3733920" y="419040"/>
            <a:ext cx="388620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探究一单项式除以单项式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52" name="Text Box 31"/>
          <p:cNvSpPr/>
          <p:nvPr/>
        </p:nvSpPr>
        <p:spPr>
          <a:xfrm>
            <a:off x="228600" y="1905120"/>
            <a:ext cx="86868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可以从两方面考虑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．从乘法与除法互为逆运算的角度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我们可以想象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5.98×10</a:t>
            </a:r>
            <a:r>
              <a:rPr b="1" lang="en-US" sz="2800" spc="-1" strike="noStrike" baseline="30000">
                <a:solidFill>
                  <a:srgbClr val="f53760"/>
                </a:solidFill>
                <a:latin typeface="Arial"/>
                <a:ea typeface="黑体"/>
              </a:rPr>
              <a:t>21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•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（  ）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=1.90×10</a:t>
            </a:r>
            <a:r>
              <a:rPr b="1" lang="en-US" sz="2800" spc="-1" strike="noStrike" baseline="30000">
                <a:solidFill>
                  <a:srgbClr val="f53760"/>
                </a:solidFill>
                <a:latin typeface="Arial"/>
                <a:ea typeface="黑体"/>
              </a:rPr>
              <a:t>24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．根据单项式与单项式相乘的运算法则，可以继续联想：所求单项式的系数乘以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5.98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等于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1.90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，所以所求单项式系数为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1.90÷5.98≈0.318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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所求单项式的幂值部分应包含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10</a:t>
            </a:r>
            <a:r>
              <a:rPr b="1" lang="en-US" sz="2800" spc="-1" strike="noStrike" baseline="30000">
                <a:solidFill>
                  <a:srgbClr val="f53760"/>
                </a:solidFill>
                <a:latin typeface="Arial"/>
                <a:ea typeface="黑体"/>
              </a:rPr>
              <a:t>24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÷10</a:t>
            </a:r>
            <a:r>
              <a:rPr b="1" lang="en-US" sz="2800" spc="-1" strike="noStrike" baseline="30000">
                <a:solidFill>
                  <a:srgbClr val="f53760"/>
                </a:solidFill>
                <a:latin typeface="Arial"/>
                <a:ea typeface="黑体"/>
              </a:rPr>
              <a:t>21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即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10</a:t>
            </a:r>
            <a:r>
              <a:rPr b="1" lang="en-US" sz="2800" spc="-1" strike="noStrike" baseline="30000">
                <a:solidFill>
                  <a:srgbClr val="f5376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，由此可知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(5.98×10</a:t>
            </a:r>
            <a:r>
              <a:rPr b="1" lang="en-US" sz="2800" spc="-1" strike="noStrike" baseline="30000">
                <a:solidFill>
                  <a:srgbClr val="f53760"/>
                </a:solidFill>
                <a:latin typeface="Arial"/>
                <a:ea typeface="黑体"/>
              </a:rPr>
              <a:t>21)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•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0.318×10</a:t>
            </a:r>
            <a:r>
              <a:rPr b="1" lang="en-US" sz="2800" spc="-1" strike="noStrike" baseline="30000">
                <a:solidFill>
                  <a:srgbClr val="f5376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=1.90×10</a:t>
            </a:r>
            <a:r>
              <a:rPr b="1" lang="en-US" sz="2800" spc="-1" strike="noStrike" baseline="30000">
                <a:solidFill>
                  <a:srgbClr val="f53760"/>
                </a:solidFill>
                <a:latin typeface="Arial"/>
                <a:ea typeface="黑体"/>
              </a:rPr>
              <a:t>24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．所以（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1.90×1024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÷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5.98×1021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=0.38×10</a:t>
            </a:r>
            <a:r>
              <a:rPr b="1" lang="en-US" sz="2800" spc="-1" strike="noStrike" baseline="30000">
                <a:solidFill>
                  <a:srgbClr val="f5376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3" name="WordArt 2"/>
          <p:cNvSpPr txBox="1"/>
          <p:nvPr/>
        </p:nvSpPr>
        <p:spPr>
          <a:xfrm>
            <a:off x="228600" y="304920"/>
            <a:ext cx="25146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二、探求新知</a:t>
            </a:r>
            <a:endParaRPr b="1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54" name="Text Box 3"/>
          <p:cNvSpPr/>
          <p:nvPr/>
        </p:nvSpPr>
        <p:spPr>
          <a:xfrm>
            <a:off x="152280" y="1066680"/>
            <a:ext cx="8534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讨论：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计算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1.90×1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5.98×1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．说说你计算的根据是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5" name="WordArt 4"/>
          <p:cNvSpPr txBox="1"/>
          <p:nvPr/>
        </p:nvSpPr>
        <p:spPr>
          <a:xfrm>
            <a:off x="3733920" y="419040"/>
            <a:ext cx="388620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探究一单项式除以单项式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956" name="Picture 10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685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WordArt 2"/>
          <p:cNvSpPr txBox="1"/>
          <p:nvPr/>
        </p:nvSpPr>
        <p:spPr>
          <a:xfrm>
            <a:off x="228600" y="304920"/>
            <a:ext cx="25146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二、探求新知</a:t>
            </a:r>
            <a:endParaRPr b="1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58" name="Text Box 3"/>
          <p:cNvSpPr/>
          <p:nvPr/>
        </p:nvSpPr>
        <p:spPr>
          <a:xfrm>
            <a:off x="152280" y="1066680"/>
            <a:ext cx="8382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你能利用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中的方法计算下列各式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8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÷2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；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5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y÷3xy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；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2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÷3a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WordArt 4"/>
          <p:cNvSpPr txBox="1"/>
          <p:nvPr/>
        </p:nvSpPr>
        <p:spPr>
          <a:xfrm>
            <a:off x="3733920" y="304920"/>
            <a:ext cx="38862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探究一单项式除以单项式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960" name="Picture 12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7238880" cy="3692520"/>
          </a:xfrm>
          <a:prstGeom prst="rect">
            <a:avLst/>
          </a:prstGeom>
          <a:ln w="0">
            <a:noFill/>
          </a:ln>
        </p:spPr>
      </p:pic>
      <p:sp>
        <p:nvSpPr>
          <p:cNvPr id="5961" name="Text Box 13"/>
          <p:cNvSpPr/>
          <p:nvPr/>
        </p:nvSpPr>
        <p:spPr>
          <a:xfrm>
            <a:off x="228600" y="6019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观察上述几个式子的运算，它们有那些共同特征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2" name="文本框 8199"/>
          <p:cNvSpPr/>
          <p:nvPr/>
        </p:nvSpPr>
        <p:spPr>
          <a:xfrm>
            <a:off x="1860480" y="6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9be02"/>
                </a:solidFill>
                <a:uFillTx/>
                <a:latin typeface="Goudy Old Style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d9be02"/>
                </a:solidFill>
                <a:uFillTx/>
                <a:latin typeface="Goudy Old Style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WordArt 2"/>
          <p:cNvSpPr txBox="1"/>
          <p:nvPr/>
        </p:nvSpPr>
        <p:spPr>
          <a:xfrm>
            <a:off x="228600" y="304920"/>
            <a:ext cx="25146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二、探求新知</a:t>
            </a:r>
            <a:endParaRPr b="1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64" name="WordArt 4"/>
          <p:cNvSpPr txBox="1"/>
          <p:nvPr/>
        </p:nvSpPr>
        <p:spPr>
          <a:xfrm>
            <a:off x="3733920" y="419040"/>
            <a:ext cx="388620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探究一单项式除以单项式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65" name="Text Box 7"/>
          <p:cNvSpPr/>
          <p:nvPr/>
        </p:nvSpPr>
        <p:spPr>
          <a:xfrm>
            <a:off x="228600" y="14684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你能用语言描述单项式与单项式相除的运算法则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6" name="Text Box 8"/>
          <p:cNvSpPr/>
          <p:nvPr/>
        </p:nvSpPr>
        <p:spPr>
          <a:xfrm>
            <a:off x="228600" y="2286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单项式相除，把系数、同底数幂分别相除后作为商的因式；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</a:t>
            </a: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对于只在被除式里含有的字母，则连同它的指数一起作为商的一个因式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5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7" name="Text Box 2"/>
          <p:cNvSpPr/>
          <p:nvPr/>
        </p:nvSpPr>
        <p:spPr>
          <a:xfrm>
            <a:off x="457200" y="53352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2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计算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(1)  28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÷7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;    (2) -5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5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c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÷ 15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8" name="Text Box 3"/>
          <p:cNvSpPr/>
          <p:nvPr/>
        </p:nvSpPr>
        <p:spPr>
          <a:xfrm>
            <a:off x="250920" y="2924280"/>
            <a:ext cx="3657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: (1) 28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÷7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= (28÷7)·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4-3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2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= 4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9" name="Text Box 4"/>
          <p:cNvSpPr/>
          <p:nvPr/>
        </p:nvSpPr>
        <p:spPr>
          <a:xfrm>
            <a:off x="4067280" y="2852640"/>
            <a:ext cx="4724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2) -5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5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÷  15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= [ (-5) ÷(15) ]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5-4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3-1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=     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b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0" name="Picture 5" descr="分数"/>
          <p:cNvPicPr/>
          <p:nvPr/>
        </p:nvPicPr>
        <p:blipFill>
          <a:blip r:embed="rId2"/>
          <a:stretch/>
        </p:blipFill>
        <p:spPr>
          <a:xfrm>
            <a:off x="4427640" y="4221000"/>
            <a:ext cx="549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WordArt 2"/>
          <p:cNvSpPr txBox="1"/>
          <p:nvPr/>
        </p:nvSpPr>
        <p:spPr>
          <a:xfrm>
            <a:off x="228600" y="304920"/>
            <a:ext cx="25146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二、探求新知</a:t>
            </a:r>
            <a:endParaRPr b="1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72" name="Text Box 3"/>
          <p:cNvSpPr/>
          <p:nvPr/>
        </p:nvSpPr>
        <p:spPr>
          <a:xfrm>
            <a:off x="380880" y="12193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计算下列各式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(1)(am+bm)÷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；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(2)(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+ab)÷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；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(3)(4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y+2x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)÷2xy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3" name="WordArt 4"/>
          <p:cNvSpPr txBox="1"/>
          <p:nvPr/>
        </p:nvSpPr>
        <p:spPr>
          <a:xfrm>
            <a:off x="3733920" y="304920"/>
            <a:ext cx="38862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探究二多项式除以单项式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74" name="Text Box 10"/>
          <p:cNvSpPr/>
          <p:nvPr/>
        </p:nvSpPr>
        <p:spPr>
          <a:xfrm>
            <a:off x="579600" y="2286000"/>
            <a:ext cx="856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解：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(1)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计算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(am+bm) ÷m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，就是要求一个多项式，使它与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m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的积是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am+b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5" name="Text Box 11"/>
          <p:cNvSpPr/>
          <p:nvPr/>
        </p:nvSpPr>
        <p:spPr>
          <a:xfrm>
            <a:off x="609480" y="3124080"/>
            <a:ext cx="73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∵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(a+b) m=am+bm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，∴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(am+bm)÷m=a+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6" name="Text Box 12"/>
          <p:cNvSpPr/>
          <p:nvPr/>
        </p:nvSpPr>
        <p:spPr>
          <a:xfrm>
            <a:off x="533520" y="3657600"/>
            <a:ext cx="50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又∵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am÷m +bm÷m =a+b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7" name="Text Box 13"/>
          <p:cNvSpPr/>
          <p:nvPr/>
        </p:nvSpPr>
        <p:spPr>
          <a:xfrm>
            <a:off x="685800" y="4114800"/>
            <a:ext cx="60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∴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黑体"/>
              </a:rPr>
              <a:t>(am+bm)÷m=am÷m +bm÷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8" name="Text Box 14"/>
          <p:cNvSpPr/>
          <p:nvPr/>
        </p:nvSpPr>
        <p:spPr>
          <a:xfrm>
            <a:off x="228600" y="464832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3760"/>
                </a:solidFill>
                <a:latin typeface="Arial"/>
                <a:ea typeface="黑体"/>
              </a:rPr>
              <a:t>同理</a:t>
            </a:r>
            <a:r>
              <a:rPr b="1" lang="en-US" sz="2800" spc="-1" strike="noStrike">
                <a:solidFill>
                  <a:srgbClr val="f53760"/>
                </a:solidFill>
                <a:latin typeface="Arial"/>
                <a:ea typeface="黑体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+ab)÷a=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÷a+ab÷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4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y+2xy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÷2xy=4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y÷2xy+2xy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÷2x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9" name="Text Box 15"/>
          <p:cNvSpPr/>
          <p:nvPr/>
        </p:nvSpPr>
        <p:spPr>
          <a:xfrm>
            <a:off x="457200" y="5715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你能总结出多项式除以单项式的运算法则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5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5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5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5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0" name="WordArt 2"/>
          <p:cNvSpPr txBox="1"/>
          <p:nvPr/>
        </p:nvSpPr>
        <p:spPr>
          <a:xfrm>
            <a:off x="228600" y="304920"/>
            <a:ext cx="25146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二、探求新知</a:t>
            </a:r>
            <a:endParaRPr b="1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81" name="WordArt 4"/>
          <p:cNvSpPr txBox="1"/>
          <p:nvPr/>
        </p:nvSpPr>
        <p:spPr>
          <a:xfrm>
            <a:off x="3733920" y="304920"/>
            <a:ext cx="38862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探究二多项式除以单项式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82" name="Text Box 10"/>
          <p:cNvSpPr/>
          <p:nvPr/>
        </p:nvSpPr>
        <p:spPr>
          <a:xfrm>
            <a:off x="1066680" y="21337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多项式除以单项式：先把这个多项式的每一项除以这个单项式，再把所得的商相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9:38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55:53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