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5C1-4167-4613-A3BB-4297BBAA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837-B209-464A-85AC-522F917D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5AC-1C8D-4179-8673-994D41C1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F37-2D03-4A16-AD03-EDBC8C48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C76-E5B2-425F-BFB4-6BD31CC8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208-F034-4009-8DFA-FC41F4E0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7C9-9575-4A88-BCC3-61B2775F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524-45D9-42E9-A9C4-B10ACA2B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E32-91AD-4F93-B82C-44C88890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E8A-BF2B-4729-A426-039B94A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DA2-1C33-4916-BDFA-1469626E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107-CDDC-48A8-82F9-F540194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1397-6776-4074-A36A-A2BDC7977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914400" y="838080"/>
            <a:ext cx="7134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植物妈妈有办法</a:t>
            </a:r>
            <a:endParaRPr b="1" lang="en-US" sz="80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470680" y="5589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8915400" cy="89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旅行            蒲公英              降落伞                娃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苍耳             纷纷                  山洼                  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蹦跳             炸开                  观察                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3124080" y="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E:\唐红梅\植物妈妈有办法\16.jpg"/>
          <p:cNvPicPr/>
          <p:nvPr/>
        </p:nvPicPr>
        <p:blipFill>
          <a:blip r:embed="rId2"/>
          <a:stretch/>
        </p:blipFill>
        <p:spPr>
          <a:xfrm>
            <a:off x="0" y="22860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E:\唐红梅\植物妈妈有办法\17.jpg"/>
          <p:cNvPicPr/>
          <p:nvPr/>
        </p:nvPicPr>
        <p:blipFill>
          <a:blip r:embed="rId3"/>
          <a:stretch/>
        </p:blipFill>
        <p:spPr>
          <a:xfrm>
            <a:off x="5638680" y="4114800"/>
            <a:ext cx="2503440" cy="3189240"/>
          </a:xfrm>
          <a:prstGeom prst="rect">
            <a:avLst/>
          </a:prstGeom>
          <a:ln w="0">
            <a:noFill/>
          </a:ln>
        </p:spPr>
      </p:pic>
      <p:pic>
        <p:nvPicPr>
          <p:cNvPr id="61" name="qiurisiyu.mp3" descr=""/>
          <p:cNvPicPr/>
          <p:nvPr/>
        </p:nvPicPr>
        <p:blipFill>
          <a:blip r:embed="rId4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343400" y="1523880"/>
            <a:ext cx="350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如  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娃  纷好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田字格"/>
          <p:cNvPicPr/>
          <p:nvPr/>
        </p:nvPicPr>
        <p:blipFill>
          <a:blip r:embed="rId1"/>
          <a:stretch/>
        </p:blipFill>
        <p:spPr>
          <a:xfrm>
            <a:off x="228600" y="228600"/>
            <a:ext cx="380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60A5-9F4B-4564-B6B8-39F74326E7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唐红梅\植物妈妈有办法\6.jpg"/>
          <p:cNvPicPr/>
          <p:nvPr/>
        </p:nvPicPr>
        <p:blipFill>
          <a:blip r:embed="rId1"/>
          <a:stretch/>
        </p:blipFill>
        <p:spPr>
          <a:xfrm>
            <a:off x="380880" y="2895480"/>
            <a:ext cx="4953240" cy="370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E:\唐红梅\植物妈妈有办法\4.bmp"/>
          <p:cNvPicPr/>
          <p:nvPr/>
        </p:nvPicPr>
        <p:blipFill>
          <a:blip r:embed="rId2"/>
          <a:stretch/>
        </p:blipFill>
        <p:spPr>
          <a:xfrm>
            <a:off x="3886200" y="228600"/>
            <a:ext cx="50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E:\唐红梅\植物妈妈有办法\2.bmp"/>
          <p:cNvPicPr/>
          <p:nvPr/>
        </p:nvPicPr>
        <p:blipFill>
          <a:blip r:embed="rId1"/>
          <a:stretch/>
        </p:blipFill>
        <p:spPr>
          <a:xfrm>
            <a:off x="304920" y="457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E:\唐红梅\植物妈妈有办法\8.jpg"/>
          <p:cNvPicPr/>
          <p:nvPr/>
        </p:nvPicPr>
        <p:blipFill>
          <a:blip r:embed="rId2"/>
          <a:stretch/>
        </p:blipFill>
        <p:spPr>
          <a:xfrm>
            <a:off x="4648320" y="3390840"/>
            <a:ext cx="4152960" cy="311472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1112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唐红梅\植物妈妈有办法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唐红梅\植物妈妈有办法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914400" y="838080"/>
            <a:ext cx="7134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植物妈妈有办法</a:t>
            </a:r>
            <a:endParaRPr b="1" lang="en-US" sz="80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7" descr="E:\唐红梅\植物妈妈有办法\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唐红梅\植物妈妈有办法\19.jpg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0:25:10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1:06Z</dcterms:modified>
  <cp:revision>2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