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1.gif" ContentType="image/gif"/>
  <Override PartName="/ppt/media/image27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E565-1509-487F-AA2A-A8DFF6CB2E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A543-C50C-4216-B79F-35A1720909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280-25FF-4C4D-827B-517E1C80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3F8-E2E6-45FE-8584-5C05C64C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9D7-E13C-43A4-9FE6-FCD47A37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B202-5868-4F03-BA28-6046E718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2E9A-E7F9-4C7F-AE5F-3B6ECBEB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CF2-2AD9-4E3A-A213-CBC1307D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C646-404B-498F-9837-383E11B3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E51-190E-4C3F-B759-879CF4B8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8DE-EAD8-4B41-AA46-FE4FAEB5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0428-AC2D-40FD-B2EC-527EACF0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1C0-6775-41FE-AEA9-65FC9927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B00-012B-45BD-8F06-C0DBD1E1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A8B0-DC17-4A18-B223-A789C86E9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baike.baidu.com/view/261966.htm" TargetMode="External"/><Relationship Id="rId2" Type="http://schemas.openxmlformats.org/officeDocument/2006/relationships/hyperlink" Target="http://baike.baidu.com/view/3442263.htm" TargetMode="External"/><Relationship Id="rId3" Type="http://schemas.openxmlformats.org/officeDocument/2006/relationships/hyperlink" Target="http://baike.baidu.com/view/113528.htm" TargetMode="External"/><Relationship Id="rId4" Type="http://schemas.openxmlformats.org/officeDocument/2006/relationships/hyperlink" Target="http://baike.baidu.com/view/67811.htm" TargetMode="External"/><Relationship Id="rId5" Type="http://schemas.openxmlformats.org/officeDocument/2006/relationships/hyperlink" Target="http://baike.baidu.com/view/189818.htm" TargetMode="External"/><Relationship Id="rId6" Type="http://schemas.openxmlformats.org/officeDocument/2006/relationships/hyperlink" Target="http://baike.baidu.com/view/4656.htm" TargetMode="External"/><Relationship Id="rId7" Type="http://schemas.openxmlformats.org/officeDocument/2006/relationships/hyperlink" Target="http://baike.baidu.com/view/764826.htm" TargetMode="External"/><Relationship Id="rId8" Type="http://schemas.openxmlformats.org/officeDocument/2006/relationships/hyperlink" Target="http://baike.baidu.com/view/764825.htm" TargetMode="External"/><Relationship Id="rId9" Type="http://schemas.openxmlformats.org/officeDocument/2006/relationships/hyperlink" Target="http://baike.baidu.com/view/159898.htm" TargetMode="External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1420920" y="119700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造一艘小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1517760" y="2603520"/>
            <a:ext cx="6095880" cy="313704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2208600" y="5877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帆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利用风力前进的船。帆船起源于欧洲，其历史可追溯到远古时代。帆船是人类向大自然作斗争的一个见证，帆船历史与人类文明史一样悠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郑和下西洋的宝船七次下西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哥伦布发现新大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达珈马环游地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qidianchu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7001640" y="2286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气垫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气垫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垫船又叫“腾空船”，是一种利用空气的支撑力升离水面的船。这种船一出现立即受到全世界造船界的关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908000" y="3141720"/>
            <a:ext cx="47530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showim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6439320" y="2286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远洋货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远洋货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载运货物为主的。其大部分舱位用于堆贮货物的货舱。货船的船型很多，大小悬殊，排水量可从数百吨至数十万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3132441_104734064_2"/>
          <p:cNvPicPr/>
          <p:nvPr/>
        </p:nvPicPr>
        <p:blipFill>
          <a:blip r:embed="rId1"/>
          <a:srcRect l="0" t="0" r="0" b="40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6439320" y="2286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现代客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showimg"/>
          <p:cNvPicPr/>
          <p:nvPr/>
        </p:nvPicPr>
        <p:blipFill>
          <a:blip r:embed="rId1"/>
          <a:srcRect l="0" t="0" r="0" b="33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4648320" y="380880"/>
            <a:ext cx="3124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航空母舰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航空母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航空母舰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craft Carri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简称“航母”、“空母”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前苏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称之为“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载机巡洋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，是一种可以提供军用飞机起飞和降落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军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航空母舰是一种以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舰载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主要作战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武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大型水面舰艇。现代航空母舰及舰载机已成为高技术密集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军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工程。航空母舰一般总是一支航空母舰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舰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核心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舰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有时还作为航母舰队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旗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舰队中的其它船只为它提供保护和供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13744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280" y="1628280"/>
            <a:ext cx="69850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知道还有哪些有特色的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xin_55204052116158121280020"/>
          <p:cNvPicPr/>
          <p:nvPr/>
        </p:nvPicPr>
        <p:blipFill>
          <a:blip r:embed="rId1"/>
          <a:srcRect l="0" t="0" r="-986" b="0"/>
          <a:stretch/>
        </p:blipFill>
        <p:spPr>
          <a:xfrm>
            <a:off x="0" y="0"/>
            <a:ext cx="3059280" cy="2295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U1421P52T4D141368F139DT20070607110503"/>
          <p:cNvPicPr/>
          <p:nvPr/>
        </p:nvPicPr>
        <p:blipFill>
          <a:blip r:embed="rId2"/>
          <a:stretch/>
        </p:blipFill>
        <p:spPr>
          <a:xfrm>
            <a:off x="2987640" y="0"/>
            <a:ext cx="3168720" cy="2324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_s31_33_75005_482_141_20070227121025"/>
          <p:cNvPicPr/>
          <p:nvPr/>
        </p:nvPicPr>
        <p:blipFill>
          <a:blip r:embed="rId3"/>
          <a:stretch/>
        </p:blipFill>
        <p:spPr>
          <a:xfrm>
            <a:off x="6156360" y="0"/>
            <a:ext cx="2987640" cy="223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20061012110541712"/>
          <p:cNvPicPr/>
          <p:nvPr/>
        </p:nvPicPr>
        <p:blipFill>
          <a:blip r:embed="rId4"/>
          <a:stretch/>
        </p:blipFill>
        <p:spPr>
          <a:xfrm>
            <a:off x="0" y="227664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qidianchuan"/>
          <p:cNvPicPr/>
          <p:nvPr/>
        </p:nvPicPr>
        <p:blipFill>
          <a:blip r:embed="rId5"/>
          <a:stretch/>
        </p:blipFill>
        <p:spPr>
          <a:xfrm>
            <a:off x="5796000" y="2205000"/>
            <a:ext cx="3348000" cy="251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showimg"/>
          <p:cNvPicPr/>
          <p:nvPr/>
        </p:nvPicPr>
        <p:blipFill>
          <a:blip r:embed="rId6"/>
          <a:stretch/>
        </p:blipFill>
        <p:spPr>
          <a:xfrm>
            <a:off x="0" y="4508640"/>
            <a:ext cx="3132000" cy="234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3132441_104734064_2"/>
          <p:cNvPicPr/>
          <p:nvPr/>
        </p:nvPicPr>
        <p:blipFill>
          <a:blip r:embed="rId7"/>
          <a:stretch/>
        </p:blipFill>
        <p:spPr>
          <a:xfrm>
            <a:off x="3059280" y="4508640"/>
            <a:ext cx="3168360" cy="234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showimg"/>
          <p:cNvPicPr/>
          <p:nvPr/>
        </p:nvPicPr>
        <p:blipFill>
          <a:blip r:embed="rId8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2269440" y="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木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5076720" y="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独木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8390880" y="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明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2413800" y="22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帆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8105760" y="2205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气垫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1765440" y="458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远洋货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4716720" y="458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现代客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7"/>
          <p:cNvSpPr txBox="1"/>
          <p:nvPr/>
        </p:nvSpPr>
        <p:spPr>
          <a:xfrm>
            <a:off x="7780320" y="4508640"/>
            <a:ext cx="1363680" cy="39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航空母舰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7" name="Picture 18" descr="shenghuoyongpinsan2_0552"/>
          <p:cNvPicPr/>
          <p:nvPr/>
        </p:nvPicPr>
        <p:blipFill>
          <a:blip r:embed="rId9"/>
          <a:stretch/>
        </p:blipFill>
        <p:spPr>
          <a:xfrm>
            <a:off x="3348000" y="2924280"/>
            <a:ext cx="2160720" cy="14954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9"/>
          <p:cNvSpPr/>
          <p:nvPr/>
        </p:nvSpPr>
        <p:spPr>
          <a:xfrm>
            <a:off x="3276720" y="2349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船的发展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044720" y="7812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58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船是人类的伟大发明。自从有了船，人们可以自由方便地在水面上行驶，也可以把很多的货物运送到远方。今天让我们来造一艘小船。我们来进行一场别开生面的造船比赛，看谁造的船的载重量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85800" y="4343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老师和同学们一起来造一艘小船，那么船应该怎么造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1042920" y="119700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用橡皮泥制作小船比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900000" y="206064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理：相同重量的橡皮泥，浸入水中的越大越容易浮，它的装载量也随之增大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258920" y="3141720"/>
            <a:ext cx="409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赛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同体积的同种品牌橡皮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准有其他的添加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谁制造的小船装载量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间限制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钟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"/>
          <p:cNvSpPr/>
          <p:nvPr/>
        </p:nvSpPr>
        <p:spPr>
          <a:xfrm>
            <a:off x="1160640" y="5584680"/>
            <a:ext cx="55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4365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24183920084"/>
          <p:cNvPicPr/>
          <p:nvPr/>
        </p:nvPicPr>
        <p:blipFill>
          <a:blip r:embed="rId2"/>
          <a:stretch/>
        </p:blipFill>
        <p:spPr>
          <a:xfrm>
            <a:off x="0" y="4365720"/>
            <a:ext cx="4572000" cy="2492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24208885354"/>
          <p:cNvPicPr/>
          <p:nvPr/>
        </p:nvPicPr>
        <p:blipFill>
          <a:blip r:embed="rId3"/>
          <a:stretch/>
        </p:blipFill>
        <p:spPr>
          <a:xfrm>
            <a:off x="4572000" y="4365720"/>
            <a:ext cx="4572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4067280" y="1700280"/>
            <a:ext cx="5076720" cy="2692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2412720" y="404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我的造船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187280" y="1052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一、准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072520" y="1628640"/>
            <a:ext cx="9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决定造一艘什么船；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准备需要的材料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750320" y="2492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二、制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361520" y="2924280"/>
            <a:ext cx="248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出船的设想草图；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手制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187280" y="371628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三、改进和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755640" y="429264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到水里试试，找出需要改进的地方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演示、介绍我的小船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我的小船有哪些特点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的小船还有哪些需要改进的地方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流：我的或同学的小船还有哪些需要改进的地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5867280" y="1413000"/>
            <a:ext cx="31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浸入水中的体积越大，越容易浮，装载量增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 flipV="1">
            <a:off x="5435640" y="3499920"/>
            <a:ext cx="914400" cy="2133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2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30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"/>
          <p:cNvPicPr/>
          <p:nvPr/>
        </p:nvPicPr>
        <p:blipFill>
          <a:blip r:embed="rId3"/>
          <a:stretch/>
        </p:blipFill>
        <p:spPr>
          <a:xfrm>
            <a:off x="4427640" y="2060640"/>
            <a:ext cx="3024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CB7E-E754-4F39-8225-98381BA91B2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xin_55204052116158121280020"/>
          <p:cNvPicPr/>
          <p:nvPr/>
        </p:nvPicPr>
        <p:blipFill>
          <a:blip r:embed="rId1"/>
          <a:srcRect l="0" t="0" r="-99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5658840" y="9795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木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908000" y="170028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木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971640" y="3068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木筏，即用长木材捆扎成的木排，是一种简易的水上交通工具。材质多为高大乔木的枝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U1421P52T4D141368F139DT200706071105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5782320" y="97956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独木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908000" y="191628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独木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971640" y="2997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独木舟，又称独木船，是用一根木头制成的船，是船舶的“先祖”，是最早的船舶，在世界各地都曾出现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_s31_33_75005_482_141_20070227121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5658840" y="9795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明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明轮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000" y="134136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明轮，又称明轮推进器，是船舶的一种推进工具，利用明轮转动，叶片拨水来推进船舶。明轮推进器比桨、橹等推进工具前进一步，但是，它结构笨重、效率低，特别是遇到风浪中，所以，明轮推进器后来被螺旋桨所代替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751280" y="1557360"/>
            <a:ext cx="43927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00610121105417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5658840" y="9795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帆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5:56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1:36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