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CEF-B5D8-4293-A818-DCCC49BCE3B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B19-1537-4352-BDAF-9C2C73CC81D6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1593360" y="1960560"/>
            <a:ext cx="354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-93240" y="552924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9"/>
          <p:cNvSpPr/>
          <p:nvPr/>
        </p:nvSpPr>
        <p:spPr>
          <a:xfrm>
            <a:off x="1116000" y="2781360"/>
            <a:ext cx="7005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4732200" y="2787480"/>
            <a:ext cx="77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270160" y="3886200"/>
            <a:ext cx="57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7209000" y="2787480"/>
            <a:ext cx="814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4732200" y="3870360"/>
            <a:ext cx="8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71600" y="2790720"/>
            <a:ext cx="744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7207200" y="3879720"/>
            <a:ext cx="851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说口诀算得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9"/>
          <p:cNvSpPr/>
          <p:nvPr/>
        </p:nvSpPr>
        <p:spPr>
          <a:xfrm>
            <a:off x="1187280" y="2708280"/>
            <a:ext cx="748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           5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           5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92040" y="1619280"/>
            <a:ext cx="5692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根据口诀，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913360" y="300816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925960" y="3906720"/>
            <a:ext cx="52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549440" y="3927600"/>
            <a:ext cx="689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2265480" y="2997360"/>
            <a:ext cx="512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286240" y="4830840"/>
            <a:ext cx="61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665360" y="484020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30"/>
          <p:cNvSpPr/>
          <p:nvPr/>
        </p:nvSpPr>
        <p:spPr>
          <a:xfrm>
            <a:off x="6543720" y="33908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070640" y="1619280"/>
            <a:ext cx="209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3141720"/>
            <a:ext cx="43344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0" name="Group 22"/>
          <p:cNvGrpSpPr/>
          <p:nvPr/>
        </p:nvGrpSpPr>
        <p:grpSpPr>
          <a:xfrm>
            <a:off x="1258920" y="3933720"/>
            <a:ext cx="1942560" cy="936720"/>
            <a:chOff x="1258920" y="3933720"/>
            <a:chExt cx="1942560" cy="936720"/>
          </a:xfrm>
        </p:grpSpPr>
        <p:grpSp>
          <p:nvGrpSpPr>
            <p:cNvPr id="111" name="Group 15"/>
            <p:cNvGrpSpPr/>
            <p:nvPr/>
          </p:nvGrpSpPr>
          <p:grpSpPr>
            <a:xfrm>
              <a:off x="1258920" y="3933720"/>
              <a:ext cx="647280" cy="936720"/>
              <a:chOff x="1258920" y="3933720"/>
              <a:chExt cx="647280" cy="936720"/>
            </a:xfrm>
          </p:grpSpPr>
          <p:pic>
            <p:nvPicPr>
              <p:cNvPr id="112" name="Picture 13" descr="201101220907121336"/>
              <p:cNvPicPr/>
              <p:nvPr/>
            </p:nvPicPr>
            <p:blipFill>
              <a:blip r:embed="rId1"/>
              <a:srcRect l="34212" t="7668" r="1746" b="0"/>
              <a:stretch/>
            </p:blipFill>
            <p:spPr>
              <a:xfrm>
                <a:off x="125892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Rectangle 14"/>
              <p:cNvSpPr/>
              <p:nvPr/>
            </p:nvSpPr>
            <p:spPr>
              <a:xfrm>
                <a:off x="125892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4" name="Group 16"/>
            <p:cNvGrpSpPr/>
            <p:nvPr/>
          </p:nvGrpSpPr>
          <p:grpSpPr>
            <a:xfrm>
              <a:off x="1906200" y="3933720"/>
              <a:ext cx="647280" cy="936720"/>
              <a:chOff x="1906200" y="3933720"/>
              <a:chExt cx="647280" cy="936720"/>
            </a:xfrm>
          </p:grpSpPr>
          <p:pic>
            <p:nvPicPr>
              <p:cNvPr id="115" name="Picture 17" descr="201101220907121336"/>
              <p:cNvPicPr/>
              <p:nvPr/>
            </p:nvPicPr>
            <p:blipFill>
              <a:blip r:embed="rId2"/>
              <a:srcRect l="34212" t="7668" r="1746" b="0"/>
              <a:stretch/>
            </p:blipFill>
            <p:spPr>
              <a:xfrm>
                <a:off x="190620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Rectangle 18"/>
              <p:cNvSpPr/>
              <p:nvPr/>
            </p:nvSpPr>
            <p:spPr>
              <a:xfrm>
                <a:off x="190620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7" name="Group 19"/>
            <p:cNvGrpSpPr/>
            <p:nvPr/>
          </p:nvGrpSpPr>
          <p:grpSpPr>
            <a:xfrm>
              <a:off x="2553840" y="3933720"/>
              <a:ext cx="647640" cy="936720"/>
              <a:chOff x="2553840" y="3933720"/>
              <a:chExt cx="647640" cy="936720"/>
            </a:xfrm>
          </p:grpSpPr>
          <p:pic>
            <p:nvPicPr>
              <p:cNvPr id="118" name="Picture 20" descr="201101220907121336"/>
              <p:cNvPicPr/>
              <p:nvPr/>
            </p:nvPicPr>
            <p:blipFill>
              <a:blip r:embed="rId3"/>
              <a:srcRect l="34212" t="7668" r="1746" b="0"/>
              <a:stretch/>
            </p:blipFill>
            <p:spPr>
              <a:xfrm>
                <a:off x="2553840" y="393372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Rectangle 21"/>
              <p:cNvSpPr/>
              <p:nvPr/>
            </p:nvSpPr>
            <p:spPr>
              <a:xfrm>
                <a:off x="255384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0" name="Group 23"/>
          <p:cNvGrpSpPr/>
          <p:nvPr/>
        </p:nvGrpSpPr>
        <p:grpSpPr>
          <a:xfrm>
            <a:off x="1428840" y="5003640"/>
            <a:ext cx="1942560" cy="936720"/>
            <a:chOff x="1428840" y="5003640"/>
            <a:chExt cx="1942560" cy="936720"/>
          </a:xfrm>
        </p:grpSpPr>
        <p:grpSp>
          <p:nvGrpSpPr>
            <p:cNvPr id="121" name="Group 24"/>
            <p:cNvGrpSpPr/>
            <p:nvPr/>
          </p:nvGrpSpPr>
          <p:grpSpPr>
            <a:xfrm>
              <a:off x="1428840" y="5003640"/>
              <a:ext cx="647280" cy="936720"/>
              <a:chOff x="1428840" y="5003640"/>
              <a:chExt cx="647280" cy="936720"/>
            </a:xfrm>
          </p:grpSpPr>
          <p:pic>
            <p:nvPicPr>
              <p:cNvPr id="122" name="Picture 25" descr="201101220907121336"/>
              <p:cNvPicPr/>
              <p:nvPr/>
            </p:nvPicPr>
            <p:blipFill>
              <a:blip r:embed="rId4"/>
              <a:srcRect l="34212" t="7668" r="1746" b="0"/>
              <a:stretch/>
            </p:blipFill>
            <p:spPr>
              <a:xfrm>
                <a:off x="142884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Rectangle 26"/>
              <p:cNvSpPr/>
              <p:nvPr/>
            </p:nvSpPr>
            <p:spPr>
              <a:xfrm>
                <a:off x="142884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4" name="Group 27"/>
            <p:cNvGrpSpPr/>
            <p:nvPr/>
          </p:nvGrpSpPr>
          <p:grpSpPr>
            <a:xfrm>
              <a:off x="2076120" y="5003640"/>
              <a:ext cx="647280" cy="936720"/>
              <a:chOff x="2076120" y="5003640"/>
              <a:chExt cx="647280" cy="936720"/>
            </a:xfrm>
          </p:grpSpPr>
          <p:pic>
            <p:nvPicPr>
              <p:cNvPr id="125" name="Picture 28" descr="201101220907121336"/>
              <p:cNvPicPr/>
              <p:nvPr/>
            </p:nvPicPr>
            <p:blipFill>
              <a:blip r:embed="rId5"/>
              <a:srcRect l="34212" t="7668" r="1746" b="0"/>
              <a:stretch/>
            </p:blipFill>
            <p:spPr>
              <a:xfrm>
                <a:off x="207612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Rectangle 29"/>
              <p:cNvSpPr/>
              <p:nvPr/>
            </p:nvSpPr>
            <p:spPr>
              <a:xfrm>
                <a:off x="207612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7" name="Group 30"/>
            <p:cNvGrpSpPr/>
            <p:nvPr/>
          </p:nvGrpSpPr>
          <p:grpSpPr>
            <a:xfrm>
              <a:off x="2723760" y="5003640"/>
              <a:ext cx="647640" cy="936720"/>
              <a:chOff x="2723760" y="5003640"/>
              <a:chExt cx="647640" cy="936720"/>
            </a:xfrm>
          </p:grpSpPr>
          <p:pic>
            <p:nvPicPr>
              <p:cNvPr id="128" name="Picture 31" descr="201101220907121336"/>
              <p:cNvPicPr/>
              <p:nvPr/>
            </p:nvPicPr>
            <p:blipFill>
              <a:blip r:embed="rId6"/>
              <a:srcRect l="34212" t="7668" r="1746" b="0"/>
              <a:stretch/>
            </p:blipFill>
            <p:spPr>
              <a:xfrm>
                <a:off x="2723760" y="500364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Rectangle 32"/>
              <p:cNvSpPr/>
              <p:nvPr/>
            </p:nvSpPr>
            <p:spPr>
              <a:xfrm>
                <a:off x="272376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30" name="Group 33"/>
          <p:cNvGrpSpPr/>
          <p:nvPr/>
        </p:nvGrpSpPr>
        <p:grpSpPr>
          <a:xfrm>
            <a:off x="2627280" y="1700280"/>
            <a:ext cx="5327280" cy="2571480"/>
            <a:chOff x="2627280" y="1700280"/>
            <a:chExt cx="5327280" cy="2571480"/>
          </a:xfrm>
        </p:grpSpPr>
        <p:pic>
          <p:nvPicPr>
            <p:cNvPr id="131" name="Picture 31" descr="20"/>
            <p:cNvPicPr/>
            <p:nvPr/>
          </p:nvPicPr>
          <p:blipFill>
            <a:blip r:embed="rId7"/>
            <a:stretch/>
          </p:blipFill>
          <p:spPr>
            <a:xfrm>
              <a:off x="5794200" y="1700280"/>
              <a:ext cx="21603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32"/>
            <p:cNvSpPr/>
            <p:nvPr/>
          </p:nvSpPr>
          <p:spPr>
            <a:xfrm>
              <a:off x="2627280" y="2492280"/>
              <a:ext cx="3600360" cy="496440"/>
            </a:xfrm>
            <a:prstGeom prst="wedgeRoundRectCallout">
              <a:avLst>
                <a:gd name="adj1" fmla="val 57268"/>
                <a:gd name="adj2" fmla="val 41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算算杯子和灯各有多少个？ 试着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口诀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33" name="Picture 34" descr="24"/>
          <p:cNvPicPr/>
          <p:nvPr/>
        </p:nvPicPr>
        <p:blipFill>
          <a:blip r:embed="rId8"/>
          <a:stretch/>
        </p:blipFill>
        <p:spPr>
          <a:xfrm>
            <a:off x="4427640" y="3933720"/>
            <a:ext cx="3600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8360" y="1619280"/>
            <a:ext cx="2403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4932360" y="1268280"/>
            <a:ext cx="4105440" cy="3364200"/>
            <a:chOff x="4932360" y="1268280"/>
            <a:chExt cx="4105440" cy="3364200"/>
          </a:xfrm>
        </p:grpSpPr>
        <p:pic>
          <p:nvPicPr>
            <p:cNvPr id="137" name="Picture 13" descr="20"/>
            <p:cNvPicPr/>
            <p:nvPr/>
          </p:nvPicPr>
          <p:blipFill>
            <a:blip r:embed="rId1"/>
            <a:stretch/>
          </p:blipFill>
          <p:spPr>
            <a:xfrm>
              <a:off x="6877080" y="206064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14"/>
            <p:cNvSpPr/>
            <p:nvPr/>
          </p:nvSpPr>
          <p:spPr>
            <a:xfrm>
              <a:off x="4932360" y="1268280"/>
              <a:ext cx="3600360" cy="496440"/>
            </a:xfrm>
            <a:prstGeom prst="wedgeRoundRectCallout">
              <a:avLst>
                <a:gd name="adj1" fmla="val 29750"/>
                <a:gd name="adj2" fmla="val 162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请你照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口诀，自己举例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口诀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39" name="Picture 15" descr="54-1"/>
          <p:cNvPicPr/>
          <p:nvPr/>
        </p:nvPicPr>
        <p:blipFill>
          <a:blip r:embed="rId2"/>
          <a:stretch/>
        </p:blipFill>
        <p:spPr>
          <a:xfrm>
            <a:off x="1185840" y="4957920"/>
            <a:ext cx="5403960" cy="1492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54-2"/>
          <p:cNvPicPr/>
          <p:nvPr/>
        </p:nvPicPr>
        <p:blipFill>
          <a:blip r:embed="rId3"/>
          <a:stretch/>
        </p:blipFill>
        <p:spPr>
          <a:xfrm>
            <a:off x="1163520" y="3716280"/>
            <a:ext cx="5446800" cy="10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54-3"/>
          <p:cNvPicPr/>
          <p:nvPr/>
        </p:nvPicPr>
        <p:blipFill>
          <a:blip r:embed="rId4"/>
          <a:stretch/>
        </p:blipFill>
        <p:spPr>
          <a:xfrm>
            <a:off x="2432160" y="2349360"/>
            <a:ext cx="29876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1"/>
          <p:cNvSpPr/>
          <p:nvPr/>
        </p:nvSpPr>
        <p:spPr>
          <a:xfrm>
            <a:off x="5219640" y="2637000"/>
            <a:ext cx="3279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）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581120" y="2637000"/>
            <a:ext cx="374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）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92040" y="161928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计算并写出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645240" y="2637000"/>
            <a:ext cx="89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170320" y="3213000"/>
            <a:ext cx="3603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口诀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二二得四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494000" y="3214800"/>
            <a:ext cx="3346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口诀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二三得六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070080" y="2637000"/>
            <a:ext cx="79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579680" y="4508640"/>
            <a:ext cx="338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）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218200" y="4537080"/>
            <a:ext cx="295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  ）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3051000" y="4494240"/>
            <a:ext cx="79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1492200" y="5084640"/>
            <a:ext cx="33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口诀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四五二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724800" y="4533840"/>
            <a:ext cx="76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5170320" y="5084640"/>
            <a:ext cx="3251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口诀：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三三得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9" descr="54-4"/>
          <p:cNvPicPr/>
          <p:nvPr/>
        </p:nvPicPr>
        <p:blipFill>
          <a:blip r:embed="rId1"/>
          <a:stretch/>
        </p:blipFill>
        <p:spPr>
          <a:xfrm>
            <a:off x="1258920" y="2316240"/>
            <a:ext cx="2924280" cy="1361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看图直接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355760" y="3789360"/>
            <a:ext cx="19191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二三得六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5003640" y="3789360"/>
            <a:ext cx="18957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三三得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1352520" y="5734080"/>
            <a:ext cx="192564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二二得四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002200" y="5732640"/>
            <a:ext cx="191448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三五十五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3" name="Group 44"/>
          <p:cNvGrpSpPr/>
          <p:nvPr/>
        </p:nvGrpSpPr>
        <p:grpSpPr>
          <a:xfrm>
            <a:off x="4122720" y="1604880"/>
            <a:ext cx="4336560" cy="2400480"/>
            <a:chOff x="4122720" y="1604880"/>
            <a:chExt cx="4336560" cy="2400480"/>
          </a:xfrm>
        </p:grpSpPr>
        <p:pic>
          <p:nvPicPr>
            <p:cNvPr id="164" name="Picture 41" descr="{A700E4EA-2651-4D2A-8896-D0E52C8D9FDC}"/>
            <p:cNvPicPr/>
            <p:nvPr/>
          </p:nvPicPr>
          <p:blipFill>
            <a:blip r:embed="rId2"/>
            <a:stretch/>
          </p:blipFill>
          <p:spPr>
            <a:xfrm>
              <a:off x="4122720" y="1604880"/>
              <a:ext cx="238428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2" descr="{A700E4EA-2651-4D2A-8896-D0E52C8D9FDC}"/>
            <p:cNvPicPr/>
            <p:nvPr/>
          </p:nvPicPr>
          <p:blipFill>
            <a:blip r:embed="rId3"/>
            <a:stretch/>
          </p:blipFill>
          <p:spPr>
            <a:xfrm>
              <a:off x="5097240" y="1612800"/>
              <a:ext cx="238392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3" descr="{A700E4EA-2651-4D2A-8896-D0E52C8D9FDC}"/>
            <p:cNvPicPr/>
            <p:nvPr/>
          </p:nvPicPr>
          <p:blipFill>
            <a:blip r:embed="rId4"/>
            <a:stretch/>
          </p:blipFill>
          <p:spPr>
            <a:xfrm>
              <a:off x="6075000" y="1621080"/>
              <a:ext cx="2384280" cy="23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47"/>
          <p:cNvGrpSpPr/>
          <p:nvPr/>
        </p:nvGrpSpPr>
        <p:grpSpPr>
          <a:xfrm>
            <a:off x="1042920" y="4065480"/>
            <a:ext cx="3052800" cy="1884600"/>
            <a:chOff x="1042920" y="4065480"/>
            <a:chExt cx="3052800" cy="1884600"/>
          </a:xfrm>
        </p:grpSpPr>
        <p:pic>
          <p:nvPicPr>
            <p:cNvPr id="168" name="Picture 45" descr="{A1FC7C75-1771-4C71-B180-1E9DA2597B2F}"/>
            <p:cNvPicPr/>
            <p:nvPr/>
          </p:nvPicPr>
          <p:blipFill>
            <a:blip r:embed="rId5"/>
            <a:stretch/>
          </p:blipFill>
          <p:spPr>
            <a:xfrm>
              <a:off x="1042920" y="4065480"/>
              <a:ext cx="187344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46" descr="{A1FC7C75-1771-4C71-B180-1E9DA2597B2F}"/>
            <p:cNvPicPr/>
            <p:nvPr/>
          </p:nvPicPr>
          <p:blipFill>
            <a:blip r:embed="rId6"/>
            <a:stretch/>
          </p:blipFill>
          <p:spPr>
            <a:xfrm>
              <a:off x="2222640" y="4076640"/>
              <a:ext cx="187308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51"/>
          <p:cNvGrpSpPr/>
          <p:nvPr/>
        </p:nvGrpSpPr>
        <p:grpSpPr>
          <a:xfrm>
            <a:off x="4782960" y="4581360"/>
            <a:ext cx="3632040" cy="1285560"/>
            <a:chOff x="4782960" y="4581360"/>
            <a:chExt cx="3632040" cy="1285560"/>
          </a:xfrm>
        </p:grpSpPr>
        <p:pic>
          <p:nvPicPr>
            <p:cNvPr id="171" name="Picture 48" descr="{F414191B-3EAD-4134-87DB-8D532B1B9327}"/>
            <p:cNvPicPr/>
            <p:nvPr/>
          </p:nvPicPr>
          <p:blipFill>
            <a:blip r:embed="rId7"/>
            <a:stretch/>
          </p:blipFill>
          <p:spPr>
            <a:xfrm>
              <a:off x="478296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9" descr="{F414191B-3EAD-4134-87DB-8D532B1B9327}"/>
            <p:cNvPicPr/>
            <p:nvPr/>
          </p:nvPicPr>
          <p:blipFill>
            <a:blip r:embed="rId8"/>
            <a:stretch/>
          </p:blipFill>
          <p:spPr>
            <a:xfrm>
              <a:off x="588924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0" descr="{F414191B-3EAD-4134-87DB-8D532B1B9327}"/>
            <p:cNvPicPr/>
            <p:nvPr/>
          </p:nvPicPr>
          <p:blipFill>
            <a:blip r:embed="rId9"/>
            <a:stretch/>
          </p:blipFill>
          <p:spPr>
            <a:xfrm>
              <a:off x="7027920" y="4590000"/>
              <a:ext cx="1387080" cy="127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1155600" y="4226040"/>
            <a:ext cx="61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6EAB-FFC2-46BA-BA0D-5B2BFE7844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4:59:59Z</dcterms:modified>
  <cp:revision>35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