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1.png" ContentType="image/png"/>
  <Override PartName="/ppt/media/image20.wmf" ContentType="image/x-wmf"/>
  <Override PartName="/ppt/media/image19.wmf" ContentType="image/x-wmf"/>
  <Override PartName="/ppt/media/image18.jpeg" ContentType="image/jpeg"/>
  <Override PartName="/ppt/media/image17.gif" ContentType="image/gi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16.png" ContentType="image/png"/>
  <Override PartName="/ppt/media/chimes.wav" ContentType="audio/x-wav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2F0C-5BD5-4B08-A580-2A681063C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F3F7-6425-48C5-A5D9-429CE41E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833E-879E-4E63-8677-8409CF4B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B938-D2E3-4765-8EC1-0C491212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90CD-DCB6-4CFC-A987-356C99AC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35F-0171-4C36-9F8A-68736C7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6F77-8FD3-496E-8770-CABD6F7D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6FD-A33C-4484-A490-1EBEAD23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48F1-17D6-4DA1-954A-C4D8DB3F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0BC-954D-42BC-B148-F49B07B2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3ED-7461-4613-A128-E4282EBC8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788-72F2-4B02-B890-3BAA12F0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7528-FDA4-4619-B97B-2995E0B4F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9.png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042920" y="1700280"/>
            <a:ext cx="705816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9360">
                  <a:solidFill>
                    <a:srgbClr val="333333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8900000"/>
                </a:gradFill>
                <a:latin typeface="宋体"/>
              </a:rPr>
              <a:t>百分数的意义和写法</a:t>
            </a:r>
            <a:endParaRPr b="1" lang="en-US" sz="2000" spc="1" strike="noStrike">
              <a:ln w="9360">
                <a:solidFill>
                  <a:srgbClr val="333333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8900000"/>
              </a:gradFill>
              <a:latin typeface="宋体"/>
              <a:ea typeface="宋体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26320" y="5445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13"/>
          <p:cNvSpPr/>
          <p:nvPr/>
        </p:nvSpPr>
        <p:spPr>
          <a:xfrm>
            <a:off x="942840" y="547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Object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057400" y="533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生活中的百分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685800" y="1341360"/>
            <a:ext cx="57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深圳拥有轿车的家庭占全部家庭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六十五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687240" y="1828800"/>
            <a:ext cx="964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西部儿童入学率为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二十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入学率达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九十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685800" y="2239920"/>
            <a:ext cx="60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学生毕业生中，自己创业的达到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十九点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685800" y="2744640"/>
            <a:ext cx="49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年家庭的收入是去年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一百五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685800" y="324792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种钙奶含钙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三点七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685800" y="3753000"/>
            <a:ext cx="673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今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商场九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按原价钱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九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出售商品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85800" y="425592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种布料含棉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百分之一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Object 2" descr=""/>
          <p:cNvPicPr/>
          <p:nvPr/>
        </p:nvPicPr>
        <p:blipFill>
          <a:blip r:embed="rId1"/>
          <a:stretch/>
        </p:blipFill>
        <p:spPr>
          <a:xfrm>
            <a:off x="0" y="-15228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2743200" y="16002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总学生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4419720" y="1600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三好学生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523880" y="2209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六年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9718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4648320" y="2209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4479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五年级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04812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0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24280" y="2819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838080" y="34290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哪个年级三好学生占 全年级学生的比率大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905120" y="32004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1355760" y="192240"/>
            <a:ext cx="6188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生产、工作和生活中，进行调查统计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分析比较时，经常要用到百分数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2771640" y="494172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Object 17" descr=""/>
          <p:cNvPicPr/>
          <p:nvPr/>
        </p:nvPicPr>
        <p:blipFill>
          <a:blip r:embed="rId2"/>
          <a:stretch/>
        </p:blipFill>
        <p:spPr>
          <a:xfrm>
            <a:off x="3924360" y="3860640"/>
            <a:ext cx="677880" cy="7207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8"/>
          <p:cNvSpPr/>
          <p:nvPr/>
        </p:nvSpPr>
        <p:spPr>
          <a:xfrm>
            <a:off x="2700360" y="450864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19" descr=""/>
          <p:cNvPicPr/>
          <p:nvPr/>
        </p:nvPicPr>
        <p:blipFill>
          <a:blip r:embed="rId3"/>
          <a:stretch/>
        </p:blipFill>
        <p:spPr>
          <a:xfrm>
            <a:off x="3059280" y="3860640"/>
            <a:ext cx="534960" cy="720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0"/>
          <p:cNvSpPr/>
          <p:nvPr/>
        </p:nvSpPr>
        <p:spPr>
          <a:xfrm>
            <a:off x="3635280" y="400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3059280" y="4941720"/>
            <a:ext cx="201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Object 22" descr=""/>
          <p:cNvPicPr/>
          <p:nvPr/>
        </p:nvPicPr>
        <p:blipFill>
          <a:blip r:embed="rId4"/>
          <a:stretch/>
        </p:blipFill>
        <p:spPr>
          <a:xfrm>
            <a:off x="3059280" y="4724280"/>
            <a:ext cx="576000" cy="792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3"/>
          <p:cNvSpPr/>
          <p:nvPr/>
        </p:nvSpPr>
        <p:spPr>
          <a:xfrm>
            <a:off x="3635280" y="494172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4"/>
          <p:cNvSpPr/>
          <p:nvPr/>
        </p:nvSpPr>
        <p:spPr>
          <a:xfrm>
            <a:off x="3924360" y="4724280"/>
            <a:ext cx="115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Object 25" descr=""/>
          <p:cNvPicPr/>
          <p:nvPr/>
        </p:nvPicPr>
        <p:blipFill>
          <a:blip r:embed="rId5"/>
          <a:stretch/>
        </p:blipFill>
        <p:spPr>
          <a:xfrm>
            <a:off x="3995640" y="4724280"/>
            <a:ext cx="647640" cy="79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6"/>
          <p:cNvSpPr/>
          <p:nvPr/>
        </p:nvSpPr>
        <p:spPr>
          <a:xfrm>
            <a:off x="4932360" y="4581360"/>
            <a:ext cx="7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27" descr=""/>
          <p:cNvPicPr/>
          <p:nvPr/>
        </p:nvPicPr>
        <p:blipFill>
          <a:blip r:embed="rId6"/>
          <a:stretch/>
        </p:blipFill>
        <p:spPr>
          <a:xfrm>
            <a:off x="3059280" y="5589720"/>
            <a:ext cx="720720" cy="792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8"/>
          <p:cNvSpPr/>
          <p:nvPr/>
        </p:nvSpPr>
        <p:spPr>
          <a:xfrm>
            <a:off x="3564000" y="5734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0"/>
          <p:cNvSpPr/>
          <p:nvPr/>
        </p:nvSpPr>
        <p:spPr>
          <a:xfrm>
            <a:off x="5796000" y="4724280"/>
            <a:ext cx="100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Object 31" descr=""/>
          <p:cNvPicPr/>
          <p:nvPr/>
        </p:nvPicPr>
        <p:blipFill>
          <a:blip r:embed="rId7"/>
          <a:stretch/>
        </p:blipFill>
        <p:spPr>
          <a:xfrm>
            <a:off x="3995640" y="5589720"/>
            <a:ext cx="67464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0"/>
                            </p:stCondLst>
                            <p:childTnLst>
                              <p:par>
                                <p:cTn id="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9000"/>
                            </p:stCondLst>
                            <p:childTnLst>
                              <p:par>
                                <p:cTn id="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24000" y="2276640"/>
            <a:ext cx="849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一个工厂从第一批产品中抽出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50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件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经检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49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件合格。由此推算出这批产品合格的比率是　　，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可以写成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       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Object 7" descr=""/>
          <p:cNvPicPr/>
          <p:nvPr/>
        </p:nvPicPr>
        <p:blipFill>
          <a:blip r:embed="rId2"/>
          <a:stretch/>
        </p:blipFill>
        <p:spPr>
          <a:xfrm>
            <a:off x="7380360" y="2852640"/>
            <a:ext cx="50148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Object 8" descr=""/>
          <p:cNvPicPr/>
          <p:nvPr/>
        </p:nvPicPr>
        <p:blipFill>
          <a:blip r:embed="rId3"/>
          <a:stretch/>
        </p:blipFill>
        <p:spPr>
          <a:xfrm>
            <a:off x="2050920" y="3500280"/>
            <a:ext cx="425520" cy="7207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10" descr=""/>
          <p:cNvPicPr/>
          <p:nvPr/>
        </p:nvPicPr>
        <p:blipFill>
          <a:blip r:embed="rId4"/>
          <a:stretch/>
        </p:blipFill>
        <p:spPr>
          <a:xfrm>
            <a:off x="900000" y="4581360"/>
            <a:ext cx="432000" cy="6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1332000" y="465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2916360" y="465300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表示合格产品是产品总数的百分之九十八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Object 6" descr=""/>
          <p:cNvPicPr/>
          <p:nvPr/>
        </p:nvPicPr>
        <p:blipFill>
          <a:blip r:embed="rId1"/>
          <a:stretch/>
        </p:blipFill>
        <p:spPr>
          <a:xfrm>
            <a:off x="2451240" y="27748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90" name="Object 9" descr=""/>
          <p:cNvPicPr/>
          <p:nvPr/>
        </p:nvPicPr>
        <p:blipFill>
          <a:blip r:embed="rId2"/>
          <a:stretch/>
        </p:blipFill>
        <p:spPr>
          <a:xfrm>
            <a:off x="6413400" y="27748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91" name="Object 12" descr=""/>
          <p:cNvPicPr/>
          <p:nvPr/>
        </p:nvPicPr>
        <p:blipFill>
          <a:blip r:embed="rId3"/>
          <a:stretch/>
        </p:blipFill>
        <p:spPr>
          <a:xfrm>
            <a:off x="2451240" y="4908600"/>
            <a:ext cx="279360" cy="393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46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900000" y="198900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想一想、说一说，　、　、　都表示什么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Object 15" descr=""/>
          <p:cNvPicPr/>
          <p:nvPr/>
        </p:nvPicPr>
        <p:blipFill>
          <a:blip r:embed="rId5"/>
          <a:stretch/>
        </p:blipFill>
        <p:spPr>
          <a:xfrm>
            <a:off x="3276720" y="1989000"/>
            <a:ext cx="463320" cy="538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18" descr=""/>
          <p:cNvPicPr/>
          <p:nvPr/>
        </p:nvPicPr>
        <p:blipFill>
          <a:blip r:embed="rId6"/>
          <a:stretch/>
        </p:blipFill>
        <p:spPr>
          <a:xfrm>
            <a:off x="3851280" y="1989000"/>
            <a:ext cx="43164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9" descr=""/>
          <p:cNvPicPr/>
          <p:nvPr/>
        </p:nvPicPr>
        <p:blipFill>
          <a:blip r:embed="rId7"/>
          <a:stretch/>
        </p:blipFill>
        <p:spPr>
          <a:xfrm>
            <a:off x="4500720" y="1989000"/>
            <a:ext cx="433080" cy="538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0"/>
          <p:cNvSpPr/>
          <p:nvPr/>
        </p:nvSpPr>
        <p:spPr>
          <a:xfrm>
            <a:off x="971640" y="2708280"/>
            <a:ext cx="71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表示一个数是另一个数的百分之几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39640" y="3429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结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468360" y="393372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表示一个数是另一个数的百分之几的数，叫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百分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分数也叫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百分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百分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574560" y="50846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讨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百分数表示两数之间的什么关系？应不应有单位名称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539640" y="16344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百分数应该用什么形式表示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95280" y="76824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（１）写法：写百分数时，通常不写成分数形式，而采用％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示。写百分数时，去掉分数线和分母，在分子后面添上百分号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755640" y="1876320"/>
            <a:ext cx="80661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例如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百分之九十　　　　　写作　　９０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百分之六十四　　　　写作　　６４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百分之一百零八点五　写作　１０８．５％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324000" y="4076640"/>
            <a:ext cx="8424720" cy="27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（２）读法：读百分数时，只要把百分数看作分母是１００，百分号前面的数看作分子，就可以和分数一样读了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　　</a:t>
            </a: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例如：７５％　　　读作：　百分之七十五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　　　　　１５０％　　读作：　百分之一百五十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ff"/>
                </a:solidFill>
                <a:latin typeface="Times New Roman"/>
              </a:rPr>
              <a:t>　　　　　０．８％　　读作：　百分之零点八．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8" descr="34"/>
          <p:cNvPicPr/>
          <p:nvPr/>
        </p:nvPicPr>
        <p:blipFill>
          <a:blip r:embed="rId2"/>
          <a:stretch/>
        </p:blipFill>
        <p:spPr>
          <a:xfrm>
            <a:off x="7380360" y="5157720"/>
            <a:ext cx="1547640" cy="1413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9"/>
          <p:cNvSpPr/>
          <p:nvPr/>
        </p:nvSpPr>
        <p:spPr>
          <a:xfrm>
            <a:off x="-36360" y="0"/>
            <a:ext cx="179280" cy="7101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8964720" y="0"/>
            <a:ext cx="360360" cy="7101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0" y="-27000"/>
            <a:ext cx="9144000" cy="260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611280" y="1125360"/>
            <a:ext cx="828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百分数与分数的联系与区别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（１）本班女生占全班人数的４８％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（２）一根电线长　　米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楷体_GB2312"/>
              </a:rPr>
              <a:t>（３）面粉重量是大米的　　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Object 5" descr=""/>
          <p:cNvPicPr/>
          <p:nvPr/>
        </p:nvPicPr>
        <p:blipFill>
          <a:blip r:embed="rId2"/>
          <a:stretch/>
        </p:blipFill>
        <p:spPr>
          <a:xfrm>
            <a:off x="3203640" y="2133720"/>
            <a:ext cx="504720" cy="53640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6" descr=""/>
          <p:cNvPicPr/>
          <p:nvPr/>
        </p:nvPicPr>
        <p:blipFill>
          <a:blip r:embed="rId3"/>
          <a:stretch/>
        </p:blipFill>
        <p:spPr>
          <a:xfrm>
            <a:off x="4140360" y="2708280"/>
            <a:ext cx="50292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84360" y="3645000"/>
            <a:ext cx="799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结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百分数是分数中的一种情况．分数既可以表示一个具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体数量，又可以表示一个数是另一个数的几分之几，所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分数后面既可以有单位，也可以没有单位，而百分数只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示两数之间的倍数关系，所以没有计量单位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Group 13"/>
          <p:cNvGrpSpPr/>
          <p:nvPr/>
        </p:nvGrpSpPr>
        <p:grpSpPr>
          <a:xfrm>
            <a:off x="826920" y="0"/>
            <a:ext cx="1800360" cy="1125360"/>
            <a:chOff x="826920" y="0"/>
            <a:chExt cx="1800360" cy="1125360"/>
          </a:xfrm>
        </p:grpSpPr>
        <p:sp>
          <p:nvSpPr>
            <p:cNvPr id="115" name="AutoShape 12"/>
            <p:cNvSpPr/>
            <p:nvPr/>
          </p:nvSpPr>
          <p:spPr>
            <a:xfrm>
              <a:off x="826920" y="0"/>
              <a:ext cx="1800360" cy="1125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cc"/>
            </a:solidFill>
            <a:ln w="57240">
              <a:solidFill>
                <a:srgbClr val="ff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8"/>
            <p:cNvSpPr/>
            <p:nvPr/>
          </p:nvSpPr>
          <p:spPr>
            <a:xfrm>
              <a:off x="1116000" y="26028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00ff"/>
                  </a:solidFill>
                  <a:latin typeface="Times New Roman"/>
                  <a:ea typeface="华文新魏"/>
                </a:rPr>
                <a:t>讨论：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Object 2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1447920" y="-457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692360" y="1295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百发百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9236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拿九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676520" y="2666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百里挑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752480" y="1828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676520" y="32767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分为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676520" y="39625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百战百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658880" y="46483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半壁江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3581280" y="1295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10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3581280" y="19810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9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35812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1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3581280" y="3276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5812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10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3657600" y="4648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Times New Roman"/>
              </a:rPr>
              <a:t>50%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371600" y="2286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根据成语写出相关的百分数</a:t>
            </a:r>
            <a:r>
              <a:rPr b="1" lang="en-US" sz="3200" spc="-1" strike="noStrike">
                <a:solidFill>
                  <a:srgbClr val="6600ff"/>
                </a:solidFill>
                <a:latin typeface="华文新魏"/>
                <a:ea typeface="华文新魏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文本框 1"/>
          <p:cNvSpPr/>
          <p:nvPr/>
        </p:nvSpPr>
        <p:spPr>
          <a:xfrm>
            <a:off x="372960" y="6297480"/>
            <a:ext cx="575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6E3F-8850-430C-BE63-C842E0DCE1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4T08:15:3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1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