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43C-DA02-4B1F-8715-65FD2B1A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E59-D379-4963-AD8B-AF9ED539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3EA-AD55-44E5-BFFC-0B771E04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3D8-0071-4881-BA0A-85AD9914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EF5D-D466-49FA-B07B-67CB1915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E8B2-9514-4306-A511-DEC008B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E2BD-E4A5-4A83-9EBD-FFA0DDA3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748-4867-4F79-A7B3-EEF356C8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CA1E-BC21-4904-9D42-735E32BC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CC27-BC70-4963-8DD4-83AB088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0BFB-F43A-4B4E-8E27-E67C7D16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A8D-C764-4180-A755-AD2C7D0C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7E90-1798-458D-A74B-11BE6ED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F2B0-828A-427A-89A3-07F099B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9481-347C-4091-B5D3-AD0E20B3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3EDA-C0A0-46D1-91F2-64748E47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F64F-2D70-4935-A893-CB32EB8D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1784-C4C9-4BFD-941E-66FA3036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D76A-5262-495E-96A5-1E1046AE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5FA7-26A2-43E8-975C-57E73B5E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F0F7-FABD-491D-8F47-874891E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A9DE-5C06-4DD9-B176-5A4516B3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B7C-E9AB-4935-BF46-5D9CBEC9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E88D-0491-48DF-9524-8A3CC679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B683-6E37-421A-89B8-7716EB8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480F-023A-49BB-B494-09A7FBC9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4380-5AFE-4293-8375-0D2FB5C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791D-A781-41CB-9780-0070AEA5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4579-A69A-404C-A34C-BBBD70E4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7019-6696-4148-91EA-5C7A9E3D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75B5-8458-4791-8F25-8C90C5FB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86FB-E0D3-422F-AD52-9D96144F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A445-4ECE-4E0E-AC73-08BACE3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1BF-D3D4-43F6-9EB9-A61E235E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73499-EAE0-4885-9FC2-D84DE4AC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0CED-E5D8-481F-AF9C-92C11FB5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98CC7-2DDF-43B5-808C-7DC0ABC5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EB25-C6B5-411A-9DF6-8ED470A5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EA15-9601-42A1-8A82-77035251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3C6A-4B96-4619-82FF-C0A9C1D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3FE5A-9ADD-4E38-806A-D48B4810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CC5A-BC69-4DD2-B4D9-BF98BC6C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C8653-55C4-41C3-B69C-30394EA1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18DB-512C-4ECB-BC8B-453EFAA8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62D-B7AC-4385-A5AA-A8FFA34C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9A71-A1F4-49C1-8873-5DA36C90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33DA-98E2-4898-A6E5-6D8CD8C8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F55B-642E-4DE0-AF70-AA67917F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AF8B-014D-4238-BBD9-6AA6CE1A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8303E-185B-4078-BEF2-5DCC62B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BAD3-BC73-4BF2-A47B-29B2626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C7C3-2784-4FD4-9DE1-33B8FC96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86F83-3765-40CE-8188-F8C2AB3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372B-39B1-4F0A-862C-36337713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C4211-F08D-4561-BBA3-4ECF1705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7E3-E32C-4265-B906-6892DF01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C373-4981-4ECA-92D5-BAD8D786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040-4B2A-482F-AB22-831C83D4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679-3915-429A-B3ED-11A9089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977-327B-43B0-9B9D-D5045040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5F81-6735-4EFD-B290-BD33F1C3FA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2F38-FCAE-4B4F-B3EA-AA2D6875D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45D5-5868-4D6C-9397-FA1F420B02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E868-B1D7-4B99-A466-EA1E8C83B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984-4EBC-419A-AC8B-41818DF1D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板头(绿色)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3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211640" y="2924280"/>
            <a:ext cx="4824360" cy="36194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28386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858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16000" y="15717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4.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变量与函数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558160" y="5013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6155"/>
          <p:cNvSpPr/>
          <p:nvPr/>
        </p:nvSpPr>
        <p:spPr>
          <a:xfrm>
            <a:off x="333360" y="62085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125000" y="48276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函数的概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84360" y="1341360"/>
            <a:ext cx="7991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变化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过程中，如果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个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变量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与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并且对于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每一个确定的值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都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唯 一确定的值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与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那么我们就说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变量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函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如：在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=60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，当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=12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那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叫做当自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量的值为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时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函数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-173160" y="1555560"/>
            <a:ext cx="668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y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34920" y="11592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是否是函数？如果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写出它们的自变量的取值范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果不是请说明理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ject 4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1365120" cy="93996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5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192708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4276800" y="2478240"/>
            <a:ext cx="19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整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体实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87400" y="40784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变量在分母位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分母不等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708360" y="508644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开平方中：被开方数为非负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708360" y="6165720"/>
            <a:ext cx="54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906560" y="587844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一个只含一个字母的代数式，都是所含字母的函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469800" y="1233360"/>
            <a:ext cx="820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盛满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千克水的水箱，每小时流出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千克水，则水箱中的余水量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y(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千克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与时间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（小时）之间的函数关系式如何表示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24000" y="4017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探究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60360" y="631044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66"/>
                </a:solidFill>
                <a:latin typeface="Arial"/>
              </a:rPr>
              <a:t>注：对于实际问题</a:t>
            </a: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cc0066"/>
                </a:solidFill>
                <a:latin typeface="Arial"/>
              </a:rPr>
              <a:t>其自变量的取值范围还应使实际问题有意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979560" y="3429000"/>
            <a:ext cx="61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请写出自变量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的取值范围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2384280" y="27813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y=10-0.5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971640" y="499752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当时间为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小时，求水箱中的余水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42920" y="393372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≥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及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-0.5t ≥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得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≤ t≤ 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变量的取值范围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   0 ≤ t ≤ 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754200" y="55641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 = 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函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值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y=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5×6=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"/>
          <p:cNvGrpSpPr/>
          <p:nvPr/>
        </p:nvGrpSpPr>
        <p:grpSpPr>
          <a:xfrm>
            <a:off x="685800" y="2286000"/>
            <a:ext cx="7771320" cy="1417680"/>
            <a:chOff x="685800" y="2286000"/>
            <a:chExt cx="7771320" cy="1417680"/>
          </a:xfrm>
        </p:grpSpPr>
        <p:sp>
          <p:nvSpPr>
            <p:cNvPr id="322" name="Rectangle 3"/>
            <p:cNvSpPr/>
            <p:nvPr/>
          </p:nvSpPr>
          <p:spPr>
            <a:xfrm>
              <a:off x="6934320" y="2987640"/>
              <a:ext cx="609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"/>
            <p:cNvSpPr/>
            <p:nvPr/>
          </p:nvSpPr>
          <p:spPr>
            <a:xfrm>
              <a:off x="6934320" y="2286000"/>
              <a:ext cx="609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5"/>
            <p:cNvSpPr/>
            <p:nvPr/>
          </p:nvSpPr>
          <p:spPr>
            <a:xfrm>
              <a:off x="6019920" y="2987640"/>
              <a:ext cx="914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6019920" y="2286000"/>
              <a:ext cx="914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7543800" y="2987640"/>
              <a:ext cx="912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5257800" y="298764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4495680" y="298764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33920" y="2987640"/>
              <a:ext cx="76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1"/>
            <p:cNvSpPr/>
            <p:nvPr/>
          </p:nvSpPr>
          <p:spPr>
            <a:xfrm>
              <a:off x="2971800" y="298764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2209680" y="298764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>
              <a:off x="1523880" y="2987640"/>
              <a:ext cx="685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4"/>
            <p:cNvSpPr/>
            <p:nvPr/>
          </p:nvSpPr>
          <p:spPr>
            <a:xfrm>
              <a:off x="685800" y="2987640"/>
              <a:ext cx="838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7543800" y="2286000"/>
              <a:ext cx="912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6"/>
            <p:cNvSpPr/>
            <p:nvPr/>
          </p:nvSpPr>
          <p:spPr>
            <a:xfrm>
              <a:off x="5257800" y="228600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495680" y="228600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8"/>
            <p:cNvSpPr/>
            <p:nvPr/>
          </p:nvSpPr>
          <p:spPr>
            <a:xfrm>
              <a:off x="3733920" y="2286000"/>
              <a:ext cx="76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9"/>
            <p:cNvSpPr/>
            <p:nvPr/>
          </p:nvSpPr>
          <p:spPr>
            <a:xfrm>
              <a:off x="2971800" y="228600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0"/>
            <p:cNvSpPr/>
            <p:nvPr/>
          </p:nvSpPr>
          <p:spPr>
            <a:xfrm>
              <a:off x="2209680" y="2286000"/>
              <a:ext cx="76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1523880" y="2286000"/>
              <a:ext cx="685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2"/>
            <p:cNvSpPr/>
            <p:nvPr/>
          </p:nvSpPr>
          <p:spPr>
            <a:xfrm>
              <a:off x="685800" y="2286000"/>
              <a:ext cx="838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钟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85800" y="2286000"/>
              <a:ext cx="7770960" cy="360"/>
              <a:chOff x="685800" y="2286000"/>
              <a:chExt cx="7770960" cy="360"/>
            </a:xfrm>
          </p:grpSpPr>
          <p:sp>
            <p:nvSpPr>
              <p:cNvPr id="343" name="Line 23"/>
              <p:cNvSpPr/>
              <p:nvPr/>
            </p:nvSpPr>
            <p:spPr>
              <a:xfrm>
                <a:off x="685800" y="2286000"/>
                <a:ext cx="77709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685800" y="2286000"/>
                <a:ext cx="777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85800" y="2987640"/>
              <a:ext cx="7770960" cy="360"/>
              <a:chOff x="685800" y="2987640"/>
              <a:chExt cx="7770960" cy="360"/>
            </a:xfrm>
          </p:grpSpPr>
          <p:sp>
            <p:nvSpPr>
              <p:cNvPr id="346" name="Line 24"/>
              <p:cNvSpPr/>
              <p:nvPr/>
            </p:nvSpPr>
            <p:spPr>
              <a:xfrm>
                <a:off x="685800" y="2987640"/>
                <a:ext cx="777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685800" y="2987640"/>
                <a:ext cx="777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85800" y="3689280"/>
              <a:ext cx="7770960" cy="360"/>
              <a:chOff x="685800" y="3689280"/>
              <a:chExt cx="7770960" cy="360"/>
            </a:xfrm>
          </p:grpSpPr>
          <p:sp>
            <p:nvSpPr>
              <p:cNvPr id="349" name="Line 25"/>
              <p:cNvSpPr/>
              <p:nvPr/>
            </p:nvSpPr>
            <p:spPr>
              <a:xfrm>
                <a:off x="685800" y="3689280"/>
                <a:ext cx="77709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685800" y="3689280"/>
                <a:ext cx="777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85800" y="2286000"/>
              <a:ext cx="360" cy="1403280"/>
              <a:chOff x="685800" y="2286000"/>
              <a:chExt cx="360" cy="1403280"/>
            </a:xfrm>
          </p:grpSpPr>
          <p:sp>
            <p:nvSpPr>
              <p:cNvPr id="352" name="Line 26"/>
              <p:cNvSpPr/>
              <p:nvPr/>
            </p:nvSpPr>
            <p:spPr>
              <a:xfrm>
                <a:off x="685800" y="2286000"/>
                <a:ext cx="0" cy="1403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68580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2286000"/>
              <a:ext cx="360" cy="1403280"/>
              <a:chOff x="1523880" y="2286000"/>
              <a:chExt cx="360" cy="1403280"/>
            </a:xfrm>
          </p:grpSpPr>
          <p:sp>
            <p:nvSpPr>
              <p:cNvPr id="355" name="Line 27"/>
              <p:cNvSpPr/>
              <p:nvPr/>
            </p:nvSpPr>
            <p:spPr>
              <a:xfrm>
                <a:off x="152388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152388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209680" y="2286000"/>
              <a:ext cx="360" cy="1403280"/>
              <a:chOff x="2209680" y="2286000"/>
              <a:chExt cx="360" cy="1403280"/>
            </a:xfrm>
          </p:grpSpPr>
          <p:sp>
            <p:nvSpPr>
              <p:cNvPr id="358" name="Line 28"/>
              <p:cNvSpPr/>
              <p:nvPr/>
            </p:nvSpPr>
            <p:spPr>
              <a:xfrm>
                <a:off x="220968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220968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971800" y="2286000"/>
              <a:ext cx="360" cy="1403280"/>
              <a:chOff x="2971800" y="2286000"/>
              <a:chExt cx="360" cy="1403280"/>
            </a:xfrm>
          </p:grpSpPr>
          <p:sp>
            <p:nvSpPr>
              <p:cNvPr id="361" name="Line 29"/>
              <p:cNvSpPr/>
              <p:nvPr/>
            </p:nvSpPr>
            <p:spPr>
              <a:xfrm>
                <a:off x="297180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297180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733920" y="2286000"/>
              <a:ext cx="360" cy="1403280"/>
              <a:chOff x="3733920" y="2286000"/>
              <a:chExt cx="360" cy="1403280"/>
            </a:xfrm>
          </p:grpSpPr>
          <p:sp>
            <p:nvSpPr>
              <p:cNvPr id="364" name="Line 30"/>
              <p:cNvSpPr/>
              <p:nvPr/>
            </p:nvSpPr>
            <p:spPr>
              <a:xfrm>
                <a:off x="373392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373392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495680" y="2286000"/>
              <a:ext cx="360" cy="1403280"/>
              <a:chOff x="4495680" y="2286000"/>
              <a:chExt cx="360" cy="1403280"/>
            </a:xfrm>
          </p:grpSpPr>
          <p:sp>
            <p:nvSpPr>
              <p:cNvPr id="367" name="Line 31"/>
              <p:cNvSpPr/>
              <p:nvPr/>
            </p:nvSpPr>
            <p:spPr>
              <a:xfrm>
                <a:off x="449568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449568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257800" y="2286000"/>
              <a:ext cx="360" cy="1403280"/>
              <a:chOff x="5257800" y="2286000"/>
              <a:chExt cx="360" cy="1403280"/>
            </a:xfrm>
          </p:grpSpPr>
          <p:sp>
            <p:nvSpPr>
              <p:cNvPr id="370" name="Line 32"/>
              <p:cNvSpPr/>
              <p:nvPr/>
            </p:nvSpPr>
            <p:spPr>
              <a:xfrm>
                <a:off x="525780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525780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019920" y="2286000"/>
              <a:ext cx="360" cy="1403280"/>
              <a:chOff x="6019920" y="2286000"/>
              <a:chExt cx="360" cy="1403280"/>
            </a:xfrm>
          </p:grpSpPr>
          <p:sp>
            <p:nvSpPr>
              <p:cNvPr id="373" name="Line 33"/>
              <p:cNvSpPr/>
              <p:nvPr/>
            </p:nvSpPr>
            <p:spPr>
              <a:xfrm>
                <a:off x="601992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01992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8456760" y="2286000"/>
              <a:ext cx="360" cy="1403280"/>
              <a:chOff x="8456760" y="2286000"/>
              <a:chExt cx="360" cy="1403280"/>
            </a:xfrm>
          </p:grpSpPr>
          <p:sp>
            <p:nvSpPr>
              <p:cNvPr id="376" name="Line 34"/>
              <p:cNvSpPr/>
              <p:nvPr/>
            </p:nvSpPr>
            <p:spPr>
              <a:xfrm>
                <a:off x="8456760" y="2286000"/>
                <a:ext cx="0" cy="1403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845676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934320" y="2286000"/>
              <a:ext cx="360" cy="1403280"/>
              <a:chOff x="6934320" y="2286000"/>
              <a:chExt cx="360" cy="1403280"/>
            </a:xfrm>
          </p:grpSpPr>
          <p:sp>
            <p:nvSpPr>
              <p:cNvPr id="379" name="Line 35"/>
              <p:cNvSpPr/>
              <p:nvPr/>
            </p:nvSpPr>
            <p:spPr>
              <a:xfrm>
                <a:off x="693432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693432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7543800" y="2286000"/>
              <a:ext cx="360" cy="1403280"/>
              <a:chOff x="7543800" y="2286000"/>
              <a:chExt cx="360" cy="1403280"/>
            </a:xfrm>
          </p:grpSpPr>
          <p:sp>
            <p:nvSpPr>
              <p:cNvPr id="382" name="Line 36"/>
              <p:cNvSpPr/>
              <p:nvPr/>
            </p:nvSpPr>
            <p:spPr>
              <a:xfrm>
                <a:off x="7543800" y="2286000"/>
                <a:ext cx="0" cy="14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7543800" y="2286000"/>
                <a:ext cx="36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 Box 37"/>
            <p:cNvSpPr/>
            <p:nvPr/>
          </p:nvSpPr>
          <p:spPr>
            <a:xfrm>
              <a:off x="1571760" y="311148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8"/>
            <p:cNvSpPr/>
            <p:nvPr/>
          </p:nvSpPr>
          <p:spPr>
            <a:xfrm>
              <a:off x="2370240" y="31114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9"/>
            <p:cNvSpPr/>
            <p:nvPr/>
          </p:nvSpPr>
          <p:spPr>
            <a:xfrm>
              <a:off x="3084480" y="311292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0"/>
            <p:cNvSpPr/>
            <p:nvPr/>
          </p:nvSpPr>
          <p:spPr>
            <a:xfrm>
              <a:off x="3871800" y="311148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1"/>
            <p:cNvSpPr/>
            <p:nvPr/>
          </p:nvSpPr>
          <p:spPr>
            <a:xfrm>
              <a:off x="4602240" y="3100320"/>
              <a:ext cx="8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42"/>
            <p:cNvSpPr/>
            <p:nvPr/>
          </p:nvSpPr>
          <p:spPr>
            <a:xfrm>
              <a:off x="5408640" y="3110040"/>
              <a:ext cx="1119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3"/>
            <p:cNvSpPr/>
            <p:nvPr/>
          </p:nvSpPr>
          <p:spPr>
            <a:xfrm>
              <a:off x="6865920" y="312408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44"/>
          <p:cNvSpPr/>
          <p:nvPr/>
        </p:nvSpPr>
        <p:spPr>
          <a:xfrm>
            <a:off x="0" y="0"/>
            <a:ext cx="930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某大商场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售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套的速度销售奥运会吉祥物玩具，设经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，售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套奥运会吉祥物玩具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152280" y="44197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给定变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，相应的变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唯一确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304920" y="5270400"/>
            <a:ext cx="829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怎样用关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代数式来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1551960" y="3886200"/>
            <a:ext cx="502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你能说出其中哪些是变量？哪些是常量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887400" y="16002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填写下表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1678320" y="32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0"/>
          <p:cNvSpPr/>
          <p:nvPr/>
        </p:nvSpPr>
        <p:spPr>
          <a:xfrm>
            <a:off x="2440080" y="32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1"/>
          <p:cNvSpPr/>
          <p:nvPr/>
        </p:nvSpPr>
        <p:spPr>
          <a:xfrm>
            <a:off x="3124080" y="32004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2"/>
          <p:cNvSpPr/>
          <p:nvPr/>
        </p:nvSpPr>
        <p:spPr>
          <a:xfrm>
            <a:off x="3962520" y="32004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3"/>
          <p:cNvSpPr/>
          <p:nvPr/>
        </p:nvSpPr>
        <p:spPr>
          <a:xfrm>
            <a:off x="4573800" y="3200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4"/>
          <p:cNvSpPr/>
          <p:nvPr/>
        </p:nvSpPr>
        <p:spPr>
          <a:xfrm>
            <a:off x="5259600" y="3200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5"/>
          <p:cNvSpPr/>
          <p:nvPr/>
        </p:nvSpPr>
        <p:spPr>
          <a:xfrm>
            <a:off x="7012080" y="3200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6"/>
          <p:cNvSpPr/>
          <p:nvPr/>
        </p:nvSpPr>
        <p:spPr>
          <a:xfrm>
            <a:off x="2484360" y="587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=2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8199"/>
          <p:cNvSpPr/>
          <p:nvPr/>
        </p:nvSpPr>
        <p:spPr>
          <a:xfrm>
            <a:off x="2397240" y="1038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16720" y="-4189680"/>
            <a:ext cx="369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684360" y="260280"/>
            <a:ext cx="770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下图是体检时的心电图．其中图上点的横坐标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表示时间，纵坐标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y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表示心脏部位的生物电流，它们是两个变量．在心电图中，对于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的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确定的值，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都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唯一确定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的对应值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../../../../Administrator/Desktop/Local Settings/Temporary Internet Files/Content.IE5/R17B2WPO/http:/www.pep.com.cn/images/200410/pic_204240.jpg"/>
          <p:cNvPicPr/>
          <p:nvPr/>
        </p:nvPicPr>
        <p:blipFill>
          <a:blip r:embed="rId1"/>
          <a:srcRect l="29091" t="23714" r="25702" b="64950"/>
          <a:stretch/>
        </p:blipFill>
        <p:spPr>
          <a:xfrm>
            <a:off x="395280" y="2924280"/>
            <a:ext cx="84247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0" y="5229360"/>
            <a:ext cx="8748720" cy="360"/>
            <a:chOff x="0" y="5229360"/>
            <a:chExt cx="8748720" cy="360"/>
          </a:xfrm>
        </p:grpSpPr>
        <p:sp>
          <p:nvSpPr>
            <p:cNvPr id="410" name="Line 5"/>
            <p:cNvSpPr/>
            <p:nvPr/>
          </p:nvSpPr>
          <p:spPr>
            <a:xfrm>
              <a:off x="0" y="5229360"/>
              <a:ext cx="874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0" y="5229360"/>
              <a:ext cx="874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50920" y="3068640"/>
            <a:ext cx="360" cy="2664000"/>
            <a:chOff x="250920" y="3068640"/>
            <a:chExt cx="360" cy="2664000"/>
          </a:xfrm>
        </p:grpSpPr>
        <p:sp>
          <p:nvSpPr>
            <p:cNvPr id="413" name="Line 6"/>
            <p:cNvSpPr/>
            <p:nvPr/>
          </p:nvSpPr>
          <p:spPr>
            <a:xfrm>
              <a:off x="250920" y="3068640"/>
              <a:ext cx="0" cy="2664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250920" y="3068640"/>
              <a:ext cx="360" cy="26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7"/>
          <p:cNvSpPr/>
          <p:nvPr/>
        </p:nvSpPr>
        <p:spPr>
          <a:xfrm>
            <a:off x="0" y="5300640"/>
            <a:ext cx="2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8459640" y="5373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0" y="3213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1187280" y="54936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在下面的我国人口数统计表中，年份与人口数可以记作两个变量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与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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对于表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每一个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确定的年份（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），都对应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个确定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的人口数（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）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../../../../Administrator/Desktop/Local Settings/Temporary Internet Files/Content.IE5/R17B2WPO/http:/www.pep.com.cn/images/200410/pic_204240.jpg"/>
          <p:cNvPicPr/>
          <p:nvPr/>
        </p:nvPicPr>
        <p:blipFill>
          <a:blip r:embed="rId1"/>
          <a:srcRect l="28137" t="45411" r="24475" b="37256"/>
          <a:stretch/>
        </p:blipFill>
        <p:spPr>
          <a:xfrm>
            <a:off x="1133640" y="2478240"/>
            <a:ext cx="72388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24000" y="126792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函数的一般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列表法、图象法、解析法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F324-EF67-4F23-AA13-D55B2B7C7D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257840" y="1522440"/>
            <a:ext cx="72597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一辆汽车以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6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千米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/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小时的速度行驶，行驶里程为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千米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行驶时间为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小时，先填下面的表，再试用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的式子表示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187280" y="2781360"/>
          <a:ext cx="7128000" cy="1657440"/>
        </p:xfrm>
        <a:graphic>
          <a:graphicData uri="http://schemas.openxmlformats.org/drawingml/2006/table">
            <a:tbl>
              <a:tblPr/>
              <a:tblGrid>
                <a:gridCol w="1440000"/>
                <a:gridCol w="1152360"/>
                <a:gridCol w="1150920"/>
                <a:gridCol w="1152720"/>
                <a:gridCol w="1081080"/>
                <a:gridCol w="1150920"/>
              </a:tblGrid>
              <a:tr h="83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t /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 /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26"/>
          <p:cNvSpPr/>
          <p:nvPr/>
        </p:nvSpPr>
        <p:spPr>
          <a:xfrm>
            <a:off x="3925800" y="3790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2916360" y="37908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5149800" y="3790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8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6272280" y="3790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7380360" y="3790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3228480" y="487512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S=60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635760" y="68580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54000" y="1200240"/>
            <a:ext cx="9090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弹簧的长度与所挂重物有关．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如果弹簧原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为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10cm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每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千克重物使弹簧伸长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0.5cm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试填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412720" y="5300640"/>
            <a:ext cx="30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=10+0.5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954080" cy="295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466920" y="51120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11280" y="2637000"/>
          <a:ext cx="6095880" cy="19810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悬挂重物的质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(Kg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弹簧长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(cm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29"/>
          <p:cNvSpPr/>
          <p:nvPr/>
        </p:nvSpPr>
        <p:spPr>
          <a:xfrm>
            <a:off x="173844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0"/>
          <p:cNvSpPr/>
          <p:nvPr/>
        </p:nvSpPr>
        <p:spPr>
          <a:xfrm>
            <a:off x="2937960" y="38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1"/>
          <p:cNvSpPr/>
          <p:nvPr/>
        </p:nvSpPr>
        <p:spPr>
          <a:xfrm>
            <a:off x="382608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4880880" y="38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577044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文本框 99" descr=""/>
          <p:cNvPicPr/>
          <p:nvPr/>
        </p:nvPicPr>
        <p:blipFill>
          <a:blip r:embed="rId2"/>
          <a:stretch/>
        </p:blipFill>
        <p:spPr>
          <a:xfrm>
            <a:off x="527040" y="4935600"/>
            <a:ext cx="5079960" cy="36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611280" y="1946520"/>
            <a:ext cx="8281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每张电影票的售价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元，如果早场售出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15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张，日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售出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205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张，晚场售出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31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张，三场电影的票房收入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多少元？设一场电影售出票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x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张，票房收入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元，怎样用含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x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的式子表示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132720" y="407664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y=10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66920" y="51120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2788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grpSp>
          <p:nvGrpSpPr>
            <p:cNvPr id="241" name="Group 3"/>
            <p:cNvGrpSpPr/>
            <p:nvPr/>
          </p:nvGrpSpPr>
          <p:grpSpPr>
            <a:xfrm>
              <a:off x="0" y="0"/>
              <a:ext cx="9144000" cy="6885000"/>
              <a:chOff x="0" y="0"/>
              <a:chExt cx="9144000" cy="6885000"/>
            </a:xfrm>
          </p:grpSpPr>
          <p:pic>
            <p:nvPicPr>
              <p:cNvPr id="242" name="Picture 4" descr="板头(绿色)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8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5"/>
              <p:cNvSpPr/>
              <p:nvPr/>
            </p:nvSpPr>
            <p:spPr>
              <a:xfrm>
                <a:off x="774720" y="7632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Times New Roman"/>
                    <a:ea typeface="华文细黑"/>
                  </a:rPr>
                  <a:t>八年级   数学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6"/>
              <p:cNvSpPr/>
              <p:nvPr/>
            </p:nvSpPr>
            <p:spPr>
              <a:xfrm>
                <a:off x="3441600" y="0"/>
                <a:ext cx="342900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第十四章    函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7"/>
              <p:cNvGrpSpPr/>
              <p:nvPr/>
            </p:nvGrpSpPr>
            <p:grpSpPr>
              <a:xfrm>
                <a:off x="611280" y="598320"/>
                <a:ext cx="6408720" cy="598320"/>
                <a:chOff x="611280" y="598320"/>
                <a:chExt cx="6408720" cy="598320"/>
              </a:xfrm>
            </p:grpSpPr>
            <p:sp>
              <p:nvSpPr>
                <p:cNvPr id="246" name="Text Box 8"/>
                <p:cNvSpPr/>
                <p:nvPr/>
              </p:nvSpPr>
              <p:spPr>
                <a:xfrm>
                  <a:off x="3924360" y="617400"/>
                  <a:ext cx="309564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9"/>
                <p:cNvSpPr/>
                <p:nvPr/>
              </p:nvSpPr>
              <p:spPr>
                <a:xfrm>
                  <a:off x="611280" y="59832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48" name="Picture 10" descr="Globe"/>
            <p:cNvPicPr/>
            <p:nvPr/>
          </p:nvPicPr>
          <p:blipFill>
            <a:blip r:embed="rId2"/>
            <a:stretch/>
          </p:blipFill>
          <p:spPr>
            <a:xfrm>
              <a:off x="8013600" y="692280"/>
              <a:ext cx="446040" cy="48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 txBox="1"/>
          <p:nvPr/>
        </p:nvSpPr>
        <p:spPr>
          <a:xfrm>
            <a:off x="324000" y="2349000"/>
            <a:ext cx="85406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在一个变化过程中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我们称数值发生变化的量为变量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有些量的数值是始终不变的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我们称它们为常量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6360" y="554040"/>
            <a:ext cx="896472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常量、变量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变化过程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中：发生变化的量叫做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；不变的量叫做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（二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指出前面三个问题中的常量、变量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（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）“行程问题”中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s=60t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，常量是</a:t>
            </a: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，变量是</a:t>
            </a: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（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）“弹簧伸长问题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10+0.5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变量是</a:t>
            </a:r>
            <a:r>
              <a:rPr b="1" lang="en-US" sz="3000" spc="-1" strike="noStrike">
                <a:solidFill>
                  <a:srgbClr val="00101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常量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1800" spc="-1" strike="noStrike" u="sng">
                <a:solidFill>
                  <a:srgbClr val="001010"/>
                </a:solidFill>
                <a:uFillTx/>
                <a:latin typeface="Arial"/>
              </a:rPr>
              <a:t>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）“票房收入问题”中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y=10x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，常量是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，变量是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；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804000" y="9651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619280" y="1397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常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229440" y="53593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9640" y="57182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940360" y="3270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466560" y="37735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395280" y="46386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564000" y="5086440"/>
            <a:ext cx="1224000" cy="1440"/>
            <a:chOff x="3564000" y="5086440"/>
            <a:chExt cx="1224000" cy="1440"/>
          </a:xfrm>
        </p:grpSpPr>
        <p:sp>
          <p:nvSpPr>
            <p:cNvPr id="260" name="Line 10"/>
            <p:cNvSpPr/>
            <p:nvPr/>
          </p:nvSpPr>
          <p:spPr>
            <a:xfrm>
              <a:off x="3564000" y="5086440"/>
              <a:ext cx="1224000" cy="1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564000" y="5086440"/>
              <a:ext cx="122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11"/>
          <p:cNvSpPr/>
          <p:nvPr/>
        </p:nvSpPr>
        <p:spPr>
          <a:xfrm>
            <a:off x="3503520" y="4654440"/>
            <a:ext cx="17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66560" y="4221000"/>
            <a:ext cx="865440" cy="360"/>
            <a:chOff x="466560" y="4221000"/>
            <a:chExt cx="865440" cy="360"/>
          </a:xfrm>
        </p:grpSpPr>
        <p:sp>
          <p:nvSpPr>
            <p:cNvPr id="264" name="Line 12"/>
            <p:cNvSpPr/>
            <p:nvPr/>
          </p:nvSpPr>
          <p:spPr>
            <a:xfrm>
              <a:off x="466560" y="4221000"/>
              <a:ext cx="8654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66560" y="4221000"/>
              <a:ext cx="8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文本框 8199"/>
          <p:cNvSpPr/>
          <p:nvPr/>
        </p:nvSpPr>
        <p:spPr>
          <a:xfrm>
            <a:off x="1619280" y="128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684360" y="1557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042920" y="1052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一辆汽车从甲地驶向相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的乙地，那么它行驶的时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与速度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之间有什么样的关系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092240" y="3772080"/>
            <a:ext cx="6864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辆汽车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的速度行驶，行驶里程为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；行驶时间为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，试用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式子表示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356000" y="2565360"/>
            <a:ext cx="38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量为：时间、速度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常量为：路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4645080" y="544500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量为：时间、路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常量为：速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565280" y="2778120"/>
            <a:ext cx="22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v=1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73200" y="574992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=60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6360" y="117360"/>
            <a:ext cx="896472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（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）“行程问题”中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s=60t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，常量是</a:t>
            </a: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60  </a:t>
            </a: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，变量是</a:t>
            </a: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（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）“弹簧伸长问题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10+0.5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变量是</a:t>
            </a:r>
            <a:r>
              <a:rPr b="1" lang="en-US" sz="3000" spc="-1" strike="noStrike">
                <a:solidFill>
                  <a:srgbClr val="00101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常量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1800" spc="-1" strike="noStrike" u="sng">
                <a:solidFill>
                  <a:srgbClr val="001010"/>
                </a:solidFill>
                <a:uFillTx/>
                <a:latin typeface="Arial"/>
              </a:rPr>
              <a:t>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）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“票房收入问题”中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y=10x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，常量是</a:t>
            </a: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，变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是</a:t>
            </a:r>
            <a:r>
              <a:rPr b="1" lang="zh-CN" sz="3000" spc="-1" strike="noStrike" u="sng">
                <a:solidFill>
                  <a:srgbClr val="001010"/>
                </a:solidFill>
                <a:uFillTx/>
                <a:latin typeface="Arial"/>
              </a:rPr>
              <a:t>         </a:t>
            </a:r>
            <a:r>
              <a:rPr b="1" lang="zh-CN" sz="3000" spc="-1" strike="noStrike">
                <a:solidFill>
                  <a:srgbClr val="001010"/>
                </a:solidFill>
                <a:latin typeface="Arial"/>
              </a:rPr>
              <a:t>；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05440" y="3860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39640" y="4781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971640" y="12524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68360" y="2924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64000" y="3357720"/>
            <a:ext cx="1224000" cy="1440"/>
            <a:chOff x="3564000" y="3357720"/>
            <a:chExt cx="1224000" cy="1440"/>
          </a:xfrm>
        </p:grpSpPr>
        <p:sp>
          <p:nvSpPr>
            <p:cNvPr id="282" name="Line 7"/>
            <p:cNvSpPr/>
            <p:nvPr/>
          </p:nvSpPr>
          <p:spPr>
            <a:xfrm>
              <a:off x="3564000" y="3357720"/>
              <a:ext cx="1224000" cy="1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564000" y="3357720"/>
              <a:ext cx="122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8"/>
          <p:cNvSpPr/>
          <p:nvPr/>
        </p:nvSpPr>
        <p:spPr>
          <a:xfrm>
            <a:off x="3492360" y="2898720"/>
            <a:ext cx="17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98560" y="1773360"/>
            <a:ext cx="863640" cy="360"/>
            <a:chOff x="898560" y="1773360"/>
            <a:chExt cx="863640" cy="360"/>
          </a:xfrm>
        </p:grpSpPr>
        <p:sp>
          <p:nvSpPr>
            <p:cNvPr id="286" name="Line 9"/>
            <p:cNvSpPr/>
            <p:nvPr/>
          </p:nvSpPr>
          <p:spPr>
            <a:xfrm>
              <a:off x="898560" y="1773360"/>
              <a:ext cx="8636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898560" y="177336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3"/>
          <p:cNvSpPr txBox="1"/>
          <p:nvPr/>
        </p:nvSpPr>
        <p:spPr>
          <a:xfrm rot="589200">
            <a:off x="691920" y="601560"/>
            <a:ext cx="331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较思考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109520" y="34639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当一个变量确定一个值时，另一个变量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116000" y="227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.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每个变化的过程中都存在着          个变量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291280" y="2637000"/>
            <a:ext cx="865080" cy="360"/>
            <a:chOff x="5291280" y="2637000"/>
            <a:chExt cx="865080" cy="360"/>
          </a:xfrm>
        </p:grpSpPr>
        <p:sp>
          <p:nvSpPr>
            <p:cNvPr id="293" name="Line 7"/>
            <p:cNvSpPr/>
            <p:nvPr/>
          </p:nvSpPr>
          <p:spPr>
            <a:xfrm>
              <a:off x="5291280" y="2637000"/>
              <a:ext cx="86508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291280" y="263700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116000" y="4508640"/>
            <a:ext cx="2879640" cy="360"/>
            <a:chOff x="1116000" y="4508640"/>
            <a:chExt cx="2879640" cy="360"/>
          </a:xfrm>
        </p:grpSpPr>
        <p:sp>
          <p:nvSpPr>
            <p:cNvPr id="296" name="Line 8"/>
            <p:cNvSpPr/>
            <p:nvPr/>
          </p:nvSpPr>
          <p:spPr>
            <a:xfrm>
              <a:off x="1116000" y="4508640"/>
              <a:ext cx="2879640" cy="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1116000" y="450864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9"/>
          <p:cNvSpPr/>
          <p:nvPr/>
        </p:nvSpPr>
        <p:spPr>
          <a:xfrm>
            <a:off x="1116000" y="4162320"/>
            <a:ext cx="54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唯一 确定的值与其对应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5435640" y="21891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2:36:2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3:3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