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CAC-F416-4BFD-B580-04BC14C7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894-DD23-4652-975E-83F1E02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674-27C2-46FA-94E4-40E52B9B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F67-97FF-4935-9890-36EACA6D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26F-C2E1-4FF9-8D9D-9CE1EA27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55F-F519-48CA-A55A-EA37CBF3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E46-CBA1-484A-BD5F-653816DC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301-4D53-46CA-90ED-989EC403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E5D-1CDE-4F27-AB89-5CA0A87D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9BC-D3EE-4D78-B708-F0EBBCA6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164-F28F-4BFF-93D2-347A7EEE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663-E882-4FFD-8D23-7206CB9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87D8-A620-495B-AAF3-C1852A5B7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523880" y="1295280"/>
            <a:ext cx="67820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笔算乘法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734200" y="61722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7C6-E083-4BEF-89CF-07264ECB5B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3"/>
          <p:cNvSpPr/>
          <p:nvPr/>
        </p:nvSpPr>
        <p:spPr>
          <a:xfrm>
            <a:off x="571500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笔算乘法例1"/>
          <p:cNvPicPr/>
          <p:nvPr/>
        </p:nvPicPr>
        <p:blipFill>
          <a:blip r:embed="rId1"/>
          <a:stretch/>
        </p:blipFill>
        <p:spPr>
          <a:xfrm>
            <a:off x="1676520" y="609480"/>
            <a:ext cx="6933960" cy="31273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87440" y="4287960"/>
            <a:ext cx="21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669320" y="4759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060280" y="5442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022040" y="5459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043000" y="6107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697040" y="611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 flipV="1">
            <a:off x="2251080" y="52462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H="1" flipV="1">
            <a:off x="1980720" y="52574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60400" y="5653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33684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4533120" y="4738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4538160" y="5421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8858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92408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45608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V="1">
            <a:off x="4765680" y="52261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 flipV="1">
            <a:off x="4804560" y="5256000"/>
            <a:ext cx="257400" cy="2826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19400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6384960" y="4267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盒的枝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7612920" y="4952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7204320" y="5421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4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6778440" y="5438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832440" y="6054840"/>
            <a:ext cx="15242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797220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76262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7277040" y="608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920880" y="60516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3784680" y="605484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未标题-1"/>
          <p:cNvPicPr/>
          <p:nvPr/>
        </p:nvPicPr>
        <p:blipFill>
          <a:blip r:embed="rId1"/>
          <a:stretch/>
        </p:blipFill>
        <p:spPr>
          <a:xfrm>
            <a:off x="2590920" y="2260440"/>
            <a:ext cx="3352680" cy="19479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2701800" y="685800"/>
            <a:ext cx="49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李叔叔从某城市乘火车去北京用了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火车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小时约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45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该城市到北京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823480" y="473868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5×1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　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966960" y="56037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笔算乘法1"/>
          <p:cNvPicPr/>
          <p:nvPr/>
        </p:nvPicPr>
        <p:blipFill>
          <a:blip r:embed="rId1"/>
          <a:srcRect l="14632" t="40534" r="71626" b="36245"/>
          <a:stretch/>
        </p:blipFill>
        <p:spPr>
          <a:xfrm>
            <a:off x="1752480" y="914400"/>
            <a:ext cx="9525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笔算乘法1"/>
          <p:cNvPicPr/>
          <p:nvPr/>
        </p:nvPicPr>
        <p:blipFill>
          <a:blip r:embed="rId2"/>
          <a:srcRect l="51305" t="43759" r="34954" b="34308"/>
          <a:stretch/>
        </p:blipFill>
        <p:spPr>
          <a:xfrm>
            <a:off x="3962520" y="4038480"/>
            <a:ext cx="90792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笔算乘法1"/>
          <p:cNvPicPr/>
          <p:nvPr/>
        </p:nvPicPr>
        <p:blipFill>
          <a:blip r:embed="rId3"/>
          <a:srcRect l="65977" t="40534" r="20282" b="36889"/>
          <a:stretch/>
        </p:blipFill>
        <p:spPr>
          <a:xfrm>
            <a:off x="6095880" y="4419720"/>
            <a:ext cx="947880" cy="220968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8"/>
          <p:cNvSpPr/>
          <p:nvPr/>
        </p:nvSpPr>
        <p:spPr>
          <a:xfrm>
            <a:off x="3048120" y="838080"/>
            <a:ext cx="2590560" cy="1752840"/>
          </a:xfrm>
          <a:prstGeom prst="wedgeRoundRectCallout">
            <a:avLst>
              <a:gd name="adj1" fmla="val -49814"/>
              <a:gd name="adj2" fmla="val -91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×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1066680" y="3352680"/>
            <a:ext cx="1828800" cy="1600200"/>
          </a:xfrm>
          <a:prstGeom prst="cloudCallout">
            <a:avLst>
              <a:gd name="adj1" fmla="val 88106"/>
              <a:gd name="adj2" fmla="val 5922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用笔算比较准确，得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17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1"/>
          <p:cNvSpPr/>
          <p:nvPr/>
        </p:nvSpPr>
        <p:spPr>
          <a:xfrm>
            <a:off x="6450120" y="2971800"/>
            <a:ext cx="2361960" cy="1523880"/>
          </a:xfrm>
          <a:prstGeom prst="cloudCallout">
            <a:avLst>
              <a:gd name="adj1" fmla="val -16328"/>
              <a:gd name="adj2" fmla="val 4198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我用计算器验算过了，你算对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579760" y="114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4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964600" y="1860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76280" y="18781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33684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97468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593800" y="252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20574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97468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57472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212920" y="3062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20574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279600" y="3657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295560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257472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2193840" y="3672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老师"/>
          <p:cNvPicPr/>
          <p:nvPr/>
        </p:nvPicPr>
        <p:blipFill>
          <a:blip r:embed="rId1"/>
          <a:stretch/>
        </p:blipFill>
        <p:spPr>
          <a:xfrm>
            <a:off x="7010280" y="4343400"/>
            <a:ext cx="1086120" cy="12193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20"/>
          <p:cNvSpPr/>
          <p:nvPr/>
        </p:nvSpPr>
        <p:spPr>
          <a:xfrm>
            <a:off x="4800600" y="220968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笔算应这样算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gslc"/>
          <p:cNvPicPr/>
          <p:nvPr/>
        </p:nvPicPr>
        <p:blipFill>
          <a:blip r:embed="rId1"/>
          <a:stretch/>
        </p:blipFill>
        <p:spPr>
          <a:xfrm>
            <a:off x="2514600" y="304920"/>
            <a:ext cx="3645000" cy="1676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264840" y="2133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fencai2"/>
          <p:cNvPicPr/>
          <p:nvPr/>
        </p:nvPicPr>
        <p:blipFill>
          <a:blip r:embed="rId2"/>
          <a:stretch/>
        </p:blipFill>
        <p:spPr>
          <a:xfrm>
            <a:off x="1828800" y="2819520"/>
            <a:ext cx="3352680" cy="15238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2121840" y="4572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小时可行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老师"/>
          <p:cNvPicPr/>
          <p:nvPr/>
        </p:nvPicPr>
        <p:blipFill>
          <a:blip r:embed="rId3"/>
          <a:stretch/>
        </p:blipFill>
        <p:spPr>
          <a:xfrm>
            <a:off x="7696080" y="5334120"/>
            <a:ext cx="1086120" cy="121896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14"/>
          <p:cNvSpPr/>
          <p:nvPr/>
        </p:nvSpPr>
        <p:spPr>
          <a:xfrm>
            <a:off x="5638680" y="3276720"/>
            <a:ext cx="2881440" cy="1441440"/>
          </a:xfrm>
          <a:prstGeom prst="cloudCallout">
            <a:avLst>
              <a:gd name="adj1" fmla="val 18486"/>
              <a:gd name="adj2" fmla="val 89319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小时各行多少千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xsgs388"/>
          <p:cNvPicPr/>
          <p:nvPr/>
        </p:nvPicPr>
        <p:blipFill>
          <a:blip r:embed="rId1"/>
          <a:stretch/>
        </p:blipFill>
        <p:spPr>
          <a:xfrm>
            <a:off x="1828800" y="1828800"/>
            <a:ext cx="676440" cy="1314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/>
          <p:cNvSpPr/>
          <p:nvPr/>
        </p:nvSpPr>
        <p:spPr>
          <a:xfrm>
            <a:off x="2819520" y="609480"/>
            <a:ext cx="3276360" cy="1447920"/>
          </a:xfrm>
          <a:prstGeom prst="wedgeEllipseCallout">
            <a:avLst>
              <a:gd name="adj1" fmla="val -57462"/>
              <a:gd name="adj2" fmla="val 62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先口算出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×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8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再在积的末尾添两个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412800" y="2635200"/>
            <a:ext cx="36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0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480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女孩"/>
          <p:cNvPicPr/>
          <p:nvPr/>
        </p:nvPicPr>
        <p:blipFill>
          <a:blip r:embed="rId2"/>
          <a:stretch/>
        </p:blipFill>
        <p:spPr>
          <a:xfrm>
            <a:off x="7391520" y="4419720"/>
            <a:ext cx="1000080" cy="15714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4648320" y="3352680"/>
            <a:ext cx="2438280" cy="1067040"/>
          </a:xfrm>
          <a:prstGeom prst="cloudCallout">
            <a:avLst>
              <a:gd name="adj1" fmla="val 78648"/>
              <a:gd name="adj2" fmla="val 9806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楷体_GB2312"/>
              </a:rPr>
              <a:t>我喜欢这样笔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617920" y="373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3009240" y="4416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027240" y="508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2681280" y="50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2286000" y="5029200"/>
            <a:ext cx="15238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352240" y="4357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33684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364140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212560" y="5867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06×30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＝　　（千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915600" y="6095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试一试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3083040" y="533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因数和积的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ShockwaveFlash1" descr=""/>
          <p:cNvPicPr/>
          <p:nvPr/>
        </p:nvPicPr>
        <p:blipFill>
          <a:blip r:embed="rId2"/>
          <a:stretch/>
        </p:blipFill>
        <p:spPr>
          <a:xfrm>
            <a:off x="1676520" y="12193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2666880" y="2286000"/>
            <a:ext cx="42674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再见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2:02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47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