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114-7DB1-420E-8D94-3277916B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B2C-BFF6-4D67-BEE0-01D2EEA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0EE-EA88-4292-975A-87B1560E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22C-A7AF-4F73-AAD9-5FCD8F9A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755-0B19-4FD2-9741-641B65A8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FC4-1D46-41FE-ABC0-A87B2A9F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3F1-C943-495B-86BF-373B6FEB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D96-83DA-4B72-8BC0-0FA877DD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F2A-7B9D-4FFA-9463-12D587A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7DC-A452-4F88-B38A-291B9FBB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73A-E3CF-4651-B237-DBD0D76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168-6C6E-48DA-BE86-73A17C0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D942-8A3B-448D-ABEB-B549DBB4C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941720"/>
            <a:ext cx="5400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把铁路修到拉萨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692360" y="549360"/>
            <a:ext cx="53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4360" y="1916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把铁路修到拉萨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253584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9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  <a:ea typeface="黑体"/>
              </a:rPr>
              <a:t>青藏铁路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藏铁路全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里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里的海拔高程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以上，其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里的地段穿越高原常年冻土地带。其最高点位于海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，常年白雪皑皑的唐古拉山垭口，被誉为“离天最近的铁路”和“世界上最高的铁路”。因其独具特色的环保设计和建设，也被称之为中国第一条“环保铁路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藏铁路的建成通车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藏铁路，从西宁起至拉萨火车站止，全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里。其中西宁至格尔木段全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里，这一段是上世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代末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代中建成通车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格尔木至拉萨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4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里，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开工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正式通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7"/>
          <p:cNvSpPr/>
          <p:nvPr/>
        </p:nvSpPr>
        <p:spPr>
          <a:xfrm>
            <a:off x="3995640" y="3284640"/>
            <a:ext cx="1295640" cy="576000"/>
          </a:xfrm>
          <a:prstGeom prst="wedgeRoundRectCallout">
            <a:avLst>
              <a:gd name="adj1" fmla="val -117157"/>
              <a:gd name="adj2" fmla="val 8195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海拔最高的车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5724360" y="2060640"/>
            <a:ext cx="1297080" cy="647640"/>
          </a:xfrm>
          <a:prstGeom prst="wedgeRoundRectCallout">
            <a:avLst>
              <a:gd name="adj1" fmla="val -110222"/>
              <a:gd name="adj2" fmla="val -732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长的高原隧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692360" y="836640"/>
            <a:ext cx="1511280" cy="792000"/>
          </a:xfrm>
          <a:prstGeom prst="wedgeRoundRectCallout">
            <a:avLst>
              <a:gd name="adj1" fmla="val 93907"/>
              <a:gd name="adj2" fmla="val 1708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上海拔最高的隧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韩红 - 天路.mp3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60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3059280" y="1628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1"/>
          <p:cNvSpPr/>
          <p:nvPr/>
        </p:nvSpPr>
        <p:spPr>
          <a:xfrm>
            <a:off x="639720" y="1424160"/>
            <a:ext cx="56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68FD-AD9A-46D6-975E-2B0E20A2EA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7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1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0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3:21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06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