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2.gif" ContentType="image/gif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WHOOSH.WAV" ContentType="audio/x-wav"/>
  <Override PartName="/ppt/media/image9.jpeg" ContentType="image/jpeg"/>
  <Override PartName="/ppt/media/image11.jpeg" ContentType="image/jpeg"/>
  <Override PartName="/ppt/media/image30.jpeg" ContentType="image/jpeg"/>
  <Override PartName="/ppt/media/image31.wmf" ContentType="image/x-wmf"/>
  <Override PartName="/ppt/media/image38.jpeg" ContentType="image/jpeg"/>
  <Override PartName="/ppt/media/image34.png" ContentType="image/png"/>
  <Override PartName="/ppt/media/image8.png" ContentType="image/png"/>
  <Override PartName="/ppt/media/TADA.WAV" ContentType="audio/x-wav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wmf" ContentType="image/x-wmf"/>
  <Override PartName="/ppt/media/image5.png" ContentType="image/png"/>
  <Override PartName="/ppt/media/image29.jpeg" ContentType="image/jpeg"/>
  <Override PartName="/ppt/media/image36.wmf" ContentType="image/x-wmf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13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7DC8-B2EF-4C78-BC06-C3E49729FB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4456-A0CF-4C8A-9DC1-2A9BEE19380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431F-26B1-4F1B-96C9-7CC974DA43A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A0FF-DA53-4934-88D7-5AC7737A79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6A28-0706-41B8-AA32-FE6407446B5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E735-CC3D-45B5-9175-64D93DD024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E107-011E-4398-8EF9-0B4906E7F2F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F4C7-8E1E-4EE7-99FB-EE7829DBBF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1B47-6F91-4424-AE48-8FD5DC43265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0F1F-E1F8-4163-AEEF-2FB23A498DF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086A-857A-43C4-B8C5-A83D177C45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9072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FAFA-5130-4AE0-B40C-503BE3B11BF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845B-5B7E-497C-9036-B1E87A8A49C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F8CE-E229-455A-8766-E64CCA4F9AC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4C5D-4CD3-4959-BDC8-D5EEC73B8E2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20C0-2429-4E7C-8D6D-BBE28CA627A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38080" y="45720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BEF1-0E0F-4D92-ACE4-1CFDD5D5032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EB49-1F6C-404C-83B8-ACB5E826BE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5720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BD2A-2A9E-4F9C-9AF3-D572847D5D3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137F-AADB-47CC-BF81-65A94AF0B4D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62FA-BDE6-4F60-BA27-6FC0002A7A8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2C56-7818-41CB-81A3-1CAE8391BF6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817C-C3E6-4572-A116-04508D3CED1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D49F-E7FD-4F20-A3AB-F3577DC34E6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ADB2-CEB1-4B01-A232-2E69E2867EB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1E96-247C-4613-9B75-5B3EBC1C7F3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1D47-2966-4A08-B895-37C2222A9AA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165C-B806-4722-9488-CCE8D233A92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76C3-E545-440F-95C6-48F2EAB80E7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9D44-D448-43BA-83DC-CAE7178BD79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1985-BB6B-4A2C-9523-D0DB1B7274C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50DA-3570-41F6-8D1B-74D1E0E703F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2452-B261-42B9-BE16-0EBDBB3916B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43D-5C41-4B71-9FFE-E6692A9C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2860560"/>
            <a:ext cx="7772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075-CFCA-4348-8E21-E3CF717B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769-FA03-4DF8-85E3-35E30059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190512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190512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286056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286056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286056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7F2-9AEB-4DB6-8C70-5803C317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E614-B30D-49E2-B21E-739EDB45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A2C9-E232-45B1-9E2C-A38855FB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4C8A-6169-4E7A-93F5-A205CE13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0B63-F2D3-4D1C-B346-D3912C02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8BDE-EC56-496E-8A72-6D8BFDB4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50560" y="380880"/>
            <a:ext cx="77929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721F-C7A0-4153-B1A7-FDC1E3EE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260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2AA7-72AC-48B4-BE9D-AB1A17F0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184-25F3-43D1-BACA-81D113CE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528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1D33-20C3-465F-87C4-4BA8DC6D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600" y="2860560"/>
            <a:ext cx="7772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54D8-A5B5-4073-A012-C5E4BADD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2600" y="2860560"/>
            <a:ext cx="7772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FB2B-263B-476D-9FE5-64E42E06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528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182C-BB3A-4F5A-87FA-35E6DAAA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0600" y="190512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8240" y="190512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2600" y="286056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0600" y="286056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8240" y="286056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BBFD-81E4-42C4-AE4F-5DEBE404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011-1A3F-4AA1-BE4E-28B51D0D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7E3-F0D5-4CAD-8E5F-E701FE65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5D17-20AC-4322-BE2B-740EA949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380880"/>
            <a:ext cx="77929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56D-85DD-4068-A488-E15EDC4C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9E21-6F95-48B4-AE06-FA1EE7C4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7A83-7239-4A8C-87E4-32C577C4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2860560"/>
            <a:ext cx="7772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CD6-26FB-4574-A825-A012C09F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9320" indent="-122760">
              <a:spcBef>
                <a:spcPts val="799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491400" indent="-982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687960" indent="-982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884520" indent="-982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B696-512D-447B-8C6A-3AC07BB1D5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9320" indent="-122760">
              <a:spcBef>
                <a:spcPts val="799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491400" indent="-982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687960" indent="-982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884520" indent="-982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EC6B-37C4-4728-B04D-55C51A0C4C6E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image" Target="../media/image28.wmf"/><Relationship Id="rId4" Type="http://schemas.openxmlformats.org/officeDocument/2006/relationships/audio" Target="../media/TAD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14"/>
          <p:cNvSpPr txBox="1"/>
          <p:nvPr/>
        </p:nvSpPr>
        <p:spPr>
          <a:xfrm>
            <a:off x="2239920" y="1012680"/>
            <a:ext cx="4630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 u="sng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uFillTx/>
                <a:latin typeface="华文隶书"/>
              </a:rPr>
              <a:t>背影</a:t>
            </a:r>
            <a:endParaRPr b="1" lang="en-US" sz="3200" spc="1" strike="noStrike" u="sng">
              <a:ln w="176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uFillTx/>
              <a:latin typeface="华文隶书"/>
              <a:ea typeface="华文隶书"/>
            </a:endParaRPr>
          </a:p>
        </p:txBody>
      </p:sp>
      <p:pic>
        <p:nvPicPr>
          <p:cNvPr id="90" name="Picture 19" descr="f3"/>
          <p:cNvPicPr/>
          <p:nvPr/>
        </p:nvPicPr>
        <p:blipFill>
          <a:blip r:embed="rId2"/>
          <a:stretch/>
        </p:blipFill>
        <p:spPr>
          <a:xfrm>
            <a:off x="7315200" y="45720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1"/>
          <p:cNvSpPr/>
          <p:nvPr/>
        </p:nvSpPr>
        <p:spPr>
          <a:xfrm>
            <a:off x="5651640" y="341136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隶书"/>
              </a:rPr>
              <a:t>—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隶书"/>
              </a:rPr>
              <a:t>朱自清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92" name="cjhyy.mid" descr=""/>
          <p:cNvPicPr/>
          <p:nvPr/>
        </p:nvPicPr>
        <p:blipFill>
          <a:blip r:embed="rId3"/>
          <a:stretch/>
        </p:blipFill>
        <p:spPr>
          <a:xfrm>
            <a:off x="304920" y="685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3" name="矩形 9"/>
          <p:cNvSpPr/>
          <p:nvPr/>
        </p:nvSpPr>
        <p:spPr>
          <a:xfrm>
            <a:off x="2685960" y="5373720"/>
            <a:ext cx="416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4" descr="车马客店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WordArt 3"/>
          <p:cNvSpPr txBox="1"/>
          <p:nvPr/>
        </p:nvSpPr>
        <p:spPr>
          <a:xfrm>
            <a:off x="3276720" y="533520"/>
            <a:ext cx="2000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 u="sng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808080"/>
                  </a:outerShdw>
                </a:effectLst>
                <a:uFillTx/>
                <a:latin typeface="宋体"/>
              </a:rPr>
              <a:t>背   影</a:t>
            </a:r>
            <a:endParaRPr b="1" lang="en-US" sz="4400" spc="1" strike="noStrike" u="sng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867280" y="11430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隶书"/>
              </a:rPr>
              <a:t>朱自清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80880" y="1600200"/>
            <a:ext cx="8229600" cy="35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我与父亲不相见已二年余了，我最不能忘记的是他的背影。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那年冬天，祖母死了，父亲的差使也交卸了，正是祸不单行的日子。我从北京到徐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州打算跟着父亲奔丧回家。到徐州见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着父亲，看见满院狼藉的东西，又想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起祖母，不禁簌簌地流下眼泪。父亲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说：</a:t>
            </a:r>
            <a:r>
              <a:rPr b="1" lang="zh-CN" sz="2800" spc="-1" strike="noStrike">
                <a:solidFill>
                  <a:srgbClr val="00ff00"/>
                </a:solidFill>
                <a:latin typeface="Tahoma"/>
                <a:ea typeface="黑体"/>
              </a:rPr>
              <a:t>“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事已如此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不必难过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好在天无绝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人之路！</a:t>
            </a:r>
            <a:r>
              <a:rPr b="1" lang="zh-CN" sz="2800" spc="-1" strike="noStrike">
                <a:solidFill>
                  <a:srgbClr val="00ff00"/>
                </a:solidFill>
                <a:latin typeface="Tahoma"/>
                <a:ea typeface="黑体"/>
              </a:rPr>
              <a:t>”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146" name="1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1"/>
          <p:cNvPicPr/>
          <p:nvPr/>
        </p:nvPicPr>
        <p:blipFill>
          <a:blip r:embed="rId4"/>
          <a:stretch/>
        </p:blipFill>
        <p:spPr>
          <a:xfrm>
            <a:off x="6781680" y="3048120"/>
            <a:ext cx="180972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" descr="3"/>
          <p:cNvPicPr/>
          <p:nvPr/>
        </p:nvPicPr>
        <p:blipFill>
          <a:blip r:embed="rId2"/>
          <a:stretch/>
        </p:blipFill>
        <p:spPr>
          <a:xfrm>
            <a:off x="0" y="-311040"/>
            <a:ext cx="9144000" cy="71690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533520" y="2438280"/>
            <a:ext cx="79246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回家变卖典质，父亲还了亏空；又借钱办了丧事。这些日子，家中光景很是惨淡，一半为了丧事，一半为了父亲赋闲。丧事完毕，父亲要到南京谋事，我也要回到北京念书，我们便同行。</a:t>
            </a:r>
            <a:r>
              <a:rPr b="1" lang="zh-CN" sz="3200" spc="-1" strike="noStrike">
                <a:solidFill>
                  <a:srgbClr val="e808c3"/>
                </a:solidFill>
                <a:latin typeface="黑体"/>
                <a:ea typeface="黑体"/>
              </a:rPr>
              <a:t> 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150" name="2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33" descr="浦口车站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031"/>
          <p:cNvSpPr/>
          <p:nvPr/>
        </p:nvSpPr>
        <p:spPr>
          <a:xfrm>
            <a:off x="685800" y="762120"/>
            <a:ext cx="79246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到南京时，有朋友约去游逛，勾留了一日；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第二日上午便须渡江到浦口，下午上车北去。父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亲因为事忙，本已说定不送我，叫旅馆里一个熟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识的茶房陪我同去。他再三嘱咐茶房，甚是仔细。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但他终于不放心，怕茶房不妥贴；颇踌躇了一会。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其实我那年已二十岁，北京已来往过两三次，是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没有甚么要紧的了。他踌躇了一会，终于决定还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是自己送我去。我再三劝他不必去；他只说：“不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要紧，他们去不好！”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153" name="3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685800" y="685800"/>
            <a:ext cx="79246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我们过了江，进了车站。我买票，他忙着照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看行李。行李太多了 ，得向脚夫行些小费，才可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过去。他便又忙着和他们讲价钱。我那时真是聪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明过分，总觉他说话不大漂亮，非自己插嘴不可。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但他终于讲定了价钱；就送我上车。他给我拣定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了靠车门的一张椅子；我将他给我做的紫毛大衣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铺好座位。他嘱我路上小心，夜里要警醒些，不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要受凉。又嘱托茶房好好照应我。我心里暗笑他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的迂；他们只认得钱，托他们只是白托！而且我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这样大年纪的人，难道还不能料理自己么？唉，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我现在想想，那时真是太聪明了。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155" name="4.1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" name="4.2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1"/>
                            </p:stCondLst>
                            <p:childTnLst>
                              <p:par>
                                <p:cTn id="12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0880" y="762120"/>
            <a:ext cx="8077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我说道：“爸爸，你走吧。”他往车外看了看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说：“我买几个橘子去。你就在此地，不要走动。”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我看那边月台的栅栏外有几个卖东西的等着顾客。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走到那边月台，须穿过铁道，须跳下去又爬上去。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父亲是一个胖子，走过去自然要费事些。我本来要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去的，他不肯，只好让他去。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158" name="5.1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shan03"/>
          <p:cNvPicPr/>
          <p:nvPr/>
        </p:nvPicPr>
        <p:blipFill>
          <a:blip r:embed="rId3"/>
          <a:stretch/>
        </p:blipFill>
        <p:spPr>
          <a:xfrm>
            <a:off x="3657600" y="4343400"/>
            <a:ext cx="4648320" cy="18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762120" y="762120"/>
            <a:ext cx="7848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我看见他戴着黑布小帽，穿着黑布大马褂，深青布棉袍，蹒跚地走到铁道边，慢慢探身下去，尚不大难。可是他穿过铁道 ，要爬上那边月台 ，就不容易了 。他用两手攀着上面 ，两脚再向上缩；他肥胖的身子向左微倾 ，显出努力的样子，这时我看见他的背影 ，我的泪很快地流下来了。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161" name="5.2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汉印1"/>
          <p:cNvPicPr/>
          <p:nvPr/>
        </p:nvPicPr>
        <p:blipFill>
          <a:blip r:embed="rId3"/>
          <a:stretch/>
        </p:blipFill>
        <p:spPr>
          <a:xfrm>
            <a:off x="5791320" y="4800600"/>
            <a:ext cx="236196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026"/>
          <p:cNvSpPr/>
          <p:nvPr/>
        </p:nvSpPr>
        <p:spPr>
          <a:xfrm>
            <a:off x="990720" y="990720"/>
            <a:ext cx="7696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64" name="Rectangle 1030"/>
          <p:cNvSpPr/>
          <p:nvPr/>
        </p:nvSpPr>
        <p:spPr>
          <a:xfrm>
            <a:off x="1905120" y="36576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165" name="5.4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033"/>
          <p:cNvSpPr/>
          <p:nvPr/>
        </p:nvSpPr>
        <p:spPr>
          <a:xfrm>
            <a:off x="838080" y="685800"/>
            <a:ext cx="7620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我赶紧拭干了泪，怕他看见，也怕别人看见。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我再向外看时，他已抱了朱红的橘子往回走了。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过铁道时，他先将橘子散放在地上，自己慢慢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爬下，再抱起橘子走。到这边时，我赶紧去搀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他。他和我走到车上，将橘子一股脑儿放在我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的皮大衣上。于是扑扑衣上的泥土，心里很轻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松似的。过一会说：“我走了，到那边来信！”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我望着他走出去。他走了几步，回过头看见我，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说：“进去吧，里边没人。”等他的背影混入来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来往往的人里，再找不着了，我便进来坐下，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我的眼泪又来了。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167" name="5.3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1"/>
                            </p:stCondLst>
                            <p:childTnLst>
                              <p:par>
                                <p:cTn id="15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36" descr="thumbOs120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32"/>
          <p:cNvSpPr/>
          <p:nvPr/>
        </p:nvSpPr>
        <p:spPr>
          <a:xfrm>
            <a:off x="914400" y="685800"/>
            <a:ext cx="7543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ahoma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近几年来，父亲和我都是东奔西走，家中光景是一日不如一日。他少年出外谋生，独立支持，做了许多大事。哪知老境却如此颓唐！他触目伤怀，自然情不能自已。情郁于中，自然要发之于外；家庭琐屑便往往触他之怒。他待我渐渐不同往日。但最近两年的不见，他终于忘却我的不好，只是惦记着我，惦记着我的儿子。我北来后，他写了一封信给我，信中说道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:“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我身体平安，惟膀子疼痛利害，举箸提笔诸多不便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大约大去之期不远矣。”我读到此处，在晶莹的泪光中，又看见那肥胖的、青布棉袍黑布马褂的背影。唉！我不知何时再能与他相见！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170" name="6.2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6.1.wav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1"/>
                            </p:stCondLst>
                            <p:childTnLst>
                              <p:par>
                                <p:cTn id="16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篆刻1"/>
          <p:cNvPicPr/>
          <p:nvPr/>
        </p:nvPicPr>
        <p:blipFill>
          <a:blip r:embed="rId2"/>
          <a:stretch/>
        </p:blipFill>
        <p:spPr>
          <a:xfrm>
            <a:off x="6629400" y="4724280"/>
            <a:ext cx="1847880" cy="13240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609480" y="609480"/>
            <a:ext cx="8077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导学达标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  <a:ea typeface="隶书"/>
              </a:rPr>
              <a:t> （</a:t>
            </a:r>
            <a:r>
              <a:rPr b="1" lang="zh-CN" sz="3600" spc="-1" strike="noStrike">
                <a:solidFill>
                  <a:srgbClr val="ce5f1a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阅读课文—回答问题）</a:t>
            </a:r>
            <a:endParaRPr b="1" lang="en-US" sz="36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68580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8580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划分文章部分、层次分别用</a:t>
            </a: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双竖线、单竖线。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找出本文的文眼。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父亲最后一次相见于什么时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什么地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父亲见面的背景如何？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课文写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几次流泪？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文中一共写了父亲几个背影？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76" name="Line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6" descr="thumbOs1201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38"/>
          <p:cNvSpPr/>
          <p:nvPr/>
        </p:nvSpPr>
        <p:spPr>
          <a:xfrm>
            <a:off x="457200" y="1752480"/>
            <a:ext cx="1219320" cy="3810240"/>
          </a:xfrm>
          <a:prstGeom prst="upDownArrow">
            <a:avLst>
              <a:gd name="adj1" fmla="val 50000"/>
              <a:gd name="adj2" fmla="val 6249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68580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609480" y="182880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开篇设疑 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惦记背影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思念父亲）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悲凉气氛（别时家境）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2-3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铺垫背影（细心关照）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4-5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刻画背影</a:t>
            </a:r>
            <a:r>
              <a:rPr b="1" lang="zh-CN" sz="2800" spc="-1" strike="noStrike">
                <a:solidFill>
                  <a:srgbClr val="b74e07"/>
                </a:solidFill>
                <a:latin typeface="黑体"/>
                <a:ea typeface="黑体"/>
              </a:rPr>
              <a:t>（望父买橘）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　　　　 惜别背影</a:t>
            </a:r>
            <a:r>
              <a:rPr b="1" lang="zh-CN" sz="2800" spc="-1" strike="noStrike">
                <a:solidFill>
                  <a:srgbClr val="b74e07"/>
                </a:solidFill>
                <a:latin typeface="黑体"/>
                <a:ea typeface="黑体"/>
              </a:rPr>
              <a:t>（父子分手）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别后思念 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再现背影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别后怀念）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7    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1219320" y="457200"/>
            <a:ext cx="2743200" cy="990720"/>
          </a:xfrm>
          <a:prstGeom prst="rect">
            <a:avLst/>
          </a:prstGeom>
          <a:solidFill>
            <a:srgbClr val="f3d6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隶书"/>
              </a:rPr>
              <a:t>段落层次</a:t>
            </a:r>
            <a:endParaRPr b="1" lang="en-US" sz="4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84" name="WordArt 32"/>
          <p:cNvSpPr txBox="1"/>
          <p:nvPr/>
        </p:nvSpPr>
        <p:spPr>
          <a:xfrm rot="5400000">
            <a:off x="189720" y="3390840"/>
            <a:ext cx="175284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 u="sng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uFillTx/>
                <a:latin typeface="黑体"/>
              </a:rPr>
              <a:t>父子情深</a:t>
            </a:r>
            <a:endParaRPr b="1" lang="en-US" sz="2000" spc="1" strike="noStrike" u="sng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uFillTx/>
              <a:latin typeface="黑体"/>
              <a:ea typeface="黑体"/>
            </a:endParaRPr>
          </a:p>
        </p:txBody>
      </p:sp>
      <p:sp>
        <p:nvSpPr>
          <p:cNvPr id="185" name="WordArt 33"/>
          <p:cNvSpPr txBox="1"/>
          <p:nvPr/>
        </p:nvSpPr>
        <p:spPr>
          <a:xfrm>
            <a:off x="1828800" y="3429000"/>
            <a:ext cx="1371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uFillTx/>
                <a:latin typeface="黑体"/>
              </a:rPr>
              <a:t>回忆往事</a:t>
            </a:r>
            <a:endParaRPr b="1" lang="en-US" sz="14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uFillTx/>
              <a:latin typeface="黑体"/>
              <a:ea typeface="黑体"/>
            </a:endParaRPr>
          </a:p>
        </p:txBody>
      </p:sp>
      <p:sp>
        <p:nvSpPr>
          <p:cNvPr id="186" name="WordArt 37"/>
          <p:cNvSpPr txBox="1"/>
          <p:nvPr/>
        </p:nvSpPr>
        <p:spPr>
          <a:xfrm>
            <a:off x="7010280" y="3962520"/>
            <a:ext cx="1335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 u="sng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uFillTx/>
                <a:latin typeface="宋体"/>
              </a:rPr>
              <a:t>6</a:t>
            </a:r>
            <a:endParaRPr b="1" lang="en-US" sz="2000" spc="1" strike="noStrike" u="sng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uFillTx/>
              <a:latin typeface="宋体"/>
              <a:ea typeface="宋体"/>
            </a:endParaRPr>
          </a:p>
        </p:txBody>
      </p:sp>
    </p:spTree>
  </p:cSld>
  <p:transition spd="slow">
    <p:checker dir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9"/>
          <p:cNvSpPr/>
          <p:nvPr/>
        </p:nvSpPr>
        <p:spPr>
          <a:xfrm>
            <a:off x="7020000" y="36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 u="sng">
                <a:solidFill>
                  <a:srgbClr val="ffffff"/>
                </a:solidFill>
                <a:uFillTx/>
                <a:latin typeface="Times New Roman"/>
              </a:rPr>
              <a:t>PPT</a:t>
            </a:r>
            <a:r>
              <a:rPr b="1" lang="zh-CN" sz="100" spc="-1" strike="noStrike" u="sng">
                <a:solidFill>
                  <a:srgbClr val="ffffff"/>
                </a:solidFill>
                <a:uFillTx/>
                <a:latin typeface="Times New Roman"/>
              </a:rPr>
              <a:t>模板下载：</a:t>
            </a:r>
            <a:r>
              <a:rPr b="1" lang="en-US" sz="100" spc="-1" strike="noStrike" u="sng">
                <a:solidFill>
                  <a:srgbClr val="ffffff"/>
                </a:solidFill>
                <a:uFillTx/>
                <a:latin typeface="Times New Roman"/>
              </a:rPr>
              <a:t>www.1ppt.com/moban/     </a:t>
            </a:r>
            <a:r>
              <a:rPr b="1" lang="zh-CN" sz="100" spc="-1" strike="noStrike" u="sng">
                <a:solidFill>
                  <a:srgbClr val="ffffff"/>
                </a:solidFill>
                <a:uFillTx/>
                <a:latin typeface="Times New Roman"/>
              </a:rPr>
              <a:t>行业</a:t>
            </a:r>
            <a:r>
              <a:rPr b="1" lang="en-US" sz="100" spc="-1" strike="noStrike" u="sng">
                <a:solidFill>
                  <a:srgbClr val="ffffff"/>
                </a:solidFill>
                <a:uFillTx/>
                <a:latin typeface="Times New Roman"/>
              </a:rPr>
              <a:t>PPT</a:t>
            </a:r>
            <a:r>
              <a:rPr b="1" lang="zh-CN" sz="100" spc="-1" strike="noStrike" u="sng">
                <a:solidFill>
                  <a:srgbClr val="ffffff"/>
                </a:solidFill>
                <a:uFillTx/>
                <a:latin typeface="Times New Roman"/>
              </a:rPr>
              <a:t>模板：</a:t>
            </a:r>
            <a:r>
              <a:rPr b="1" lang="en-US" sz="100" spc="-1" strike="noStrike" u="sng">
                <a:solidFill>
                  <a:srgbClr val="ffffff"/>
                </a:solidFill>
                <a:uFillTx/>
                <a:latin typeface="Times New Roman"/>
              </a:rPr>
              <a:t>www.1ppt.com/hangye/ </a:t>
            </a:r>
            <a:endParaRPr b="1" lang="en-US" sz="1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 u="sng">
                <a:solidFill>
                  <a:srgbClr val="ffffff"/>
                </a:solidFill>
                <a:uFillTx/>
                <a:latin typeface="Times New Roman"/>
              </a:rPr>
              <a:t>节日</a:t>
            </a:r>
            <a:r>
              <a:rPr b="1" lang="en-US" sz="100" spc="-1" strike="noStrike" u="sng">
                <a:solidFill>
                  <a:srgbClr val="ffffff"/>
                </a:solidFill>
                <a:uFillTx/>
                <a:latin typeface="Times New Roman"/>
              </a:rPr>
              <a:t>PPT</a:t>
            </a:r>
            <a:r>
              <a:rPr b="1" lang="zh-CN" sz="100" spc="-1" strike="noStrike" u="sng">
                <a:solidFill>
                  <a:srgbClr val="ffffff"/>
                </a:solidFill>
                <a:uFillTx/>
                <a:latin typeface="Times New Roman"/>
              </a:rPr>
              <a:t>模板：</a:t>
            </a:r>
            <a:r>
              <a:rPr b="1" lang="en-US" sz="100" spc="-1" strike="noStrike" u="sng">
                <a:solidFill>
                  <a:srgbClr val="ffffff"/>
                </a:solidFill>
                <a:uFillTx/>
                <a:latin typeface="Times New Roman"/>
              </a:rPr>
              <a:t>www.1ppt.com/jieri/           PPT</a:t>
            </a:r>
            <a:r>
              <a:rPr b="1" lang="zh-CN" sz="100" spc="-1" strike="noStrike" u="sng">
                <a:solidFill>
                  <a:srgbClr val="ffffff"/>
                </a:solidFill>
                <a:uFillTx/>
                <a:latin typeface="Times New Roman"/>
              </a:rPr>
              <a:t>素材下载：</a:t>
            </a:r>
            <a:r>
              <a:rPr b="1" lang="en-US" sz="100" spc="-1" strike="noStrike" u="sng">
                <a:solidFill>
                  <a:srgbClr val="ffffff"/>
                </a:solidFill>
                <a:uFillTx/>
                <a:latin typeface="Times New Roman"/>
              </a:rPr>
              <a:t>www.1ppt.com/sucai/</a:t>
            </a:r>
            <a:endParaRPr b="1" lang="en-US" sz="1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 u="sng">
                <a:solidFill>
                  <a:srgbClr val="ffffff"/>
                </a:solidFill>
                <a:uFillTx/>
                <a:latin typeface="Times New Roman"/>
              </a:rPr>
              <a:t>PPT</a:t>
            </a:r>
            <a:r>
              <a:rPr b="1" lang="zh-CN" sz="100" spc="-1" strike="noStrike" u="sng">
                <a:solidFill>
                  <a:srgbClr val="ffffff"/>
                </a:solidFill>
                <a:uFillTx/>
                <a:latin typeface="Times New Roman"/>
              </a:rPr>
              <a:t>背景图片：</a:t>
            </a:r>
            <a:r>
              <a:rPr b="1" lang="en-US" sz="100" spc="-1" strike="noStrike" u="sng">
                <a:solidFill>
                  <a:srgbClr val="ffffff"/>
                </a:solidFill>
                <a:uFillTx/>
                <a:latin typeface="Times New Roman"/>
              </a:rPr>
              <a:t>www.1ppt.com/beijing/      PPT</a:t>
            </a:r>
            <a:r>
              <a:rPr b="1" lang="zh-CN" sz="100" spc="-1" strike="noStrike" u="sng">
                <a:solidFill>
                  <a:srgbClr val="ffffff"/>
                </a:solidFill>
                <a:uFillTx/>
                <a:latin typeface="Times New Roman"/>
              </a:rPr>
              <a:t>图表下载：</a:t>
            </a:r>
            <a:r>
              <a:rPr b="1" lang="en-US" sz="100" spc="-1" strike="noStrike" u="sng">
                <a:solidFill>
                  <a:srgbClr val="ffffff"/>
                </a:solidFill>
                <a:uFillTx/>
                <a:latin typeface="Times New Roman"/>
              </a:rPr>
              <a:t>www.1ppt.com/tubiao/      </a:t>
            </a:r>
            <a:endParaRPr b="1" lang="en-US" sz="1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 u="sng">
                <a:solidFill>
                  <a:srgbClr val="ffffff"/>
                </a:solidFill>
                <a:uFillTx/>
                <a:latin typeface="Times New Roman"/>
              </a:rPr>
              <a:t>优秀</a:t>
            </a:r>
            <a:r>
              <a:rPr b="1" lang="en-US" sz="100" spc="-1" strike="noStrike" u="sng">
                <a:solidFill>
                  <a:srgbClr val="ffffff"/>
                </a:solidFill>
                <a:uFillTx/>
                <a:latin typeface="Times New Roman"/>
              </a:rPr>
              <a:t>PPT</a:t>
            </a:r>
            <a:r>
              <a:rPr b="1" lang="zh-CN" sz="100" spc="-1" strike="noStrike" u="sng">
                <a:solidFill>
                  <a:srgbClr val="ffffff"/>
                </a:solidFill>
                <a:uFillTx/>
                <a:latin typeface="Times New Roman"/>
              </a:rPr>
              <a:t>下载：</a:t>
            </a:r>
            <a:r>
              <a:rPr b="1" lang="en-US" sz="100" spc="-1" strike="noStrike" u="sng">
                <a:solidFill>
                  <a:srgbClr val="ffffff"/>
                </a:solidFill>
                <a:uFillTx/>
                <a:latin typeface="Times New Roman"/>
              </a:rPr>
              <a:t>www.1ppt.com/xiazai/        PPT</a:t>
            </a:r>
            <a:r>
              <a:rPr b="1" lang="zh-CN" sz="100" spc="-1" strike="noStrike" u="sng">
                <a:solidFill>
                  <a:srgbClr val="ffffff"/>
                </a:solidFill>
                <a:uFillTx/>
                <a:latin typeface="Times New Roman"/>
              </a:rPr>
              <a:t>教程： </a:t>
            </a:r>
            <a:r>
              <a:rPr b="1" lang="en-US" sz="100" spc="-1" strike="noStrike" u="sng">
                <a:solidFill>
                  <a:srgbClr val="ffffff"/>
                </a:solidFill>
                <a:uFillTx/>
                <a:latin typeface="Times New Roman"/>
              </a:rPr>
              <a:t>www.1ppt.com/powerpoint/      </a:t>
            </a:r>
            <a:endParaRPr b="1" lang="en-US" sz="1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 u="sng">
                <a:solidFill>
                  <a:srgbClr val="ffffff"/>
                </a:solidFill>
                <a:uFillTx/>
                <a:latin typeface="Times New Roman"/>
              </a:rPr>
              <a:t>Word</a:t>
            </a:r>
            <a:r>
              <a:rPr b="1" lang="zh-CN" sz="100" spc="-1" strike="noStrike" u="sng">
                <a:solidFill>
                  <a:srgbClr val="ffffff"/>
                </a:solidFill>
                <a:uFillTx/>
                <a:latin typeface="Times New Roman"/>
              </a:rPr>
              <a:t>教程： </a:t>
            </a:r>
            <a:r>
              <a:rPr b="1" lang="en-US" sz="100" spc="-1" strike="noStrike" u="sng">
                <a:solidFill>
                  <a:srgbClr val="ffffff"/>
                </a:solidFill>
                <a:uFillTx/>
                <a:latin typeface="Times New Roman"/>
              </a:rPr>
              <a:t>www.1ppt.com/word/              Excel</a:t>
            </a:r>
            <a:r>
              <a:rPr b="1" lang="zh-CN" sz="100" spc="-1" strike="noStrike" u="sng">
                <a:solidFill>
                  <a:srgbClr val="ffffff"/>
                </a:solidFill>
                <a:uFillTx/>
                <a:latin typeface="Times New Roman"/>
              </a:rPr>
              <a:t>教程：</a:t>
            </a:r>
            <a:r>
              <a:rPr b="1" lang="en-US" sz="100" spc="-1" strike="noStrike" u="sng">
                <a:solidFill>
                  <a:srgbClr val="ffffff"/>
                </a:solidFill>
                <a:uFillTx/>
                <a:latin typeface="Times New Roman"/>
              </a:rPr>
              <a:t>www.1ppt.com/excel/  </a:t>
            </a:r>
            <a:endParaRPr b="1" lang="en-US" sz="1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 u="sng">
                <a:solidFill>
                  <a:srgbClr val="ffffff"/>
                </a:solidFill>
                <a:uFillTx/>
                <a:latin typeface="Times New Roman"/>
              </a:rPr>
              <a:t>资料下载：</a:t>
            </a:r>
            <a:r>
              <a:rPr b="1" lang="en-US" sz="100" spc="-1" strike="noStrike" u="sng">
                <a:solidFill>
                  <a:srgbClr val="ffffff"/>
                </a:solidFill>
                <a:uFillTx/>
                <a:latin typeface="Times New Roman"/>
              </a:rPr>
              <a:t>www.1ppt.com/ziliao/                PPT</a:t>
            </a:r>
            <a:r>
              <a:rPr b="1" lang="zh-CN" sz="100" spc="-1" strike="noStrike" u="sng">
                <a:solidFill>
                  <a:srgbClr val="ffffff"/>
                </a:solidFill>
                <a:uFillTx/>
                <a:latin typeface="Times New Roman"/>
              </a:rPr>
              <a:t>课件下载：</a:t>
            </a:r>
            <a:r>
              <a:rPr b="1" lang="en-US" sz="100" spc="-1" strike="noStrike" u="sng">
                <a:solidFill>
                  <a:srgbClr val="ffffff"/>
                </a:solidFill>
                <a:uFillTx/>
                <a:latin typeface="Times New Roman"/>
              </a:rPr>
              <a:t>www.1ppt.com/kejian/ </a:t>
            </a:r>
            <a:endParaRPr b="1" lang="en-US" sz="1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 u="sng">
                <a:solidFill>
                  <a:srgbClr val="ffffff"/>
                </a:solidFill>
                <a:uFillTx/>
                <a:latin typeface="Times New Roman"/>
              </a:rPr>
              <a:t>范文下载：</a:t>
            </a:r>
            <a:r>
              <a:rPr b="1" lang="en-US" sz="100" spc="-1" strike="noStrike" u="sng">
                <a:solidFill>
                  <a:srgbClr val="ffffff"/>
                </a:solidFill>
                <a:uFillTx/>
                <a:latin typeface="Times New Roman"/>
              </a:rPr>
              <a:t>www.1ppt.com/fanwen/             </a:t>
            </a:r>
            <a:r>
              <a:rPr b="1" lang="zh-CN" sz="100" spc="-1" strike="noStrike" u="sng">
                <a:solidFill>
                  <a:srgbClr val="ffffff"/>
                </a:solidFill>
                <a:uFillTx/>
                <a:latin typeface="Times New Roman"/>
              </a:rPr>
              <a:t>试卷下载：</a:t>
            </a:r>
            <a:r>
              <a:rPr b="1" lang="en-US" sz="100" spc="-1" strike="noStrike" u="sng">
                <a:solidFill>
                  <a:srgbClr val="ffffff"/>
                </a:solidFill>
                <a:uFillTx/>
                <a:latin typeface="Times New Roman"/>
              </a:rPr>
              <a:t>www.1ppt.com/shiti/  </a:t>
            </a:r>
            <a:endParaRPr b="1" lang="en-US" sz="1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 u="sng">
                <a:solidFill>
                  <a:srgbClr val="ffffff"/>
                </a:solidFill>
                <a:uFillTx/>
                <a:latin typeface="Times New Roman"/>
              </a:rPr>
              <a:t>教案下载：</a:t>
            </a:r>
            <a:r>
              <a:rPr b="1" lang="en-US" sz="100" spc="-1" strike="noStrike" u="sng">
                <a:solidFill>
                  <a:srgbClr val="ffffff"/>
                </a:solidFill>
                <a:uFillTx/>
                <a:latin typeface="Times New Roman"/>
              </a:rPr>
              <a:t>www.1ppt.com/jiaoan/  </a:t>
            </a:r>
            <a:endParaRPr b="1" lang="en-US" sz="1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1600200" y="19051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15238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4c3302"/>
                </a:solidFill>
                <a:latin typeface="黑体"/>
                <a:ea typeface="黑体"/>
              </a:rPr>
              <a:t>朱自清</a:t>
            </a:r>
            <a:r>
              <a:rPr b="1" lang="zh-CN" sz="2800" spc="-1" strike="noStrike">
                <a:solidFill>
                  <a:srgbClr val="4c3302"/>
                </a:solidFill>
                <a:latin typeface="黑体"/>
                <a:ea typeface="黑体"/>
              </a:rPr>
              <a:t>(1898</a:t>
            </a:r>
            <a:r>
              <a:rPr b="1" lang="zh-CN" sz="2800" spc="-1" strike="noStrike">
                <a:solidFill>
                  <a:srgbClr val="4c3302"/>
                </a:solidFill>
                <a:latin typeface="黑体"/>
                <a:ea typeface="黑体"/>
              </a:rPr>
              <a:t>－</a:t>
            </a:r>
            <a:r>
              <a:rPr b="1" lang="zh-CN" sz="2800" spc="-1" strike="noStrike">
                <a:solidFill>
                  <a:srgbClr val="4c3302"/>
                </a:solidFill>
                <a:latin typeface="黑体"/>
                <a:ea typeface="黑体"/>
              </a:rPr>
              <a:t>1948),</a:t>
            </a:r>
            <a:r>
              <a:rPr b="1" lang="zh-CN" sz="2800" spc="-1" strike="noStrike">
                <a:solidFill>
                  <a:srgbClr val="4c3302"/>
                </a:solidFill>
                <a:latin typeface="黑体"/>
                <a:ea typeface="黑体"/>
              </a:rPr>
              <a:t>原名朱自华，字佩弦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号秋实，江苏东海人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中国现代散文家、诗人、教授、民主战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主要作品有诗歌散文集《踪迹》，散文集《背影》、《欧游杂记》等。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《背影》是朱自清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第一本散文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１９２８年１０月由开明书店出版。并有序文一篇：《论现代中国的小品文》。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它是一篇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记实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散文。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97" name="Picture 4" descr="2222"/>
          <p:cNvPicPr/>
          <p:nvPr/>
        </p:nvPicPr>
        <p:blipFill>
          <a:blip r:embed="rId2"/>
          <a:stretch/>
        </p:blipFill>
        <p:spPr>
          <a:xfrm>
            <a:off x="6248520" y="1600200"/>
            <a:ext cx="2498760" cy="3402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1371600" y="380880"/>
            <a:ext cx="2362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e300a"/>
                </a:solidFill>
                <a:latin typeface="Tahoma"/>
                <a:ea typeface="黑体"/>
              </a:rPr>
              <a:t>朱自清</a:t>
            </a:r>
            <a:endParaRPr b="1" lang="en-US" sz="4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400800" y="5105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ahoma"/>
              </a:rPr>
              <a:t>二十年代的朱自清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p:transition spd="slow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0" descr="thumbOs120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685800" y="1676520"/>
            <a:ext cx="72388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请找出本文的文眼。</a:t>
            </a:r>
            <a:endParaRPr b="1" lang="en-US" sz="36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6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父亲最后一次相见于什么时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什么地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838080" y="533520"/>
            <a:ext cx="6096240" cy="6858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  <a:ea typeface="隶书"/>
              </a:rPr>
              <a:t>导学达标——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  <a:ea typeface="隶书"/>
              </a:rPr>
              <a:t>解决问题</a:t>
            </a:r>
            <a:endParaRPr b="1" lang="en-US" sz="4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1066680" y="2362320"/>
            <a:ext cx="5943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黑体"/>
                <a:ea typeface="黑体"/>
              </a:rPr>
              <a:t>（我最不能忘记的是他的背影。）</a:t>
            </a:r>
            <a:endParaRPr b="1" lang="en-US" sz="4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p:transition>
    <p:cover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6" descr="thumbOs120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685800" y="1676520"/>
            <a:ext cx="81532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与父亲最后一次相见于什么时候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什么地点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1" lang="en-US" sz="40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父亲见面的背景如何？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1219320" y="457200"/>
            <a:ext cx="5638680" cy="685800"/>
          </a:xfrm>
          <a:prstGeom prst="rect">
            <a:avLst/>
          </a:prstGeom>
          <a:noFill/>
          <a:ln w="28440">
            <a:solidFill>
              <a:srgbClr val="ff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  <a:ea typeface="隶书"/>
              </a:rPr>
              <a:t>导学达标——解决问题</a:t>
            </a:r>
            <a:endParaRPr b="1" lang="en-US" sz="4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194" name="Object 17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3200400" cy="30020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9"/>
          <p:cNvSpPr/>
          <p:nvPr/>
        </p:nvSpPr>
        <p:spPr>
          <a:xfrm>
            <a:off x="609480" y="289548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黑体"/>
                <a:ea typeface="黑体"/>
              </a:rPr>
              <a:t>（二年前的冬天</a:t>
            </a:r>
            <a:r>
              <a:rPr b="1" lang="zh-CN" sz="4800" spc="-1" strike="noStrike">
                <a:solidFill>
                  <a:srgbClr val="ff6600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ff6600"/>
                </a:solidFill>
                <a:latin typeface="黑体"/>
                <a:ea typeface="黑体"/>
              </a:rPr>
              <a:t>徐州</a:t>
            </a:r>
            <a:r>
              <a:rPr b="1" lang="zh-CN" sz="4800" spc="-1" strike="noStrike">
                <a:solidFill>
                  <a:srgbClr val="ff6600"/>
                </a:solidFill>
                <a:latin typeface="黑体"/>
                <a:ea typeface="黑体"/>
              </a:rPr>
              <a:t>)</a:t>
            </a:r>
            <a:endParaRPr b="1" lang="en-US" sz="4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p:transition spd="med">
    <p:split dir="in" orient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8" descr="thumbOs120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/>
          <p:cNvSpPr/>
          <p:nvPr/>
        </p:nvSpPr>
        <p:spPr>
          <a:xfrm>
            <a:off x="685800" y="175248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与父亲见面的背景如何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   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课文写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几次流泪？</a:t>
            </a:r>
            <a:endParaRPr b="1" lang="en-US" sz="36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762120" y="457200"/>
            <a:ext cx="5790960" cy="685800"/>
          </a:xfrm>
          <a:prstGeom prst="rect">
            <a:avLst/>
          </a:prstGeom>
          <a:noFill/>
          <a:ln w="28440">
            <a:solidFill>
              <a:srgbClr val="cc00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  <a:ea typeface="隶书"/>
              </a:rPr>
              <a:t>导学达标——解决问题</a:t>
            </a:r>
            <a:endParaRPr b="1" lang="en-US" sz="4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1523880" y="2286000"/>
            <a:ext cx="632484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  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a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祖母死了 </a:t>
            </a:r>
            <a:endParaRPr b="1" lang="en-US" sz="40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  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b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父亲的差使也交卸了</a:t>
            </a:r>
            <a:endParaRPr b="1" lang="en-US" sz="40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1" lang="en-US" sz="40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祸不单行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家境惨淡）</a:t>
            </a:r>
            <a:endParaRPr b="1" lang="en-US" sz="40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01" name="AutoShape 17"/>
          <p:cNvSpPr/>
          <p:nvPr/>
        </p:nvSpPr>
        <p:spPr>
          <a:xfrm>
            <a:off x="4495680" y="3581280"/>
            <a:ext cx="1067040" cy="762120"/>
          </a:xfrm>
          <a:prstGeom prst="downArrow">
            <a:avLst>
              <a:gd name="adj1" fmla="val 50000"/>
              <a:gd name="adj2" fmla="val 25000"/>
            </a:avLst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p:transition spd="slow">
    <p:zoom dir="in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5" descr="thumbOs0905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914400" y="1447920"/>
            <a:ext cx="746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课文写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几次流泪？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文中一共写了父亲几个背影？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1219320" y="457200"/>
            <a:ext cx="5562360" cy="685800"/>
          </a:xfrm>
          <a:prstGeom prst="rect">
            <a:avLst/>
          </a:prstGeom>
          <a:noFill/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  <a:ea typeface="隶书"/>
              </a:rPr>
              <a:t>导学达标——解决问题</a:t>
            </a:r>
            <a:endParaRPr b="1" lang="en-US" sz="4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990720" y="1981080"/>
            <a:ext cx="74674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悲哀之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：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见父亲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睹家境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想祖母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b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感动之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：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望亲买橘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父子离别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c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伤心之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：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再现背影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泪光莹莹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206" name="Object 17" descr=""/>
          <p:cNvPicPr/>
          <p:nvPr/>
        </p:nvPicPr>
        <p:blipFill>
          <a:blip r:embed="rId3"/>
          <a:stretch/>
        </p:blipFill>
        <p:spPr>
          <a:xfrm>
            <a:off x="7010280" y="4343400"/>
            <a:ext cx="1447920" cy="2122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990720" y="1752480"/>
            <a:ext cx="739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文中一共写了父亲几个背影？</a:t>
            </a:r>
            <a:endParaRPr b="1" lang="en-US" sz="40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1219320" y="457200"/>
            <a:ext cx="5715000" cy="6858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  <a:ea typeface="隶书"/>
              </a:rPr>
              <a:t>导学达标——解决问题</a:t>
            </a:r>
            <a:endParaRPr b="1" lang="en-US" sz="4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990720" y="266688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&lt;1&gt;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黑体"/>
              </a:rPr>
              <a:t>惦记背影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（思念父亲）</a:t>
            </a:r>
            <a:endParaRPr b="1" lang="en-US" sz="36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&lt;2&gt;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黑体"/>
              </a:rPr>
              <a:t>刻画背影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（望父买橘）</a:t>
            </a:r>
            <a:endParaRPr b="1" lang="en-US" sz="36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&lt;3&gt;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黑体"/>
              </a:rPr>
              <a:t>惜别背影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（父子分手）</a:t>
            </a:r>
            <a:endParaRPr b="1" lang="en-US" sz="36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&lt;4&gt;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黑体"/>
              </a:rPr>
              <a:t>再现背影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（别后怀念）</a:t>
            </a:r>
            <a:endParaRPr b="1" lang="en-US" sz="36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p:transition spd="slow">
    <p:strips dir="r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0" descr="thumbOs1202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2"/>
          <p:cNvSpPr/>
          <p:nvPr/>
        </p:nvSpPr>
        <p:spPr>
          <a:xfrm>
            <a:off x="457200" y="1752480"/>
            <a:ext cx="1219320" cy="3886200"/>
          </a:xfrm>
          <a:prstGeom prst="upDownArrow">
            <a:avLst>
              <a:gd name="adj1" fmla="val 50000"/>
              <a:gd name="adj2" fmla="val 63744"/>
            </a:avLst>
          </a:prstGeom>
          <a:solidFill>
            <a:srgbClr val="f3d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68580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开篇设疑 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惦记背影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思念父亲）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悲凉气氛（别时家境）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2-3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铺垫背影（细心关照）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4-5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刻画背影</a:t>
            </a:r>
            <a:r>
              <a:rPr b="1" lang="zh-CN" sz="2800" spc="-1" strike="noStrike">
                <a:solidFill>
                  <a:srgbClr val="b74e07"/>
                </a:solidFill>
                <a:latin typeface="黑体"/>
                <a:ea typeface="黑体"/>
              </a:rPr>
              <a:t>（望父买橘）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　　　　 惜别背影</a:t>
            </a:r>
            <a:r>
              <a:rPr b="1" lang="zh-CN" sz="2800" spc="-1" strike="noStrike">
                <a:solidFill>
                  <a:srgbClr val="b74e07"/>
                </a:solidFill>
                <a:latin typeface="黑体"/>
                <a:ea typeface="黑体"/>
              </a:rPr>
              <a:t>（父子分手）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别后思念 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再现背影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别后怀念）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7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1219320" y="45720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导学达标——文章分析</a:t>
            </a:r>
            <a:endParaRPr b="1" lang="en-US" sz="4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15" name="WordArt 17"/>
          <p:cNvSpPr txBox="1"/>
          <p:nvPr/>
        </p:nvSpPr>
        <p:spPr>
          <a:xfrm rot="5400000">
            <a:off x="189720" y="3619440"/>
            <a:ext cx="175284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 u="sng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uFillTx/>
                <a:latin typeface="黑体"/>
              </a:rPr>
              <a:t>父子情深</a:t>
            </a:r>
            <a:endParaRPr b="1" lang="en-US" sz="2000" spc="1" strike="noStrike" u="sng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uFillTx/>
              <a:latin typeface="黑体"/>
              <a:ea typeface="黑体"/>
            </a:endParaRPr>
          </a:p>
        </p:txBody>
      </p:sp>
      <p:sp>
        <p:nvSpPr>
          <p:cNvPr id="216" name="WordArt 18"/>
          <p:cNvSpPr txBox="1"/>
          <p:nvPr/>
        </p:nvSpPr>
        <p:spPr>
          <a:xfrm>
            <a:off x="1828800" y="3581280"/>
            <a:ext cx="1371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uFillTx/>
                <a:latin typeface="黑体"/>
              </a:rPr>
              <a:t>回忆往事</a:t>
            </a:r>
            <a:endParaRPr b="1" lang="en-US" sz="14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uFillTx/>
              <a:latin typeface="黑体"/>
              <a:ea typeface="黑体"/>
            </a:endParaRPr>
          </a:p>
        </p:txBody>
      </p:sp>
      <p:sp>
        <p:nvSpPr>
          <p:cNvPr id="217" name="WordArt 19"/>
          <p:cNvSpPr txBox="1"/>
          <p:nvPr/>
        </p:nvSpPr>
        <p:spPr>
          <a:xfrm>
            <a:off x="7010280" y="3962520"/>
            <a:ext cx="1335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 u="sng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uFillTx/>
                <a:latin typeface="宋体"/>
              </a:rPr>
              <a:t>6</a:t>
            </a:r>
            <a:endParaRPr b="1" lang="en-US" sz="2000" spc="1" strike="noStrike" u="sng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uFillTx/>
              <a:latin typeface="宋体"/>
              <a:ea typeface="宋体"/>
            </a:endParaRPr>
          </a:p>
        </p:txBody>
      </p:sp>
    </p:spTree>
  </p:cSld>
  <p:transition spd="slow">
    <p:cover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1219320" y="6858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239529" dir="19677487" blurRad="0" rotWithShape="0">
              <a:srgbClr val="00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ahoma"/>
                <a:ea typeface="隶书"/>
              </a:rPr>
              <a:t>导学达标</a:t>
            </a:r>
            <a:endParaRPr b="1" lang="en-US" sz="54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ahoma"/>
                <a:ea typeface="隶书"/>
              </a:rPr>
              <a:t>        ——</a:t>
            </a:r>
            <a:r>
              <a:rPr b="1" lang="zh-CN" sz="5400" spc="-1" strike="noStrike">
                <a:solidFill>
                  <a:srgbClr val="333399"/>
                </a:solidFill>
                <a:latin typeface="Tahoma"/>
                <a:ea typeface="隶书"/>
              </a:rPr>
              <a:t>文章分析</a:t>
            </a:r>
            <a:endParaRPr b="1" lang="en-US" sz="5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685800" y="19810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990099"/>
                </a:solidFill>
                <a:latin typeface="黑体"/>
                <a:ea typeface="黑体"/>
              </a:rPr>
              <a:t>、课文哪两个地方着重写父亲的背影？</a:t>
            </a:r>
            <a:endParaRPr b="1" lang="en-US" sz="36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990099"/>
                </a:solidFill>
                <a:latin typeface="黑体"/>
                <a:ea typeface="黑体"/>
              </a:rPr>
              <a:t>、请找出父亲送儿子上车的过程说的四句话，并体会它所含的意思。</a:t>
            </a:r>
            <a:endParaRPr b="1" lang="en-US" sz="36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990099"/>
                </a:solidFill>
                <a:latin typeface="黑体"/>
                <a:ea typeface="黑体"/>
              </a:rPr>
              <a:t>、请简要概括课文的中心意思。</a:t>
            </a:r>
            <a:endParaRPr b="1" lang="en-US" sz="36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1219320" y="685800"/>
            <a:ext cx="327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Tahoma"/>
                <a:ea typeface="隶书"/>
              </a:rPr>
              <a:t>导学达标</a:t>
            </a:r>
            <a:endParaRPr b="1" lang="en-US" sz="4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  <a:ea typeface="隶书"/>
              </a:rPr>
              <a:t>文章分析</a:t>
            </a:r>
            <a:endParaRPr b="1" lang="en-US" sz="4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533520" y="1981080"/>
            <a:ext cx="83055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课文哪两个地方着重写父亲的背影？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找出父亲送儿子上车的过程说的四句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话，并体会它所含的意思。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838080" y="2514600"/>
            <a:ext cx="67057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父亲买橘子爬月台的时候。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b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父亲送子时，下车往回走，混入人群的时候。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p:transition spd="slow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26"/>
          <p:cNvSpPr/>
          <p:nvPr/>
        </p:nvSpPr>
        <p:spPr>
          <a:xfrm>
            <a:off x="838080" y="380880"/>
            <a:ext cx="4191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导学达标</a:t>
            </a:r>
            <a:endParaRPr b="1" lang="en-US" sz="40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——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文章分析</a:t>
            </a:r>
            <a:endParaRPr b="1" lang="en-US" sz="4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24" name="Rectangle 1037"/>
          <p:cNvSpPr/>
          <p:nvPr/>
        </p:nvSpPr>
        <p:spPr>
          <a:xfrm>
            <a:off x="762120" y="1981080"/>
            <a:ext cx="8381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找出父亲送儿子上车的过程说的四句话，并体会它所含的意思。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&lt;1&gt;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不要紧，他们去不好！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&lt;2&gt;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我买几个橘子去。你就在此地，不要走动。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&lt;3&gt;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我走了，到那边来信！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&lt;4&gt;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进去吧，里边没人。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（这些话含有着许多怜惜、体贴、依依不舍的意思）</a:t>
            </a:r>
            <a:br>
              <a:rPr sz="2800"/>
            </a:br>
            <a:r>
              <a:rPr b="1" lang="zh-CN" sz="1600" spc="-1" strike="noStrike">
                <a:solidFill>
                  <a:srgbClr val="3333cc"/>
                </a:solidFill>
                <a:latin typeface="Tahoma"/>
                <a:ea typeface="黑体"/>
              </a:rPr>
              <a:t> </a:t>
            </a:r>
            <a:endParaRPr b="1" lang="en-US" sz="16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简要概括课文的中心意思。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225" name="Object 1040" descr=""/>
          <p:cNvPicPr/>
          <p:nvPr/>
        </p:nvPicPr>
        <p:blipFill>
          <a:blip r:embed="rId2"/>
          <a:stretch/>
        </p:blipFill>
        <p:spPr>
          <a:xfrm>
            <a:off x="4495680" y="457200"/>
            <a:ext cx="3594240" cy="1387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762120" y="533520"/>
            <a:ext cx="4267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ahoma"/>
                <a:ea typeface="隶书"/>
              </a:rPr>
              <a:t>导学达标</a:t>
            </a: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ahoma"/>
                <a:ea typeface="隶书"/>
              </a:rPr>
              <a:t>——</a:t>
            </a:r>
            <a:r>
              <a:rPr b="1" lang="zh-CN" sz="4400" spc="-1" strike="noStrike">
                <a:solidFill>
                  <a:srgbClr val="333333"/>
                </a:solidFill>
                <a:latin typeface="Tahoma"/>
                <a:ea typeface="隶书"/>
              </a:rPr>
              <a:t>文章分析</a:t>
            </a: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27" name="Rectangle 13"/>
          <p:cNvSpPr/>
          <p:nvPr/>
        </p:nvSpPr>
        <p:spPr>
          <a:xfrm>
            <a:off x="380880" y="20574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请简要概括课文的中心意思。</a:t>
            </a:r>
            <a:endParaRPr b="1" lang="en-US" sz="40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16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228" name="Picture 15" descr="sf15"/>
          <p:cNvPicPr/>
          <p:nvPr/>
        </p:nvPicPr>
        <p:blipFill>
          <a:blip r:embed="rId1"/>
          <a:stretch/>
        </p:blipFill>
        <p:spPr>
          <a:xfrm>
            <a:off x="6324480" y="5257800"/>
            <a:ext cx="2171880" cy="9525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6"/>
          <p:cNvSpPr/>
          <p:nvPr/>
        </p:nvSpPr>
        <p:spPr>
          <a:xfrm>
            <a:off x="990720" y="2971800"/>
            <a:ext cx="6019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课文通过对父亲背影的描写，于叙事中表现了父亲疼爱儿子，儿子怜爱父亲，父子情深。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762120" y="4730760"/>
            <a:ext cx="9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cc"/>
                </a:solidFill>
                <a:uFillTx/>
                <a:latin typeface="Tahoma"/>
              </a:rPr>
              <a:t>更多免费</a:t>
            </a:r>
            <a:r>
              <a:rPr b="1" lang="zh-CN" sz="2000" spc="-1" strike="noStrike" u="sng">
                <a:solidFill>
                  <a:srgbClr val="3333cc"/>
                </a:solidFill>
                <a:uFillTx/>
                <a:latin typeface="Tahoma"/>
              </a:rPr>
              <a:t>PPT</a:t>
            </a:r>
            <a:r>
              <a:rPr b="1" lang="zh-CN" sz="2000" spc="-1" strike="noStrike" u="sng">
                <a:solidFill>
                  <a:srgbClr val="3333cc"/>
                </a:solidFill>
                <a:uFillTx/>
                <a:latin typeface="Tahoma"/>
              </a:rPr>
              <a:t>模板尽在：</a:t>
            </a:r>
            <a:r>
              <a:rPr b="1" lang="zh-CN" sz="2000" spc="-1" strike="noStrike" u="sng">
                <a:solidFill>
                  <a:srgbClr val="3333cc"/>
                </a:solidFill>
                <a:uFillTx/>
                <a:latin typeface="Tahoma"/>
              </a:rPr>
              <a:t>http://www.eeppt.com</a:t>
            </a:r>
            <a:endParaRPr b="1" lang="en-US" sz="2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p:transition spd="slow">
    <p:wipe dir="r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1" lang="en-US" sz="1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101" name="Picture 18" descr="thumbOs12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762120" y="685800"/>
            <a:ext cx="7543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cc"/>
                </a:solidFill>
                <a:uFillTx/>
                <a:latin typeface="Tahoma"/>
              </a:rPr>
              <a:t>教学目标：</a:t>
            </a:r>
            <a:endParaRPr b="1" lang="en-US" sz="36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、学习作者认真观察体验生活，从平凡琐事中提炼意蕴丰富的写作素材的方法。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、学习作者抓住人物在特定环境下的一个形象特征进行描写，以表现其思想性格的方法。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、着重学习在叙述和描写中抒发感情的方法，理解融于字里行间的真挚、深沉的父子之情。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477120" y="37339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762120" y="609480"/>
            <a:ext cx="3809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p:transition spd="slow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2209680" y="1676520"/>
            <a:ext cx="6019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祖母死了 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父亲失业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Times New Roman"/>
                <a:ea typeface="黑体"/>
              </a:rPr>
              <a:t>悲哀之泪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见父亲 睹家境 想祖母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Times New Roman"/>
                <a:ea typeface="黑体"/>
              </a:rPr>
              <a:t>感动之泪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望亲买橘 父子离别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Times New Roman"/>
                <a:ea typeface="黑体"/>
              </a:rPr>
              <a:t>伤心之泪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再现背影 泪光莹莹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惦记背影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思念父亲）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刻画背影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望父买橘）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惜别背影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父子分手）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再现背影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别后怀念）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1219320" y="4572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课堂小结</a:t>
            </a: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34" name="WordArt 18"/>
          <p:cNvSpPr txBox="1"/>
          <p:nvPr/>
        </p:nvSpPr>
        <p:spPr>
          <a:xfrm>
            <a:off x="685800" y="1905120"/>
            <a:ext cx="12952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 u="sng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uFillTx/>
                <a:latin typeface="黑体"/>
              </a:rPr>
              <a:t>见面背景</a:t>
            </a:r>
            <a:endParaRPr b="1" lang="en-US" sz="2800" spc="1" strike="noStrike" u="sng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uFillTx/>
              <a:latin typeface="黑体"/>
              <a:ea typeface="黑体"/>
            </a:endParaRPr>
          </a:p>
        </p:txBody>
      </p:sp>
      <p:sp>
        <p:nvSpPr>
          <p:cNvPr id="235" name="WordArt 19"/>
          <p:cNvSpPr txBox="1"/>
          <p:nvPr/>
        </p:nvSpPr>
        <p:spPr>
          <a:xfrm>
            <a:off x="685800" y="3200400"/>
            <a:ext cx="1295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 u="sng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uFillTx/>
                <a:latin typeface="黑体"/>
              </a:rPr>
              <a:t>三次流泪</a:t>
            </a:r>
            <a:endParaRPr b="1" lang="en-US" sz="2800" spc="1" strike="noStrike" u="sng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uFillTx/>
              <a:latin typeface="黑体"/>
              <a:ea typeface="黑体"/>
            </a:endParaRPr>
          </a:p>
        </p:txBody>
      </p:sp>
      <p:sp>
        <p:nvSpPr>
          <p:cNvPr id="236" name="WordArt 20"/>
          <p:cNvSpPr txBox="1"/>
          <p:nvPr/>
        </p:nvSpPr>
        <p:spPr>
          <a:xfrm>
            <a:off x="4191120" y="1752480"/>
            <a:ext cx="2514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 u="sng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uFillTx/>
                <a:latin typeface="黑体"/>
              </a:rPr>
              <a:t>(</a:t>
            </a:r>
            <a:r>
              <a:rPr b="1" lang="zh-CN" sz="2000" spc="1" strike="noStrike" u="sng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uFillTx/>
                <a:latin typeface="黑体"/>
              </a:rPr>
              <a:t>祸不单行</a:t>
            </a:r>
            <a:r>
              <a:rPr b="1" lang="en-US" sz="2000" spc="1" strike="noStrike" u="sng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uFillTx/>
                <a:latin typeface="黑体"/>
              </a:rPr>
              <a:t>,</a:t>
            </a:r>
            <a:r>
              <a:rPr b="1" lang="zh-CN" sz="2000" spc="1" strike="noStrike" u="sng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uFillTx/>
                <a:latin typeface="黑体"/>
              </a:rPr>
              <a:t>家境惨淡）</a:t>
            </a:r>
            <a:endParaRPr b="1" lang="en-US" sz="2000" spc="1" strike="noStrike" u="sng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uFillTx/>
              <a:latin typeface="黑体"/>
              <a:ea typeface="黑体"/>
            </a:endParaRPr>
          </a:p>
        </p:txBody>
      </p:sp>
      <p:sp>
        <p:nvSpPr>
          <p:cNvPr id="237" name="WordArt 21"/>
          <p:cNvSpPr txBox="1"/>
          <p:nvPr/>
        </p:nvSpPr>
        <p:spPr>
          <a:xfrm>
            <a:off x="762120" y="4952880"/>
            <a:ext cx="1295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 u="sng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uFillTx/>
                <a:latin typeface="黑体"/>
              </a:rPr>
              <a:t>四个背影</a:t>
            </a:r>
            <a:endParaRPr b="1" lang="en-US" sz="2800" spc="1" strike="noStrike" u="sng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uFillTx/>
              <a:latin typeface="黑体"/>
              <a:ea typeface="黑体"/>
            </a:endParaRPr>
          </a:p>
        </p:txBody>
      </p:sp>
    </p:spTree>
  </p:cSld>
  <p:transition spd="slow">
    <p:cover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09480" y="68580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课堂检测</a:t>
            </a: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2120" y="1814400"/>
            <a:ext cx="76197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分析句中加线的词语，揣摩父亲当时的想法：                                                                            他和我走到车上，将橘子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ahoma"/>
              </a:rPr>
              <a:t>一股脑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儿放在我的皮大衣上。于是扑扑衣上的泥土，心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ahoma"/>
              </a:rPr>
              <a:t>很轻松似的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。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对父亲“事已如此，不必难过，好在天无绝人之路！”这句话，你是怎样理解的？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5"/>
          <p:cNvSpPr/>
          <p:nvPr/>
        </p:nvSpPr>
        <p:spPr>
          <a:xfrm>
            <a:off x="685800" y="2666880"/>
            <a:ext cx="56386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下列词语组成一段话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祸不单行           狼藉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蹒跚               琐碎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触目伤怀           踌躇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914400" y="990720"/>
            <a:ext cx="2743200" cy="12952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隶书"/>
              </a:rPr>
              <a:t>作业</a:t>
            </a: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242" name="Picture 25" descr="sf17"/>
          <p:cNvPicPr/>
          <p:nvPr/>
        </p:nvPicPr>
        <p:blipFill>
          <a:blip r:embed="rId2"/>
          <a:stretch/>
        </p:blipFill>
        <p:spPr>
          <a:xfrm>
            <a:off x="7238880" y="1143000"/>
            <a:ext cx="106704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ff66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Tahoma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Tahoma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Tahoma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Tahoma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Tahoma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Tahoma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Tahoma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Tahoma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Tahoma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Tahoma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Tahoma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Tahoma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Tahoma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4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469C-478D-4EBF-B552-8EFB627359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3d6f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7"/>
          <p:cNvSpPr/>
          <p:nvPr/>
        </p:nvSpPr>
        <p:spPr>
          <a:xfrm>
            <a:off x="1066680" y="1752480"/>
            <a:ext cx="685800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、给画线字注音并解词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踌躇</a:t>
            </a:r>
            <a:endParaRPr b="1" lang="en-US" sz="4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蹒跚</a:t>
            </a:r>
            <a:endParaRPr b="1" lang="en-US" sz="4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触目伤</a:t>
            </a:r>
            <a:r>
              <a:rPr b="0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怀</a:t>
            </a:r>
            <a:endParaRPr b="1" lang="en-US" sz="4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不能自</a:t>
            </a:r>
            <a:r>
              <a:rPr b="0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已</a:t>
            </a:r>
            <a:endParaRPr b="1" lang="en-US" sz="4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3389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3333cc"/>
                </a:solidFill>
                <a:uFillTx/>
                <a:latin typeface="Tahoma"/>
              </a:rPr>
              <a:t>前提测评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6248520" y="2057400"/>
            <a:ext cx="1981080" cy="2286000"/>
          </a:xfrm>
          <a:prstGeom prst="wedgeRoundRectCallout">
            <a:avLst>
              <a:gd name="adj1" fmla="val -94231"/>
              <a:gd name="adj2" fmla="val 1402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ahoma"/>
              </a:rPr>
              <a:t>试试你的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ahoma"/>
              </a:rPr>
              <a:t>身手！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609480" y="1447920"/>
            <a:ext cx="8001000" cy="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109" name="Picture 13" descr="jiaohuan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0" y="533520"/>
            <a:ext cx="41148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762120" y="533520"/>
            <a:ext cx="73911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00"/>
                </a:solidFill>
                <a:uFillTx/>
                <a:latin typeface="Tahoma"/>
              </a:rPr>
              <a:t>踌躇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：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óu chú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犹豫。或得意的样子。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00"/>
                </a:solidFill>
                <a:uFillTx/>
                <a:latin typeface="Tahoma"/>
              </a:rPr>
              <a:t>蹒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：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án shān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腿脚不灵便，走路缓慢、                摇摆的样子。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触目伤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ahoma"/>
              </a:rPr>
              <a:t>怀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：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ái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看到（家庭败落的情况）心里感到悲伤。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怀：心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不能自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ahoma"/>
              </a:rPr>
              <a:t>己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：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ǐ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不能控制自己。 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己：停止。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5334120" y="5334120"/>
            <a:ext cx="3809880" cy="1143000"/>
          </a:xfrm>
          <a:prstGeom prst="wedgeEllipseCallout">
            <a:avLst>
              <a:gd name="adj1" fmla="val -43125"/>
              <a:gd name="adj2" fmla="val -81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ahoma"/>
                <a:ea typeface="长城粗行楷体"/>
              </a:rPr>
              <a:t>答  案</a:t>
            </a: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thumbOs12011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"/>
          <p:cNvSpPr/>
          <p:nvPr/>
        </p:nvSpPr>
        <p:spPr>
          <a:xfrm>
            <a:off x="457200" y="1619280"/>
            <a:ext cx="8305920" cy="59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21404"/>
                </a:solidFill>
                <a:latin typeface="黑体"/>
                <a:ea typeface="黑体"/>
              </a:rPr>
              <a:t>练习：给多音字注音、组词。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21404"/>
                </a:solidFill>
                <a:latin typeface="黑体"/>
                <a:ea typeface="黑体"/>
              </a:rPr>
              <a:t>奔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   ）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_____    </a:t>
            </a: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丧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（   ）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_____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(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）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_____ 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) _____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 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帖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   ）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_____     </a:t>
            </a:r>
            <a:r>
              <a:rPr b="1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栅</a:t>
            </a: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（   ）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_____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   ）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_____ 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   ）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_____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57200" y="533520"/>
            <a:ext cx="4114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876600" y="533520"/>
            <a:ext cx="1632960" cy="703440"/>
          </a:xfrm>
          <a:prstGeom prst="rect">
            <a:avLst/>
          </a:prstGeom>
          <a:solidFill>
            <a:srgbClr val="edc2fe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  <a:ea typeface="隶书"/>
              </a:rPr>
              <a:t>前提测评</a:t>
            </a:r>
            <a:endParaRPr b="1" lang="en-US" sz="4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0" y="1371600"/>
            <a:ext cx="8686800" cy="0"/>
          </a:xfrm>
          <a:prstGeom prst="line">
            <a:avLst/>
          </a:prstGeom>
          <a:ln w="19080">
            <a:solidFill>
              <a:srgbClr val="ff33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914400" y="2590920"/>
            <a:ext cx="457200" cy="1752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990720" y="4343400"/>
            <a:ext cx="457200" cy="1752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5181480" y="2590920"/>
            <a:ext cx="457200" cy="1752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5105520" y="4343400"/>
            <a:ext cx="457200" cy="1752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21" name="AutoShape 12">
            <a:hlinkClick r:id="" action="ppaction://hlinkshowjump?jump=nextslide"/>
          </p:cNvPr>
          <p:cNvSpPr/>
          <p:nvPr/>
        </p:nvSpPr>
        <p:spPr>
          <a:xfrm>
            <a:off x="7772400" y="3808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26"/>
          <p:cNvSpPr/>
          <p:nvPr/>
        </p:nvSpPr>
        <p:spPr>
          <a:xfrm>
            <a:off x="60948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  <a:ea typeface="隶书"/>
              </a:rPr>
              <a:t>前提测评</a:t>
            </a:r>
            <a:endParaRPr b="1" lang="en-US" sz="4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23" name="Rectangle 1038"/>
          <p:cNvSpPr/>
          <p:nvPr/>
        </p:nvSpPr>
        <p:spPr>
          <a:xfrm>
            <a:off x="685800" y="1600200"/>
            <a:ext cx="8153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21404"/>
                </a:solidFill>
                <a:latin typeface="黑体"/>
                <a:ea typeface="黑体"/>
              </a:rPr>
              <a:t>练习：给多音字注音、组词。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21404"/>
                </a:solidFill>
                <a:latin typeface="黑体"/>
                <a:ea typeface="黑体"/>
              </a:rPr>
              <a:t>奔 （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bēn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奔波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 丧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（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sāng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丧事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b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è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n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投奔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     （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s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à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ng )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丧气 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帖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（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tiē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妥帖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栅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（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z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à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栅栏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ti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è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字帖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     （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shān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栅极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24" name="Line 1051"/>
          <p:cNvSpPr/>
          <p:nvPr/>
        </p:nvSpPr>
        <p:spPr>
          <a:xfrm>
            <a:off x="380880" y="1371600"/>
            <a:ext cx="8153640" cy="0"/>
          </a:xfrm>
          <a:prstGeom prst="line">
            <a:avLst/>
          </a:prstGeom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25" name="AutoShape 1052"/>
          <p:cNvSpPr/>
          <p:nvPr/>
        </p:nvSpPr>
        <p:spPr>
          <a:xfrm>
            <a:off x="1295280" y="274320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26" name="AutoShape 1053"/>
          <p:cNvSpPr/>
          <p:nvPr/>
        </p:nvSpPr>
        <p:spPr>
          <a:xfrm>
            <a:off x="5486400" y="274320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27" name="AutoShape 1054"/>
          <p:cNvSpPr/>
          <p:nvPr/>
        </p:nvSpPr>
        <p:spPr>
          <a:xfrm>
            <a:off x="1219320" y="4343400"/>
            <a:ext cx="533160" cy="1295280"/>
          </a:xfrm>
          <a:custGeom>
            <a:avLst/>
            <a:gdLst>
              <a:gd name="textAreaLeft" fmla="*/ 340560 w 533160"/>
              <a:gd name="textAreaRight" fmla="*/ 533520 w 5331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28" name="AutoShape 1055"/>
          <p:cNvSpPr/>
          <p:nvPr/>
        </p:nvSpPr>
        <p:spPr>
          <a:xfrm>
            <a:off x="5791320" y="4343400"/>
            <a:ext cx="914400" cy="1371600"/>
          </a:xfrm>
          <a:custGeom>
            <a:avLst/>
            <a:gdLst>
              <a:gd name="textAreaLeft" fmla="*/ 584280 w 914400"/>
              <a:gd name="textAreaRight" fmla="*/ 914760 w 9144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29" name="AutoShape 1056"/>
          <p:cNvSpPr/>
          <p:nvPr/>
        </p:nvSpPr>
        <p:spPr>
          <a:xfrm>
            <a:off x="1143000" y="2743200"/>
            <a:ext cx="457200" cy="1143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30" name="AutoShape 1057"/>
          <p:cNvSpPr/>
          <p:nvPr/>
        </p:nvSpPr>
        <p:spPr>
          <a:xfrm>
            <a:off x="1066680" y="4343400"/>
            <a:ext cx="609840" cy="1523880"/>
          </a:xfrm>
          <a:custGeom>
            <a:avLst/>
            <a:gdLst>
              <a:gd name="textAreaLeft" fmla="*/ 389520 w 609840"/>
              <a:gd name="textAreaRight" fmla="*/ 610200 w 609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31" name="AutoShape 1058"/>
          <p:cNvSpPr/>
          <p:nvPr/>
        </p:nvSpPr>
        <p:spPr>
          <a:xfrm>
            <a:off x="5410080" y="2819520"/>
            <a:ext cx="457200" cy="1143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32" name="AutoShape 1059"/>
          <p:cNvSpPr/>
          <p:nvPr/>
        </p:nvSpPr>
        <p:spPr>
          <a:xfrm>
            <a:off x="5486400" y="4343400"/>
            <a:ext cx="457200" cy="14479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46" descr="篆刻1"/>
          <p:cNvPicPr/>
          <p:nvPr/>
        </p:nvPicPr>
        <p:blipFill>
          <a:blip r:embed="rId2"/>
          <a:stretch/>
        </p:blipFill>
        <p:spPr>
          <a:xfrm>
            <a:off x="6629400" y="4724280"/>
            <a:ext cx="1847880" cy="1324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26"/>
          <p:cNvSpPr/>
          <p:nvPr/>
        </p:nvSpPr>
        <p:spPr>
          <a:xfrm>
            <a:off x="609480" y="6094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导学达标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  <a:ea typeface="隶书"/>
              </a:rPr>
              <a:t> </a:t>
            </a:r>
            <a:endParaRPr b="1" lang="en-US" sz="4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35" name="Rectangle 1037"/>
          <p:cNvSpPr/>
          <p:nvPr/>
        </p:nvSpPr>
        <p:spPr>
          <a:xfrm>
            <a:off x="68580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36" name="Rectangle 1038"/>
          <p:cNvSpPr/>
          <p:nvPr/>
        </p:nvSpPr>
        <p:spPr>
          <a:xfrm>
            <a:off x="609480" y="1828800"/>
            <a:ext cx="78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e5f1a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阅读课文：用下列符号进行批注</a:t>
            </a:r>
            <a:endParaRPr b="1" lang="en-US" sz="36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37" name="Rectangle 1039"/>
          <p:cNvSpPr/>
          <p:nvPr/>
        </p:nvSpPr>
        <p:spPr>
          <a:xfrm>
            <a:off x="304920" y="2895480"/>
            <a:ext cx="84582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e4a8"/>
                </a:solidFill>
                <a:latin typeface="Times New Roman"/>
              </a:rPr>
              <a:t>      ▲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划分文章部分、层次分别用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双竖线、单竖线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。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▲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关键语句（或写得好的语句）用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波浪线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。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▲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有疑问的地方，用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括号或问号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。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38" name="Line 1045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2f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09480" y="1676520"/>
            <a:ext cx="8153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找出本文的文眼。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文眼就是文章的字眼儿，读出了文眼，就读　　出了中心。文眼常常出现在开头或结尾。）</a:t>
            </a:r>
            <a:endParaRPr b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父亲最后一次相见于什么时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什么地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父亲见面的背景如何？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课文写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几次流泪？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文中一共写了父亲几个背影？</a:t>
            </a: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762120" y="5335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隶书"/>
              </a:rPr>
              <a:t>请思考</a:t>
            </a:r>
            <a:endParaRPr b="1" lang="en-US" sz="4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3T03:22:19Z</dcterms:created>
  <dc:creator>第一PPT模板网-WWW.1PPT.COM</dc:creator>
  <dc:description/>
  <cp:keywords>第一PPT模板网-WWW.1PPT.COM</cp:keywords>
  <dc:language>en-US</dc:language>
  <cp:lastModifiedBy>xinxing</cp:lastModifiedBy>
  <dcterms:modified xsi:type="dcterms:W3CDTF">2017-04-16T16:07:23Z</dcterms:modified>
  <cp:revision>325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