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292A-B20A-4157-8D39-4A60FAED5C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868E-6C60-40F6-BD8F-D570999F64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D2DB-E488-4F57-B3F5-76C7415AD7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3AD-C0A7-48C5-A303-55CE6DE0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4B9-5DF7-46AA-84A4-6491D398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D5C-1917-40B0-ABC7-160E0D68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B2A-3AE0-421E-AE99-30E16AAE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F139-A6E4-4B1D-87E1-34469123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F88A-C197-40F7-8A4F-4B4C1B36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1122-73B9-4F0F-9DEA-6D1016D5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1B6E-9717-4419-B62F-8785BB56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D40B-5223-4CB9-928C-4747FFA0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D74C-341A-414E-B174-2B0F37BF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D956-DE76-4BD9-B9C5-817A5771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C8A-2118-40AC-BEFE-A5F8F543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F4FC-968D-4B1D-9DC1-57C11C29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B897-9127-4F6B-9259-8B5146F4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9B7D-2554-4481-8767-E5A35107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D0EB-E0F0-43E6-8302-451096F2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76CF-0E28-43B8-9B62-06DBC567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F06B1-5339-4937-A0BA-5C07D34E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9E4F8-C1B8-4753-9A2A-70AEFBFD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EE54B-AA24-4C7B-87FE-9488E639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B917A-53B2-465A-A0C1-37D38780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13C22-3587-409C-A820-CCBFEDBF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F6F-5873-49F7-AC08-8C4B6D91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D40AA-06E0-495A-BB85-8694D136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C9367-DCC6-40D1-ADE6-CACFF2EC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0326D-62F3-4BEA-931D-36752F83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912B9-46DF-4DA2-A554-9E4B057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5B092-7A0F-4A06-9A45-61371B0B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B6BE-97B2-4B10-B5F0-75B4C155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99C2E-95A5-4451-8122-9DC9C886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BBB-1178-42ED-88AE-87B73E19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2DB-FBD0-4C98-BD1D-749AD025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638-4A46-4380-BAE4-D766AEF1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B4F-C368-41C2-92DF-7F3C2112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20D-A69B-4299-BAEB-0FDFC72D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6A0-E5E4-4177-90AE-23A03CC4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E092-9E50-4A73-A094-0137E1CBC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2925-EE27-4349-B5F9-FCF82BF3D5DB}" type="slidenum">
              <a:rPr b="0" lang="en-US" sz="1400" spc="-1" strike="noStrike">
                <a:solidFill>
                  <a:srgbClr val="ffffe9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4F97-6C23-4CF7-AD88-8F62B625A034}" type="slidenum">
              <a:rPr b="0" lang="en-US" sz="1400" spc="-1" strike="noStrike">
                <a:solidFill>
                  <a:srgbClr val="00264c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8" descr="cw000523"/>
          <p:cNvPicPr/>
          <p:nvPr/>
        </p:nvPicPr>
        <p:blipFill>
          <a:blip r:embed="rId1"/>
          <a:srcRect l="1167" t="1051" r="0" b="0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1" name="页脚占位符 2"/>
          <p:cNvSpPr/>
          <p:nvPr/>
        </p:nvSpPr>
        <p:spPr>
          <a:xfrm>
            <a:off x="2627280" y="624852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幻灯片之家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798560" y="1203480"/>
            <a:ext cx="554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渔　家　傲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002840" y="32464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范仲淹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u=26819423,3128439806&amp;gp=0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WordArt 4"/>
          <p:cNvSpPr txBox="1"/>
          <p:nvPr/>
        </p:nvSpPr>
        <p:spPr>
          <a:xfrm>
            <a:off x="1979640" y="549360"/>
            <a:ext cx="4824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中心思想</a:t>
            </a:r>
            <a:endParaRPr b="1" lang="en-US" sz="36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44360" y="2697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渔家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首词通过写边塞的战地风光，表现了作者报国立功的英雄气慨和壮志难酬、思乡忧国的感慨情怀，同时也写出了边塞战士的艰苦生活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u=26819423,3128439806&amp;gp=0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1265400"/>
            <a:ext cx="777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“千嶂里，长烟落日孤城闭。”写出了塞外怎样的景致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900000" y="27432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群山连绵，炊烟袅袅，夕阳西下，一座孤城，表现了边塞的悲凉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09840" y="17640"/>
            <a:ext cx="153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问题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u=26819423,3128439806&amp;gp=0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怎样理解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人不寐，将军白发征夫泪。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55640" y="213372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       </a:t>
            </a: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面对浊酒一杯，映着将军花白的头发和士兵的眼泪。表现了将士壮志难酬，怀念故乡的心情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40" descr="u=26819423,3128439806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9"/>
          <p:cNvSpPr/>
          <p:nvPr/>
        </p:nvSpPr>
        <p:spPr>
          <a:xfrm>
            <a:off x="250920" y="828720"/>
            <a:ext cx="864216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边境上秋天一来风景全异，向衡阳飞去的雁群毫无留恋的情意。从四面八方传来的边地悲声随着号角响起。重重叠叠的山峰里，长烟直上落日斜照孤城紧闭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喝一杯陈酒怀念家乡远隔万里，可是燕然还未刻上平胡的功绩，回归无法预计。羌人的笛声悠扬，寒霜撒满大地。征人不能入寐，将军头发花白，战士洒下眼泪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1"/>
          <p:cNvSpPr/>
          <p:nvPr/>
        </p:nvSpPr>
        <p:spPr>
          <a:xfrm>
            <a:off x="955800" y="74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参考译文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文本框 1"/>
          <p:cNvSpPr/>
          <p:nvPr/>
        </p:nvSpPr>
        <p:spPr>
          <a:xfrm>
            <a:off x="395280" y="5983200"/>
            <a:ext cx="64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0880" y="260280"/>
            <a:ext cx="83678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本册中我们还学了范仲淹的哪篇文章？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从空间描写洞庭湖的句子是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览阴冷景物触发了迁客骚人怎样的感情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作者认为，一个人应具备怎样的情怀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做到“不以物喜，不以己悲”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渔家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从声音来写边关空旷的诗句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温庭筠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梦江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描写女子肠断的句子是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66" name="Picture 3" descr="0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earth"/>
          <p:cNvPicPr/>
          <p:nvPr/>
        </p:nvPicPr>
        <p:blipFill>
          <a:blip r:embed="rId3"/>
          <a:stretch/>
        </p:blipFill>
        <p:spPr>
          <a:xfrm>
            <a:off x="4419720" y="1941480"/>
            <a:ext cx="446040" cy="479520"/>
          </a:xfrm>
          <a:prstGeom prst="rect">
            <a:avLst/>
          </a:prstGeom>
          <a:ln w="0">
            <a:noFill/>
          </a:ln>
        </p:spPr>
      </p:pic>
      <p:sp>
        <p:nvSpPr>
          <p:cNvPr id="268" name="WordArt 5"/>
          <p:cNvSpPr txBox="1"/>
          <p:nvPr/>
        </p:nvSpPr>
        <p:spPr>
          <a:xfrm>
            <a:off x="2340000" y="119700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课间   休息</a:t>
            </a:r>
            <a:endParaRPr b="1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3733560" y="359424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欢迎各位指导！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598bbd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98bbd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2FB0-6C40-446D-8A52-6FF1C15B565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u=26819423,3128439806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808200" y="18604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12720" y="2881440"/>
            <a:ext cx="79916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　　范仲淹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969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052)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字希文，江苏吴县人。庆历三年七月，授参知政事，主持庆历改革，因守旧派阻挠而未果。次年罢政，自请外任，历知州、邓州、杭州、青州。卒谥文正。他不仅是北宋著名的政治家、军事家、文学成就亦杰然可观。散文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岳阳楼记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为千古名篇，词则能突破唐末五代词的绮靡风气。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范文正公集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词仅存五首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171440" y="2192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者简介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u=26819423,3128439806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555480" y="44280"/>
            <a:ext cx="81932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解题：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宋仁宗康定元年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作者任陕西经略副使兼知延州，抵御西夏发动的战争。他在西北边塞生活达四年之久，对边地生活与士兵的疾苦有较深的理解，治军也颇有成效。当地民谣说道：“军中有一范，西贼闻之惊破胆。”这首词就作于此时，一方面，表现出作者平息叛乱、反对侵略和巩固边防的决心和意愿，另方面，也描写了外患未除、功业未建以及久戍边地、士兵思乡等复杂矛盾的心情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7" descr="u=26819423,3128439806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450960" y="225360"/>
            <a:ext cx="2375280" cy="63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塞下秋来风景异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衡阳雁去无留意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四面边角连声起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千嶂里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长烟落日孤城闭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浊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一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家万里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燕然未勒归无计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羌笛悠悠霜满地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不寐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军白发征夫泪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-94320" y="692280"/>
            <a:ext cx="18262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渔家傲  范仲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余其松_渔家傲[范仲淹_女声朗读].mp3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793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6"/>
          <p:cNvSpPr/>
          <p:nvPr/>
        </p:nvSpPr>
        <p:spPr>
          <a:xfrm>
            <a:off x="5821200" y="1333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9" descr="u=26819423,3128439806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1224000" y="233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赏析诗歌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331640" y="15638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塞下秋来风景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211640" y="1268280"/>
            <a:ext cx="49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211640" y="981000"/>
            <a:ext cx="4932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14"/>
          <p:cNvGrpSpPr/>
          <p:nvPr/>
        </p:nvGrpSpPr>
        <p:grpSpPr>
          <a:xfrm>
            <a:off x="3995640" y="1052640"/>
            <a:ext cx="4968720" cy="1871640"/>
            <a:chOff x="3995640" y="1052640"/>
            <a:chExt cx="4968720" cy="1871640"/>
          </a:xfrm>
        </p:grpSpPr>
        <p:sp>
          <p:nvSpPr>
            <p:cNvPr id="165" name="Rectangle 13"/>
            <p:cNvSpPr/>
            <p:nvPr/>
          </p:nvSpPr>
          <p:spPr>
            <a:xfrm>
              <a:off x="4051440" y="1052640"/>
              <a:ext cx="4839120" cy="187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3995640" y="112536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塞下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点明了地点，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秋来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点明了时间，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异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字统领全词。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Rectangle 15"/>
          <p:cNvSpPr/>
          <p:nvPr/>
        </p:nvSpPr>
        <p:spPr>
          <a:xfrm>
            <a:off x="1331640" y="40114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衡阳雁去无留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8"/>
          <p:cNvGrpSpPr/>
          <p:nvPr/>
        </p:nvGrpSpPr>
        <p:grpSpPr>
          <a:xfrm>
            <a:off x="4067280" y="3213000"/>
            <a:ext cx="5761080" cy="2377440"/>
            <a:chOff x="4067280" y="3213000"/>
            <a:chExt cx="5761080" cy="2377440"/>
          </a:xfrm>
        </p:grpSpPr>
        <p:sp>
          <p:nvSpPr>
            <p:cNvPr id="169" name="Rectangle 17"/>
            <p:cNvSpPr/>
            <p:nvPr/>
          </p:nvSpPr>
          <p:spPr>
            <a:xfrm>
              <a:off x="4067280" y="3213000"/>
              <a:ext cx="4897440" cy="2376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6"/>
            <p:cNvSpPr/>
            <p:nvPr/>
          </p:nvSpPr>
          <p:spPr>
            <a:xfrm>
              <a:off x="4140360" y="3322800"/>
              <a:ext cx="5688000" cy="22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这是用拟人手法写人的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感受，突出边塞的异常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苦寒：雁尚且无留恋之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情，将士又何以忍受？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5" descr="u=26819423,3128439806&amp;gp=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" name="Rectangle 4"/>
          <p:cNvSpPr/>
          <p:nvPr/>
        </p:nvSpPr>
        <p:spPr>
          <a:xfrm>
            <a:off x="969840" y="1989000"/>
            <a:ext cx="38894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四面边声连角起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千嶂里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长烟落日孤城闭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13"/>
          <p:cNvGrpSpPr/>
          <p:nvPr/>
        </p:nvGrpSpPr>
        <p:grpSpPr>
          <a:xfrm>
            <a:off x="5003640" y="549360"/>
            <a:ext cx="2952720" cy="5111640"/>
            <a:chOff x="5003640" y="549360"/>
            <a:chExt cx="2952720" cy="5111640"/>
          </a:xfrm>
        </p:grpSpPr>
        <p:sp>
          <p:nvSpPr>
            <p:cNvPr id="175" name="Rectangle 12"/>
            <p:cNvSpPr/>
            <p:nvPr/>
          </p:nvSpPr>
          <p:spPr>
            <a:xfrm>
              <a:off x="5003640" y="549360"/>
              <a:ext cx="2952720" cy="511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5076720" y="658800"/>
              <a:ext cx="2808000" cy="25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描写边塞黄昏的苍凉景色：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边声连角起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表明战事紧，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孤城闭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暗示敌强我弱。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7"/>
          <p:cNvSpPr/>
          <p:nvPr/>
        </p:nvSpPr>
        <p:spPr>
          <a:xfrm>
            <a:off x="4427640" y="620640"/>
            <a:ext cx="2952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427640" y="620640"/>
            <a:ext cx="2952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4427640" y="692280"/>
            <a:ext cx="2952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4427640" y="620640"/>
            <a:ext cx="2952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" descr="u=26819423,3128439806&amp;gp=0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Text Box 4"/>
          <p:cNvSpPr/>
          <p:nvPr/>
        </p:nvSpPr>
        <p:spPr>
          <a:xfrm>
            <a:off x="2063160" y="679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浊酒一杯家万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331640" y="27874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燕然未勒归无计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239840" y="3233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258560" y="4732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羌管悠悠霜满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7"/>
          <p:cNvGrpSpPr/>
          <p:nvPr/>
        </p:nvGrpSpPr>
        <p:grpSpPr>
          <a:xfrm>
            <a:off x="4572000" y="260280"/>
            <a:ext cx="4376520" cy="1706760"/>
            <a:chOff x="4572000" y="260280"/>
            <a:chExt cx="4376520" cy="1706760"/>
          </a:xfrm>
        </p:grpSpPr>
        <p:sp>
          <p:nvSpPr>
            <p:cNvPr id="188" name="Rectangle 14"/>
            <p:cNvSpPr/>
            <p:nvPr/>
          </p:nvSpPr>
          <p:spPr>
            <a:xfrm>
              <a:off x="4572000" y="260280"/>
              <a:ext cx="4376520" cy="1706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5375160" y="404640"/>
              <a:ext cx="265752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浊酒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表明边塞生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活的艰苦，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家万里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表现了思乡之切。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Rectangle 10"/>
          <p:cNvSpPr/>
          <p:nvPr/>
        </p:nvSpPr>
        <p:spPr>
          <a:xfrm>
            <a:off x="6012000" y="17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4500720" y="260280"/>
            <a:ext cx="4392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4500720" y="189000"/>
            <a:ext cx="4392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4500720" y="260280"/>
            <a:ext cx="4392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4500720" y="260280"/>
            <a:ext cx="439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500720" y="189000"/>
            <a:ext cx="4392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20"/>
          <p:cNvGrpSpPr/>
          <p:nvPr/>
        </p:nvGrpSpPr>
        <p:grpSpPr>
          <a:xfrm>
            <a:off x="4572000" y="2492280"/>
            <a:ext cx="4248000" cy="1311120"/>
            <a:chOff x="4572000" y="2492280"/>
            <a:chExt cx="4248000" cy="1311120"/>
          </a:xfrm>
        </p:grpSpPr>
        <p:sp>
          <p:nvSpPr>
            <p:cNvPr id="197" name="Rectangle 19"/>
            <p:cNvSpPr/>
            <p:nvPr/>
          </p:nvSpPr>
          <p:spPr>
            <a:xfrm>
              <a:off x="4572000" y="2508120"/>
              <a:ext cx="4248000" cy="1295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18"/>
            <p:cNvSpPr/>
            <p:nvPr/>
          </p:nvSpPr>
          <p:spPr>
            <a:xfrm>
              <a:off x="4641840" y="2492280"/>
              <a:ext cx="41058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慨叹功业未建，边患未除，归乡无期。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39"/>
          <p:cNvGrpSpPr/>
          <p:nvPr/>
        </p:nvGrpSpPr>
        <p:grpSpPr>
          <a:xfrm>
            <a:off x="4572000" y="4221000"/>
            <a:ext cx="4304880" cy="1942920"/>
            <a:chOff x="4572000" y="4221000"/>
            <a:chExt cx="4304880" cy="1942920"/>
          </a:xfrm>
        </p:grpSpPr>
        <p:sp>
          <p:nvSpPr>
            <p:cNvPr id="200" name="Rectangle 38"/>
            <p:cNvSpPr/>
            <p:nvPr/>
          </p:nvSpPr>
          <p:spPr>
            <a:xfrm>
              <a:off x="4572000" y="4221000"/>
              <a:ext cx="4304880" cy="1942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1"/>
            <p:cNvSpPr/>
            <p:nvPr/>
          </p:nvSpPr>
          <p:spPr>
            <a:xfrm>
              <a:off x="5394240" y="4653360"/>
              <a:ext cx="261900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这入夜的悠悠羌音、浓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浓白霜，更使人惆怅难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眠。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4500720" y="4797360"/>
            <a:ext cx="439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4500720" y="4797360"/>
            <a:ext cx="4319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4500720" y="4797360"/>
            <a:ext cx="4392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4500720" y="4797360"/>
            <a:ext cx="4392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4500720" y="4797360"/>
            <a:ext cx="439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4427640" y="4797360"/>
            <a:ext cx="4465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8"/>
          <p:cNvSpPr/>
          <p:nvPr/>
        </p:nvSpPr>
        <p:spPr>
          <a:xfrm>
            <a:off x="4427640" y="4869000"/>
            <a:ext cx="446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5364000" y="4724280"/>
            <a:ext cx="91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4500720" y="4653000"/>
            <a:ext cx="439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1"/>
          <p:cNvSpPr/>
          <p:nvPr/>
        </p:nvSpPr>
        <p:spPr>
          <a:xfrm>
            <a:off x="5003640" y="558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2"/>
          <p:cNvSpPr/>
          <p:nvPr/>
        </p:nvSpPr>
        <p:spPr>
          <a:xfrm>
            <a:off x="2843280" y="5013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3"/>
          <p:cNvSpPr/>
          <p:nvPr/>
        </p:nvSpPr>
        <p:spPr>
          <a:xfrm>
            <a:off x="3276720" y="6165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7"/>
          <p:cNvSpPr/>
          <p:nvPr/>
        </p:nvSpPr>
        <p:spPr>
          <a:xfrm>
            <a:off x="4859280" y="566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u=26819423,3128439806&amp;gp=0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7" name="Text Box 5"/>
          <p:cNvSpPr/>
          <p:nvPr/>
        </p:nvSpPr>
        <p:spPr>
          <a:xfrm>
            <a:off x="1402920" y="2276640"/>
            <a:ext cx="210096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人不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将军白发征夫泪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716360" y="907920"/>
            <a:ext cx="3527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4788000" y="1052640"/>
            <a:ext cx="34560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10"/>
          <p:cNvGrpSpPr/>
          <p:nvPr/>
        </p:nvGrpSpPr>
        <p:grpSpPr>
          <a:xfrm>
            <a:off x="4788000" y="836640"/>
            <a:ext cx="3456000" cy="5307120"/>
            <a:chOff x="4788000" y="836640"/>
            <a:chExt cx="3456000" cy="5307120"/>
          </a:xfrm>
        </p:grpSpPr>
        <p:sp>
          <p:nvSpPr>
            <p:cNvPr id="221" name="Text Box 6"/>
            <p:cNvSpPr/>
            <p:nvPr/>
          </p:nvSpPr>
          <p:spPr>
            <a:xfrm>
              <a:off x="4840200" y="1036800"/>
              <a:ext cx="3332160" cy="1410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不寐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是将军也是征夫，流下的是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思念家乡的泪，更是功业无成、壮志未酬的英雄泪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!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4788000" y="836640"/>
              <a:ext cx="3456000" cy="53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990720" y="914400"/>
            <a:ext cx="838080" cy="3506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华文隶书"/>
              </a:rPr>
              <a:t>渔家傲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楷体"/>
              </a:rPr>
              <a:t>范仲淹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2438280" y="12193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上阕写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572000" y="380880"/>
            <a:ext cx="2057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宋体"/>
              </a:rPr>
              <a:t>衡阳雁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宋体"/>
              </a:rPr>
              <a:t>边声连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宋体"/>
              </a:rPr>
              <a:t>千嶂孤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宋体"/>
              </a:rPr>
              <a:t>长烟落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343400" y="685800"/>
            <a:ext cx="304920" cy="2209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6553080" y="685800"/>
            <a:ext cx="76320" cy="2286000"/>
          </a:xfrm>
          <a:custGeom>
            <a:avLst/>
            <a:gdLst>
              <a:gd name="textAreaLeft" fmla="*/ 0 w 76320"/>
              <a:gd name="textAreaRight" fmla="*/ 2736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6705720" y="990720"/>
            <a:ext cx="1828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渲染荒凉萧瑟气氛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2362320" y="3962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下阕抒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971800" y="1897200"/>
            <a:ext cx="762120" cy="6426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4419720" y="3352680"/>
            <a:ext cx="2666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宋体"/>
              </a:rPr>
              <a:t>家万里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宋体"/>
              </a:rPr>
              <a:t>归无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宋体"/>
              </a:rPr>
              <a:t>羌管悠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宋体"/>
              </a:rPr>
              <a:t>霜满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燕然未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11"/>
          <p:cNvSpPr/>
          <p:nvPr/>
        </p:nvSpPr>
        <p:spPr>
          <a:xfrm>
            <a:off x="4191120" y="3505320"/>
            <a:ext cx="304560" cy="1600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6858000" y="3505320"/>
            <a:ext cx="304920" cy="167616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7162920" y="36496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抒发思乡报国之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2971800" y="4724280"/>
            <a:ext cx="838080" cy="7034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泪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3352680" y="2666880"/>
            <a:ext cx="0" cy="190512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2743200" y="2590920"/>
            <a:ext cx="53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借景抒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8001000" y="1981080"/>
            <a:ext cx="0" cy="175284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90920" y="5791320"/>
            <a:ext cx="6172200" cy="6426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苍凉悲壮，                沉郁雄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3809880" y="5486400"/>
            <a:ext cx="685800" cy="30492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0"/>
          <p:cNvSpPr/>
          <p:nvPr/>
        </p:nvSpPr>
        <p:spPr>
          <a:xfrm flipH="1">
            <a:off x="7391520" y="4724280"/>
            <a:ext cx="761760" cy="114300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1" descr="BD05219_"/>
          <p:cNvPicPr/>
          <p:nvPr/>
        </p:nvPicPr>
        <p:blipFill>
          <a:blip r:embed="rId1"/>
          <a:stretch/>
        </p:blipFill>
        <p:spPr>
          <a:xfrm>
            <a:off x="5257800" y="5105520"/>
            <a:ext cx="1371600" cy="1326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34:35Z</dcterms:modified>
  <cp:revision>1</cp:revision>
  <dc:subject/>
  <dc:title>幻灯片 1</dc:title>
</cp:coreProperties>
</file>