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552-4DE3-4F35-98AE-C3CAB91E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8A4-06FF-48B0-AC54-435387D4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3BA-23B9-466B-8F55-8BFF2E02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60D-C472-4C79-8C2C-A9476766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496-4E0C-4891-8AED-DF4B7A4A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45A-59BE-48CD-8205-C8ECABC8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46EC-6A58-482A-9C27-03C4C699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D94-F457-4999-8B44-6029004F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9FF-7275-4C94-BC14-E8D63E6D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817-6DBD-4E62-A4D0-B7D50137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DA30-C138-4BA0-B8F2-5AE97AC0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C4E-4AEA-4259-AF4A-CF733539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3ECB-840F-4472-B67B-AA0CA48C6B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050920" y="765000"/>
            <a:ext cx="6085080" cy="23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式的乘除与因式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乘法公式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平方差公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26520" y="5734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0"/>
            <a:ext cx="9144000" cy="59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思维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a+b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＝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）＝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1" lang="zh-CN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则整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8199"/>
          <p:cNvSpPr/>
          <p:nvPr/>
        </p:nvSpPr>
        <p:spPr>
          <a:xfrm>
            <a:off x="2901960" y="233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"/>
          <p:cNvGrpSpPr/>
          <p:nvPr/>
        </p:nvGrpSpPr>
        <p:grpSpPr>
          <a:xfrm>
            <a:off x="0" y="38160"/>
            <a:ext cx="9355680" cy="6998760"/>
            <a:chOff x="0" y="38160"/>
            <a:chExt cx="9355680" cy="6998760"/>
          </a:xfrm>
        </p:grpSpPr>
        <p:sp>
          <p:nvSpPr>
            <p:cNvPr id="70" name="Text Box 3"/>
            <p:cNvSpPr/>
            <p:nvPr/>
          </p:nvSpPr>
          <p:spPr>
            <a:xfrm>
              <a:off x="0" y="38160"/>
              <a:ext cx="8125920" cy="682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</a:rPr>
                <a:t>创新应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如图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在边长为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正方形中挖掉一个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长为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正方形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),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把余下的部分剪成一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个矩形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如图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2).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通过计算两个图形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阴影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分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面积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验证了一个等式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这个等式是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(   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A a</a:t>
              </a:r>
              <a:r>
                <a:rPr b="1" lang="zh-CN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600" spc="-1" strike="noStrike" baseline="30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= (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) (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B(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+2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C(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D(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+2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)=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r>
                <a:rPr b="1" i="1" lang="zh-CN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4"/>
            <p:cNvGrpSpPr/>
            <p:nvPr/>
          </p:nvGrpSpPr>
          <p:grpSpPr>
            <a:xfrm>
              <a:off x="4631760" y="3522600"/>
              <a:ext cx="4723920" cy="3514320"/>
              <a:chOff x="4631760" y="3522600"/>
              <a:chExt cx="4723920" cy="3514320"/>
            </a:xfrm>
          </p:grpSpPr>
          <p:sp>
            <p:nvSpPr>
              <p:cNvPr id="72" name="Rectangle 5"/>
              <p:cNvSpPr/>
              <p:nvPr/>
            </p:nvSpPr>
            <p:spPr>
              <a:xfrm>
                <a:off x="4997880" y="4306680"/>
                <a:ext cx="1490760" cy="204696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6"/>
              <p:cNvSpPr/>
              <p:nvPr/>
            </p:nvSpPr>
            <p:spPr>
              <a:xfrm>
                <a:off x="4997880" y="5565960"/>
                <a:ext cx="573120" cy="787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4997880" y="3834000"/>
                <a:ext cx="360" cy="472320"/>
                <a:chOff x="4997880" y="3834000"/>
                <a:chExt cx="360" cy="472320"/>
              </a:xfrm>
            </p:grpSpPr>
            <p:sp>
              <p:nvSpPr>
                <p:cNvPr id="75" name="Line 7"/>
                <p:cNvSpPr/>
                <p:nvPr/>
              </p:nvSpPr>
              <p:spPr>
                <a:xfrm>
                  <a:off x="4997880" y="3834000"/>
                  <a:ext cx="0" cy="47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 txBox="1"/>
                <p:nvPr/>
              </p:nvSpPr>
              <p:spPr>
                <a:xfrm>
                  <a:off x="4997880" y="3834000"/>
                  <a:ext cx="360" cy="4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6489000" y="3834000"/>
                <a:ext cx="360" cy="472320"/>
                <a:chOff x="6489000" y="3834000"/>
                <a:chExt cx="360" cy="472320"/>
              </a:xfrm>
            </p:grpSpPr>
            <p:sp>
              <p:nvSpPr>
                <p:cNvPr id="78" name="Line 8"/>
                <p:cNvSpPr/>
                <p:nvPr/>
              </p:nvSpPr>
              <p:spPr>
                <a:xfrm>
                  <a:off x="6489000" y="3834000"/>
                  <a:ext cx="0" cy="47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 txBox="1"/>
                <p:nvPr/>
              </p:nvSpPr>
              <p:spPr>
                <a:xfrm>
                  <a:off x="6489000" y="3834000"/>
                  <a:ext cx="360" cy="4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4768920" y="5565960"/>
                <a:ext cx="228960" cy="360"/>
                <a:chOff x="4768920" y="5565960"/>
                <a:chExt cx="228960" cy="360"/>
              </a:xfrm>
            </p:grpSpPr>
            <p:sp>
              <p:nvSpPr>
                <p:cNvPr id="81" name="Line 9"/>
                <p:cNvSpPr/>
                <p:nvPr/>
              </p:nvSpPr>
              <p:spPr>
                <a:xfrm flipH="1">
                  <a:off x="4768920" y="5565960"/>
                  <a:ext cx="228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 txBox="1"/>
                <p:nvPr/>
              </p:nvSpPr>
              <p:spPr>
                <a:xfrm>
                  <a:off x="4768920" y="5565960"/>
                  <a:ext cx="22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4768920" y="6353640"/>
                <a:ext cx="228960" cy="360"/>
                <a:chOff x="4768920" y="6353640"/>
                <a:chExt cx="228960" cy="360"/>
              </a:xfrm>
            </p:grpSpPr>
            <p:sp>
              <p:nvSpPr>
                <p:cNvPr id="84" name="Line 10"/>
                <p:cNvSpPr/>
                <p:nvPr/>
              </p:nvSpPr>
              <p:spPr>
                <a:xfrm flipH="1">
                  <a:off x="4768920" y="6353640"/>
                  <a:ext cx="228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 txBox="1"/>
                <p:nvPr/>
              </p:nvSpPr>
              <p:spPr>
                <a:xfrm>
                  <a:off x="4768920" y="6353640"/>
                  <a:ext cx="228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883040" y="5565960"/>
                <a:ext cx="360" cy="787680"/>
                <a:chOff x="4883040" y="5565960"/>
                <a:chExt cx="360" cy="787680"/>
              </a:xfrm>
            </p:grpSpPr>
            <p:sp>
              <p:nvSpPr>
                <p:cNvPr id="87" name="Line 11"/>
                <p:cNvSpPr/>
                <p:nvPr/>
              </p:nvSpPr>
              <p:spPr>
                <a:xfrm>
                  <a:off x="4883040" y="5565960"/>
                  <a:ext cx="0" cy="787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 txBox="1"/>
                <p:nvPr/>
              </p:nvSpPr>
              <p:spPr>
                <a:xfrm>
                  <a:off x="4883040" y="5565960"/>
                  <a:ext cx="360" cy="78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4997880" y="4148640"/>
                <a:ext cx="1490760" cy="360"/>
                <a:chOff x="4997880" y="4148640"/>
                <a:chExt cx="1490760" cy="360"/>
              </a:xfrm>
            </p:grpSpPr>
            <p:sp>
              <p:nvSpPr>
                <p:cNvPr id="90" name="Line 12"/>
                <p:cNvSpPr/>
                <p:nvPr/>
              </p:nvSpPr>
              <p:spPr>
                <a:xfrm>
                  <a:off x="4997880" y="4148640"/>
                  <a:ext cx="149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 txBox="1"/>
                <p:nvPr/>
              </p:nvSpPr>
              <p:spPr>
                <a:xfrm>
                  <a:off x="4997880" y="4148640"/>
                  <a:ext cx="149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Text Box 13"/>
              <p:cNvSpPr/>
              <p:nvPr/>
            </p:nvSpPr>
            <p:spPr>
              <a:xfrm>
                <a:off x="4631760" y="54871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Text Box 14"/>
              <p:cNvSpPr/>
              <p:nvPr/>
            </p:nvSpPr>
            <p:spPr>
              <a:xfrm>
                <a:off x="5573160" y="35226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15"/>
              <p:cNvSpPr/>
              <p:nvPr/>
            </p:nvSpPr>
            <p:spPr>
              <a:xfrm>
                <a:off x="5227200" y="6510960"/>
                <a:ext cx="91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图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16"/>
              <p:cNvSpPr/>
              <p:nvPr/>
            </p:nvSpPr>
            <p:spPr>
              <a:xfrm>
                <a:off x="7291440" y="4306680"/>
                <a:ext cx="1490760" cy="204696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17"/>
              <p:cNvSpPr/>
              <p:nvPr/>
            </p:nvSpPr>
            <p:spPr>
              <a:xfrm>
                <a:off x="7291440" y="5565960"/>
                <a:ext cx="573480" cy="787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18"/>
              <p:cNvSpPr/>
              <p:nvPr/>
            </p:nvSpPr>
            <p:spPr>
              <a:xfrm>
                <a:off x="7865280" y="5565960"/>
                <a:ext cx="916920" cy="7876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9"/>
              <p:cNvSpPr/>
              <p:nvPr/>
            </p:nvSpPr>
            <p:spPr>
              <a:xfrm>
                <a:off x="8782560" y="4306680"/>
                <a:ext cx="573120" cy="12592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6946920" y="5565960"/>
                <a:ext cx="344160" cy="360"/>
                <a:chOff x="6946920" y="5565960"/>
                <a:chExt cx="344160" cy="360"/>
              </a:xfrm>
            </p:grpSpPr>
            <p:sp>
              <p:nvSpPr>
                <p:cNvPr id="100" name="Line 20"/>
                <p:cNvSpPr/>
                <p:nvPr/>
              </p:nvSpPr>
              <p:spPr>
                <a:xfrm flipH="1">
                  <a:off x="6946920" y="5565960"/>
                  <a:ext cx="34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 txBox="1"/>
                <p:nvPr/>
              </p:nvSpPr>
              <p:spPr>
                <a:xfrm>
                  <a:off x="6947280" y="5565960"/>
                  <a:ext cx="343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946920" y="6353640"/>
                <a:ext cx="344160" cy="360"/>
                <a:chOff x="6946920" y="6353640"/>
                <a:chExt cx="344160" cy="360"/>
              </a:xfrm>
            </p:grpSpPr>
            <p:sp>
              <p:nvSpPr>
                <p:cNvPr id="103" name="Line 21"/>
                <p:cNvSpPr/>
                <p:nvPr/>
              </p:nvSpPr>
              <p:spPr>
                <a:xfrm flipH="1">
                  <a:off x="6946920" y="6353640"/>
                  <a:ext cx="34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 txBox="1"/>
                <p:nvPr/>
              </p:nvSpPr>
              <p:spPr>
                <a:xfrm>
                  <a:off x="6947280" y="6353640"/>
                  <a:ext cx="343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291440" y="3991680"/>
                <a:ext cx="360" cy="314640"/>
                <a:chOff x="7291440" y="3991680"/>
                <a:chExt cx="360" cy="314640"/>
              </a:xfrm>
            </p:grpSpPr>
            <p:sp>
              <p:nvSpPr>
                <p:cNvPr id="106" name="Line 22"/>
                <p:cNvSpPr/>
                <p:nvPr/>
              </p:nvSpPr>
              <p:spPr>
                <a:xfrm>
                  <a:off x="7291440" y="3991680"/>
                  <a:ext cx="0" cy="31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 txBox="1"/>
                <p:nvPr/>
              </p:nvSpPr>
              <p:spPr>
                <a:xfrm>
                  <a:off x="7291440" y="3991680"/>
                  <a:ext cx="360" cy="31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8782560" y="3834000"/>
                <a:ext cx="360" cy="472320"/>
                <a:chOff x="8782560" y="3834000"/>
                <a:chExt cx="360" cy="472320"/>
              </a:xfrm>
            </p:grpSpPr>
            <p:sp>
              <p:nvSpPr>
                <p:cNvPr id="109" name="Line 23"/>
                <p:cNvSpPr/>
                <p:nvPr/>
              </p:nvSpPr>
              <p:spPr>
                <a:xfrm>
                  <a:off x="8782560" y="3834000"/>
                  <a:ext cx="0" cy="47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 txBox="1"/>
                <p:nvPr/>
              </p:nvSpPr>
              <p:spPr>
                <a:xfrm>
                  <a:off x="8782560" y="3834000"/>
                  <a:ext cx="360" cy="47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176960" y="5565960"/>
                <a:ext cx="360" cy="787680"/>
                <a:chOff x="7176960" y="5565960"/>
                <a:chExt cx="360" cy="787680"/>
              </a:xfrm>
            </p:grpSpPr>
            <p:sp>
              <p:nvSpPr>
                <p:cNvPr id="112" name="Line 24"/>
                <p:cNvSpPr/>
                <p:nvPr/>
              </p:nvSpPr>
              <p:spPr>
                <a:xfrm>
                  <a:off x="7176960" y="5565960"/>
                  <a:ext cx="0" cy="787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 txBox="1"/>
                <p:nvPr/>
              </p:nvSpPr>
              <p:spPr>
                <a:xfrm>
                  <a:off x="7176960" y="5565960"/>
                  <a:ext cx="360" cy="78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291440" y="4148640"/>
                <a:ext cx="1490760" cy="360"/>
                <a:chOff x="7291440" y="4148640"/>
                <a:chExt cx="1490760" cy="360"/>
              </a:xfrm>
            </p:grpSpPr>
            <p:sp>
              <p:nvSpPr>
                <p:cNvPr id="115" name="Line 25"/>
                <p:cNvSpPr/>
                <p:nvPr/>
              </p:nvSpPr>
              <p:spPr>
                <a:xfrm>
                  <a:off x="7291440" y="4148640"/>
                  <a:ext cx="149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 txBox="1"/>
                <p:nvPr/>
              </p:nvSpPr>
              <p:spPr>
                <a:xfrm>
                  <a:off x="7291440" y="4148640"/>
                  <a:ext cx="149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Text Box 26"/>
              <p:cNvSpPr/>
              <p:nvPr/>
            </p:nvSpPr>
            <p:spPr>
              <a:xfrm>
                <a:off x="6810840" y="54871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27"/>
              <p:cNvSpPr/>
              <p:nvPr/>
            </p:nvSpPr>
            <p:spPr>
              <a:xfrm>
                <a:off x="7866720" y="36802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28"/>
              <p:cNvSpPr/>
              <p:nvPr/>
            </p:nvSpPr>
            <p:spPr>
              <a:xfrm>
                <a:off x="7406280" y="6668640"/>
                <a:ext cx="114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图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582560" y="349200"/>
            <a:ext cx="756144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综合拓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zh-CN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-2003×200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请你利用平方差公式求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(2+1)(2</a:t>
            </a:r>
            <a:r>
              <a:rPr b="1" lang="zh-CN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+1)(2</a:t>
            </a:r>
            <a:r>
              <a:rPr b="1" lang="zh-CN" sz="4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+1)…(2</a:t>
            </a:r>
            <a:r>
              <a:rPr b="1" lang="zh-CN" sz="48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2872440" y="2637000"/>
            <a:ext cx="405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P156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3"/>
          <p:cNvSpPr txBox="1"/>
          <p:nvPr/>
        </p:nvSpPr>
        <p:spPr>
          <a:xfrm>
            <a:off x="3492360" y="692280"/>
            <a:ext cx="295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4" name="Picture 4" descr="00"/>
          <p:cNvPicPr/>
          <p:nvPr/>
        </p:nvPicPr>
        <p:blipFill>
          <a:blip r:embed="rId1"/>
          <a:stretch/>
        </p:blipFill>
        <p:spPr>
          <a:xfrm>
            <a:off x="5435640" y="3860640"/>
            <a:ext cx="2381040" cy="190512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1"/>
          <p:cNvSpPr/>
          <p:nvPr/>
        </p:nvSpPr>
        <p:spPr>
          <a:xfrm>
            <a:off x="1871640" y="5491080"/>
            <a:ext cx="5079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更多免费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模板尽在：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宋体"/>
                <a:hlinkClick r:id="rId2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2F69-26F9-448A-9CA7-DD44463A73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547640" y="333360"/>
            <a:ext cx="795672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计算下列多项式的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能发现什么规律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+1)(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-1)=________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+2)(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-2)=_______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+1)(2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-1)=_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6606000" y="2201760"/>
            <a:ext cx="13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5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6804000" y="357336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zh-CN" sz="5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-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804000" y="48690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i="1" lang="zh-CN" sz="5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5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-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探究"/>
          <p:cNvPicPr/>
          <p:nvPr/>
        </p:nvPicPr>
        <p:blipFill>
          <a:blip r:embed="rId1"/>
          <a:stretch/>
        </p:blipFill>
        <p:spPr>
          <a:xfrm>
            <a:off x="468360" y="0"/>
            <a:ext cx="16952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403280" y="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般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们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835280" y="981000"/>
            <a:ext cx="6984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(a+b)(a-b) =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897520" y="981000"/>
            <a:ext cx="149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5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i="1" lang="zh-CN" sz="5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zh-CN" sz="5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2133720"/>
            <a:ext cx="75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即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两个数的和与这两个数的差的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等于这两个数的平方差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411280" y="4653000"/>
            <a:ext cx="63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这个公式叫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乘法的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平方差公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908000" y="0"/>
            <a:ext cx="72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能根据图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5.2-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中的面积说明平方差公式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ject 3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4824360" cy="515772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8199"/>
          <p:cNvSpPr/>
          <p:nvPr/>
        </p:nvSpPr>
        <p:spPr>
          <a:xfrm>
            <a:off x="2627280" y="1539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2376360" cy="2664000"/>
          </a:xfrm>
          <a:prstGeom prst="rect">
            <a:avLst/>
          </a:prstGeom>
          <a:ln w="0">
            <a:noFill/>
          </a:ln>
        </p:spPr>
      </p:pic>
      <p:pic>
        <p:nvPicPr>
          <p:cNvPr id="59" name="Object 3" descr=""/>
          <p:cNvPicPr/>
          <p:nvPr/>
        </p:nvPicPr>
        <p:blipFill>
          <a:blip r:embed="rId2"/>
          <a:stretch/>
        </p:blipFill>
        <p:spPr>
          <a:xfrm>
            <a:off x="3549600" y="404640"/>
            <a:ext cx="55944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692360" y="0"/>
            <a:ext cx="85676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运用平方差公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+2) (3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-2);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)(2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-b);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(-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) (-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187280" y="0"/>
            <a:ext cx="871236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1)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02×98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+2) (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-2) – (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-1) (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+5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692360" y="3716280"/>
            <a:ext cx="777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:(1)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02×98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=(100+2)(100-2)= 100</a:t>
            </a:r>
            <a:r>
              <a:rPr b="1" lang="zh-CN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5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=10 000 – 4 = 9 99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042920" y="0"/>
            <a:ext cx="87138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3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下面各式的计算对不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如果不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应当怎样改正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+2)(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-2) = 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-2 ;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(2)  (-3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-2) (3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-2) =  9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-4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0" y="0"/>
            <a:ext cx="932652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运用平方差公式计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376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);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(2)  (3+2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) (-3 + 2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(3) 51×49;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(4)  (3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+4)(3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-4) – (2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+3)(3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-2)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38:10Z</dcterms:modified>
  <cp:revision>1</cp:revision>
  <dc:subject/>
  <dc:title>幻灯片 1</dc:title>
</cp:coreProperties>
</file>