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CD7D-AE18-4ABC-B0D6-C80F97555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B30A-EDFE-4672-ADF6-4E117AF4E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9F86-3D8C-4DD5-99C3-D5CA208B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EBF7-73A6-4715-BAB9-34C7B6BC3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6F63-5B15-4AF4-B9E8-52729B658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EACF-4656-4F6B-A7F4-5A8AE965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20BC-011E-4202-A1F8-FDB4BE822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089F-ADB5-44B1-8C66-40EEB930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7B98-818A-4B7D-9736-23137856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6FF4-777B-4EC9-8A78-CB3E11CCC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8877F-C15F-43D3-A23C-CCA1D697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FD89-DB24-4225-90C3-FB377A22B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22CCF-8A53-4989-84F6-C710B3EE8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295200" y="141300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2"/>
          <p:cNvSpPr txBox="1"/>
          <p:nvPr/>
        </p:nvSpPr>
        <p:spPr>
          <a:xfrm>
            <a:off x="179280" y="438120"/>
            <a:ext cx="31687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儿歌巩固识字</a:t>
            </a:r>
            <a:endParaRPr b="1" lang="en-US" sz="4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1908000" y="1484280"/>
            <a:ext cx="550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病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有个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科利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谁也不准来看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静静躺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呆呆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孤孤单单想回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科利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别难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你的同学有办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红气球，飘来啦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祝你快快康复早回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8"/>
          <p:cNvSpPr/>
          <p:nvPr/>
        </p:nvSpPr>
        <p:spPr>
          <a:xfrm>
            <a:off x="1999440" y="6093000"/>
            <a:ext cx="4516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"/>
          <p:cNvSpPr/>
          <p:nvPr/>
        </p:nvSpPr>
        <p:spPr>
          <a:xfrm>
            <a:off x="4707000" y="46188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方正综艺简体"/>
                <a:ea typeface="方正综艺简体"/>
              </a:rPr>
              <a:t>窗前的气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143000" y="30492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Times New Roman"/>
              </a:rPr>
              <a:t>科    呆    亚  始    叽    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ff"/>
                </a:solidFill>
                <a:latin typeface="Times New Roman"/>
              </a:rPr>
              <a:t>拴    逗    喳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笑脸"/>
          <p:cNvPicPr/>
          <p:nvPr/>
        </p:nvPicPr>
        <p:blipFill>
          <a:blip r:embed="rId1"/>
          <a:stretch/>
        </p:blipFill>
        <p:spPr>
          <a:xfrm>
            <a:off x="6858000" y="4648320"/>
            <a:ext cx="2057400" cy="1152360"/>
          </a:xfrm>
          <a:prstGeom prst="rect">
            <a:avLst/>
          </a:prstGeom>
          <a:ln w="0">
            <a:noFill/>
          </a:ln>
        </p:spPr>
      </p:pic>
      <p:sp>
        <p:nvSpPr>
          <p:cNvPr id="48" name="文本框 1"/>
          <p:cNvSpPr/>
          <p:nvPr/>
        </p:nvSpPr>
        <p:spPr>
          <a:xfrm>
            <a:off x="347760" y="6485040"/>
            <a:ext cx="53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2"/>
          <p:cNvSpPr/>
          <p:nvPr/>
        </p:nvSpPr>
        <p:spPr>
          <a:xfrm>
            <a:off x="1660680" y="139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3"/>
          <p:cNvSpPr/>
          <p:nvPr/>
        </p:nvSpPr>
        <p:spPr>
          <a:xfrm>
            <a:off x="1828800" y="0"/>
            <a:ext cx="1981080" cy="266688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"/>
          <p:cNvSpPr/>
          <p:nvPr/>
        </p:nvSpPr>
        <p:spPr>
          <a:xfrm>
            <a:off x="457200" y="0"/>
            <a:ext cx="1523880" cy="274320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5"/>
          <p:cNvSpPr/>
          <p:nvPr/>
        </p:nvSpPr>
        <p:spPr>
          <a:xfrm>
            <a:off x="5943600" y="0"/>
            <a:ext cx="1752480" cy="28195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90099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5257800" y="3048120"/>
            <a:ext cx="1676520" cy="281916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7"/>
          <p:cNvSpPr/>
          <p:nvPr/>
        </p:nvSpPr>
        <p:spPr>
          <a:xfrm>
            <a:off x="6705720" y="3124080"/>
            <a:ext cx="2057400" cy="327672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100000">
                <a:srgbClr val="ff33c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8"/>
          <p:cNvSpPr/>
          <p:nvPr/>
        </p:nvSpPr>
        <p:spPr>
          <a:xfrm>
            <a:off x="7543800" y="0"/>
            <a:ext cx="1600200" cy="289548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9"/>
          <p:cNvSpPr/>
          <p:nvPr/>
        </p:nvSpPr>
        <p:spPr>
          <a:xfrm>
            <a:off x="2819520" y="2666880"/>
            <a:ext cx="1447560" cy="259092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0066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10"/>
          <p:cNvSpPr/>
          <p:nvPr/>
        </p:nvSpPr>
        <p:spPr>
          <a:xfrm>
            <a:off x="3886200" y="304920"/>
            <a:ext cx="1905120" cy="266688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50000">
                <a:srgbClr val="bbe0e3"/>
              </a:gs>
              <a:gs pos="100000">
                <a:srgbClr val="ff990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11"/>
          <p:cNvSpPr/>
          <p:nvPr/>
        </p:nvSpPr>
        <p:spPr>
          <a:xfrm>
            <a:off x="1066680" y="3048120"/>
            <a:ext cx="1676520" cy="2514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12"/>
          <p:cNvSpPr/>
          <p:nvPr/>
        </p:nvSpPr>
        <p:spPr>
          <a:xfrm>
            <a:off x="838080" y="2286000"/>
            <a:ext cx="1486080" cy="2629080"/>
          </a:xfrm>
          <a:custGeom>
            <a:avLst/>
            <a:gdLst/>
            <a:ahLst/>
            <a:rect l="l" t="t" r="r" b="b"/>
            <a:pathLst>
              <a:path w="936" h="1656">
                <a:moveTo>
                  <a:pt x="16" y="120"/>
                </a:moveTo>
                <a:cubicBezTo>
                  <a:pt x="8" y="744"/>
                  <a:pt x="0" y="1368"/>
                  <a:pt x="64" y="1512"/>
                </a:cubicBezTo>
                <a:cubicBezTo>
                  <a:pt x="128" y="1656"/>
                  <a:pt x="312" y="1112"/>
                  <a:pt x="400" y="984"/>
                </a:cubicBezTo>
                <a:cubicBezTo>
                  <a:pt x="488" y="856"/>
                  <a:pt x="512" y="888"/>
                  <a:pt x="592" y="744"/>
                </a:cubicBezTo>
                <a:cubicBezTo>
                  <a:pt x="672" y="600"/>
                  <a:pt x="824" y="240"/>
                  <a:pt x="880" y="120"/>
                </a:cubicBezTo>
                <a:cubicBezTo>
                  <a:pt x="936" y="0"/>
                  <a:pt x="932" y="12"/>
                  <a:pt x="928" y="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13"/>
          <p:cNvSpPr/>
          <p:nvPr/>
        </p:nvSpPr>
        <p:spPr>
          <a:xfrm>
            <a:off x="1447920" y="5562720"/>
            <a:ext cx="784080" cy="838080"/>
          </a:xfrm>
          <a:custGeom>
            <a:avLst/>
            <a:gdLst/>
            <a:ahLst/>
            <a:rect l="l" t="t" r="r" b="b"/>
            <a:pathLst>
              <a:path w="302" h="432">
                <a:moveTo>
                  <a:pt x="171" y="0"/>
                </a:moveTo>
                <a:cubicBezTo>
                  <a:pt x="139" y="88"/>
                  <a:pt x="204" y="151"/>
                  <a:pt x="262" y="209"/>
                </a:cubicBezTo>
                <a:cubicBezTo>
                  <a:pt x="271" y="227"/>
                  <a:pt x="286" y="242"/>
                  <a:pt x="288" y="262"/>
                </a:cubicBezTo>
                <a:cubicBezTo>
                  <a:pt x="302" y="378"/>
                  <a:pt x="161" y="393"/>
                  <a:pt x="92" y="406"/>
                </a:cubicBezTo>
                <a:cubicBezTo>
                  <a:pt x="5" y="422"/>
                  <a:pt x="32" y="400"/>
                  <a:pt x="0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14"/>
          <p:cNvSpPr/>
          <p:nvPr/>
        </p:nvSpPr>
        <p:spPr>
          <a:xfrm>
            <a:off x="3048120" y="5181480"/>
            <a:ext cx="563400" cy="1436760"/>
          </a:xfrm>
          <a:custGeom>
            <a:avLst/>
            <a:gdLst/>
            <a:ahLst/>
            <a:rect l="l" t="t" r="r" b="b"/>
            <a:pathLst>
              <a:path w="355" h="905">
                <a:moveTo>
                  <a:pt x="315" y="0"/>
                </a:moveTo>
                <a:cubicBezTo>
                  <a:pt x="287" y="8"/>
                  <a:pt x="233" y="13"/>
                  <a:pt x="224" y="53"/>
                </a:cubicBezTo>
                <a:cubicBezTo>
                  <a:pt x="211" y="110"/>
                  <a:pt x="258" y="174"/>
                  <a:pt x="276" y="223"/>
                </a:cubicBezTo>
                <a:cubicBezTo>
                  <a:pt x="278" y="229"/>
                  <a:pt x="294" y="305"/>
                  <a:pt x="302" y="315"/>
                </a:cubicBezTo>
                <a:cubicBezTo>
                  <a:pt x="316" y="335"/>
                  <a:pt x="337" y="350"/>
                  <a:pt x="355" y="367"/>
                </a:cubicBezTo>
                <a:cubicBezTo>
                  <a:pt x="354" y="378"/>
                  <a:pt x="347" y="495"/>
                  <a:pt x="315" y="511"/>
                </a:cubicBezTo>
                <a:cubicBezTo>
                  <a:pt x="243" y="547"/>
                  <a:pt x="158" y="544"/>
                  <a:pt x="80" y="563"/>
                </a:cubicBezTo>
                <a:cubicBezTo>
                  <a:pt x="71" y="572"/>
                  <a:pt x="57" y="578"/>
                  <a:pt x="54" y="590"/>
                </a:cubicBezTo>
                <a:cubicBezTo>
                  <a:pt x="39" y="641"/>
                  <a:pt x="36" y="695"/>
                  <a:pt x="27" y="747"/>
                </a:cubicBezTo>
                <a:cubicBezTo>
                  <a:pt x="0" y="905"/>
                  <a:pt x="1" y="798"/>
                  <a:pt x="1" y="8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15"/>
          <p:cNvSpPr/>
          <p:nvPr/>
        </p:nvSpPr>
        <p:spPr>
          <a:xfrm>
            <a:off x="4495680" y="2971800"/>
            <a:ext cx="533520" cy="3276720"/>
          </a:xfrm>
          <a:custGeom>
            <a:avLst/>
            <a:gdLst/>
            <a:ahLst/>
            <a:rect l="l" t="t" r="r" b="b"/>
            <a:pathLst>
              <a:path w="355" h="905">
                <a:moveTo>
                  <a:pt x="315" y="0"/>
                </a:moveTo>
                <a:cubicBezTo>
                  <a:pt x="287" y="8"/>
                  <a:pt x="233" y="13"/>
                  <a:pt x="224" y="53"/>
                </a:cubicBezTo>
                <a:cubicBezTo>
                  <a:pt x="211" y="110"/>
                  <a:pt x="258" y="174"/>
                  <a:pt x="276" y="223"/>
                </a:cubicBezTo>
                <a:cubicBezTo>
                  <a:pt x="278" y="229"/>
                  <a:pt x="294" y="305"/>
                  <a:pt x="302" y="315"/>
                </a:cubicBezTo>
                <a:cubicBezTo>
                  <a:pt x="316" y="335"/>
                  <a:pt x="337" y="350"/>
                  <a:pt x="355" y="367"/>
                </a:cubicBezTo>
                <a:cubicBezTo>
                  <a:pt x="354" y="378"/>
                  <a:pt x="347" y="495"/>
                  <a:pt x="315" y="511"/>
                </a:cubicBezTo>
                <a:cubicBezTo>
                  <a:pt x="243" y="547"/>
                  <a:pt x="158" y="544"/>
                  <a:pt x="80" y="563"/>
                </a:cubicBezTo>
                <a:cubicBezTo>
                  <a:pt x="71" y="572"/>
                  <a:pt x="57" y="578"/>
                  <a:pt x="54" y="590"/>
                </a:cubicBezTo>
                <a:cubicBezTo>
                  <a:pt x="39" y="641"/>
                  <a:pt x="36" y="695"/>
                  <a:pt x="27" y="747"/>
                </a:cubicBezTo>
                <a:cubicBezTo>
                  <a:pt x="0" y="905"/>
                  <a:pt x="1" y="798"/>
                  <a:pt x="1" y="8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16"/>
          <p:cNvSpPr/>
          <p:nvPr/>
        </p:nvSpPr>
        <p:spPr>
          <a:xfrm>
            <a:off x="6858000" y="2743200"/>
            <a:ext cx="334800" cy="990720"/>
          </a:xfrm>
          <a:custGeom>
            <a:avLst/>
            <a:gdLst/>
            <a:ahLst/>
            <a:rect l="l" t="t" r="r" b="b"/>
            <a:pathLst>
              <a:path w="355" h="905">
                <a:moveTo>
                  <a:pt x="315" y="0"/>
                </a:moveTo>
                <a:cubicBezTo>
                  <a:pt x="287" y="8"/>
                  <a:pt x="233" y="13"/>
                  <a:pt x="224" y="53"/>
                </a:cubicBezTo>
                <a:cubicBezTo>
                  <a:pt x="211" y="110"/>
                  <a:pt x="258" y="174"/>
                  <a:pt x="276" y="223"/>
                </a:cubicBezTo>
                <a:cubicBezTo>
                  <a:pt x="278" y="229"/>
                  <a:pt x="294" y="305"/>
                  <a:pt x="302" y="315"/>
                </a:cubicBezTo>
                <a:cubicBezTo>
                  <a:pt x="316" y="335"/>
                  <a:pt x="337" y="350"/>
                  <a:pt x="355" y="367"/>
                </a:cubicBezTo>
                <a:cubicBezTo>
                  <a:pt x="354" y="378"/>
                  <a:pt x="347" y="495"/>
                  <a:pt x="315" y="511"/>
                </a:cubicBezTo>
                <a:cubicBezTo>
                  <a:pt x="243" y="547"/>
                  <a:pt x="158" y="544"/>
                  <a:pt x="80" y="563"/>
                </a:cubicBezTo>
                <a:cubicBezTo>
                  <a:pt x="71" y="572"/>
                  <a:pt x="57" y="578"/>
                  <a:pt x="54" y="590"/>
                </a:cubicBezTo>
                <a:cubicBezTo>
                  <a:pt x="39" y="641"/>
                  <a:pt x="36" y="695"/>
                  <a:pt x="27" y="747"/>
                </a:cubicBezTo>
                <a:cubicBezTo>
                  <a:pt x="0" y="905"/>
                  <a:pt x="1" y="798"/>
                  <a:pt x="1" y="8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7"/>
          <p:cNvSpPr/>
          <p:nvPr/>
        </p:nvSpPr>
        <p:spPr>
          <a:xfrm>
            <a:off x="3392640" y="5867280"/>
            <a:ext cx="2855880" cy="990720"/>
          </a:xfrm>
          <a:custGeom>
            <a:avLst/>
            <a:gdLst/>
            <a:ahLst/>
            <a:rect l="l" t="t" r="r" b="b"/>
            <a:pathLst>
              <a:path w="355" h="905">
                <a:moveTo>
                  <a:pt x="315" y="0"/>
                </a:moveTo>
                <a:cubicBezTo>
                  <a:pt x="287" y="8"/>
                  <a:pt x="233" y="13"/>
                  <a:pt x="224" y="53"/>
                </a:cubicBezTo>
                <a:cubicBezTo>
                  <a:pt x="211" y="110"/>
                  <a:pt x="258" y="174"/>
                  <a:pt x="276" y="223"/>
                </a:cubicBezTo>
                <a:cubicBezTo>
                  <a:pt x="278" y="229"/>
                  <a:pt x="294" y="305"/>
                  <a:pt x="302" y="315"/>
                </a:cubicBezTo>
                <a:cubicBezTo>
                  <a:pt x="316" y="335"/>
                  <a:pt x="337" y="350"/>
                  <a:pt x="355" y="367"/>
                </a:cubicBezTo>
                <a:cubicBezTo>
                  <a:pt x="354" y="378"/>
                  <a:pt x="347" y="495"/>
                  <a:pt x="315" y="511"/>
                </a:cubicBezTo>
                <a:cubicBezTo>
                  <a:pt x="243" y="547"/>
                  <a:pt x="158" y="544"/>
                  <a:pt x="80" y="563"/>
                </a:cubicBezTo>
                <a:cubicBezTo>
                  <a:pt x="71" y="572"/>
                  <a:pt x="57" y="578"/>
                  <a:pt x="54" y="590"/>
                </a:cubicBezTo>
                <a:cubicBezTo>
                  <a:pt x="39" y="641"/>
                  <a:pt x="36" y="695"/>
                  <a:pt x="27" y="747"/>
                </a:cubicBezTo>
                <a:cubicBezTo>
                  <a:pt x="0" y="905"/>
                  <a:pt x="1" y="798"/>
                  <a:pt x="1" y="8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18"/>
          <p:cNvSpPr/>
          <p:nvPr/>
        </p:nvSpPr>
        <p:spPr>
          <a:xfrm>
            <a:off x="7391520" y="6019920"/>
            <a:ext cx="569880" cy="1436400"/>
          </a:xfrm>
          <a:custGeom>
            <a:avLst/>
            <a:gdLst/>
            <a:ahLst/>
            <a:rect l="l" t="t" r="r" b="b"/>
            <a:pathLst>
              <a:path w="355" h="905">
                <a:moveTo>
                  <a:pt x="315" y="0"/>
                </a:moveTo>
                <a:cubicBezTo>
                  <a:pt x="287" y="8"/>
                  <a:pt x="233" y="13"/>
                  <a:pt x="224" y="53"/>
                </a:cubicBezTo>
                <a:cubicBezTo>
                  <a:pt x="211" y="110"/>
                  <a:pt x="258" y="174"/>
                  <a:pt x="276" y="223"/>
                </a:cubicBezTo>
                <a:cubicBezTo>
                  <a:pt x="278" y="229"/>
                  <a:pt x="294" y="305"/>
                  <a:pt x="302" y="315"/>
                </a:cubicBezTo>
                <a:cubicBezTo>
                  <a:pt x="316" y="335"/>
                  <a:pt x="337" y="350"/>
                  <a:pt x="355" y="367"/>
                </a:cubicBezTo>
                <a:cubicBezTo>
                  <a:pt x="354" y="378"/>
                  <a:pt x="347" y="495"/>
                  <a:pt x="315" y="511"/>
                </a:cubicBezTo>
                <a:cubicBezTo>
                  <a:pt x="243" y="547"/>
                  <a:pt x="158" y="544"/>
                  <a:pt x="80" y="563"/>
                </a:cubicBezTo>
                <a:cubicBezTo>
                  <a:pt x="71" y="572"/>
                  <a:pt x="57" y="578"/>
                  <a:pt x="54" y="590"/>
                </a:cubicBezTo>
                <a:cubicBezTo>
                  <a:pt x="39" y="641"/>
                  <a:pt x="36" y="695"/>
                  <a:pt x="27" y="747"/>
                </a:cubicBezTo>
                <a:cubicBezTo>
                  <a:pt x="0" y="905"/>
                  <a:pt x="1" y="798"/>
                  <a:pt x="1" y="85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9"/>
          <p:cNvSpPr/>
          <p:nvPr/>
        </p:nvSpPr>
        <p:spPr>
          <a:xfrm>
            <a:off x="7848720" y="76320"/>
            <a:ext cx="1523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0"/>
          <p:cNvSpPr/>
          <p:nvPr/>
        </p:nvSpPr>
        <p:spPr>
          <a:xfrm>
            <a:off x="7822080" y="8380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1"/>
          <p:cNvSpPr/>
          <p:nvPr/>
        </p:nvSpPr>
        <p:spPr>
          <a:xfrm>
            <a:off x="8127000" y="175248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2062080" y="-264960"/>
            <a:ext cx="1521000" cy="31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Times New Roman"/>
              </a:rPr>
              <a:t>病房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3"/>
          <p:cNvSpPr/>
          <p:nvPr/>
        </p:nvSpPr>
        <p:spPr>
          <a:xfrm>
            <a:off x="613800" y="-64080"/>
            <a:ext cx="13993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问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4"/>
          <p:cNvSpPr/>
          <p:nvPr/>
        </p:nvSpPr>
        <p:spPr>
          <a:xfrm>
            <a:off x="4313160" y="-5400"/>
            <a:ext cx="1185840" cy="25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惊呆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5"/>
          <p:cNvSpPr/>
          <p:nvPr/>
        </p:nvSpPr>
        <p:spPr>
          <a:xfrm>
            <a:off x="6176160" y="20160"/>
            <a:ext cx="13993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猜谜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6"/>
          <p:cNvSpPr/>
          <p:nvPr/>
        </p:nvSpPr>
        <p:spPr>
          <a:xfrm>
            <a:off x="1299600" y="2972880"/>
            <a:ext cx="13993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拴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7"/>
          <p:cNvSpPr/>
          <p:nvPr/>
        </p:nvSpPr>
        <p:spPr>
          <a:xfrm>
            <a:off x="2823480" y="2667960"/>
            <a:ext cx="13993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开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8"/>
          <p:cNvSpPr/>
          <p:nvPr/>
        </p:nvSpPr>
        <p:spPr>
          <a:xfrm>
            <a:off x="5490360" y="2984040"/>
            <a:ext cx="13993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</a:rPr>
              <a:t>逗笑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9"/>
          <p:cNvSpPr/>
          <p:nvPr/>
        </p:nvSpPr>
        <p:spPr>
          <a:xfrm>
            <a:off x="7090560" y="2991960"/>
            <a:ext cx="13993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叽喳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30"/>
          <p:cNvSpPr/>
          <p:nvPr/>
        </p:nvSpPr>
        <p:spPr>
          <a:xfrm>
            <a:off x="3962520" y="4343400"/>
            <a:ext cx="1676160" cy="25146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ff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1"/>
          <p:cNvSpPr/>
          <p:nvPr/>
        </p:nvSpPr>
        <p:spPr>
          <a:xfrm>
            <a:off x="4195080" y="4357080"/>
            <a:ext cx="139932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科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huang 副本"/>
          <p:cNvPicPr/>
          <p:nvPr/>
        </p:nvPicPr>
        <p:blipFill>
          <a:blip r:embed="rId1"/>
          <a:stretch/>
        </p:blipFill>
        <p:spPr>
          <a:xfrm>
            <a:off x="0" y="0"/>
            <a:ext cx="5943600" cy="4275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395280" y="479736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科利亚躺在病床看到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她的心情是怎样的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277400" y="106200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楼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一角天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2ke"/>
          <p:cNvPicPr/>
          <p:nvPr/>
        </p:nvPicPr>
        <p:blipFill>
          <a:blip r:embed="rId1"/>
          <a:stretch/>
        </p:blipFill>
        <p:spPr>
          <a:xfrm>
            <a:off x="-457200" y="-60480"/>
            <a:ext cx="10820520" cy="73580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592280" y="5851440"/>
            <a:ext cx="5667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99"/>
                </a:solidFill>
                <a:latin typeface="Times New Roman"/>
              </a:rPr>
              <a:t>这时科利亚心里又怎么想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2"/>
          <p:cNvSpPr txBox="1"/>
          <p:nvPr/>
        </p:nvSpPr>
        <p:spPr>
          <a:xfrm>
            <a:off x="457200" y="304920"/>
            <a:ext cx="3581280" cy="16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华文行楷"/>
              </a:rPr>
              <a:t>我会说</a:t>
            </a:r>
            <a:endParaRPr b="0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2006640" y="2793960"/>
            <a:ext cx="3076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可爱的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高兴地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79280" y="189000"/>
            <a:ext cx="769644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是心的呼唤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是爱的奉献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是人间的春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是生命的源泉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没有心的沙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再没有爱的荒原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死神也望而却步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幸福之花处处开遍地开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要人人都献出一点爱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世界将变成美好的人间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哦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要人人都献出一点爱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世界将变成美好的人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974880" y="13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676520" y="1676520"/>
            <a:ext cx="4952880" cy="2666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5"/>
          <p:cNvSpPr/>
          <p:nvPr/>
        </p:nvSpPr>
        <p:spPr>
          <a:xfrm>
            <a:off x="4191120" y="1676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6"/>
          <p:cNvSpPr/>
          <p:nvPr/>
        </p:nvSpPr>
        <p:spPr>
          <a:xfrm>
            <a:off x="1676520" y="304812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7"/>
          <p:cNvSpPr/>
          <p:nvPr/>
        </p:nvSpPr>
        <p:spPr>
          <a:xfrm>
            <a:off x="2971800" y="1676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"/>
          <p:cNvSpPr/>
          <p:nvPr/>
        </p:nvSpPr>
        <p:spPr>
          <a:xfrm>
            <a:off x="5410080" y="16765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209680" y="2133720"/>
            <a:ext cx="142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周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4898520" y="213372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Times New Roman"/>
              </a:rPr>
              <a:t>床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7D03B-5693-4DDD-962C-556DE6FDB94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10:13:42Z</dcterms:created>
  <dc:creator>第一PPT模板网-WWW.1PPT.COM</dc:creator>
  <dc:description>第一PPT模板网-WWW.1PPT.COM
</dc:description>
  <cp:keywords/>
  <dc:language>en-US</dc:language>
  <cp:lastModifiedBy>xinxing</cp:lastModifiedBy>
  <dcterms:modified xsi:type="dcterms:W3CDTF">2017-04-16T16:04:57Z</dcterms:modified>
  <cp:revision>15</cp:revision>
  <dc:subject/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