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0.wmf" ContentType="image/x-wmf"/>
  <Override PartName="/ppt/media/image6.jpeg" ContentType="image/jpeg"/>
  <Override PartName="/ppt/media/REMINDER.WAV" ContentType="audio/x-wav"/>
  <Override PartName="/ppt/media/image21.gif" ContentType="image/gif"/>
  <Override PartName="/ppt/media/image19.wmf" ContentType="image/x-wmf"/>
  <Override PartName="/ppt/media/image14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3.jpeg" ContentType="image/jpeg"/>
  <Override PartName="/ppt/media/TYPE.WAV" ContentType="audio/x-wav"/>
  <Override PartName="/ppt/media/image4.png" ContentType="image/png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24D-2B9A-4203-8255-8A24FD4A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166-CFC2-42CF-BBBD-D73AF463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24F-A90A-4CFA-AF79-D865AEA0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3C1-F932-4E97-953B-A778331D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0791-8883-4F3F-B87B-687B5A04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D021-EEF7-4B6D-8EA9-9D8F8885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56D9-46E0-45BD-8CF6-0A1B1979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92FC-E2E7-4CE9-BFED-68E27E6B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0DAF-9F1E-44E0-AD4B-3DDDAA5A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1F5F-A2C4-47ED-A24A-C8F96B58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07A4-1584-47BB-91EC-44BE5319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332-24C2-415F-B406-93500A20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E059-87CD-4E42-A7E6-1793686A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3E6F-D7F1-45AF-A513-5D50121E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7C15-1FD5-4E95-A8E3-3DF8200B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5BFF-FA4B-4A30-8CF0-5AF2A6E4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9A6A-6BBD-4B3B-98B4-599D6AA6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CF6-A9E5-4681-A9D2-915D4F68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4F54-93F6-4FE2-B10F-DC8A90FA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CEC6-AAF3-4179-A861-814C71E9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9874-02FD-47C8-B880-4BB7C684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3C3-87F8-405E-AAB5-04C99A98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AC93-0EB5-4B31-9E37-73C74179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6D36-02C3-4C88-9750-469B8992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80E7-4267-425E-B2F1-FDEF7FD09E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10E0-5948-4180-AAED-30147295CB8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y518.com/ycf/tupian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211.91.150.41/zgl/Article_Show.asp?ArticleID=344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REMINDER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zjol.com.cn/gb/node2/node138665/node138776/node170308/node174852/node174861/node174883/userobject15ai1880855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出师表"/>
          <p:cNvPicPr/>
          <p:nvPr/>
        </p:nvPicPr>
        <p:blipFill>
          <a:blip r:embed="rId1"/>
          <a:stretch/>
        </p:blipFill>
        <p:spPr>
          <a:xfrm>
            <a:off x="108000" y="1760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页脚占位符 2"/>
          <p:cNvSpPr/>
          <p:nvPr/>
        </p:nvSpPr>
        <p:spPr>
          <a:xfrm>
            <a:off x="2556000" y="6165720"/>
            <a:ext cx="42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Text Box 3" descr=""/>
          <p:cNvPicPr/>
          <p:nvPr/>
        </p:nvPicPr>
        <p:blipFill>
          <a:blip r:embed="rId2"/>
          <a:stretch/>
        </p:blipFill>
        <p:spPr>
          <a:xfrm>
            <a:off x="165240" y="388800"/>
            <a:ext cx="1954080" cy="4637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709920" y="5013360"/>
            <a:ext cx="1155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诸葛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322200" y="6276960"/>
            <a:ext cx="50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幻灯片之家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tp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-415080" y="260280"/>
            <a:ext cx="13993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刘备托孤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457200"/>
            <a:ext cx="754380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关于刘备托孤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三国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蜀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诸葛亮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：“章武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刘备即帝位后的年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三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即公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2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春。先主于永安宫病笃，召亮于成都，属以后事，谓亮曰：‘君才十倍曹丕，必能安国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终定大事。若嗣子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指刘禅，即阿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可辅，则辅之；如其不才，君可自取。’亮涕泣曰：‘臣敢竭股肱之力，效忠贞之节，继之以死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!’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先主又为诏勒后主曰：‘汝与丞相从事，事之如父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!”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80880" y="37339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关于刘禅：刘备子，小名阿斗。刘备死后他继任蜀汉皇帝，昏庸无能，由诸葛亮辅政，“政事无巨细，咸决于亮”。公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3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年，诸葛亮病死北伐军中，他逐渐信任宦官，朝政腐政。公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6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年魏军攻成都，他出降，第二年举家迁洛阳，被封为安乐县公。由于他是历史上最著名的庸碌无张的皇帝，所以后世就把“阿斗”当做昏庸无能的人的代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685800" y="22860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本文是上表陈说意见，提出政治主张，所以全文以议论为主。又因诸葛亮对刘备有知遇之恩，要报恩于刘禅，他真诚地辅佐刘禅，希望刘禅能够支持自己，共同完成刘备生前没有完成的事业。所以文中又兼叙了自己以身许国的经过。在议论和叙述中，流露着忠于蜀国、忠于刘备父子的真情实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pic_出"/>
          <p:cNvPicPr/>
          <p:nvPr/>
        </p:nvPicPr>
        <p:blipFill>
          <a:blip r:embed="rId1"/>
          <a:stretch/>
        </p:blipFill>
        <p:spPr>
          <a:xfrm>
            <a:off x="5105520" y="3962520"/>
            <a:ext cx="3751200" cy="2638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9" descr="200412201622365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700280"/>
            <a:ext cx="2989080" cy="4824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1"/>
          <p:cNvSpPr/>
          <p:nvPr/>
        </p:nvSpPr>
        <p:spPr>
          <a:xfrm>
            <a:off x="1476360" y="40464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兴复汉室，北定中原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3492360" y="16286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一是跟吴国通好，免除了东顾之忧；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492360" y="2924280"/>
            <a:ext cx="48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二是加强内政建设，制定“汉科”；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492360" y="4437000"/>
            <a:ext cx="44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三是平定南方叛乱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04920" y="380880"/>
            <a:ext cx="861048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幼圆"/>
                <a:ea typeface="幼圆"/>
              </a:rPr>
              <a:t>崩殂（    ）            忠谏（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幼圆"/>
                <a:ea typeface="幼圆"/>
              </a:rPr>
              <a:t>妄（       ）自         菲（    ）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幼圆"/>
                <a:ea typeface="幼圆"/>
              </a:rPr>
              <a:t>裨补（  ）              遗（  ）陛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幼圆"/>
                <a:ea typeface="幼圆"/>
              </a:rPr>
              <a:t>攸（   ）               咨（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幼圆"/>
                <a:ea typeface="幼圆"/>
              </a:rPr>
              <a:t>阕（     ）             陟（    ）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幼圆"/>
                <a:ea typeface="幼圆"/>
              </a:rPr>
              <a:t>臧（       </a:t>
            </a:r>
            <a:r>
              <a:rPr b="1" lang="en-US" sz="2400" spc="-1" strike="noStrike">
                <a:solidFill>
                  <a:srgbClr val="ccccff"/>
                </a:solidFill>
                <a:latin typeface="幼圆"/>
                <a:ea typeface="幼圆"/>
              </a:rPr>
              <a:t>）           </a:t>
            </a:r>
            <a:r>
              <a:rPr b="1" lang="zh-CN" sz="2400" spc="-1" strike="noStrike">
                <a:solidFill>
                  <a:srgbClr val="ccccff"/>
                </a:solidFill>
                <a:latin typeface="幼圆"/>
                <a:ea typeface="幼圆"/>
              </a:rPr>
              <a:t>否（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幼圆"/>
                <a:ea typeface="幼圆"/>
              </a:rPr>
              <a:t>倾颓（   ）             行（     ）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幼圆"/>
                <a:ea typeface="幼圆"/>
              </a:rPr>
              <a:t>苟（   ）全             猥（   ）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幼圆"/>
                <a:ea typeface="幼圆"/>
              </a:rPr>
              <a:t>夙（   ）夜             驽（   ）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幼圆"/>
                <a:ea typeface="幼圆"/>
              </a:rPr>
              <a:t>诹（   ）               攘（    ）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幼圆"/>
                <a:ea typeface="幼圆"/>
              </a:rPr>
              <a:t>斟（    ）              酌（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21932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  <a:ea typeface="MingLiU"/>
              </a:rPr>
              <a:t>c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14400" y="914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wà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64832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fě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029200" y="380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jià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143000" y="1447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b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57200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wè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914400" y="1981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yō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64832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 Black"/>
              </a:rPr>
              <a:t>z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762120" y="2514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qu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4572000" y="2590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zh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838080" y="304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z</a:t>
            </a:r>
            <a:r>
              <a:rPr b="1" lang="en-US" sz="2400" spc="-1" strike="noStrike">
                <a:solidFill>
                  <a:srgbClr val="ff33cc"/>
                </a:solidFill>
                <a:latin typeface="Arial Black"/>
              </a:rPr>
              <a:t>ā</a:t>
            </a: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4648320" y="3048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ff33cc"/>
                </a:solidFill>
                <a:latin typeface="Arial Black"/>
              </a:rPr>
              <a:t>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4495680" y="3657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 Black"/>
              </a:rPr>
              <a:t>há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1219320" y="3581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tu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762120" y="4191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gǒ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4495680" y="4267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  <a:ea typeface="黑体"/>
              </a:rPr>
              <a:t>wě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83808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s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4572000" y="4800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n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449568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rǎ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838080" y="52578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zō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762120" y="5867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zhē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4495680" y="58672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zhu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6938280" y="2514600"/>
            <a:ext cx="1399320" cy="1295280"/>
          </a:xfrm>
          <a:prstGeom prst="rect">
            <a:avLst/>
          </a:prstGeom>
          <a:solidFill>
            <a:srgbClr val="ffcc99"/>
          </a:solidFill>
          <a:ln cap="sq"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正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solidFill>
            <a:srgbClr val="7499d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828800" y="685800"/>
            <a:ext cx="609588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《出师表》思考讨论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33520" y="1600200"/>
            <a:ext cx="8153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阅读预习提示，明确：此表的目的是什么？全文表达的主旨是什么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阅读第一段，思考：作者指出当时的形势如何？值此“危急存亡之秋”，内外大臣表现如何？内外大臣如此，作者希望国君又当如何？由此得出作者提出的第一条建议是什么？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阅读第二段，思考：作者提出的第二条建议是什么？为什么要提出这条建议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阅读第三、四、五段，思考：作者提出的第三条建议是什么？这三段是怎样衔接起来的？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阅读第六、七段，思考：在表达方式上，这两段与上文有何不同？主要内容应怎样概括？请逐句加以理解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阅读第八段，思考：如果将第一句后用“；”，“以彰其咎”后用“。”，好不好？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、作者写作思路是怎样的？ 全文可分为几个部分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表言辞恳切，感情真挚，是如何体现的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表在表达方式运用上有何特点？请具体阐述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4099680" y="533520"/>
            <a:ext cx="866520" cy="916920"/>
          </a:xfrm>
          <a:prstGeom prst="rect">
            <a:avLst/>
          </a:prstGeom>
          <a:solidFill>
            <a:srgbClr val="ffcc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第一段分析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06460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危急存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3200400" y="226548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75696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先帝崩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3756960" y="2722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天下三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741120" y="3276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益州疲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4876920" y="228600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536868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110320" y="46274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追殊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报陛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11"/>
          <p:cNvSpPr/>
          <p:nvPr/>
        </p:nvSpPr>
        <p:spPr>
          <a:xfrm>
            <a:off x="3063960" y="4398840"/>
            <a:ext cx="304560" cy="1295640"/>
          </a:xfrm>
          <a:custGeom>
            <a:avLst/>
            <a:gdLst>
              <a:gd name="textAreaLeft" fmla="*/ 194760 w 304560"/>
              <a:gd name="textAreaRight" fmla="*/ 304920 w 3045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604680" y="4267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懈于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604680" y="5334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忘身于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4816440" y="44751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5308200" y="4800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有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1523880" y="2951280"/>
            <a:ext cx="228600" cy="2209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240 h 2209680"/>
              <a:gd name="textAreaBottom" fmla="*/ 215244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/>
          <p:cNvSpPr/>
          <p:nvPr/>
        </p:nvSpPr>
        <p:spPr>
          <a:xfrm>
            <a:off x="6172200" y="2874960"/>
            <a:ext cx="228600" cy="2209680"/>
          </a:xfrm>
          <a:custGeom>
            <a:avLst/>
            <a:gdLst>
              <a:gd name="textAreaLeft" fmla="*/ 0 w 228600"/>
              <a:gd name="textAreaRight" fmla="*/ 82440 w 228600"/>
              <a:gd name="textAreaTop" fmla="*/ 57240 h 2209680"/>
              <a:gd name="textAreaBottom" fmla="*/ 21524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6784560" y="3449520"/>
            <a:ext cx="10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诚宜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宜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6882480" y="42908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ccccff"/>
                </a:solidFill>
                <a:latin typeface="Times New Roman"/>
              </a:rPr>
              <a:t>正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-73080" y="2874960"/>
            <a:ext cx="15210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广开言路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开张圣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228600" y="304920"/>
            <a:ext cx="83818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段通过对当时形势的分析，提出具体建议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指出当时形势的危急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文章起始并不先说出师的事，也不急于提出建议，而是先从分析天下大势人笔，指出：“天下三分”，而蜀汉最为弱小，处在“危急存亡”的严重关头。对形势的这一清醒的估计，是暗示刘禅，如不发愤图强，国家必然败亡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指出其有利条件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内外之臣均有“追先帝之殊遇，欲报之于陛下”而“不懈于内”“忘身于外”的耿耿忠心。这告诉刘禅，只有依靠、重用这些贤德忠贞之士，才可救亡图存，以竟先帝之业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提出具体建议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①“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宜开张圣听，以光先帝遗德，恢弘志士之气。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②“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不宜妄自菲薄，引喻失义，以塞忠谏之路。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一段中先后两次提出刘备，其用意何在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明确：意在激发刘禅竟父之志和启示他效先帝用人之明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762120" y="1087560"/>
            <a:ext cx="3352680" cy="764280"/>
          </a:xfrm>
          <a:prstGeom prst="rect">
            <a:avLst/>
          </a:prstGeom>
          <a:solidFill>
            <a:srgbClr val="ffcc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二段分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692360" y="3408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637000" y="31478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陟罚臧否，不宜异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637000" y="40622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不宜偏私，内外异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5410080" y="348444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6069600" y="3672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以昭陛下平明之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20920" y="3605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严明赏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380880" y="139680"/>
            <a:ext cx="82296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段从法度方面建议，执法必须严明公允，“宫中”“府中”不应异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指出要赏罚公正，内外一体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指出要法纪严明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第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段从任人方面建议，主要为推荐贤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段，宫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内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人物：郭攸之、费讳、董允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特点：此皆良实，志虑忠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作用：宫中之事，事无大小，悉以咨之，然后施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预计效果：必然裨补阙漏，有所广益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0"/>
          <p:cNvSpPr/>
          <p:nvPr/>
        </p:nvSpPr>
        <p:spPr>
          <a:xfrm>
            <a:off x="1727280" y="202572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2" descr="11_231_1出"/>
          <p:cNvPicPr/>
          <p:nvPr/>
        </p:nvPicPr>
        <p:blipFill>
          <a:blip r:embed="rId1"/>
          <a:stretch/>
        </p:blipFill>
        <p:spPr>
          <a:xfrm>
            <a:off x="5181480" y="3886200"/>
            <a:ext cx="3160800" cy="2246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11_231_2出"/>
          <p:cNvPicPr/>
          <p:nvPr/>
        </p:nvPicPr>
        <p:blipFill>
          <a:blip r:embed="rId2"/>
          <a:stretch/>
        </p:blipFill>
        <p:spPr>
          <a:xfrm>
            <a:off x="380880" y="1143000"/>
            <a:ext cx="2743200" cy="232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11_231_3"/>
          <p:cNvPicPr/>
          <p:nvPr/>
        </p:nvPicPr>
        <p:blipFill>
          <a:blip r:embed="rId3"/>
          <a:stretch/>
        </p:blipFill>
        <p:spPr>
          <a:xfrm>
            <a:off x="3276720" y="1143000"/>
            <a:ext cx="2584440" cy="227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11_231出"/>
          <p:cNvPicPr/>
          <p:nvPr/>
        </p:nvPicPr>
        <p:blipFill>
          <a:blip r:embed="rId4"/>
          <a:stretch/>
        </p:blipFill>
        <p:spPr>
          <a:xfrm>
            <a:off x="6019920" y="1143000"/>
            <a:ext cx="2733480" cy="2244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11_231_4"/>
          <p:cNvPicPr/>
          <p:nvPr/>
        </p:nvPicPr>
        <p:blipFill>
          <a:blip r:embed="rId5"/>
          <a:stretch/>
        </p:blipFill>
        <p:spPr>
          <a:xfrm>
            <a:off x="1447920" y="3886200"/>
            <a:ext cx="2840040" cy="2349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2057400" y="30492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岳飞行书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《</a:t>
            </a: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出师表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2514600" y="3505320"/>
            <a:ext cx="914400" cy="53316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4191120" y="1752480"/>
            <a:ext cx="1904760" cy="15242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914400" y="380880"/>
            <a:ext cx="6781680" cy="6426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第三四五段关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750400" y="1905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宫中之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750400" y="2722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营中之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3809880" y="2189160"/>
            <a:ext cx="381240" cy="0"/>
          </a:xfrm>
          <a:prstGeom prst="line">
            <a:avLst/>
          </a:prstGeom>
          <a:ln w="9360">
            <a:solidFill>
              <a:srgbClr val="ff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3733920" y="2930400"/>
            <a:ext cx="457200" cy="0"/>
          </a:xfrm>
          <a:prstGeom prst="line">
            <a:avLst/>
          </a:prstGeom>
          <a:ln w="9360">
            <a:solidFill>
              <a:srgbClr val="ff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4548960" y="1905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979a5"/>
                </a:solidFill>
                <a:latin typeface="Times New Roman"/>
              </a:rPr>
              <a:t>先帝简拔之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6095880" y="2189160"/>
            <a:ext cx="304920" cy="0"/>
          </a:xfrm>
          <a:prstGeom prst="line">
            <a:avLst/>
          </a:prstGeom>
          <a:ln w="9360">
            <a:solidFill>
              <a:srgbClr val="ff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6652440" y="173196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裨补阙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有所广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4488480" y="2701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979a5"/>
                </a:solidFill>
                <a:latin typeface="Times New Roman"/>
              </a:rPr>
              <a:t>先帝称能之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6095880" y="2930400"/>
            <a:ext cx="304920" cy="0"/>
          </a:xfrm>
          <a:prstGeom prst="line">
            <a:avLst/>
          </a:prstGeom>
          <a:ln w="9360">
            <a:solidFill>
              <a:srgbClr val="ff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6636600" y="25146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行阵和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优劣得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2438280" y="2036880"/>
            <a:ext cx="152640" cy="990360"/>
          </a:xfrm>
          <a:custGeom>
            <a:avLst/>
            <a:gdLst>
              <a:gd name="textAreaLeft" fmla="*/ 97560 w 152640"/>
              <a:gd name="textAreaRight" fmla="*/ 153000 w 1526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1917720" y="19062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荐贤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2862000" y="35053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亲贤臣，远小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4648320" y="3713040"/>
            <a:ext cx="609480" cy="0"/>
          </a:xfrm>
          <a:prstGeom prst="line">
            <a:avLst/>
          </a:prstGeom>
          <a:ln w="9360">
            <a:solidFill>
              <a:srgbClr val="ff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5493600" y="350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先汉兴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2846160" y="4267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亲小人，远贤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4572000" y="4475160"/>
            <a:ext cx="609480" cy="0"/>
          </a:xfrm>
          <a:prstGeom prst="line">
            <a:avLst/>
          </a:prstGeom>
          <a:ln w="9360">
            <a:solidFill>
              <a:srgbClr val="ff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5493600" y="4191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后汉倾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23"/>
          <p:cNvSpPr/>
          <p:nvPr/>
        </p:nvSpPr>
        <p:spPr>
          <a:xfrm>
            <a:off x="6553080" y="3713040"/>
            <a:ext cx="304920" cy="762120"/>
          </a:xfrm>
          <a:custGeom>
            <a:avLst/>
            <a:gdLst>
              <a:gd name="textAreaLeft" fmla="*/ 0 w 304920"/>
              <a:gd name="textAreaRight" fmla="*/ 11016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7093800" y="3637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正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历史教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2362320" y="371304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1917720" y="35064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引教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27"/>
          <p:cNvSpPr/>
          <p:nvPr/>
        </p:nvSpPr>
        <p:spPr>
          <a:xfrm>
            <a:off x="1752480" y="2494080"/>
            <a:ext cx="152640" cy="1676160"/>
          </a:xfrm>
          <a:custGeom>
            <a:avLst/>
            <a:gdLst>
              <a:gd name="textAreaLeft" fmla="*/ 97560 w 152640"/>
              <a:gd name="textAreaRight" fmla="*/ 153000 w 15264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473400" y="1362600"/>
            <a:ext cx="115524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979a5"/>
                </a:solidFill>
                <a:latin typeface="Times New Roman"/>
              </a:rPr>
              <a:t>（亲贤远侫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亲贤臣，远小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8077320" y="1884240"/>
            <a:ext cx="304560" cy="2667240"/>
          </a:xfrm>
          <a:custGeom>
            <a:avLst/>
            <a:gdLst>
              <a:gd name="textAreaLeft" fmla="*/ 0 w 304560"/>
              <a:gd name="textAreaRight" fmla="*/ 109800 w 30456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30"/>
          <p:cNvSpPr/>
          <p:nvPr/>
        </p:nvSpPr>
        <p:spPr>
          <a:xfrm>
            <a:off x="8610480" y="3255840"/>
            <a:ext cx="0" cy="2210040"/>
          </a:xfrm>
          <a:prstGeom prst="line">
            <a:avLst/>
          </a:prstGeom>
          <a:ln w="9360">
            <a:solidFill>
              <a:srgbClr val="ff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1"/>
          <p:cNvSpPr/>
          <p:nvPr/>
        </p:nvSpPr>
        <p:spPr>
          <a:xfrm flipH="1">
            <a:off x="7543800" y="5465880"/>
            <a:ext cx="990720" cy="0"/>
          </a:xfrm>
          <a:prstGeom prst="line">
            <a:avLst/>
          </a:prstGeom>
          <a:ln w="9360">
            <a:solidFill>
              <a:srgbClr val="ff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2"/>
          <p:cNvSpPr/>
          <p:nvPr/>
        </p:nvSpPr>
        <p:spPr>
          <a:xfrm>
            <a:off x="4786200" y="5181480"/>
            <a:ext cx="2009520" cy="459720"/>
          </a:xfrm>
          <a:prstGeom prst="rect">
            <a:avLst/>
          </a:prstGeom>
          <a:solidFill>
            <a:srgbClr val="7499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Times New Roman"/>
              </a:rPr>
              <a:t>汉室之隆，可计日而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9" name="AutoShape 33"/>
          <p:cNvCxnSpPr/>
          <p:nvPr/>
        </p:nvCxnSpPr>
        <p:spPr>
          <a:xfrm flipV="1">
            <a:off x="3046320" y="3198240"/>
            <a:ext cx="1540800" cy="346680"/>
          </a:xfrm>
          <a:prstGeom prst="straightConnector1">
            <a:avLst/>
          </a:prstGeom>
          <a:ln w="9360">
            <a:solidFill>
              <a:srgbClr val="ff33cc"/>
            </a:solidFill>
            <a:miter/>
          </a:ln>
        </p:spPr>
      </p:cxnSp>
    </p:spTree>
  </p:cSld>
  <p:transition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7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57200" y="380880"/>
            <a:ext cx="7696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段，府中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外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人物：将军向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特点：性行淑均，晓畅军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作用：营中之事，悉以咨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预计效果：必能使行阵和睦，优劣得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3" descr="butrfly"/>
          <p:cNvPicPr/>
          <p:nvPr/>
        </p:nvPicPr>
        <p:blipFill>
          <a:blip r:embed="rId1"/>
          <a:stretch/>
        </p:blipFill>
        <p:spPr>
          <a:xfrm>
            <a:off x="5791320" y="304920"/>
            <a:ext cx="2933640" cy="2933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BS00823_"/>
          <p:cNvPicPr/>
          <p:nvPr/>
        </p:nvPicPr>
        <p:blipFill>
          <a:blip r:embed="rId2"/>
          <a:stretch/>
        </p:blipFill>
        <p:spPr>
          <a:xfrm>
            <a:off x="2286000" y="3962520"/>
            <a:ext cx="3081240" cy="2624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457200" y="0"/>
            <a:ext cx="83818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段总结历史经验教训，劝谏刘禅要亲贤臣，远小人，这是国家兴亡的关键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先汉兴隆的原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正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：亲贤臣，远小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后汉倾颓的原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反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：亲小人，远贤臣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刘备对此有所警惕：叹息痛恨于桓、灵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推荐贤臣，并希望信任他们，以兴复汉室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小结：这一段把“亲贤臣，远小人”提高到汉室兴衰的历史经验上来总结，也是对前面两段“宫中”“府中”分说后的归纳。并再荐贤臣，希望刘禅能亲贤臣，远小人，以求汉室兴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以上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—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段从形势分析到具体建议，是出师前的周密安排，目的在于出师后无后顾之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60948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段，自叙生平，表达感恩图报之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990720" y="114300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思考：文章由劝谏转入自叙生平，初看似与出师无关，但进一步推敲，却可看出作者的良苦用心，这样写，好处何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?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你看出来了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14400" y="2514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首先是表白自己对蜀汉的一片忠忱。这样的表白入情入理，容易打动刘禅，取得信任，以防远离之际，小人妄进谗言，离间君臣而坏大事。其次，也是启发刘禅能像其父一样任人惟贤，知人善任。由谏君突然转入述己，使文章另辟蹊径，起伏有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838080" y="53352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段表明“受命”以来的耿耿忠心，提出要北定中原，兴复汉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600200"/>
            <a:ext cx="754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一段是向刘禅表明报国的决心。诸葛亮对刘备想报知遇之恩。刘备既死，他又受刘备之托辅佐刘禅。诸葛亮一生奋斗的目标是兴复汉室，所以他在平定了南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也就是后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以后，要求领兵北征。这就是他报答刘备的具体行动。他又担心出师以后刘禅无人辅佐，所以一方面推荐贤臣；一方面始终在激励刘禅，要他依靠贤臣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4" descr="IN00357_"/>
          <p:cNvPicPr/>
          <p:nvPr/>
        </p:nvPicPr>
        <p:blipFill>
          <a:blip r:embed="rId1"/>
          <a:stretch/>
        </p:blipFill>
        <p:spPr>
          <a:xfrm>
            <a:off x="3429000" y="4267080"/>
            <a:ext cx="2079720" cy="2190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962000" y="750960"/>
            <a:ext cx="2375280" cy="642600"/>
          </a:xfrm>
          <a:prstGeom prst="rect">
            <a:avLst/>
          </a:prstGeom>
          <a:solidFill>
            <a:srgbClr val="ffcc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第六七段逐句分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38840" y="1644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</a:rPr>
              <a:t>第六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580560" y="225108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叙己志向：身份，生活，追求——品格高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616480" y="281952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叙“三顾草庐：宽宏大度，不耻下问——由是感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72400" y="33177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叙共患难经历：创业艰难——效忠心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354680" y="3962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</a:rPr>
              <a:t>第七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3017880" y="45370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叙托孤之事，提挈全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2966760" y="507060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受命以来的心情、行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3133080" y="552780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北定中原，兴复汉室——出师目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1789200" y="5985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补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3924360" y="5734080"/>
            <a:ext cx="4968720" cy="863640"/>
          </a:xfrm>
          <a:prstGeom prst="rect">
            <a:avLst/>
          </a:prstGeom>
          <a:solidFill>
            <a:srgbClr val="7499d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 flipH="1" rot="16800">
            <a:off x="4680" y="0"/>
            <a:ext cx="21913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00"/>
                </a:solidFill>
                <a:latin typeface="Arial"/>
                <a:ea typeface="隶书"/>
              </a:rPr>
              <a:t>括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250920" y="1052640"/>
            <a:ext cx="4249800" cy="936360"/>
          </a:xfrm>
          <a:prstGeom prst="rect">
            <a:avLst/>
          </a:prstGeom>
          <a:solidFill>
            <a:srgbClr val="7499d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幼圆"/>
              </a:rPr>
              <a:t>托臣以讨贼兴复之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4716360" y="1484280"/>
            <a:ext cx="935280" cy="0"/>
          </a:xfrm>
          <a:prstGeom prst="line">
            <a:avLst/>
          </a:prstGeom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5651640" y="692280"/>
            <a:ext cx="3240000" cy="1368360"/>
          </a:xfrm>
          <a:prstGeom prst="rect">
            <a:avLst/>
          </a:prstGeom>
          <a:solidFill>
            <a:srgbClr val="7499d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幼圆"/>
              </a:rPr>
              <a:t>奖率三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幼圆"/>
              </a:rPr>
              <a:t>北定中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324000" y="3068640"/>
            <a:ext cx="2700360" cy="1081080"/>
          </a:xfrm>
          <a:prstGeom prst="rect">
            <a:avLst/>
          </a:prstGeom>
          <a:solidFill>
            <a:srgbClr val="7499d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  <a:ea typeface="幼圆"/>
              </a:rPr>
              <a:t>兴德之言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4643280" y="2421000"/>
            <a:ext cx="4284720" cy="914400"/>
          </a:xfrm>
          <a:prstGeom prst="rect">
            <a:avLst/>
          </a:prstGeom>
          <a:solidFill>
            <a:srgbClr val="7499d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Arial"/>
                <a:ea typeface="幼圆"/>
              </a:rPr>
              <a:t>斟酌损益，进尽忠言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4643280" y="3500280"/>
            <a:ext cx="3348360" cy="1872000"/>
          </a:xfrm>
          <a:prstGeom prst="rect">
            <a:avLst/>
          </a:prstGeom>
          <a:solidFill>
            <a:srgbClr val="7499d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幼圆"/>
              </a:rPr>
              <a:t>事无大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幼圆"/>
              </a:rPr>
              <a:t>悉以咨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幼圆"/>
              </a:rPr>
              <a:t>然后施行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3"/>
          <p:cNvSpPr/>
          <p:nvPr/>
        </p:nvSpPr>
        <p:spPr>
          <a:xfrm>
            <a:off x="3564000" y="2708280"/>
            <a:ext cx="431640" cy="216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250920" y="4724280"/>
            <a:ext cx="2448000" cy="1944720"/>
          </a:xfrm>
          <a:prstGeom prst="rect">
            <a:avLst/>
          </a:prstGeom>
          <a:solidFill>
            <a:srgbClr val="7499d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幼圆"/>
              </a:rPr>
              <a:t>亦宜自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幼圆"/>
              </a:rPr>
              <a:t>咨诹善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幼圆"/>
              </a:rPr>
              <a:t>察纳雅言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4067280" y="587700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幼圆"/>
              </a:rPr>
              <a:t>悉以咨之　开张圣听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>
            <a:off x="2843280" y="6165720"/>
            <a:ext cx="865080" cy="0"/>
          </a:xfrm>
          <a:prstGeom prst="line">
            <a:avLst/>
          </a:prstGeom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9"/>
          <p:cNvSpPr/>
          <p:nvPr/>
        </p:nvSpPr>
        <p:spPr>
          <a:xfrm rot="20988600">
            <a:off x="2627280" y="259920"/>
            <a:ext cx="262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行楷"/>
              </a:rPr>
              <a:t>三个希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914400" y="380880"/>
            <a:ext cx="7238880" cy="3733920"/>
          </a:xfrm>
          <a:prstGeom prst="rect">
            <a:avLst/>
          </a:prstGeom>
          <a:solidFill>
            <a:srgbClr val="ffcc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3417120" y="685800"/>
            <a:ext cx="1704600" cy="7034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第八段分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096360" y="1828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首先，严于律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3395880" y="25146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其次，严格要求朝廷诸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313080" y="3200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最后，向后主提出希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1708920" y="42591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标点符号不能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2776680" y="4842000"/>
            <a:ext cx="337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、不能分清内外责任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、不能突出作者请命出师的决心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、由内大臣“兴德之言”顺势提出希望，不致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刘禅反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813744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533520" y="380880"/>
            <a:ext cx="7238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段表达伐魏兴汉的坚定决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762120" y="1143000"/>
            <a:ext cx="7696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为坚定刘禅支持北伐，完成父业的志向，诸葛亮率先立下军令状：“不效则治臣之罪，以告先帝之灵。”表现了以身许国的意志和决心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生谨慎的诸葛亮，在即将“远离”之际，仍不放心，于是从对自己、对群臣、对后主三方面提出要求，由己及人，情词恳切，真是语重心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762120" y="3733920"/>
            <a:ext cx="7467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一段起到总览全篇的作用，把进谏与出师两部分内容合拢在一起。至此全文主旨已清楚：修明内政，北定中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5" descr="xiantiao mao"/>
          <p:cNvPicPr/>
          <p:nvPr/>
        </p:nvPicPr>
        <p:blipFill>
          <a:blip r:embed="rId1"/>
          <a:stretch/>
        </p:blipFill>
        <p:spPr>
          <a:xfrm>
            <a:off x="1523880" y="5715000"/>
            <a:ext cx="640080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762120" y="533520"/>
            <a:ext cx="754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段：结束语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短短三句乃全从肺腑流出，充满了不胜依依之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914400" y="1981080"/>
            <a:ext cx="7391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以上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段诸葛亮着重叙自己以身许国的经过和准备出征的计划、安排，从叙述中充分表露自己勤劳国事，鞠躬尽瘁的一片忠忱，以创业之艰感动后主，并激励其发愤图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990720" y="441972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后出师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》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鞠躬尽瘁，死而后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zg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97" name="文本框 1"/>
          <p:cNvSpPr/>
          <p:nvPr/>
        </p:nvSpPr>
        <p:spPr>
          <a:xfrm>
            <a:off x="668160" y="5548320"/>
            <a:ext cx="67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3124800" y="457200"/>
            <a:ext cx="2649600" cy="642600"/>
          </a:xfrm>
          <a:prstGeom prst="rect">
            <a:avLst/>
          </a:prstGeom>
          <a:solidFill>
            <a:srgbClr val="797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理清思路，把握结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293840" y="1413000"/>
            <a:ext cx="581328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部分            段落           要点                         表达方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240840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3604680" y="1849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广开言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40840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3601440" y="230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赏罚分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2138040" y="2743200"/>
            <a:ext cx="12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35888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亲贤远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905120" y="21337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823680" y="2306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2424240" y="324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3885480" y="3220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叙述经历：三顾草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2408400" y="362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3885480" y="36021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效忠心愿：托孤之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16"/>
          <p:cNvSpPr/>
          <p:nvPr/>
        </p:nvSpPr>
        <p:spPr>
          <a:xfrm>
            <a:off x="1828800" y="3429000"/>
            <a:ext cx="228600" cy="457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7"/>
          <p:cNvSpPr/>
          <p:nvPr/>
        </p:nvSpPr>
        <p:spPr>
          <a:xfrm>
            <a:off x="884880" y="3373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>
            <a:off x="2417760" y="4003560"/>
            <a:ext cx="7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9"/>
          <p:cNvSpPr/>
          <p:nvPr/>
        </p:nvSpPr>
        <p:spPr>
          <a:xfrm>
            <a:off x="3901320" y="39625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归结责任，结束全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884880" y="405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21"/>
          <p:cNvSpPr/>
          <p:nvPr/>
        </p:nvSpPr>
        <p:spPr>
          <a:xfrm>
            <a:off x="6095880" y="205740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6560640" y="230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寓情于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23"/>
          <p:cNvSpPr/>
          <p:nvPr/>
        </p:nvSpPr>
        <p:spPr>
          <a:xfrm>
            <a:off x="6172200" y="3352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4"/>
          <p:cNvSpPr/>
          <p:nvPr/>
        </p:nvSpPr>
        <p:spPr>
          <a:xfrm>
            <a:off x="6560640" y="3373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寓情于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5"/>
          <p:cNvSpPr/>
          <p:nvPr/>
        </p:nvSpPr>
        <p:spPr>
          <a:xfrm>
            <a:off x="6560640" y="396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抒发感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26"/>
          <p:cNvSpPr/>
          <p:nvPr/>
        </p:nvSpPr>
        <p:spPr>
          <a:xfrm>
            <a:off x="685800" y="49528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思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以“出师” 为中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首先，危急形势下</a:t>
            </a:r>
            <a:r>
              <a:rPr b="1" lang="zh-CN" sz="2400" spc="-1" strike="noStrike">
                <a:solidFill>
                  <a:srgbClr val="ccccff"/>
                </a:solidFill>
                <a:latin typeface="Times New Roman"/>
              </a:rPr>
              <a:t>出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提出治国建议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然后，陈述</a:t>
            </a:r>
            <a:r>
              <a:rPr b="1" lang="zh-CN" sz="2400" spc="-1" strike="noStrike">
                <a:solidFill>
                  <a:srgbClr val="ccccff"/>
                </a:solidFill>
                <a:latin typeface="Times New Roman"/>
              </a:rPr>
              <a:t>出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理由，表达感激之情效忠心愿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最后，要求批准</a:t>
            </a:r>
            <a:r>
              <a:rPr b="1" lang="zh-CN" sz="2400" spc="-1" strike="noStrike">
                <a:solidFill>
                  <a:srgbClr val="ccccff"/>
                </a:solidFill>
                <a:latin typeface="Times New Roman"/>
              </a:rPr>
              <a:t>出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表达</a:t>
            </a:r>
            <a:r>
              <a:rPr b="1" lang="zh-CN" sz="2400" spc="-1" strike="noStrike">
                <a:solidFill>
                  <a:srgbClr val="ccccff"/>
                </a:solidFill>
                <a:latin typeface="Times New Roman"/>
              </a:rPr>
              <a:t>出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决心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隶书"/>
              </a:rPr>
              <a:t>解释下列字词的意思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此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危急存亡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是以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先帝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简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遗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陛下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性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淑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庶竭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驽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攘除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奸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斟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诹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善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ff"/>
                </a:solidFill>
                <a:latin typeface="Arial"/>
                <a:ea typeface="隶书"/>
              </a:rPr>
              <a:t>翻译下列句子</a:t>
            </a:r>
            <a:endParaRPr b="0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宜开张圣听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先帝遗德，恢弘志士之气，不宜妄自菲薄，引喻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以塞忠谏之路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陟罚臧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不宜异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先帝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卑鄙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猥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自枉屈，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顾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臣于草庐之中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臣以当世之事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由是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感激，遂许先帝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驱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 先帝知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谨慎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故临崩寄臣以大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隶书"/>
              </a:rPr>
              <a:t>思考并回答下列问题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什么叫表？作者写此表目的是什 么？                                      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文中作者向后主出了 哪几条建  议？他反复陈说的是那一 条？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文章的主旨句是那一句？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文中表明作者与先帝患难与共的  句子是那一句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、下面几句话表达了诸葛亮怎样的感情？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）受任于败军之际，奉命于危难之间，尔来二十有一年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）不效则治臣之罪，以告先帝之灵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）愿陛下亲之信之，则汉室之隆可计日而待也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3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8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457200" y="533520"/>
            <a:ext cx="80773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今异义词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开张：今义是商店开始营业或商店每天第一次成交；本文中的古义是开放、扩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痛恨：今义是深切地憎恨，古义是痛心和遗憾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卑鄙：今义是品质恶劣，古义是地位低微，见识浅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感激：今义是由衷感谢，古义是感动、激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谨慎：今义是做事小心，古义是认真、慎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布衣：今义是用布做的衣服，古义是平民百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单音词古今异义的更多：先、崩、弊、诚、义、否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pǐ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、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wèi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、愚、阙、雅等。应当注意加以分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685800" y="228600"/>
            <a:ext cx="769608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文章学习拓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04920" y="83808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中国历史上曾出现过许许多多著名的政治家，如何衡量他们？我认为一个比较完全的政治家，应该具备四个条件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应该有远大的抱负，坚强的责任感，以天下为己任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要有敏锐的洞察力，能洞悉当时国家之形势，针对国计民生症结所在，提出兴利除弊的方案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能知人善任，选拔贤才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能集思广益，善于采纳群言，改进工作。请结合本文所学和《三国演义》对诸葛亮进行评价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文章提出的三个建议，在现实生活中，有什么借鉴意义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三、《教参》有一句话“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至于诸葛亮忠于刘备父子的思想，则是其局限性所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，请谈谈你的看法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4"/>
          <p:cNvSpPr/>
          <p:nvPr/>
        </p:nvSpPr>
        <p:spPr>
          <a:xfrm>
            <a:off x="380880" y="1981080"/>
            <a:ext cx="8305920" cy="0"/>
          </a:xfrm>
          <a:prstGeom prst="line">
            <a:avLst/>
          </a:prstGeom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5"/>
          <p:cNvSpPr/>
          <p:nvPr/>
        </p:nvSpPr>
        <p:spPr>
          <a:xfrm>
            <a:off x="304920" y="5105520"/>
            <a:ext cx="8229600" cy="0"/>
          </a:xfrm>
          <a:prstGeom prst="line">
            <a:avLst/>
          </a:prstGeom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304920" y="5867280"/>
            <a:ext cx="8229600" cy="0"/>
          </a:xfrm>
          <a:prstGeom prst="line">
            <a:avLst/>
          </a:prstGeom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66ff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ffff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6B73-673D-46B8-B5AA-8B59E30F6A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990720" y="55440"/>
            <a:ext cx="7162560" cy="825120"/>
          </a:xfrm>
          <a:prstGeom prst="rect">
            <a:avLst/>
          </a:prstGeom>
          <a:solidFill>
            <a:srgbClr val="ff9900"/>
          </a:solidFill>
          <a:ln cap="sq"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  </a:t>
            </a:r>
            <a:r>
              <a:rPr b="1" lang="zh-CN" sz="48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鞠躬尽瘁死而后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8315280" y="-36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-651960" y="1066680"/>
            <a:ext cx="1642680" cy="4800600"/>
          </a:xfrm>
          <a:prstGeom prst="rect">
            <a:avLst/>
          </a:prstGeom>
          <a:solidFill>
            <a:srgbClr val="ffcc00"/>
          </a:solidFill>
          <a:ln cap="sq"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华文新魏"/>
                <a:ea typeface="华文新魏"/>
              </a:rPr>
              <a:t>长使英雄泪满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01320" y="1143000"/>
            <a:ext cx="1642680" cy="4800600"/>
          </a:xfrm>
          <a:prstGeom prst="rect">
            <a:avLst/>
          </a:prstGeom>
          <a:solidFill>
            <a:srgbClr val="ffcc00"/>
          </a:solidFill>
          <a:ln cap="sq"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华文新魏"/>
                <a:ea typeface="华文新魏"/>
              </a:rPr>
              <a:t>出师未捷身先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990720" y="1035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你能向同学介绍一下诸葛亮的事吗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天下奇才诸葛亮"/>
          <p:cNvPicPr/>
          <p:nvPr/>
        </p:nvPicPr>
        <p:blipFill>
          <a:blip r:embed="rId1"/>
          <a:stretch/>
        </p:blipFill>
        <p:spPr>
          <a:xfrm>
            <a:off x="1219320" y="2133720"/>
            <a:ext cx="2438280" cy="3733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wuhouci1"/>
          <p:cNvPicPr/>
          <p:nvPr/>
        </p:nvPicPr>
        <p:blipFill>
          <a:blip r:embed="rId2"/>
          <a:stretch/>
        </p:blipFill>
        <p:spPr>
          <a:xfrm>
            <a:off x="3886200" y="2362320"/>
            <a:ext cx="3962520" cy="28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362320" y="1676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000984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68280"/>
            <a:ext cx="1835280" cy="439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2050920" y="333360"/>
            <a:ext cx="68756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蜀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杜甫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丞相祠堂何处寻，锦官城外柏森森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映阶碧草自春色，隔叶黄鹂空好音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三顾频烦天下计，两朝开济老臣心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出师未捷身先死，长使英雄泪满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362320" y="1676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wuhoucizugeliang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835280" y="0"/>
            <a:ext cx="5759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1600200" y="533520"/>
            <a:ext cx="5791320" cy="825120"/>
          </a:xfrm>
          <a:prstGeom prst="rect">
            <a:avLst/>
          </a:prstGeom>
          <a:solidFill>
            <a:srgbClr val="7499d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ccff"/>
                </a:solidFill>
                <a:latin typeface="Times New Roman"/>
              </a:rPr>
              <a:t>武侯祠匾额对联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186560" y="1611360"/>
            <a:ext cx="7183440" cy="4786560"/>
          </a:xfrm>
          <a:prstGeom prst="rect">
            <a:avLst/>
          </a:prstGeom>
          <a:solidFill>
            <a:srgbClr val="7979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两表酬三顾，一对足千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厅对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鞠躬尽瘁兮诸葛武侯诚哉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公忠体国兮出师两表留楷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诸葛亮殿对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亲贤臣国乃兴，当年三顾频繁，始延得汉家正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济大事人为本，今日四方靡骋，愿佑兹蜀部遗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厅对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勤王事大好儿孙，三世忠贞，史笔犹褒陈庶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出师表惊人文字，千秋涕泪，墨痕同溅岳将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诸葛亮殿对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457200" y="1828800"/>
            <a:ext cx="8686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“出师一表真名世，千载谁堪伯仲间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?”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书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“出师一表千载无，远比管乐盖有余。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武侯书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“出师一表通今古，夜半挑灯更细看。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病起书怀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33520" y="5335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细黑"/>
              </a:rPr>
              <a:t>请看以下对联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304920" y="358920"/>
            <a:ext cx="83055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是一种文体，是古代臣子写给皇帝的奏章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出师表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的时代背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：这篇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出师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是诸葛亮在公元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2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蜀汉后主刘禅建兴五年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出兵伐魏，临行时写给刘禅的奏章。当时刘备已经死了四年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22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蜀国和吴国的联盟已经破裂，荆州已经失守，蜀国实际只占有益州，实力本来不厚，再加上连年战争，国力更加困乏。于是诸葛亮派人和吴国修好，又亲自领兵平定了南方少数民族地区的叛乱，稳定了后方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即“五月渡泸，深入不毛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然后趁魏国君主曹丕身死、魏国大将司马懿被贬的机会，抱着“不伐贼，王业亦亡；帷坐而待亡，孰与伐之’’的心情，出兵北伐，企图巩固蜀汉政权、消灭魏国进而统一中国，复兴汉室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15:52:1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1:12Z</dcterms:modified>
  <cp:revision>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